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0DF-E8CF-44B2-A5EE-2A4D6E6C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3F9-325F-47F4-A388-031A3A87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036-4788-4634-83E5-DFF74F06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888-7D52-4ED5-966D-82704005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818F-1097-429F-AB02-76E2AADA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1DD7-B471-4315-9B46-6263F0F6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F743-0CD0-4082-AFD5-F7A80B1E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F8C6-D0DE-4361-BD39-343C23D2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84A0-73BB-4066-8052-0E0AFFE4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8FF8-A26E-4FCD-9315-08BF9DBB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944C-2269-40F5-BD5A-8CC57001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35F-3FB5-440F-B51F-B5C44D5F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D2ED-4A8D-41DD-88A8-CB00D9F7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12AB-DA01-422C-A2ED-B42D7C5D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AED7-3C8C-4B50-B909-C9C19BA6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FF32-4895-4C71-A5FB-9537225D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E4B5-83B0-4627-A8C4-F2A74726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4B8-434B-406D-8008-78A1263A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1CB-527B-4BF6-A07D-25F4C926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D7B-F486-4FFE-B7A0-17765FEE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246-0ECD-47E9-9F06-A02719D1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93B-B7D7-41B5-B45D-172836B7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EE9-095C-4B21-B1E7-DED6AB82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ED6-471E-41B3-A972-93F5C442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E76F-37ED-45F2-A638-A575A92EA9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82F3-84FF-4D6E-B836-3451FE7FB8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НАРОДЫ ЕВРАЗИИ.   СТРАН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1680"/>
            <a:ext cx="8305920" cy="65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На территории Евразии живут народы ,относящиеся к разным языковым группам. Восточная Европа и  Северная Азия –славянские народы. Славяне делятся на три ветви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Document"/>
          <p:cNvSpPr/>
          <p:nvPr/>
        </p:nvSpPr>
        <p:spPr>
          <a:xfrm>
            <a:off x="533520" y="2438280"/>
            <a:ext cx="2590560" cy="26672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ВОСТ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Русские, украинцы, бело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cument"/>
          <p:cNvSpPr/>
          <p:nvPr/>
        </p:nvSpPr>
        <p:spPr>
          <a:xfrm>
            <a:off x="3657600" y="2514600"/>
            <a:ext cx="2362320" cy="2514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ЗАПА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Поляки, чехи, слов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cument"/>
          <p:cNvSpPr/>
          <p:nvPr/>
        </p:nvSpPr>
        <p:spPr>
          <a:xfrm>
            <a:off x="6629400" y="2514600"/>
            <a:ext cx="2209680" cy="2590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Ю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Болгары, сербы, хорваты, словен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616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ерманские и романские народы живут в Западной Европе в Швейцарии и Германии. Германцы светловолосые, светлокожые, романские - темноволосые и смуглые. Язык романского народа основан на латинском.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Южную часть Азии населяют многочисленные индийские народы, но больше по численности населяют китайцы.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Численность населения Евразии составляет 4,5 млрд, т.е. 304 всего населения мира. В Южной части плотность населения  может достигать 1000 – 1500 чел на кв.км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2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ОСОБЕННОСТИ РАС ЕВРАЗИИ:</a:t>
            </a: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57120" y="1752480"/>
          <a:ext cx="8501040" cy="4303800"/>
        </p:xfrm>
        <a:graphic>
          <a:graphicData uri="http://schemas.openxmlformats.org/drawingml/2006/table">
            <a:tbl>
              <a:tblPr/>
              <a:tblGrid>
                <a:gridCol w="2216160"/>
                <a:gridCol w="1770120"/>
                <a:gridCol w="2133720"/>
                <a:gridCol w="2381040"/>
              </a:tblGrid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РОПЕОИДНА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ОНГОЛОИДН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ВАТОРИАЛЬН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3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ВЕРНА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______________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селяют Северную и Северо-Западную территории материка; волосы и глаза светлы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ЖН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_____________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жная Европа, Юго-Западная Азия. Темные глаза и волосы, смуглая кож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НТРАЛЬНАЯ И ВОСТОЧНАЯ АЗИЯ________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изкорослые, кожа желто-смуглая, темные узкие глаза, широкий нос, прямые темные волос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ТРОВА ЮЖНОЙ АЗИИ И ЮГА ИНДОСТАНА____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мнокожие, плосколицые, темные волнистые волос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Работа с картой: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Назовите самое крупное  государство Евразии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Назовите самые маленькие (карликовые) государств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Островные государств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Полуостровные государств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Страны, расположенные на побережь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Государства, не имеющие выхода к морям и океанам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Государства, окруженные территорией другого государств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Назовите государство, занимающее 1 место по числу жителей, 2 место….</a:t>
            </a:r>
            <a:br>
              <a:rPr sz="18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1376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Практическая часть. </a:t>
            </a: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Задание: используя учебник стр. 256, атлас составить таблицу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«Регионы и страны зарубежной  Европы»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19320" y="990720"/>
          <a:ext cx="7086600" cy="4497120"/>
        </p:xfrm>
        <a:graphic>
          <a:graphicData uri="http://schemas.openxmlformats.org/drawingml/2006/table">
            <a:tbl>
              <a:tblPr/>
              <a:tblGrid>
                <a:gridCol w="1981440"/>
                <a:gridCol w="5105160"/>
              </a:tblGrid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Регион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25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Стран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Северная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Западная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Южная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Восточная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56386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01680"/>
            <a:ext cx="79246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зкие, глубокие извилистые морские заливы с крутыми берегами называют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фьердами.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пример:  береговая линия скандинавского п\о.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Фьерды удобны для плавани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вижущийся лед сглаживает поверхность, образовывая ледниковые наносы.Такой рельеф называют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оренным.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акой рельеф на Скандинавском п\о в Финлянди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Фины свою страну называют Суоми- страна болот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актическая част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ользуя атлас, учебник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67, составить характеристику стран  Северной Европы Норвегия, Швеция, Финляндия, Исланди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план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 страны и ее сто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обенности ГП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в какой части материка находится или занимает островное положени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с какими государствами граничит (сухопутные и морские границ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какими морями, каких океанов омыв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. Особенности природных условий : рельеф, климат, внутренние воды, природные з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Население стран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состав, плотность и размещени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основной род занятий и особенности бы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. Особенности хозяйст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добываемые полезные ископаемые, отрасли сельского хозяй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621648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Verdana"/>
              </a:rPr>
              <a:t>Д.З.  § 66, 67,  подготовить сообщения  (презентацию)по странам Западной Европы (на выбор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6:07:18Z</dcterms:created>
  <dc:creator>Flower</dc:creator>
  <dc:description/>
  <dc:language>en-US</dc:language>
  <cp:lastModifiedBy>User</cp:lastModifiedBy>
  <dcterms:modified xsi:type="dcterms:W3CDTF">2012-04-24T05:28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