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B78-ABCE-4039-9A20-57EDBF28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E6F-B8EB-417A-9525-6C49574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0F2-3091-4FD6-954E-1ECB770B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767-62F1-4188-B344-86826479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E637-72E4-4FB5-A21A-9FE04168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450C-8FFD-4271-9B79-2DB4843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F666-9F22-4020-9355-88ECA8D0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7F74-574D-46EA-A45E-98E5CE3C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F8AC-75BD-4017-BFA0-71DA8060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EE2E-5E5B-4001-AE30-3B627A6E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8901-7F98-4F0B-8314-B58E9EE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9C0-ED03-4719-B5E1-4CBDEF51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4F11-2A60-41E6-AB45-4B07AE6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9CFF-89D5-4302-A808-DB5B6D6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D684-2801-4BE9-91AE-964C48D0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B497-66E1-401A-8DFD-D4A1FED7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233E-D343-4E66-BFCE-4DE0CC9D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444-9C68-4C60-81C2-078BC24F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D06-6919-4BCB-ABD9-A12B9311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B34-0430-4C5C-B94A-2A90881A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32A-55F5-42BD-9CE9-8C3B4D6A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4D9-9E84-4BDC-8416-CE2A1561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BCE-B66F-4669-AE32-619F61A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8D9-49B2-4AD8-931C-F429BD1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86B1-01DD-4FEB-AABD-CF83B5B5B7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3E4-FC4C-4016-888E-7B4F632033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НАРОДЫ ЕВРАЗИИ.   СТРАН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1680"/>
            <a:ext cx="8305920" cy="65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На территории Евразии живут народы ,относящиеся к разным языковым группам. Восточная Европа и  Северная Азия –славянские народы. Славяне делятся на три ветви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Document"/>
          <p:cNvSpPr/>
          <p:nvPr/>
        </p:nvSpPr>
        <p:spPr>
          <a:xfrm>
            <a:off x="533520" y="2438280"/>
            <a:ext cx="2590560" cy="26672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ВОСТ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Русские, украинцы, бело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cument"/>
          <p:cNvSpPr/>
          <p:nvPr/>
        </p:nvSpPr>
        <p:spPr>
          <a:xfrm>
            <a:off x="3657600" y="2514600"/>
            <a:ext cx="2362320" cy="2514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ЗАПА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Поляки, чехи, слов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cument"/>
          <p:cNvSpPr/>
          <p:nvPr/>
        </p:nvSpPr>
        <p:spPr>
          <a:xfrm>
            <a:off x="6629400" y="2514600"/>
            <a:ext cx="2209680" cy="2590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Ю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Болгары, сербы, хорваты, словен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616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ерманские и романские народы живут в Западной Европе в Швейцарии и Германии. Германцы светловолосые, светлокожые, романские - темноволосые и смуглые. Язык романского народа основан на латинском.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Южную часть Азии населяют многочисленные индийские народы, но больше по численности населяют китайцы.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Численность населения Евразии составляет 4,5 млрд, т.е. 304 всего населения мира. В Южной части плотность населения  может достигать 1000 – 1500 чел на кв.км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ОСОБЕННОСТИ РАС ЕВРАЗИИ:</a:t>
            </a: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57120" y="1752480"/>
          <a:ext cx="8501040" cy="4303800"/>
        </p:xfrm>
        <a:graphic>
          <a:graphicData uri="http://schemas.openxmlformats.org/drawingml/2006/table">
            <a:tbl>
              <a:tblPr/>
              <a:tblGrid>
                <a:gridCol w="2216160"/>
                <a:gridCol w="1770120"/>
                <a:gridCol w="2133720"/>
                <a:gridCol w="2381040"/>
              </a:tblGrid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ОПЕОИДНА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НГОЛОИД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ВАТОРИАЛЬ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3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ВЕРНА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______________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селяют Северную и Северо-Западную территории материка; волосы и глаза светлы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Ж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_____________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жная Европа, Юго-Западная Азия. Темные глаза и волосы, смуглая кож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НТРАЛЬНАЯ И ВОСТОЧНАЯ АЗИЯ________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изкорослые, кожа желто-смуглая, темные узкие глаза, широкий нос, прямые темные волос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ТРОВА ЮЖНОЙ АЗИИ И ЮГА ИНДОСТАНА____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нокожие, плосколицые, темные волнистые волос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Работа с картой: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Назовите самое крупное  государство Евразии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Назовите самые маленькие (карликовые) государств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Островные государств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Полуостровные государств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Страны, расположенные на побережь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Государства, не имеющие выхода к морям и океанам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Государства, окруженные территорией другого государств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Назовите государство, занимающее 1 место по числу жителей, 2 место….</a:t>
            </a: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376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актическая часть. 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Задание: используя учебник стр. 256, атлас составить таблицу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«Регионы и страны зарубежной  Европы»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990720"/>
          <a:ext cx="7086600" cy="4497120"/>
        </p:xfrm>
        <a:graphic>
          <a:graphicData uri="http://schemas.openxmlformats.org/drawingml/2006/table">
            <a:tbl>
              <a:tblPr/>
              <a:tblGrid>
                <a:gridCol w="1981440"/>
                <a:gridCol w="510516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Регион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5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Стран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Север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Запад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Юж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Восточ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56386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01680"/>
            <a:ext cx="79246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зкие, глубокие извилистые морские заливы с крутыми берегами называют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фьердами.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пример:  береговая линия скандинавского п\о.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Фьерды удобны для плаван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вижущийся лед сглаживает поверхность, образовывая ледниковые наносы.Такой рельеф называют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оренным.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акой рельеф на Скандинавском п\о в Финлянди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Фины свою страну называют Суоми- страна болот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актическая ча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ользуя атлас, учебник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67, составить характеристику стран  Северной Европы Норвегия, Швеция, Финляндия, Исланд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план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 страны и ее сто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обенности ГП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в какой части материка находится или занимает островное положени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 какими государствами граничит (сухопутные и морские границ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какими морями, каких океанов омыв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 Особенности природных условий : рельеф, климат, внутренние воды, природные з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Население стран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остав, плотность и размеще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основной род занятий и особенности бы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. Особенности хозяйст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добываемые полезные ископаемые, отрасли сельского хозяй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621648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</a:rPr>
              <a:t>Д.З.  § 66, 67,  подготовить сообщения  (презентацию)по странам Западной Европы (на выбор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6:07:18Z</dcterms:created>
  <dc:creator>Flower</dc:creator>
  <dc:description/>
  <dc:language>en-US</dc:language>
  <cp:lastModifiedBy>User</cp:lastModifiedBy>
  <dcterms:modified xsi:type="dcterms:W3CDTF">2012-04-24T05:28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