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8A35-5F6D-4C05-BCCF-4FEDAC39D9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B8E-7128-4773-AA1C-EA1658B885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C7F-162C-4193-A9F7-AAC22C66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582-F63B-436A-A2CE-8D12CBC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11F-1137-420C-BB1D-486B2249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486-58E2-4766-807E-A3069CF8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772-03C9-4414-81A0-CE07B7B7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CA1-AEB4-4B35-ADC4-CE88B4F0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526-D0FB-43CE-864A-7A096ED8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4E9-A72C-40F8-8F48-C2065159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781-A039-44B1-90B9-1B8B06B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A54-9AA9-4916-8FDD-75F62982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673-7A6B-4C33-B475-DF036D77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DA9-9CBA-4D57-8C12-E4E8CCCB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75D4-B7C4-46B1-9BC7-A8949235E35E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14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546422"/>
                </a:solidFill>
                <a:latin typeface="Monotype Corsiva"/>
              </a:rPr>
              <a:t>    </a:t>
            </a:r>
            <a:r>
              <a:rPr b="1" i="1" lang="ru-RU" sz="6000" spc="-1" strike="noStrike">
                <a:solidFill>
                  <a:srgbClr val="0f6fc6"/>
                </a:solidFill>
                <a:latin typeface="Monotype Corsiva"/>
              </a:rPr>
              <a:t>Добро и зло в легендах о Байкале</a:t>
            </a:r>
            <a:endParaRPr b="0" lang="en-US" sz="60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9" name="Subtitle 2" descr=""/>
          <p:cNvPicPr/>
          <p:nvPr/>
        </p:nvPicPr>
        <p:blipFill>
          <a:blip r:embed="rId1"/>
          <a:stretch/>
        </p:blipFill>
        <p:spPr>
          <a:xfrm>
            <a:off x="317520" y="3925800"/>
            <a:ext cx="64119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9" name="Содержимое 3"/>
          <p:cNvGraphicFramePr/>
          <p:nvPr/>
        </p:nvGraphicFramePr>
        <p:xfrm>
          <a:off x="0" y="1138320"/>
          <a:ext cx="914400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3832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00160" y="2356920"/>
            <a:ext cx="557208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</a:t>
            </a:r>
            <a:br>
              <a:rPr sz="4000"/>
            </a:b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Segoe UI"/>
              </a:rPr>
              <a:t>Легенда</a:t>
            </a:r>
            <a:r>
              <a:rPr b="0" lang="ru-RU" sz="3200" spc="-1" strike="noStrike">
                <a:solidFill>
                  <a:srgbClr val="0b5395"/>
                </a:solidFill>
                <a:latin typeface="Segoe UI"/>
              </a:rPr>
              <a:t> (лат. Legenda) - то, что должно быть прочитано) - это жанр фольклора, в основе которого лежит фантастический сюжет, который воспринимается рассказчиком и слушателем как достоверный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b53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снить присутствие противоборства добра и зла в легендах о Байкале.</a:t>
            </a:r>
            <a:br>
              <a:rPr sz="3200"/>
            </a:br>
            <a:r>
              <a:rPr b="1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 исследовать легенды о Байкале;</a:t>
            </a:r>
            <a:br>
              <a:rPr sz="3200"/>
            </a:b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 выявить проблему добра и зла в легендах, сравнить их;</a:t>
            </a:r>
            <a:br>
              <a:rPr sz="3200"/>
            </a:b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 развивать навыки работы с разными источниками</a:t>
            </a:r>
            <a:br>
              <a:rPr sz="3200"/>
            </a:br>
            <a:r>
              <a:rPr b="0" lang="ru-RU" sz="3200" spc="-1" strike="noStrike">
                <a:solidFill>
                  <a:srgbClr val="0b539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Users\Пользователь\Desktop\cavalry001-s.jpg"/>
          <p:cNvPicPr/>
          <p:nvPr/>
        </p:nvPicPr>
        <p:blipFill>
          <a:blip r:embed="rId1"/>
          <a:stretch/>
        </p:blipFill>
        <p:spPr>
          <a:xfrm>
            <a:off x="-92160" y="0"/>
            <a:ext cx="9236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214720" y="5716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зрачная ко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500040" y="274680"/>
            <a:ext cx="6143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 Бурхан –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кала Шаманка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Users\Пользователь\Desktop\valley002-s.jpg"/>
          <p:cNvPicPr/>
          <p:nvPr/>
        </p:nvPicPr>
        <p:blipFill>
          <a:blip r:embed="rId1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6d"/>
                </a:solidFill>
                <a:latin typeface="Segoe UI"/>
              </a:rPr>
              <a:t>     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14308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лина каменных ду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Users\Пользователь\Desktop\seals001-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785880" y="16002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786040" y="28584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шканьи ос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Пользователь\Desktop\master004-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0" y="48578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аман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щ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f6fc6"/>
                </a:solidFill>
                <a:latin typeface="Segoe UI"/>
              </a:rPr>
              <a:t>В легендах воплощены мечты людей о вечной счастливой жизни.  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43:21Z</dcterms:created>
  <dc:creator/>
  <dc:description/>
  <cp:keywords/>
  <dc:language>en-US</dc:language>
  <cp:lastModifiedBy/>
  <dcterms:modified xsi:type="dcterms:W3CDTF">2016-12-05T15:01:54Z</dcterms:modified>
  <cp:revision>5</cp:revision>
  <dc:subject/>
  <dc:title>Презентация на тему «Хобби»</dc:title>
</cp:coreProperties>
</file>