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096E-398A-4B84-A8EA-C4FFBCD48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367C-58D7-49C5-AFE2-ED98429B6E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124-9D66-494F-9EB9-945C96C1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E46-74A3-4CED-9E90-285BF3A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C1A-8686-42F0-A44B-E7439C22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2A9-F7B2-4455-82D6-04DDEB86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778-8216-4E16-A0C0-9471D31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243-4D1D-492C-83C1-E4282AC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F8E-5A90-481E-B004-144CA2E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ED8-357F-4EE8-B2C8-616C6710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9B7-1620-4F62-A76C-A9DC7092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F1A-2A3C-4851-8BDB-7C5B0487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961-D337-49B5-85CA-DF23B48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F77-5D48-476A-B8DC-42771FB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673-8EAE-4B0B-914B-6829B083156B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14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546422"/>
                </a:solidFill>
                <a:latin typeface="Monotype Corsiva"/>
              </a:rPr>
              <a:t>    </a:t>
            </a:r>
            <a:r>
              <a:rPr b="1" i="1" lang="ru-RU" sz="6000" spc="-1" strike="noStrike">
                <a:solidFill>
                  <a:srgbClr val="0f6fc6"/>
                </a:solidFill>
                <a:latin typeface="Monotype Corsiva"/>
              </a:rPr>
              <a:t>Добро и зло в легендах о Байкале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1"/>
          <a:stretch/>
        </p:blipFill>
        <p:spPr>
          <a:xfrm>
            <a:off x="317520" y="3925800"/>
            <a:ext cx="64119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9" name="Содержимое 3"/>
          <p:cNvGraphicFramePr/>
          <p:nvPr/>
        </p:nvGraphicFramePr>
        <p:xfrm>
          <a:off x="0" y="1138320"/>
          <a:ext cx="914400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832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00160" y="2356920"/>
            <a:ext cx="55720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</a:t>
            </a:r>
            <a:br>
              <a:rPr sz="4000"/>
            </a:b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Segoe UI"/>
              </a:rPr>
              <a:t>Легенда</a:t>
            </a:r>
            <a:r>
              <a:rPr b="0" lang="ru-RU" sz="3200" spc="-1" strike="noStrike">
                <a:solidFill>
                  <a:srgbClr val="0b5395"/>
                </a:solidFill>
                <a:latin typeface="Segoe UI"/>
              </a:rPr>
              <a:t> (лат. Legenda) - то, что должно быть прочитано) - это жанр фольклора, в основе которого лежит фантастический сюжет, который воспринимается рассказчиком и слушателем как достоверный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снить присутствие противоборства добра и зла в легендах о Байкале.</a:t>
            </a:r>
            <a:br>
              <a:rPr sz="3200"/>
            </a:br>
            <a:r>
              <a:rPr b="1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исследовать легенды о Байкале;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выявить проблему добра и зла в легендах, сравнить их;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 развивать навыки работы с разными источниками</a:t>
            </a:r>
            <a:br>
              <a:rPr sz="3200"/>
            </a:br>
            <a:r>
              <a:rPr b="0" lang="ru-RU" sz="32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Пользователь\Desktop\cavalry001-s.jpg"/>
          <p:cNvPicPr/>
          <p:nvPr/>
        </p:nvPicPr>
        <p:blipFill>
          <a:blip r:embed="rId1"/>
          <a:stretch/>
        </p:blipFill>
        <p:spPr>
          <a:xfrm>
            <a:off x="-9216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214720" y="5716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рачная ко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00040" y="274680"/>
            <a:ext cx="614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 Бурхан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кала Шаманка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Users\Пользователь\Desktop\valley002-s.jp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6d"/>
                </a:solidFill>
                <a:latin typeface="Segoe UI"/>
              </a:rPr>
              <a:t>     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4308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лина каменных ду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Users\Пользователь\Desktop\seals001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858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786040" y="28584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аньи 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Пользователь\Desktop\master004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48578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аман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щ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6fc6"/>
                </a:solidFill>
                <a:latin typeface="Segoe UI"/>
              </a:rPr>
              <a:t>В легендах воплощены мечты людей о вечной счастливой жизни.  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43:21Z</dcterms:created>
  <dc:creator/>
  <dc:description/>
  <cp:keywords/>
  <dc:language>en-US</dc:language>
  <cp:lastModifiedBy/>
  <dcterms:modified xsi:type="dcterms:W3CDTF">2016-12-05T15:01:54Z</dcterms:modified>
  <cp:revision>5</cp:revision>
  <dc:subject/>
  <dc:title>Презентация на тему «Хобби»</dc:title>
</cp:coreProperties>
</file>