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0AFF-056D-4074-BC09-190DFB56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7257-89FA-439A-B5B2-E65C9BE3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F775-7C23-4B36-8192-92688B35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2DA3-C239-46D8-9C02-8F9476CA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1F49-705E-4A9C-A17B-A1536E65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19D0-CB30-42F5-9986-31DEFE26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AC8D-0340-4C24-B10C-3BC06D73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4AD1-A7BB-4C21-8E2B-8FB60B6D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CCCC-8AEF-4551-B7B1-A49DD087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BFBC-EB63-4073-BA97-7E116616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DD58-BD1D-421A-AC09-68A27D75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B204-3A23-448E-80EA-F841D482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9743-A548-47EF-B9CE-42B73C18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BD82-710C-439B-B302-43879426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815B-5B56-4A8A-911C-5D18B57A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E920-2B8F-4BD7-BB0A-C64C23F2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5BD4-EB6C-4DB8-B88B-E3E2C4150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8459-2098-4919-910C-A1F24376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85D2-9F7C-4738-BFBF-E6A822E9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3415-F797-4CFA-98DC-DD873DF1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3862-D2C2-40F7-9CFF-118F8671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51BA-A515-4E58-926E-D92A35DD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8E2D-6848-400A-965A-56837D6E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FDEC-AEF9-48FA-A79A-0717190D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08B1-2F6A-4F94-9F7F-C8394C8EA32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B387-9A6D-4CE5-A95C-EAEC478E09F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i="1" lang="ru-RU" sz="4600" spc="-1" strike="noStrike">
                <a:solidFill>
                  <a:srgbClr val="99ccff"/>
                </a:solidFill>
                <a:latin typeface="Arial Black"/>
              </a:rPr>
              <a:t>В зимний лес</a:t>
            </a:r>
            <a:br>
              <a:rPr sz="4600"/>
            </a:br>
            <a:r>
              <a:rPr b="1" i="1" lang="ru-RU" sz="4600" spc="-1" strike="noStrike">
                <a:solidFill>
                  <a:srgbClr val="99ccff"/>
                </a:solidFill>
                <a:latin typeface="Arial Black"/>
              </a:rPr>
              <a:t>                пришла весна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132000" y="414972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71360" y="3285720"/>
            <a:ext cx="6624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логический  про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нников подготовительной групп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ое рассказывание о сезонных изменениях в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-логопед МБУ «Лицей №6» г.о. Тольят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нчарова Любовь Леонид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3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2808360" cy="20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дукты проекта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бликация «Все, что я узнал о муравь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5" descr=""/>
          <p:cNvPicPr/>
          <p:nvPr/>
        </p:nvPicPr>
        <p:blipFill>
          <a:blip r:embed="rId1"/>
          <a:stretch/>
        </p:blipFill>
        <p:spPr>
          <a:xfrm>
            <a:off x="4357800" y="2571840"/>
            <a:ext cx="2200320" cy="306216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6" descr=""/>
          <p:cNvPicPr/>
          <p:nvPr/>
        </p:nvPicPr>
        <p:blipFill>
          <a:blip r:embed="rId2"/>
          <a:stretch/>
        </p:blipFill>
        <p:spPr>
          <a:xfrm>
            <a:off x="2857680" y="2143080"/>
            <a:ext cx="20714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дукты проекта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бликация «Зеленый дяте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4" descr=""/>
          <p:cNvPicPr/>
          <p:nvPr/>
        </p:nvPicPr>
        <p:blipFill>
          <a:blip r:embed="rId1"/>
          <a:stretch/>
        </p:blipFill>
        <p:spPr>
          <a:xfrm>
            <a:off x="4143240" y="2857680"/>
            <a:ext cx="2024280" cy="2725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8" name="Рисунок 3" descr=""/>
          <p:cNvPicPr/>
          <p:nvPr/>
        </p:nvPicPr>
        <p:blipFill>
          <a:blip r:embed="rId2"/>
          <a:stretch/>
        </p:blipFill>
        <p:spPr>
          <a:xfrm>
            <a:off x="2571840" y="2214720"/>
            <a:ext cx="2085840" cy="2698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дукты проекта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42600" y="16426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клет «Ждем гостей из жарких стра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6" descr=""/>
          <p:cNvPicPr/>
          <p:nvPr/>
        </p:nvPicPr>
        <p:blipFill>
          <a:blip r:embed="rId1"/>
          <a:stretch/>
        </p:blipFill>
        <p:spPr>
          <a:xfrm>
            <a:off x="4143240" y="3286080"/>
            <a:ext cx="2971800" cy="2216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2" name="Рисунок 5" descr=""/>
          <p:cNvPicPr/>
          <p:nvPr/>
        </p:nvPicPr>
        <p:blipFill>
          <a:blip r:embed="rId2"/>
          <a:stretch/>
        </p:blipFill>
        <p:spPr>
          <a:xfrm>
            <a:off x="1857240" y="2214720"/>
            <a:ext cx="2786040" cy="2214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дукты проекта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42600" y="16426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люстрированная схема «Превращение бабочк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7" descr=""/>
          <p:cNvPicPr/>
          <p:nvPr/>
        </p:nvPicPr>
        <p:blipFill>
          <a:blip r:embed="rId1"/>
          <a:stretch/>
        </p:blipFill>
        <p:spPr>
          <a:xfrm>
            <a:off x="3000240" y="2214720"/>
            <a:ext cx="3205440" cy="3876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дукты проекта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42600" y="16426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невник наблюдения за распусканием листьев на срезанных вет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4" descr=""/>
          <p:cNvPicPr/>
          <p:nvPr/>
        </p:nvPicPr>
        <p:blipFill>
          <a:blip r:embed="rId1"/>
          <a:stretch/>
        </p:blipFill>
        <p:spPr>
          <a:xfrm>
            <a:off x="2214720" y="2643120"/>
            <a:ext cx="4643280" cy="3429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дукты проекта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2600" y="16426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нгазета «В зимний лес пришла вес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C:\Users\Tele.Com\Desktop\Фотоальбом\2017-08-29 рабочий стол\рабочий стол 195.jpg"/>
          <p:cNvPicPr/>
          <p:nvPr/>
        </p:nvPicPr>
        <p:blipFill>
          <a:blip r:embed="rId1"/>
          <a:stretch/>
        </p:blipFill>
        <p:spPr>
          <a:xfrm>
            <a:off x="3071880" y="2071800"/>
            <a:ext cx="285732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казы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95640" y="1499760"/>
            <a:ext cx="633888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еленый дятел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рассказал Алеша 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идит, стучит на вет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расных шортиках и кепке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 узнали кто это? Это я – зеленый дятел. У меня зеленые крылышки и спинка, а на голове красная шапо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имой я питаюсь шишками. Я срываю шишку и несу ее в клюве в большую щель. Носом  долблю по ней и шишка раскалывается. Оттуда я беру семечки и 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весной своим клювом я выдалбливаю дупло. Там из яичек вылупятся птенчики. Я их кормлю  мошками и червячками. Но больше всего они любят муравьев. Я нахожу муравьиную кучу, клювом раскапываю ямку и высовываю свой  длинный язык, а потом жду, когда к нему приклеятся муравьи. Я несу их своим птенчи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1552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казы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195640" y="1499760"/>
            <a:ext cx="633888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йский жук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рассказал Дима М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 знаете почему меня называют майским жуком? Потому что мой любимый месяц – май.   Зимой я сплю в куколке глубоко под зем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наступает май, я вылезаю из-под земли и лечу  на деревья. Я ем почки листики. Мои самые любимые деревья – это яблоня и береза. Когда  наемся листочков, я опять зарываюсь под землю и откладываю там яички. А потом опять лечу на любимое дерево. И так  возвращаюсь 4 или 5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том из яичек выведутся личи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1675080" cy="15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казы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71720" y="2286000"/>
            <a:ext cx="7462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йк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рассказал Саша Л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– маленький зайчонок. Живу в лесу под кустиком. У меня нет своего дома: ни дупла, ни норы, ни хатки. Уши у меня длинные и чуткие. Они слышат любой треск. Лапки у меня задние длинные, а передние короткие. Мне в гору бежать легко, а с горы качусь кувыр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имой я становлюсь белым. Я очень люблю есть кору деревьев. Ночью я выхожу и ем кору. А днем всего пугаюсь и начинаю петлять: что-то хрустнет – я вперед побегу, что-то треснет – я назад. Охотники думают, что я хитрю, а на самом деле я бою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ной я меняю белую шубку на серую. Я лягу на землю, прижму ушки, а охотники подумают, что это бугорок и пройдут мим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928800" y="1357200"/>
            <a:ext cx="28796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казы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050920" y="1844640"/>
            <a:ext cx="64836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ягушонок.</a:t>
            </a:r>
            <a:br>
              <a:rPr sz="28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рассказал Алеша Л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Прыгает зверушка: не рот, а ловуш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падет в ловушку и комар и мушка.»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а загадка про меня – про лягушонка. Спинка у меня зелененькая и всегда влажная. Если она высохнет, то я могу погибнуть. Поэтому я живу в озер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имой озеро замерзло, а я зарылся под водой в песок и заснул. Но вот наступила весна. Лед растаял. Я проснулся, выплыл на берег и стал квакать. Я плаваю очень хорошо, потому что на лапках у меня есть перепон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меня большой рот и длинный язык. Весной я охочусь на комаров и мошек. Когда  комар сидит, я на него не нападаю. А когда он летит, я выбрасываю свой длинный язык и слизываю добыч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ленькие лягушата получаются из икринок: сначала они превращаются в головастиков, а потом у них отпадает хвост и они становятся лягуша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15732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изитная карточка проек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ворческое название проект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В зимний лес пришла весн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ид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ктико-ориентированный, среднесрочн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уководитель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инчарова Л.Л. – учитель-логопед  МБУ «Лицей №6» структурного подразделения детского сада «Дельт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частники проект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 подготовительной группы, родители, воспитат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рок реализации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т-апрель 2017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казы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339640" y="1483920"/>
            <a:ext cx="61945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равей</a:t>
            </a: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рассказал Рома Т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– рыжий лесной муравей. Мой дом – это большой муравейник  сделанный из веточек и иголок. Там живет наша муравьиная сем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меня длинное туловище, шесть лапок, а на голове усики. Усиками  я могу постучать по другому муравью и узнать: из нашего он муравейника или из друг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имой мы закрываем все ходы в муравейник. Там  мы прижимаемся друг к другу в большой ком и спим. Весной просыпаемся, открываем выходы и идем добывать пищ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ередине муравейника сидит матка. Она откладывает яйца. Из яиц вырастают личинки  и мы, рабочие муравьи, о них заботимся, потому что из личинок на следующий год появятся новые мурав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на есть и свои «коровы» - это тли. Они выделяют сладкий сок и мы его любим е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194292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казы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14720" y="1428480"/>
            <a:ext cx="633888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резк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рассказала Лена 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вы знаете почему у меня, у березки, белая кора? Чтобы защищаться от солнечных ож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наступает зима, я сбрасываю листочки и сплю до самой весны.  А весной, когда становится тепло, снег тает и появляется вода. Мои корешки пьют эту водичку и я начинаю потихоньку просып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ачала на моих веточках почки набухают, лопаются и распускаются листочки. Они зеленеют все лето. Летом ко мне будут прибегать ребя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15984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казы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339640" y="1268280"/>
            <a:ext cx="5977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бочк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рассказала Даша С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бабочка, я красавица. У меня длинное туловище, а на голове усики тоненькие-тоненькие. Крылышки большие и разноцвет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имой я была куколкой. А когда наступила весна, куколка лопнула и я из нее вылезла. Крылышки расправила и полетела собирать цветочную пыль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я наемся, я откладываю яички на листочках и травинках. Из яичек выводятся гусеницы. Они очень прожорливые и съедают много листочков на деревьях. Гусеницы вырастают и заматываются в специальную ниточку. Она твердеет и превращается в куколку. Так я и зим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не все бабочки умирают осенью. Некоторые залетают на чердак или под кору деревьев и там засыпают. Весной они просыпаются и летят на цвет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1847880" cy="250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еализация данного проекта позвол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чительно повысить самостоятельную активность дете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ть творческое мышлен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формировать умение детей самостоятельно, разными способами находить информацию об интересующем предмете или явлении и использовать эти знан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огатить и активизировать словарь детей, развить связную речь, развить планирующую функцию реч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делать образовательную систему дошкольного образовательного учреждения открытой для активного участия род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писок использованной литератур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бина Е.С. Партнерство дошкольного образовательного учреждения и семьи в логопедической работе – журнал Логопед - № 5, 2005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ракса Н.Е., Веракса А.Н. Проектная деятельность дошкольников. М., 20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вдокимова Е.С. Технология проектирования в ДОУ. Сфера. М.2005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иселева Л.С. Проектный метод в деятельности дошкольного учреждения. Арти. М., 2005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.В. Коноваленко  ,В.В.Коноваленко «Развитие связной речи. Лето. Осень. Весна .Зима.»-М,2005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Н.А.Кнушевицкая «Картотека стихов по  стихов по лексическим темам «Наш мир»-Спб-Детство-Пресс,201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рашковска И.Н. , Валюмс Н.П. картинка без запинки /методика рассказа по картине/. –Спб.:Из-во ТОО «ТРИЗ-ШАНС», 1995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а по развитию творческого воображения и обучению диалектическому способу мышления с помощью элементов ТРИЗ /составитель Гуткович И.Я. и др. – Ульяновск, 1994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дорчук Т.А. технология обучения дошкольников умению решать творческие задачи, Ульяновск,  199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самого рождения ребенок является первооткрывателем, исследователем того мира, который его окружает. Познавательная активность детей в дошкольном  возрасте очень высокая: каждый ответ педагога на детский вопрос рождает новые вопросы. Самостоятельно ребенок ещё не может найти ответы на все вопросы, ему помогают педагоги. В этом случает на помощь приходит  метод проблемного обучения, который состоит из вопросов (логически развивающие мышление), моделирования проблемных ситуаций, экспериментир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а помогает наглядно и доступно продемонстрировать причинную и временную зависимость, последовательность, взаимосвязь и взаимозависимость предметов и явлений. Дети учатся наблюдать, выделять эти связи и объяснять наблюдаемое, что оказывает значительное влияние на развитие их мыслительное деятельно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роцессе познания природы дети осваивают грамматические категории, обозначающие названия, действия и качества, что помогает им анализировать предмет и явление с разных сторон.  В связи с этим, создаются условия для развития 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вязной реч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и формирования таких ее качеств как последовательность, логичность, доказательность и четкость. Ребенок учится рассуждать, рассказывать описывать. А это  является важнейшим условием успешного обучения детей в детском саду и подготовки  к школьному  обучению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Цель: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57176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предпосылок  поисковой деятельности, интеллектуальной инициативы у дошкольников в процессе закрепления знаний о природе, способствующих развитию связной реч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очнить, обобщить знания и словарный запас по теме «Весенние изменения в природе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будить в ребенке желание самому добывать недостающие 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ть интерес , мотивацию к к процессу активного по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вать связную реч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имулировать совместную продуктивную деятельность детей и род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ывать экологическую культуру у детей, бережное отношение к  приро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28584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жидаемый результат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спользование метода проектов в работе будет способствов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пешному развитию коммуникативных и творческих способностей детей старшего дошкольного возрас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ю педагогической компетентности педагогов и родителей в вопросах речевого и экологического развития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ю  заинтересованности родителей не только в результатах, но и в самом процессе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3840" y="28584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Этапы и стратегия реализации проект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Рисунок 4" descr=""/>
          <p:cNvPicPr/>
          <p:nvPr/>
        </p:nvPicPr>
        <p:blipFill>
          <a:blip r:embed="rId1"/>
          <a:stretch/>
        </p:blipFill>
        <p:spPr>
          <a:xfrm>
            <a:off x="1285920" y="1500120"/>
            <a:ext cx="66438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Этапы и стратегия реализации проект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Рисунок 3" descr=""/>
          <p:cNvPicPr/>
          <p:nvPr/>
        </p:nvPicPr>
        <p:blipFill>
          <a:blip r:embed="rId1"/>
          <a:stretch/>
        </p:blipFill>
        <p:spPr>
          <a:xfrm>
            <a:off x="928800" y="1500120"/>
            <a:ext cx="742932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Этапы и стратегия реализации проект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Рисунок 4" descr=""/>
          <p:cNvPicPr/>
          <p:nvPr/>
        </p:nvPicPr>
        <p:blipFill>
          <a:blip r:embed="rId1"/>
          <a:stretch/>
        </p:blipFill>
        <p:spPr>
          <a:xfrm>
            <a:off x="1000080" y="1857240"/>
            <a:ext cx="68580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08:41:29Z</dcterms:created>
  <dc:creator>.</dc:creator>
  <dc:description/>
  <dc:language>en-US</dc:language>
  <cp:lastModifiedBy>RePack by SPecialiST</cp:lastModifiedBy>
  <dcterms:modified xsi:type="dcterms:W3CDTF">2017-08-30T10:17:36Z</dcterms:modified>
  <cp:revision>44</cp:revision>
  <dc:subject/>
  <dc:title>Слайд 1</dc:title>
</cp:coreProperties>
</file>