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91C-5080-4C73-9DC3-71C3A68B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715-3D01-4FB8-A4B9-00FE531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8A1-21DD-4118-A91E-36F0EAA1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DD9-4150-4C56-95DA-3B53A222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6EA9-AF3D-41A9-B51B-5D8BE32F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564F-6F36-4842-A6FE-C497BC2F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6E7B-5D2C-4A40-B7DD-784010B8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37EB-5AED-4F8F-B31C-3787B2D2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CA7D-EBC2-48DB-8EC5-5479ACD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3191-24FF-416B-9750-C46F67F9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27B1-DCBC-4BAC-B017-8FD2A0CC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FE1-D99E-459E-AD7A-11C88031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AC69-F7EC-4C6E-8ECA-3C8D57F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0CBC-B123-43A1-BA71-C3863FEB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33CD-4760-4055-B8A4-0AC2EC96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DCC1-A11C-4FE1-8EC9-6C9A8A38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483D-B388-4CF7-BBAD-9BD64BFE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04E-73F5-49DA-B7FA-347BFA4C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462-26E0-4FB1-AEC8-9FAA550A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576-986E-40AA-B612-F45EF048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725-FFDF-4791-8E68-C9568767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B4B-1A53-4516-9ADC-E273634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F2F-AF48-4080-9D58-DB7FB08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024-AA5B-4C7D-8831-28D70C04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A1EB-31B2-48DE-81A8-450804F7AB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2544-7415-4B03-AF0A-831E4AD1DA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4600" spc="-1" strike="noStrike">
                <a:solidFill>
                  <a:srgbClr val="99ccff"/>
                </a:solidFill>
                <a:latin typeface="Arial Black"/>
              </a:rPr>
              <a:t>В зимний лес</a:t>
            </a:r>
            <a:br>
              <a:rPr sz="4600"/>
            </a:br>
            <a:r>
              <a:rPr b="1" i="1" lang="ru-RU" sz="4600" spc="-1" strike="noStrike">
                <a:solidFill>
                  <a:srgbClr val="99ccff"/>
                </a:solidFill>
                <a:latin typeface="Arial Black"/>
              </a:rPr>
              <a:t>                пришла весн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132000" y="414972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360" y="3285720"/>
            <a:ext cx="6624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ий 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ников подготовительной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ое рассказывание о сезонных изменениях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-логопед МБУ «Лицей №6» г.о. Тольят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чарова Любовь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808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«Все, что я узнал о муравь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" descr=""/>
          <p:cNvPicPr/>
          <p:nvPr/>
        </p:nvPicPr>
        <p:blipFill>
          <a:blip r:embed="rId1"/>
          <a:stretch/>
        </p:blipFill>
        <p:spPr>
          <a:xfrm>
            <a:off x="4357800" y="2571840"/>
            <a:ext cx="2200320" cy="3062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"/>
          <p:cNvPicPr/>
          <p:nvPr/>
        </p:nvPicPr>
        <p:blipFill>
          <a:blip r:embed="rId2"/>
          <a:stretch/>
        </p:blipFill>
        <p:spPr>
          <a:xfrm>
            <a:off x="2857680" y="2143080"/>
            <a:ext cx="20714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«Зеленый дят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"/>
          <p:cNvPicPr/>
          <p:nvPr/>
        </p:nvPicPr>
        <p:blipFill>
          <a:blip r:embed="rId1"/>
          <a:stretch/>
        </p:blipFill>
        <p:spPr>
          <a:xfrm>
            <a:off x="4143240" y="2857680"/>
            <a:ext cx="2024280" cy="2725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8" name="Рисунок 3" descr=""/>
          <p:cNvPicPr/>
          <p:nvPr/>
        </p:nvPicPr>
        <p:blipFill>
          <a:blip r:embed="rId2"/>
          <a:stretch/>
        </p:blipFill>
        <p:spPr>
          <a:xfrm>
            <a:off x="2571840" y="2214720"/>
            <a:ext cx="2085840" cy="2698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лет «Ждем гостей из жарких стра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6" descr=""/>
          <p:cNvPicPr/>
          <p:nvPr/>
        </p:nvPicPr>
        <p:blipFill>
          <a:blip r:embed="rId1"/>
          <a:stretch/>
        </p:blipFill>
        <p:spPr>
          <a:xfrm>
            <a:off x="4143240" y="3286080"/>
            <a:ext cx="2971800" cy="2216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2" name="Рисунок 5" descr=""/>
          <p:cNvPicPr/>
          <p:nvPr/>
        </p:nvPicPr>
        <p:blipFill>
          <a:blip r:embed="rId2"/>
          <a:stretch/>
        </p:blipFill>
        <p:spPr>
          <a:xfrm>
            <a:off x="1857240" y="2214720"/>
            <a:ext cx="2786040" cy="221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люстрированная схема «Превращение бабоч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7" descr=""/>
          <p:cNvPicPr/>
          <p:nvPr/>
        </p:nvPicPr>
        <p:blipFill>
          <a:blip r:embed="rId1"/>
          <a:stretch/>
        </p:blipFill>
        <p:spPr>
          <a:xfrm>
            <a:off x="3000240" y="2214720"/>
            <a:ext cx="3205440" cy="3876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вник наблюдения за распусканием листьев на срезанных ве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4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4643280" cy="342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газета «В зимний лес пришла вес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Tele.Com\Desktop\Фотоальбом\2017-08-29 рабочий стол\рабочий стол 195.jpg"/>
          <p:cNvPicPr/>
          <p:nvPr/>
        </p:nvPicPr>
        <p:blipFill>
          <a:blip r:embed="rId1"/>
          <a:stretch/>
        </p:blipFill>
        <p:spPr>
          <a:xfrm>
            <a:off x="3071880" y="2071800"/>
            <a:ext cx="28573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95640" y="1499760"/>
            <a:ext cx="63388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еный дяте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ал Алеша 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идит, стучит на ве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асных шортиках и кепке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узнали кто это? Это я – зеленый дятел. У меня зеленые крылышки и спинка, а на голове красная шап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я питаюсь шишками. Я срываю шишку и несу ее в клюве в большую щель. Носом  долблю по ней и шишка раскалывается. Оттуда я беру семечки и 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есной своим клювом я выдалбливаю дупло. Там из яичек вылупятся птенчики. Я их кормлю  мошками и червячками. Но больше всего они любят муравьев. Я нахожу муравьиную кучу, клювом раскапываю ямку и высовываю свой  длинный язык, а потом жду, когда к нему приклеятся муравьи. Я несу их своим птенч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155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95640" y="1499760"/>
            <a:ext cx="63388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йский жу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ал Дима 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знаете почему меня называют майским жуком? Потому что мой любимый месяц – май.   Зимой я сплю в куколке глубоко под зем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наступает май, я вылезаю из-под земли и лечу  на деревья. Я ем почки листики. Мои самые любимые деревья – это яблоня и береза. Когда  наемся листочков, я опять зарываюсь под землю и откладываю там яички. А потом опять лечу на любимое дерево. И так  возвращаюсь 4 или 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 из яичек выведутся лич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6750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71720" y="2286000"/>
            <a:ext cx="74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й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ал Саша 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– маленький зайчонок. Живу в лесу под кустиком. У меня нет своего дома: ни дупла, ни норы, ни хатки. Уши у меня длинные и чуткие. Они слышат любой треск. Лапки у меня задние длинные, а передние короткие. Мне в гору бежать легко, а с горы качусь кувыр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я становлюсь белым. Я очень люблю есть кору деревьев. Ночью я выхожу и ем кору. А днем всего пугаюсь и начинаю петлять: что-то хрустнет – я вперед побегу, что-то треснет – я назад. Охотники думают, что я хитрю, а на самом деле я бо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ной я меняю белую шубку на серую. Я лягу на землю, прижму ушки, а охотники подумают, что это бугорок и пройдут мим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928800" y="1357200"/>
            <a:ext cx="2879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0920" y="1844640"/>
            <a:ext cx="6483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ягушонок.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рассказал Алеша 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рыгает зверушка: не рот, а лову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адет в ловушку и комар и мушка.»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а загадка про меня – про лягушонка. Спинка у меня зелененькая и всегда влажная. Если она высохнет, то я могу погибнуть. Поэтому я живу в оз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ой озеро замерзло, а я зарылся под водой в песок и заснул. Но вот наступила весна. Лед растаял. Я проснулся, выплыл на берег и стал квакать. Я плаваю очень хорошо, потому что на лапках у меня есть перепо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меня большой рот и длинный язык. Весной я охочусь на комаров и мошек. Когда  комар сидит, я на него не нападаю. А когда он летит, я выбрасываю свой длинный язык и слизываю добыч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енькие лягушата получаются из икринок: сначала они превращаются в головастиков, а потом у них отпадает хвост и они становятся лягуша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зитная карточка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ворческое название проек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зимний лес пришла вес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д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ктико-ориентированный, среднесроч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инчарова Л.Л. – учитель-логопед  МБУ «Лицей №6» структурного подразделения детского сада «Дель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астники проек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 подготовительной группы, родители, воспит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рок реализаци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т-апрель 201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339640" y="1483920"/>
            <a:ext cx="6194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ей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ал Рома 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– рыжий лесной муравей. Мой дом – это большой муравейник  сделанный из веточек и иголок. Там живет наша муравьиная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длинное туловище, шесть лапок, а на голове усики. Усиками  я могу постучать по другому муравью и узнать: из нашего он муравейника или из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мы закрываем все ходы в муравейник. Там  мы прижимаемся друг к другу в большой ком и спим. Весной просыпаемся, открываем выходы и идем добывать пищ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муравейника сидит матка. Она откладывает яйца. Из яиц вырастают личинки  и мы, рабочие муравьи, о них заботимся, потому что из личинок на следующий год появятся новые мурав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а есть и свои «коровы» - это тли. Они выделяют сладкий сок и мы его любим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19429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4720" y="1428480"/>
            <a:ext cx="63388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з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ассказала Лена 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ы знаете почему у меня, у березки, белая кора? Чтобы защищаться от солнечных ож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наступает зима, я сбрасываю листочки и сплю до самой весны.  А весной, когда становится тепло, снег тает и появляется вода. Мои корешки пьют эту водичку и я начинаю потихоньку просып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ачала на моих веточках почки набухают, лопаются и распускаются листочки. Они зеленеют все лето. Летом ко мне будут прибегать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1598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339640" y="1268280"/>
            <a:ext cx="597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бо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ассказала Даша 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бабочка, я красавица. У меня длинное туловище, а на голове усики тоненькие-тоненькие. Крылышки большие и разноцвет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я была куколкой. А когда наступила весна, куколка лопнула и я из нее вылезла. Крылышки расправила и полетела собирать цветочную пыль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я наемся, я откладываю яички на листочках и травинках. Из яичек выводятся гусеницы. Они очень прожорливые и съедают много листочков на деревьях. Гусеницы вырастают и заматываются в специальную ниточку. Она твердеет и превращается в куколку. Так я и зим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е все бабочки умирают осенью. Некоторые залетают на чердак или под кору деревьев и там засыпают. Весной они просыпаются и летят на цве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1847880" cy="25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ализация данного проекта позвол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ельно повысить самостоятельную активность дет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ь творческое мышл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формировать умение детей самостоятельно, разными способами находить информацию об интересующем предмете или явлении и использовать эти зн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гатить и активизировать словарь детей, развить связную речь, развить планирующую функцию реч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ть образовательную систему дошкольного образовательного учреждения открытой для активного участия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бина Е.С. Партнерство дошкольного образовательного учреждения и семьи в логопедической работе – журнал Логопед - № 5, 2005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акса Н.Е., Веракса А.Н. Проектная деятельность дошкольников. М.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докимова Е.С. Технология проектирования в ДОУ. Сфера. М.2005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иселева Л.С. Проектный метод в деятельности дошкольного учреждения. Арти. М., 2005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В. Коноваленко  ,В.В.Коноваленко «Развитие связной речи. Лето. Осень. Весна .Зима.»-М,200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.А.Кнушевицкая «Картотека стихов по  стихов по лексическим темам «Наш мир»-Спб-Детство-Пресс,20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рашковска И.Н. , Валюмс Н.П. картинка без запинки /методика рассказа по картине/. –Спб.:Из-во ТОО «ТРИЗ-ШАНС», 1995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по развитию творческого воображения и обучению диалектическому способу мышления с помощью элементов ТРИЗ /составитель Гуткович И.Я. и др. – Ульяновск, 1994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дорчук Т.А. технология обучения дошкольников умению решать творческие задачи, Ульяновск, 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мого рождения ребенок является первооткрывателем, исследователем того мира, который его окружает. Познавательная активность детей в дошкольном  возрасте очень высокая: каждый ответ педагога на детский вопрос рождает новые вопросы. Самостоятельно ребенок ещё не может найти ответы на все вопросы, ему помогают педагоги. В этом случает на помощь приходит  метод проблемного обучения, который состоит из вопросов (логически развивающие мышление), моделирования проблемных ситуаций, эксперимент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помогает наглядно и доступно продемонстрировать причинную и временную зависимость, последовательность, взаимосвязь и взаимозависимость предметов и явлений. Дети учатся наблюдать, выделять эти связи и объяснять наблюдаемое, что оказывает значительное влияние на развитие их мыслительное дея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цессе познания природы дети осваивают грамматические категории, обозначающие названия, действия и качества, что помогает им анализировать предмет и явление с разных сторон.  В связи с этим, создаются условия для развития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ной реч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и формирования таких ее качеств как последовательность, логичность, доказательность и четкость. Ребенок учится рассуждать, рассказывать описывать. А это  является важнейшим условием успешного обучения детей в детском саду и подготовки  к школьному  обучению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едпосылок  поисковой деятельности, интеллектуальной инициативы у дошкольников в процессе закрепления знаний о природе, способствующих развитию связной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чнить, обобщить знания и словарный запас по теме «Весенние изменения в природ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удить в ребенке желание самому добывать недостающие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ть интерес , мотивацию к к процессу актив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связную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имулировать совместную продуктивную деятельность детей 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экологическую культуру у детей, бережное отношение к 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жидаемый результат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ьзование метода проектов в работе будет способств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ешному развитию коммуникативных и творческих способностей детей старшего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ю педагогической компетентности педагогов и родителей в вопросах речевого и экологического развити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ю  заинтересованности родителей не только в результатах, но и в самом процессе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апы и стратегия реализации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апы и стратегия реализации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74293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апы и стратегия реализации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1000080" y="1857240"/>
            <a:ext cx="6858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8:41:29Z</dcterms:created>
  <dc:creator>.</dc:creator>
  <dc:description/>
  <dc:language>en-US</dc:language>
  <cp:lastModifiedBy>RePack by SPecialiST</cp:lastModifiedBy>
  <dcterms:modified xsi:type="dcterms:W3CDTF">2017-08-30T10:17:36Z</dcterms:modified>
  <cp:revision>44</cp:revision>
  <dc:subject/>
  <dc:title>Слайд 1</dc:title>
</cp:coreProperties>
</file>