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163-A886-4C90-BF7F-FF719F0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AC4-FFF8-461F-9C51-B6AC96C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2C7-F563-4CCB-9BB1-85856318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8BA-6E5C-4829-9136-2BE31E35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7546-F4B0-4B1E-9922-306CB12F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859A-1527-4EBA-A3A5-5561099C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60E0-6C0B-428D-B989-915C7FDF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47D3-F63B-46E0-9F3D-F620AA42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0433-08D6-4F18-8AB7-B374325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6321-5704-4C5F-94CB-782C4BD3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AC6C-F512-4F35-824C-7615357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EFC-DC28-4BCB-90F0-133E66F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948-5DCD-4963-8078-8A0C1E9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679-8FF9-401B-AB69-A2B3D76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0DD-40AC-44B3-A4E6-F4E0CC66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1DC-2B09-47F2-8626-1FC9DAB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6EAA-9B26-4A8D-8C5D-F86FAF5D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ECA-C6FC-491F-8AB3-CA24263A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997-4E4E-4C62-9281-CA29E826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F04-5AA6-4323-A899-65D355AA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3DE-4EB3-4DE2-A50F-7FA6E40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9CE-91E0-4BAB-B505-DD48B73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3F3-6B34-4F01-AA10-1522BED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EA5-857A-4042-B6BE-88D8CCC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f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7E5C-1A62-4E2D-8C6E-B8FE833E6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f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11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312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3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14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315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7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328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3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3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34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40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4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5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46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7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8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49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0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1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52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3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4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55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7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58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9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0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61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3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6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6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67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7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2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73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5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76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7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8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7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0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1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82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3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4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6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87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9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3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96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99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402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405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408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11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414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9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420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421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9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30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1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2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3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4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5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6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7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8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39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40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41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42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443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DB9-254C-41C4-9EA0-C96EEFF62651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Творческий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проект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на тему: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172200" y="5562720"/>
            <a:ext cx="2819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ект выполнил: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еник 4 «А» класса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юбаков Артем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арнавальный костюм «Дюймовочка»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Из белой паутины шьем юбку . Для этого берем ленту белого цвета и пришиваем к ней паутину в форме листьев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4"/>
                </a:solidFill>
                <a:latin typeface="Monotype Corsiva"/>
              </a:rPr>
              <a:t>Из паутины синего цвета собираем верх костюма , а именно форму цветка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ришиваем получившийся цветок на бретели из ленты синего цвета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503" name="Picture 6" descr="SDC10317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57229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a4"/>
                </a:solidFill>
                <a:latin typeface="Arial"/>
              </a:rPr>
              <a:t>Спасибо за внимание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59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Цель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- </a:t>
            </a: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изготовить красивый , недорогой и оригинальный карнавальный костюм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Задача </a:t>
            </a: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– несложное , но интересное в изготовлении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Материалы для изготовления карнавального костюма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оздушные шарики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итки белого, синего и желтого цветов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Ленточки атласные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лей ПВА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голка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ожницы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491" name="Picture 4" descr="SDC10280"/>
          <p:cNvPicPr/>
          <p:nvPr/>
        </p:nvPicPr>
        <p:blipFill>
          <a:blip r:embed="rId1"/>
          <a:stretch/>
        </p:blipFill>
        <p:spPr>
          <a:xfrm>
            <a:off x="304920" y="1905120"/>
            <a:ext cx="4419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 Black"/>
              </a:rPr>
              <a:t>Правила безопасности 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Arial Black"/>
              </a:rPr>
              <a:t>во время работы </a:t>
            </a:r>
            <a:endParaRPr b="0" lang="en-US" sz="32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еред началом работы посчитать количество иголок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е выполнять работу ржавыми и гнутыми иголками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ельзя перекусывать нитку зубами , так как от этого портиться эмаль зубов , кроме того, можно поранить губы и язык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 иглами и ножницами необходимо обращаться аккуратно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Технология изготовления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Надуваем воздушные шары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Вдеваем нитку в иголку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040" y="2282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75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Monotype Corsiva"/>
              </a:rPr>
              <a:t>Прокалываем тюбик клея ПВА, чтобы нитка проходя через отверстия была полностью пропитана клеем</a:t>
            </a: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75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Monotype Corsiva"/>
              </a:rPr>
              <a:t>Берем воздушный шар и начинаем его обматывать в разных направления ниткой пропитанную клеем , как будто мы плетем паутину </a:t>
            </a:r>
            <a:endParaRPr b="0" lang="en-US" sz="27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7616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осле того как паутина в форме шара готова , оставляем до высыхания кле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4920" y="6858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-27756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Как только клей подсохнет берем шар и иголкой прокалываем его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277560" indent="-27756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Аккуратно освобождаем шарик из получившегося «шара-паутины»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4"/>
                </a:solidFill>
                <a:latin typeface="Monotype Corsiva"/>
              </a:rPr>
              <a:t>Из получившийся паутины выкраиваем заготовки для карнавального костюма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R</cp:lastModifiedBy>
  <dcterms:modified xsi:type="dcterms:W3CDTF">2017-08-30T05:10:4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