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3C1-6CCE-478A-819A-38461727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8D8-18C2-4889-83D2-CF9A6BA0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136-970A-4F5F-99BA-052833A6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262-7310-4A23-8F78-D19E2350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1625-B91E-46E9-A84C-1519F355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B2AB-DECF-4799-95B6-579E79A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249E-C76F-4BC9-93F4-F9F72AA1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2280-C891-4B6C-970E-359E320C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81F2-46BC-436D-A224-01586636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A994-5DC8-4319-A591-6C45B2E8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75C2-7730-48D9-B731-566D12A8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22A-0D08-47F7-B995-530279C0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36B7-538A-4133-ADEB-D7B4694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041F-4E5A-4B56-857A-D34E8B04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4686-34C8-4E57-A8B6-9A7E079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DBE6-8889-4311-B575-6D106B68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B1AC-B57C-4406-BB72-20A01485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5A8-A60F-42ED-8482-2E6EACE8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F7E-5376-46B8-BDC1-A4B15C31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4B7-F9BF-4365-A754-71A0E2C8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8C4-FEDC-4D07-87EB-CBB8A121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2CA-4A09-44E3-BC20-911ED0E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760-8359-4C40-9C74-9230449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B51-A726-416C-A9DD-79B4BE9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81A3-4624-42A7-829A-0AE50E9E1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B022-415E-4B76-A74D-A12548B1C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914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Презентация  по окружающему миру на тему: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Лесные тайны…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4797000"/>
            <a:ext cx="8964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у выполнила учитель начальных               классов МАОУ СОШ №2    г.Ноябрь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рбакова Екатерина Ю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6720" y="188640"/>
            <a:ext cx="4067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Кроме деревьев растут в лесу и кустарники: орешник, шиповник, акация, можжевельник, малина. Сильный аромат черемухи очищает воздух от микробов. Ягоды черемухи используются человеком как лекарственное средство. Лесные обитатели тоже используют их как питание и лекарств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51640" y="188640"/>
            <a:ext cx="3241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ным-давно упало на землю маленькое семечко - семя будущего дерева. Время идет -дерево выросло и погибло. Остался лишь старый пень. Гнилой пень дает приют тысячам насекомых. Облюбовал здесь себе место для жизни зеленый мох. Скоро появятся и опят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 "/>
          <p:cNvPicPr/>
          <p:nvPr/>
        </p:nvPicPr>
        <p:blipFill>
          <a:blip r:embed="rId1"/>
          <a:stretch/>
        </p:blipFill>
        <p:spPr>
          <a:xfrm>
            <a:off x="0" y="189000"/>
            <a:ext cx="5435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64000" y="-360"/>
            <a:ext cx="3780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есной расцветают не только травы (подснежники, мать-и-мачеха и др.), но и деревья. Вы видите сережки дуба - это тоже цветки, правда мелкие и собранные в группы. Такие невзрачные цветы опыляются ветром. После опыления на месте цветов постепенно образуются плоды. У дуба появятся всем известные желуди с твердой блестящей кожурой. Осенью желуди созреют, станут коричневыми. Из некоторых желудей вырастут молодые дубки. Большинство же - послужат отличной пищей многим лесным обитателям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емена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ужат растениям для размножения. У хвойных растений семена лежат на поверхности чешуек шишек. У растений, имеющих цветы, семена спрятаны внутри плодов.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лоды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ывают разнообразные. Все их можно поделить на сухие (клен, дуб) и сочные (рябина). Сочные плоды обычно распространяются животными, которые их поедают. Сухие плоды разносит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етер. Для этого у них есть специальные приспособления, например, крылышк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 250-300 лет живет ель, В возрасте от 10 лет ель начинает «цвести». Конечно, не настоящее это цветение. Цветов у хвойных не бывает. Но, бесспорно, это один из самых красивых моментов жизни дерева. После «цветения» в шишках начнут развиваться семен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64000" y="274680"/>
            <a:ext cx="3322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 хвойных деревьев семена созревают в шишках. Одни из семян дадут жизнь новым деревцам. Другие послужат кормом многим лесным обитателям (птицам, зверям, насекомым)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8435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96000" y="274680"/>
            <a:ext cx="28908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 всех хвойных деревьев ствол смолистый. Если появляется ранка на коре, выделяется смола. Смола для хвойных деревьев -лучшее лекарств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 "/>
          <p:cNvPicPr/>
          <p:nvPr/>
        </p:nvPicPr>
        <p:blipFill>
          <a:blip r:embed="rId1"/>
          <a:stretch/>
        </p:blipFill>
        <p:spPr>
          <a:xfrm>
            <a:off x="0" y="189000"/>
            <a:ext cx="5838840" cy="6669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40360" y="260280"/>
            <a:ext cx="2973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жар в лесу - большое несчастье! На месте сгоревшего леса первыми появляются травы. Затем начинают расти молодые деревья, семена ели могут прорасти даже из обгоревших шишек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о пройдет очень много лет, прежде чем вырастет новый лес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 "/>
          <p:cNvPicPr/>
          <p:nvPr/>
        </p:nvPicPr>
        <p:blipFill>
          <a:blip r:embed="rId1"/>
          <a:stretch/>
        </p:blipFill>
        <p:spPr>
          <a:xfrm>
            <a:off x="0" y="189000"/>
            <a:ext cx="6477120" cy="6669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16720" y="274680"/>
            <a:ext cx="217008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колько колец на пне - столько лет дереву. По пню в лесу легко узнать, где север и юг: с какой стороны тепло - там годовое кольцо толще, серединная точка тянется к северу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Использованные ресурс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лект  цветных открыток. Автор текста кандидат биологических наук Д. Семё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062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76720" y="259920"/>
            <a:ext cx="388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лесу всегд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истый воздух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гулка в лесу восстанавливает силы. Лесной воздух не содержит пыли и вредных веществ. Для здорового дыхания в воздухе должна содержаться влага. В лесном воздухе влаги достаточно. Вода испаряется с листьев растений, поверхности почвы, речек и ручьев, насыщая воздух, Ручьи и реки питают животворной влагой всех лесных обитате­лей (растения, животных, гриб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оссии лес чаще всего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мешанны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здесь вместе растут ли­ственные и хвойные деревь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40360" y="189000"/>
            <a:ext cx="28432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189000"/>
            <a:ext cx="36734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реза образует леса, которые называются широколиственными. Леса такого типа образуют и другие лиственные деревья -дуб, тополь, осина, липа. Все эти деревья  листопадные, т.е. сбрасывающие листву на зи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реза - единственное в мире дерево с белой корой. В благоприятных условиях березы могут достигать высоты 25-30 м. Высокоствольные березы с белоснежной корой в значительной степени определяют красоту и своеобразие природы средней полосы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6360" y="274320"/>
            <a:ext cx="381636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Яркость листьев - одна из главных осенних примет. Отмирающие листья теряют свою зеленую окраску, становясь при этом желтыми, красными, бурыми. Под порывами ветра они облетают и уносят с собой вещества, уже не нужные дереву. Яркий «ковер» упавших на почву листьев зимой поблекнет. Листва превратится в перегной, который очень пригодится растениям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гда зима закончится. Осенью жизнь деревьев замирает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Дуб - дерево-долгожитель. Царь Петр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200 лет тому назад посадил в селе Коломенском молодой дубок, он сейчас перед вами. Продолжительность жизни дерева варьируется в пределах от 20 до 300 и более лет. К долголетним деревьям относятся секвойя, сосна, баобаб, которые доживают до 3-5 тысяч лет. В России наиболее долголетние деревья - тисе, дуб, сосна, липа, лиственница, ель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6360" y="274680"/>
            <a:ext cx="38163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Если посадить деревья в два ряда и проложить между ними дорожку, получится аллея. Аллея- искусственное насаждение. Аллеи защищают тротуары, дорожки и здания от пыли и шума. Под сводами лип летом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прохлада, осенью - сухая прогулочная дорога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64000" y="274680"/>
            <a:ext cx="37800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расные  листья рябины - примета осени. Да и не только листья! Сочные плоды рябины - прекрасный корм для лесных зверей и птиц. Живет рябина до 200-300 лет. Она плохо переносит загрязнение воздуха дымом п газами, поэтому растет не везде. За красной рябиной стоит ель, зеленая зимой н летом. Рядом с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ябиной - похожий па елочку можжевельник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16000" y="189000"/>
            <a:ext cx="4248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У </a:t>
            </a: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хвойных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деревьев (сосны, ели, пихты, кедра, лиственницы) на веточках не листья, а хвоинки. Такие видоизмененные листья испаряют мало влаги, поэтому зимой, когда вся вода замерзает, хвоя остается на деревьях (за исключением лиственницы). По этой причине сосны и ели называют </a:t>
            </a: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вечнозелеными деревьями.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Жизнь каждой хвоинки продолжается от 2 до 5 лет, но опадают они не одновременно. Сосны - </a:t>
            </a: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светолюбивые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деревья, поэтому у сосен леса нижние ветки отсутствуют. Ели же, наоборот, являются деревьями </a:t>
            </a: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теневыносливыми.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Они могут расти под кронами других деревьев, постепенно вытесняя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их из леса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 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51280" y="274680"/>
            <a:ext cx="34923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Не все хвойные деревья являются вечнозелеными. У лиственницы хвоинки осенью опадают, как листья у лиственных деревьев. Хвоя у лиственницы мягкая, перед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осенним листопадом она желтеет. Это дерево светолю­биво, не боится сильных морозов и растет севернее других хвойных деревьев. Лиственница является самым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распространенным деревом в Росси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7:44:32Z</dcterms:created>
  <dc:creator>Пользователь</dc:creator>
  <dc:description/>
  <dc:language>en-US</dc:language>
  <cp:lastModifiedBy>Пользователь</cp:lastModifiedBy>
  <dcterms:modified xsi:type="dcterms:W3CDTF">2014-11-26T13:01:18Z</dcterms:modified>
  <cp:revision>5</cp:revision>
  <dc:subject/>
  <dc:title>Слайд 1</dc:title>
</cp:coreProperties>
</file>