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E5DB-C064-4BD9-8A4A-50C45638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26B2-0DE4-4E64-8242-0734ADE7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16A4-94D1-412C-B207-D930D325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B377-6ECC-4F5E-AF09-648ED834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DEE4-63DF-4BBA-B3E3-7E78AC2F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4E6B-61DB-49A6-A3FF-5339084F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4A38-BED4-4E35-86C0-08D29C3F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AF43-B200-4289-93D9-5A286075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405F-0B8D-4D44-AE58-2356E4A3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92BA-CEE6-4F22-9E46-751035F9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FF3B-6D45-45AA-AD4B-94B5A471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5E99-457E-4ED2-B77C-52C582CB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2124-1AD0-44C5-92A8-C51971C4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E109-85D4-4020-A8E0-BE1B5B10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56A7-126B-4D70-94A5-E29E8968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2AEC-DDD4-46E6-AE12-F71496B6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63A2-96C8-44BB-8700-35DB85A77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B849-3BC2-4346-8F3C-9B76B843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2664-ACF4-464A-AEB6-9C8DDDCD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1E5A-A6D3-4500-A166-3309EA52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79AD-36A1-40EC-AD65-A628F00A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F728-AD57-4BD8-A59E-BF80025D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7642-5E90-4BF3-9192-8D0A33B3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F3D5-3015-495F-B2CA-326EF660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7AC9-0C8C-4BED-9722-550F02F4C7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C738-6AA5-4E41-89F1-59841E007C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914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Презентация  по окружающему миру на тему:</a:t>
            </a:r>
            <a:br>
              <a:rPr sz="36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«Лесные тайны…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4797000"/>
            <a:ext cx="89647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аботу выполнила учитель начальных               классов МАОУ СОШ №2    г.Ноябрьс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Щербакова Екатерина Юрь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 "/>
          <p:cNvPicPr/>
          <p:nvPr/>
        </p:nvPicPr>
        <p:blipFill>
          <a:blip r:embed="rId1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76720" y="188640"/>
            <a:ext cx="40672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Кроме деревьев растут в лесу и кустарники: орешник, шиповник, акация, можжевельник, малина. Сильный аромат черемухи очищает воздух от микробов. Ягоды черемухи используются человеком как лекарственное средство. Лесные обитатели тоже используют их как питание и лекарство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651640" y="188640"/>
            <a:ext cx="32414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вным-давно упало на землю маленькое семечко - семя будущего дерева. Время идет -дерево выросло и погибло. Остался лишь старый пень. Гнилой пень дает приют тысячам насекомых. Облюбовал здесь себе место для жизни зеленый мох. Скоро появятся и опята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" descr=" "/>
          <p:cNvPicPr/>
          <p:nvPr/>
        </p:nvPicPr>
        <p:blipFill>
          <a:blip r:embed="rId1"/>
          <a:stretch/>
        </p:blipFill>
        <p:spPr>
          <a:xfrm>
            <a:off x="0" y="189000"/>
            <a:ext cx="54356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64000" y="-360"/>
            <a:ext cx="3780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есной расцветают не только травы (подснежники, мать-и-мачеха и др.), но и деревья. Вы видите сережки дуба - это тоже цветки, правда мелкие и собранные в группы. Такие невзрачные цветы опыляются ветром. После опыления на месте цветов постепенно образуются плоды. У дуба появятся всем известные желуди с твердой блестящей кожурой. Осенью желуди созреют, станут коричневыми. Из некоторых желудей вырастут молодые дубки. Большинство же - послужат отличной пищей многим лесным обитателям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" descr=" "/>
          <p:cNvPicPr/>
          <p:nvPr/>
        </p:nvPicPr>
        <p:blipFill>
          <a:blip r:embed="rId1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 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76720" y="274320"/>
            <a:ext cx="361008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Семена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лужат растениям для размножения. У хвойных растений семена лежат на поверхности чешуек шишек. У растений, имеющих цветы, семена спрятаны внутри плодов.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Плоды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бывают разнообразные. Все их можно поделить на сухие (клен, дуб) и сочные (рябина). Сочные плоды обычно распространяются животными, которые их поедают. Сухие плоды разносит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етер. Для этого у них есть специальные приспособления, например, крылышки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 "/>
          <p:cNvPicPr/>
          <p:nvPr/>
        </p:nvPicPr>
        <p:blipFill>
          <a:blip r:embed="rId1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580000" y="274320"/>
            <a:ext cx="3106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о 250-300 лет живет ель, В возрасте от 10 лет ель начинает «цвести». Конечно, не настоящее это цветение. Цветов у хвойных не бывает. Но, бесспорно, это один из самых красивых моментов жизни дерева. После «цветения» в шишках начнут развиваться семена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 "/>
          <p:cNvPicPr/>
          <p:nvPr/>
        </p:nvPicPr>
        <p:blipFill>
          <a:blip r:embed="rId1"/>
          <a:stretch/>
        </p:blipFill>
        <p:spPr>
          <a:xfrm>
            <a:off x="0" y="0"/>
            <a:ext cx="536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64000" y="274680"/>
            <a:ext cx="33228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У хвойных деревьев семена созревают в шишках. Одни из семян дадут жизнь новым деревцам. Другие послужат кормом многим лесным обитателям (птицам, зверям, насекомым)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 "/>
          <p:cNvPicPr/>
          <p:nvPr/>
        </p:nvPicPr>
        <p:blipFill>
          <a:blip r:embed="rId1"/>
          <a:stretch/>
        </p:blipFill>
        <p:spPr>
          <a:xfrm>
            <a:off x="0" y="0"/>
            <a:ext cx="58435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96000" y="274680"/>
            <a:ext cx="28908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У всех хвойных деревьев ствол смолистый. Если появляется ранка на коре, выделяется смола. Смола для хвойных деревьев -лучшее лекарство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 "/>
          <p:cNvPicPr/>
          <p:nvPr/>
        </p:nvPicPr>
        <p:blipFill>
          <a:blip r:embed="rId1"/>
          <a:stretch/>
        </p:blipFill>
        <p:spPr>
          <a:xfrm>
            <a:off x="0" y="189000"/>
            <a:ext cx="5838840" cy="6669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40360" y="260280"/>
            <a:ext cx="2973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ожар в лесу - большое несчастье! На месте сгоревшего леса первыми появляются травы. Затем начинают расти молодые деревья, семена ели могут прорасти даже из обгоревших шишек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о пройдет очень много лет, прежде чем вырастет новый лес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 "/>
          <p:cNvPicPr/>
          <p:nvPr/>
        </p:nvPicPr>
        <p:blipFill>
          <a:blip r:embed="rId1"/>
          <a:stretch/>
        </p:blipFill>
        <p:spPr>
          <a:xfrm>
            <a:off x="0" y="189000"/>
            <a:ext cx="6477120" cy="6669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16720" y="274680"/>
            <a:ext cx="217008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колько колец на пне - столько лет дереву. По пню в лесу легко узнать, где север и юг: с какой стороны тепло - там годовое кольцо толще, серединная точка тянется к северу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Использованные ресурсы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мплект  цветных открыток. Автор текста кандидат биологических наук Д. Семё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 "/>
          <p:cNvPicPr/>
          <p:nvPr/>
        </p:nvPicPr>
        <p:blipFill>
          <a:blip r:embed="rId1"/>
          <a:stretch/>
        </p:blipFill>
        <p:spPr>
          <a:xfrm>
            <a:off x="0" y="0"/>
            <a:ext cx="506268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076720" y="259920"/>
            <a:ext cx="3888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лесу всегда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чистый воздух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гулка в лесу восстанавливает силы. Лесной воздух не содержит пыли и вредных веществ. Для здорового дыхания в воздухе должна содержаться влага. В лесном воздухе влаги достаточно. Вода испаряется с листьев растений, поверхности почвы, речек и ручьев, насыщая воздух, Ручьи и реки питают животворной влагой всех лесных обитате­лей (растения, животных, грибы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России лес чаще всего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смешанны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здесь вместе растут ли­ственные и хвойные деревь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 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40360" y="189000"/>
            <a:ext cx="284328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5219640" y="189000"/>
            <a:ext cx="367344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ереза образует леса, которые называются широколиственными. Леса такого типа образуют и другие лиственные деревья -дуб, тополь, осина, липа. Все эти деревья  листопадные, т.е. сбрасывающие листву на зим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ереза - единственное в мире дерево с белой корой. В благоприятных условиях березы могут достигать высоты 25-30 м. Высокоствольные березы с белоснежной корой в значительной степени определяют красоту и своеобразие природы средней полосы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 "/>
          <p:cNvPicPr/>
          <p:nvPr/>
        </p:nvPicPr>
        <p:blipFill>
          <a:blip r:embed="rId1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76360" y="274320"/>
            <a:ext cx="381636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Яркость листьев - одна из главных осенних примет. Отмирающие листья теряют свою зеленую окраску, становясь при этом желтыми, красными, бурыми. Под порывами ветра они облетают и уносят с собой вещества, уже не нужные дереву. Яркий «ковер» упавших на почву листьев зимой поблекнет. Листва превратится в перегной, который очень пригодится растениям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огда зима закончится. Осенью жизнь деревьев замирает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 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292720" y="0"/>
            <a:ext cx="3672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Дуб - дерево-долгожитель. Царь Петр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I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200 лет тому назад посадил в селе Коломенском молодой дубок, он сейчас перед вами. Продолжительность жизни дерева варьируется в пределах от 20 до 300 и более лет. К долголетним деревьям относятся секвойя, сосна, баобаб, которые доживают до 3-5 тысяч лет. В России наиболее долголетние деревья - тисе, дуб, сосна, липа, лиственница, ель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 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76360" y="274680"/>
            <a:ext cx="381636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Если посадить деревья в два ряда и проложить между ними дорожку, получится аллея. Аллея- искусственное насаждение. Аллеи защищают тротуары, дорожки и здания от пыли и шума. Под сводами лип летом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прохлада, осенью - сухая прогулочная дорога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 "/>
          <p:cNvPicPr/>
          <p:nvPr/>
        </p:nvPicPr>
        <p:blipFill>
          <a:blip r:embed="rId1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64000" y="274680"/>
            <a:ext cx="378000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расные  листья рябины - примета осени. Да и не только листья! Сочные плоды рябины - прекрасный корм для лесных зверей и птиц. Живет рябина до 200-300 лет. Она плохо переносит загрязнение воздуха дымом п газами, поэтому растет не везде. За красной рябиной стоит ель, зеленая зимой н летом. Рядом с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ябиной - похожий па елочку можжевельник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 "/>
          <p:cNvPicPr/>
          <p:nvPr/>
        </p:nvPicPr>
        <p:blipFill>
          <a:blip r:embed="rId1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16000" y="189000"/>
            <a:ext cx="424836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У </a:t>
            </a:r>
            <a:r>
              <a:rPr b="0" i="1" lang="en-US" sz="1800" spc="-1" strike="noStrike">
                <a:solidFill>
                  <a:srgbClr val="ffffff"/>
                </a:solidFill>
                <a:latin typeface="Arial Black"/>
              </a:rPr>
              <a:t>хвойных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деревьев (сосны, ели, пихты, кедра, лиственницы) на веточках не листья, а хвоинки. Такие видоизмененные листья испаряют мало влаги, поэтому зимой, когда вся вода замерзает, хвоя остается на деревьях (за исключением лиственницы). По этой причине сосны и ели называют </a:t>
            </a:r>
            <a:r>
              <a:rPr b="0" i="1" lang="en-US" sz="1800" spc="-1" strike="noStrike">
                <a:solidFill>
                  <a:srgbClr val="ffffff"/>
                </a:solidFill>
                <a:latin typeface="Arial Black"/>
              </a:rPr>
              <a:t>вечнозелеными деревьями.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Жизнь каждой хвоинки продолжается от 2 до 5 лет, но опадают они не одновременно. Сосны - </a:t>
            </a:r>
            <a:r>
              <a:rPr b="0" i="1" lang="en-US" sz="1800" spc="-1" strike="noStrike">
                <a:solidFill>
                  <a:srgbClr val="ffffff"/>
                </a:solidFill>
                <a:latin typeface="Arial Black"/>
              </a:rPr>
              <a:t>светолюбивые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деревья, поэтому у сосен леса нижние ветки отсутствуют. Ели же, наоборот, являются деревьями </a:t>
            </a:r>
            <a:r>
              <a:rPr b="0" i="1" lang="en-US" sz="1800" spc="-1" strike="noStrike">
                <a:solidFill>
                  <a:srgbClr val="ffffff"/>
                </a:solidFill>
                <a:latin typeface="Arial Black"/>
              </a:rPr>
              <a:t>теневыносливыми.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Они могут расти под кронами других деревьев, постепенно вытесняя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их из леса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 "/>
          <p:cNvPicPr/>
          <p:nvPr/>
        </p:nvPicPr>
        <p:blipFill>
          <a:blip r:embed="rId1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651280" y="274680"/>
            <a:ext cx="349236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Не все хвойные деревья являются вечнозелеными. У лиственницы хвоинки осенью опадают, как листья у лиственных деревьев. Хвоя у лиственницы мягкая, перед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осенним листопадом она желтеет. Это дерево светолю­биво, не боится сильных морозов и растет севернее других хвойных деревьев. Лиственница является самым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распространенным деревом в России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1T17:44:32Z</dcterms:created>
  <dc:creator>Пользователь</dc:creator>
  <dc:description/>
  <dc:language>en-US</dc:language>
  <cp:lastModifiedBy>Пользователь</cp:lastModifiedBy>
  <dcterms:modified xsi:type="dcterms:W3CDTF">2014-11-26T13:01:18Z</dcterms:modified>
  <cp:revision>5</cp:revision>
  <dc:subject/>
  <dc:title>Слайд 1</dc:title>
</cp:coreProperties>
</file>