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BB0-42F9-41EB-8095-98CD0139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391-9574-47C9-A506-7109824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8D1-C0EE-4C04-8397-FFFB66DD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E86-CAFB-4CC9-B68B-5B484FF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99A-DA8C-43A3-A205-B8FC2C14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D5D-EAAC-437C-A901-CDE4FBF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9F0-EAA5-4838-94B0-1DC79B7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CA7-4D02-4A85-B8E1-E12770D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778-C634-4C6D-963F-1D29D29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06E-33C3-4912-AD67-A324818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B3B-73B1-4476-B1A0-4B1ACD4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86D-8440-4E2C-AAFC-4AF4DC3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9BD-AE28-489D-AD64-EE13ACA7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 ИДЕЙ ЛИЧНОСТНО-ОРИЕНТИРОВАННОГО ОБУЧЕНИЯ В РАМКАХ МОДЕЛИ ФОРМИРОВАНИЯ ЧИТАТЕЛЬСКОЙ КОМПЕТЕНТ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14400" y="7621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Шимо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Личностно-ориентированного уро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Рисунок1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Направления диагност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нимание услышанного (аудиро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вление читательского интереса и уровня читательской самосто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пределение читательского круго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о следующим критериям</a:t>
            </a: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познавательная сфера ребёнка (восприятие, память, внимание, мышлени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мотивационная сфера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эмоционально-волевая сфера (уровень тревожности, активности, удовлетворён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личностная сфера (самооценка, уровень коммуникации, ценностные ориент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85800" y="236232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Times New Roman"/>
              </a:rPr>
              <a:t>СПА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80880" y="14526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Читайте! И пусть в вашей жизни не будет ни одного дня, когда бы вы не прочли хоть одной странички из новой кни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Константин Паусто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русский писатель (1892-196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Личностно-ориентированное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во главу угла ставит самобытность ребенка, его самоценность, субъектность процесса 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Личностно-ориентирован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обеспечивает развитие и саморазвитие личности ученика исходя из выявления его индивидуальных особенностей как субъекта познания и предмет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2971800" y="1905120"/>
            <a:ext cx="3048120" cy="2895480"/>
          </a:xfrm>
          <a:prstGeom prst="ellips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5724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одель формирования читательской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лево 7"/>
          <p:cNvSpPr/>
          <p:nvPr/>
        </p:nvSpPr>
        <p:spPr>
          <a:xfrm>
            <a:off x="6019920" y="533520"/>
            <a:ext cx="3124080" cy="5715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ff99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781680" y="213372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еобходимость более четкого представления процесса формирования читательской компететнтности в знаково-символическ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9"/>
          <p:cNvSpPr/>
          <p:nvPr/>
        </p:nvSpPr>
        <p:spPr>
          <a:xfrm>
            <a:off x="0" y="533520"/>
            <a:ext cx="2971800" cy="5638680"/>
          </a:xfrm>
          <a:prstGeom prst="rightArrow">
            <a:avLst>
              <a:gd name="adj1" fmla="val 50000"/>
              <a:gd name="adj2" fmla="val 4891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циальный зак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едеральный государственный стандарт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Модель формирования читательской компетентности с опорой на личностно ориентированное обучение позволит построить образовательный процесс с учетом  личностных особенностей каждого оюучающегося, что предполагает   воспитание  и  развитие качеств личности,  отвечающих требованиям  информационного общества,  личности,  свободно ориентирующейся  в  потоках информации, способной конструктивно общаться, сотрудничать, эффективно решать учебные и познавательные задачи в процессе жизне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 учащихся систему знаний на основе актуализации их субъективного оп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азать помощь в поиске и обретении своего индивидуального стиля и темпа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овать в формировании положительной «Я – концепции», развитии творческих способностей, овладении умениями и навыками само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позитивные личные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0" y="5715000"/>
            <a:ext cx="213372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13372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субъек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96252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7315200" y="5638680"/>
            <a:ext cx="1828800" cy="91692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творчества и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48640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дов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рка 12"/>
          <p:cNvSpPr/>
          <p:nvPr/>
        </p:nvSpPr>
        <p:spPr>
          <a:xfrm>
            <a:off x="4008600" y="1085760"/>
            <a:ext cx="685800" cy="1127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127160"/>
              <a:gd name="textAreaBottom" fmla="*/ 563760 h 1127160"/>
            </a:gdLst>
            <a:ahLst/>
            <a:rect l="textAreaLeft" t="textAreaTop" r="textAreaRight" b="textAreaBottom"/>
            <a:pathLst>
              <a:path w="685800" h="1127125">
                <a:moveTo>
                  <a:pt x="0" y="563562"/>
                </a:moveTo>
                <a:lnTo>
                  <a:pt x="0" y="563562"/>
                </a:lnTo>
                <a:arcTo wR="342900" hR="563563" stAng="10800000" swAng="10800010"/>
                <a:lnTo>
                  <a:pt x="514350" y="563563"/>
                </a:lnTo>
                <a:lnTo>
                  <a:pt x="514350" y="563563"/>
                </a:lnTo>
                <a:arcTo wR="171450" hR="392113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Арка 13"/>
          <p:cNvSpPr/>
          <p:nvPr/>
        </p:nvSpPr>
        <p:spPr>
          <a:xfrm rot="16200000">
            <a:off x="3695760" y="140940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381240 h 762120"/>
            </a:gdLst>
            <a:ahLst/>
            <a:rect l="textAreaLeft" t="textAreaTop" r="textAreaRight" b="textAreaBottom"/>
            <a:pathLst>
              <a:path w="685800" h="762000">
                <a:moveTo>
                  <a:pt x="0" y="381000"/>
                </a:moveTo>
                <a:lnTo>
                  <a:pt x="0" y="381000"/>
                </a:lnTo>
                <a:arcTo wR="342900" hR="381000" stAng="10800000" swAng="10800010"/>
                <a:lnTo>
                  <a:pt x="514350" y="381000"/>
                </a:lnTo>
                <a:lnTo>
                  <a:pt x="514350" y="381000"/>
                </a:lnTo>
                <a:arcTo wR="171450" hR="209550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Арка 14"/>
          <p:cNvSpPr/>
          <p:nvPr/>
        </p:nvSpPr>
        <p:spPr>
          <a:xfrm rot="5400000">
            <a:off x="4381200" y="140976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381240 h 762120"/>
            </a:gdLst>
            <a:ahLst/>
            <a:rect l="textAreaLeft" t="textAreaTop" r="textAreaRight" b="textAreaBottom"/>
            <a:pathLst>
              <a:path w="685800" h="762000">
                <a:moveTo>
                  <a:pt x="0" y="381000"/>
                </a:moveTo>
                <a:lnTo>
                  <a:pt x="0" y="381000"/>
                </a:lnTo>
                <a:arcTo wR="342900" hR="381000" stAng="10800000" swAng="10800010"/>
                <a:lnTo>
                  <a:pt x="514350" y="381000"/>
                </a:lnTo>
                <a:lnTo>
                  <a:pt x="514350" y="381000"/>
                </a:lnTo>
                <a:arcTo wR="171450" hR="209550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1371600" y="4800600"/>
            <a:ext cx="6019920" cy="5202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1066680" y="5334120"/>
            <a:ext cx="22100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3276720" y="5181480"/>
            <a:ext cx="22096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5410080" y="5334120"/>
            <a:ext cx="24386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етент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4"/>
          <p:cNvSpPr/>
          <p:nvPr/>
        </p:nvSpPr>
        <p:spPr>
          <a:xfrm rot="19245000">
            <a:off x="1506600" y="3378240"/>
            <a:ext cx="2022480" cy="649080"/>
          </a:xfrm>
          <a:prstGeom prst="ellipse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8558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5"/>
          <p:cNvSpPr/>
          <p:nvPr/>
        </p:nvSpPr>
        <p:spPr>
          <a:xfrm>
            <a:off x="2590920" y="4114800"/>
            <a:ext cx="350496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руговая стрелка 38"/>
          <p:cNvSpPr/>
          <p:nvPr/>
        </p:nvSpPr>
        <p:spPr>
          <a:xfrm rot="19061400">
            <a:off x="-228600" y="4242960"/>
            <a:ext cx="2314440" cy="1828800"/>
          </a:xfrm>
          <a:custGeom>
            <a:avLst/>
            <a:gdLst>
              <a:gd name="textAreaLeft" fmla="*/ 419760 w 2314440"/>
              <a:gd name="textAreaRight" fmla="*/ 1894680 w 231444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314575" h="1828800">
                <a:moveTo>
                  <a:pt x="114300" y="914399"/>
                </a:moveTo>
                <a:lnTo>
                  <a:pt x="114300" y="914399"/>
                </a:lnTo>
                <a:arcTo wR="1042988" hR="800100" stAng="-10799997" swAng="9802055"/>
                <a:lnTo>
                  <a:pt x="2227245" y="624065"/>
                </a:lnTo>
                <a:lnTo>
                  <a:pt x="2085975" y="914402"/>
                </a:lnTo>
                <a:lnTo>
                  <a:pt x="1770045" y="624064"/>
                </a:lnTo>
                <a:lnTo>
                  <a:pt x="1858754" y="624064"/>
                </a:lnTo>
                <a:lnTo>
                  <a:pt x="1858754" y="624064"/>
                </a:lnTo>
                <a:arcTo wR="814388" hR="571500" stAng="-1349069" swAng="-9450927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9"/>
          <p:cNvSpPr/>
          <p:nvPr/>
        </p:nvSpPr>
        <p:spPr>
          <a:xfrm rot="19638000">
            <a:off x="153720" y="4712760"/>
            <a:ext cx="1520640" cy="633600"/>
          </a:xfrm>
          <a:prstGeom prst="ellipse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8162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90920" y="4127400"/>
            <a:ext cx="3504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лога, игровые,рефлексивные,педагогической поддержки, диагностические,создание ситуации выбора и успех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2"/>
          <p:cNvSpPr/>
          <p:nvPr/>
        </p:nvSpPr>
        <p:spPr>
          <a:xfrm>
            <a:off x="3886200" y="3581280"/>
            <a:ext cx="1447920" cy="5335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3"/>
          <p:cNvSpPr/>
          <p:nvPr/>
        </p:nvSpPr>
        <p:spPr>
          <a:xfrm rot="20695800">
            <a:off x="4749840" y="3228480"/>
            <a:ext cx="1447920" cy="3812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 rot="1443600">
            <a:off x="2846160" y="2940840"/>
            <a:ext cx="1828800" cy="5202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Круговая стрелка 46"/>
          <p:cNvSpPr/>
          <p:nvPr/>
        </p:nvSpPr>
        <p:spPr>
          <a:xfrm rot="19061400">
            <a:off x="1177920" y="2663640"/>
            <a:ext cx="2119320" cy="1828800"/>
          </a:xfrm>
          <a:custGeom>
            <a:avLst/>
            <a:gdLst>
              <a:gd name="textAreaLeft" fmla="*/ 390960 w 2119320"/>
              <a:gd name="textAreaRight" fmla="*/ 1728360 w 211932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119313" h="1828800">
                <a:moveTo>
                  <a:pt x="114300" y="914399"/>
                </a:moveTo>
                <a:lnTo>
                  <a:pt x="114300" y="914399"/>
                </a:lnTo>
                <a:arcTo wR="945357" hR="800100" stAng="-10799996" swAng="9808923"/>
                <a:lnTo>
                  <a:pt x="2054976" y="649821"/>
                </a:lnTo>
                <a:lnTo>
                  <a:pt x="1890713" y="914402"/>
                </a:lnTo>
                <a:lnTo>
                  <a:pt x="1597776" y="649820"/>
                </a:lnTo>
                <a:lnTo>
                  <a:pt x="1694975" y="649820"/>
                </a:lnTo>
                <a:lnTo>
                  <a:pt x="1694975" y="649820"/>
                </a:lnTo>
                <a:arcTo wR="716757" hR="571500" stAng="-1356557" swAng="-9443438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9813800">
            <a:off x="4427640" y="2648880"/>
            <a:ext cx="2057400" cy="5202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Овал 25"/>
          <p:cNvGrpSpPr/>
          <p:nvPr/>
        </p:nvGrpSpPr>
        <p:grpSpPr>
          <a:xfrm>
            <a:off x="5010120" y="927000"/>
            <a:ext cx="2908440" cy="1498680"/>
            <a:chOff x="5010120" y="927000"/>
            <a:chExt cx="2908440" cy="1498680"/>
          </a:xfrm>
        </p:grpSpPr>
        <p:pic>
          <p:nvPicPr>
            <p:cNvPr id="77" name="Овал 25" descr=""/>
            <p:cNvPicPr/>
            <p:nvPr/>
          </p:nvPicPr>
          <p:blipFill>
            <a:blip r:embed="rId1"/>
            <a:stretch/>
          </p:blipFill>
          <p:spPr>
            <a:xfrm>
              <a:off x="5010120" y="927000"/>
              <a:ext cx="290844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20779200">
              <a:off x="5402160" y="1186920"/>
              <a:ext cx="18068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Учебно-познавате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Овал 33"/>
          <p:cNvGrpSpPr/>
          <p:nvPr/>
        </p:nvGrpSpPr>
        <p:grpSpPr>
          <a:xfrm>
            <a:off x="2846520" y="182520"/>
            <a:ext cx="3389040" cy="1328760"/>
            <a:chOff x="2846520" y="182520"/>
            <a:chExt cx="3389040" cy="1328760"/>
          </a:xfrm>
        </p:grpSpPr>
        <p:pic>
          <p:nvPicPr>
            <p:cNvPr id="80" name="Овал 33" descr=""/>
            <p:cNvPicPr/>
            <p:nvPr/>
          </p:nvPicPr>
          <p:blipFill>
            <a:blip r:embed="rId2"/>
            <a:stretch/>
          </p:blipFill>
          <p:spPr>
            <a:xfrm>
              <a:off x="2846520" y="182520"/>
              <a:ext cx="33890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330720" y="361800"/>
              <a:ext cx="21016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Овал 35" descr=""/>
          <p:cNvPicPr/>
          <p:nvPr/>
        </p:nvPicPr>
        <p:blipFill>
          <a:blip r:embed="rId3"/>
          <a:stretch/>
        </p:blipFill>
        <p:spPr>
          <a:xfrm>
            <a:off x="3981600" y="1182600"/>
            <a:ext cx="723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36"/>
          <p:cNvGrpSpPr/>
          <p:nvPr/>
        </p:nvGrpSpPr>
        <p:grpSpPr>
          <a:xfrm>
            <a:off x="1547640" y="1036800"/>
            <a:ext cx="2616480" cy="1603080"/>
            <a:chOff x="1547640" y="1036800"/>
            <a:chExt cx="2616480" cy="1603080"/>
          </a:xfrm>
        </p:grpSpPr>
        <p:pic>
          <p:nvPicPr>
            <p:cNvPr id="84" name="Овал 36" descr=""/>
            <p:cNvPicPr/>
            <p:nvPr/>
          </p:nvPicPr>
          <p:blipFill>
            <a:blip r:embed="rId4"/>
            <a:stretch/>
          </p:blipFill>
          <p:spPr>
            <a:xfrm>
              <a:off x="1547640" y="1036800"/>
              <a:ext cx="2616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872400">
              <a:off x="1898640" y="1308240"/>
              <a:ext cx="16002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ичностно-ценност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Круговая стрелка 40"/>
          <p:cNvSpPr/>
          <p:nvPr/>
        </p:nvSpPr>
        <p:spPr>
          <a:xfrm rot="10969200">
            <a:off x="3320640" y="1420920"/>
            <a:ext cx="2043000" cy="1828800"/>
          </a:xfrm>
          <a:custGeom>
            <a:avLst/>
            <a:gdLst>
              <a:gd name="textAreaLeft" fmla="*/ 379800 w 2043000"/>
              <a:gd name="textAreaRight" fmla="*/ 1663200 w 204300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043113" h="1828800">
                <a:moveTo>
                  <a:pt x="114300" y="914399"/>
                </a:moveTo>
                <a:lnTo>
                  <a:pt x="114300" y="914399"/>
                </a:lnTo>
                <a:arcTo wR="907257" hR="800100" stAng="-10799996" swAng="9812479"/>
                <a:lnTo>
                  <a:pt x="1986652" y="660251"/>
                </a:lnTo>
                <a:lnTo>
                  <a:pt x="1814513" y="914402"/>
                </a:lnTo>
                <a:lnTo>
                  <a:pt x="1529452" y="660250"/>
                </a:lnTo>
                <a:lnTo>
                  <a:pt x="1629412" y="660250"/>
                </a:lnTo>
                <a:lnTo>
                  <a:pt x="1629412" y="660250"/>
                </a:lnTo>
                <a:arcTo wR="678657" hR="571500" stAng="-1361407" swAng="-9438587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Критерии            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     показателей    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сформированности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читателькой компетен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3" descr=""/>
          <p:cNvPicPr/>
          <p:nvPr/>
        </p:nvPicPr>
        <p:blipFill>
          <a:blip r:embed="rId1"/>
          <a:stretch/>
        </p:blipFill>
        <p:spPr>
          <a:xfrm>
            <a:off x="2182680" y="-30240"/>
            <a:ext cx="720576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5681880"/>
          </a:xfrm>
          <a:prstGeom prst="rect">
            <a:avLst/>
          </a:prstGeom>
          <a:ln w="0">
            <a:noFill/>
          </a:ln>
        </p:spPr>
      </p:pic>
      <p:sp>
        <p:nvSpPr>
          <p:cNvPr id="90" name="Овал 4"/>
          <p:cNvSpPr/>
          <p:nvPr/>
        </p:nvSpPr>
        <p:spPr>
          <a:xfrm>
            <a:off x="3733920" y="2819520"/>
            <a:ext cx="1752480" cy="1218960"/>
          </a:xfrm>
          <a:prstGeom prst="ellipse">
            <a:avLst/>
          </a:prstGeom>
          <a:solidFill>
            <a:srgbClr val="b2c1d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Римма</dc:creator>
  <dc:description/>
  <dc:language>en-US</dc:language>
  <cp:lastModifiedBy>111</cp:lastModifiedBy>
  <dcterms:modified xsi:type="dcterms:W3CDTF">2015-03-23T18:52:41Z</dcterms:modified>
  <cp:revision>89</cp:revision>
  <dc:subject/>
  <dc:title>Мой проект</dc:title>
</cp:coreProperties>
</file>