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F3E6-CA16-4AEA-850C-8470C1BB0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8044-04EC-460D-9CBC-795E4D644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5E4B-EF38-48A2-B8D7-8F1120234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0BC4-574F-4F4D-A7AD-E251FF76E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787C-2DA8-4539-B87E-FE1DD5383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DE42-53D5-4C8C-B7A2-630860F7E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E788-1BF2-4C47-B469-430FAFBED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25BC-8F1F-4E83-B120-32A7BA1AF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BD4A-27D6-4CE4-AC79-CA059A1C6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7682-6957-4C5A-AC35-E2415AE10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DCFF-E32E-4D15-A78D-4C0C9C01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80A0-2EE7-4804-857C-0E760DC6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CF94A-8ADC-4463-832C-D192E799E4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1447920"/>
            <a:ext cx="754380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АЛИЗАЦИЯ ИДЕЙ ЛИЧНОСТНО-ОРИЕНТИРОВАННОГО ОБУЧЕНИЯ В РАМКАХ МОДЕЛИ ФОРМИРОВАНИЯ ЧИТАТЕЛЬСКОЙ КОМПЕТЕНТНОСТИ МЛАДШИХ ШКОЛЬНИК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914400" y="76212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БОУ Шиморская С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Личностно-ориентированного урок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SzPct val="2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4" descr="Рисунок1"/>
          <p:cNvPicPr/>
          <p:nvPr/>
        </p:nvPicPr>
        <p:blipFill>
          <a:blip r:embed="rId1"/>
          <a:stretch/>
        </p:blipFill>
        <p:spPr>
          <a:xfrm>
            <a:off x="914400" y="1600200"/>
            <a:ext cx="739152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Направления диагностирова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Понимание прочитанног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Понимание услышанного (аудировани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Выявление читательского интереса и уровня читательской самостоятель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Определение читательского кругозо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Диагности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по следующим критериям</a:t>
            </a:r>
            <a:r>
              <a:rPr b="0" lang="ru-RU" sz="2800" spc="-1" strike="noStrike">
                <a:solidFill>
                  <a:srgbClr val="cc33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Calibri"/>
              </a:rPr>
              <a:t>познавательная сфера ребёнка (восприятие, память, внимание, мышление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Calibri"/>
              </a:rPr>
              <a:t>мотивационная сфера учащихс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Calibri"/>
              </a:rPr>
              <a:t>эмоционально-волевая сфера (уровень тревожности, активности, удовлетворённости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Calibri"/>
              </a:rPr>
              <a:t>личностная сфера (самооценка, уровень коммуникации, ценностные ориентации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685800" y="2362320"/>
            <a:ext cx="769608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53735"/>
                </a:solidFill>
                <a:latin typeface="Times New Roman"/>
              </a:rPr>
              <a:t>СПАСИБО ЗА ВНИМА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53735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"/>
          <p:cNvSpPr/>
          <p:nvPr/>
        </p:nvSpPr>
        <p:spPr>
          <a:xfrm>
            <a:off x="380880" y="1452600"/>
            <a:ext cx="7925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Arial"/>
              </a:rPr>
              <a:t>Читайте! И пусть в вашей жизни не будет ни одного дня, когда бы вы не прочли хоть одной странички из новой книг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32523"/>
                </a:solidFill>
                <a:latin typeface="Arial"/>
              </a:rPr>
              <a:t>Константин Паустовски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32523"/>
                </a:solidFill>
                <a:latin typeface="Arial"/>
              </a:rPr>
              <a:t>русский писатель (1892-196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Calibri"/>
              </a:rPr>
              <a:t>Личностно-ориентированное обуч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Calibri"/>
              </a:rPr>
              <a:t>     </a:t>
            </a:r>
            <a:r>
              <a:rPr b="0" lang="ru-RU" sz="2800" spc="-1" strike="noStrike">
                <a:solidFill>
                  <a:srgbClr val="632523"/>
                </a:solidFill>
                <a:latin typeface="Calibri"/>
              </a:rPr>
              <a:t>во главу угла ставит самобытность ребенка, его самоценность, субъектность процесса уч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Calibri"/>
              </a:rPr>
              <a:t>Личностно-ориентированное образова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Calibri"/>
              </a:rPr>
              <a:t>     </a:t>
            </a:r>
            <a:r>
              <a:rPr b="0" lang="ru-RU" sz="2800" spc="-1" strike="noStrike">
                <a:solidFill>
                  <a:srgbClr val="632523"/>
                </a:solidFill>
                <a:latin typeface="Calibri"/>
              </a:rPr>
              <a:t>обеспечивает развитие и саморазвитие личности ученика исходя из выявления его индивидуальных особенностей как субъекта познания и предметной деятель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Calibri"/>
              </a:rPr>
              <a:t>Актуаль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Овал 4"/>
          <p:cNvSpPr/>
          <p:nvPr/>
        </p:nvSpPr>
        <p:spPr>
          <a:xfrm>
            <a:off x="2971800" y="1905120"/>
            <a:ext cx="3048120" cy="2895480"/>
          </a:xfrm>
          <a:prstGeom prst="ellipse">
            <a:avLst/>
          </a:prstGeom>
          <a:gradFill rotWithShape="0">
            <a:gsLst>
              <a:gs pos="0">
                <a:srgbClr val="ccdeff"/>
              </a:gs>
              <a:gs pos="100000">
                <a:srgbClr val="f0f5ff"/>
              </a:gs>
            </a:gsLst>
            <a:lin ang="16200000"/>
          </a:gradFill>
          <a:ln w="57240">
            <a:solidFill>
              <a:srgbClr val="adbcd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Модель формирования читательской компетент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Стрелка влево 7"/>
          <p:cNvSpPr/>
          <p:nvPr/>
        </p:nvSpPr>
        <p:spPr>
          <a:xfrm>
            <a:off x="6019920" y="533520"/>
            <a:ext cx="3124080" cy="57150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ccff99"/>
          </a:solidFill>
          <a:ln w="381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8"/>
          <p:cNvSpPr/>
          <p:nvPr/>
        </p:nvSpPr>
        <p:spPr>
          <a:xfrm>
            <a:off x="6781680" y="2133720"/>
            <a:ext cx="23623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Необходимость более четкого представления процесса формирования читательской компететнтности в знаково-символическом ви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трелка вправо 9"/>
          <p:cNvSpPr/>
          <p:nvPr/>
        </p:nvSpPr>
        <p:spPr>
          <a:xfrm>
            <a:off x="0" y="533520"/>
            <a:ext cx="2971800" cy="5638680"/>
          </a:xfrm>
          <a:prstGeom prst="rightArrow">
            <a:avLst>
              <a:gd name="adj1" fmla="val 50000"/>
              <a:gd name="adj2" fmla="val 48912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5724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Социальный заказ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Федеральный государственный стандарт начального общего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3300"/>
                </a:solidFill>
                <a:latin typeface="Arial"/>
              </a:rPr>
              <a:t>ГИПОТЕЗ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         </a:t>
            </a:r>
            <a:r>
              <a:rPr b="1" lang="ru-RU" sz="2400" spc="-1" strike="noStrike">
                <a:solidFill>
                  <a:srgbClr val="cc3300"/>
                </a:solidFill>
                <a:latin typeface="Calibri"/>
              </a:rPr>
              <a:t>Модель формирования читательской компетентности с опорой на личностно ориентированное обучение позволит построить образовательный процесс с учетом  личностных особенностей каждого оюучающегося, что предполагает   воспитание  и  развитие качеств личности,  отвечающих требованиям  информационного общества,  личности,  свободно ориентирующейся  в  потоках информации, способной конструктивно общаться, сотрудничать, эффективно решать учебные и познавательные задачи в процессе жизнедеятельност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ДАЧ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ормировать у учащихся систему знаний на основе актуализации их субъективного опы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казать помощь в поиске и обретении своего индивидуального стиля и темпа учебной деятель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действовать в формировании положительной «Я – концепции», развитии творческих способностей, овладении умениями и навыками самопозна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ормировать позитивные личные качест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4"/>
          <p:cNvSpPr/>
          <p:nvPr/>
        </p:nvSpPr>
        <p:spPr>
          <a:xfrm>
            <a:off x="0" y="5715000"/>
            <a:ext cx="2133720" cy="642600"/>
          </a:xfrm>
          <a:prstGeom prst="rect">
            <a:avLst/>
          </a:prstGeom>
          <a:gradFill rotWithShape="0">
            <a:gsLst>
              <a:gs pos="0">
                <a:srgbClr val="ccdeff"/>
              </a:gs>
              <a:gs pos="100000">
                <a:srgbClr val="f0f5ff"/>
              </a:gs>
            </a:gsLst>
            <a:lin ang="16200000"/>
          </a:gradFill>
          <a:ln w="9360">
            <a:solidFill>
              <a:srgbClr val="adbcd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инцип самоактуал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2133720" y="5715000"/>
            <a:ext cx="1828800" cy="642600"/>
          </a:xfrm>
          <a:prstGeom prst="rect">
            <a:avLst/>
          </a:prstGeom>
          <a:gradFill rotWithShape="0">
            <a:gsLst>
              <a:gs pos="0">
                <a:srgbClr val="ccdeff"/>
              </a:gs>
              <a:gs pos="100000">
                <a:srgbClr val="f0f5ff"/>
              </a:gs>
            </a:gsLst>
            <a:lin ang="16200000"/>
          </a:gradFill>
          <a:ln w="9360">
            <a:solidFill>
              <a:srgbClr val="adbcd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инцип субъект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3962520" y="5715000"/>
            <a:ext cx="1828800" cy="642600"/>
          </a:xfrm>
          <a:prstGeom prst="rect">
            <a:avLst/>
          </a:prstGeom>
          <a:gradFill rotWithShape="0">
            <a:gsLst>
              <a:gs pos="0">
                <a:srgbClr val="ccdeff"/>
              </a:gs>
              <a:gs pos="100000">
                <a:srgbClr val="f0f5ff"/>
              </a:gs>
            </a:gsLst>
            <a:lin ang="16200000"/>
          </a:gradFill>
          <a:ln w="9360">
            <a:solidFill>
              <a:srgbClr val="adbcd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инцип выб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7"/>
          <p:cNvSpPr/>
          <p:nvPr/>
        </p:nvSpPr>
        <p:spPr>
          <a:xfrm>
            <a:off x="7315200" y="5638680"/>
            <a:ext cx="1828800" cy="916920"/>
          </a:xfrm>
          <a:prstGeom prst="rect">
            <a:avLst/>
          </a:prstGeom>
          <a:gradFill rotWithShape="0">
            <a:gsLst>
              <a:gs pos="0">
                <a:srgbClr val="ccdeff"/>
              </a:gs>
              <a:gs pos="100000">
                <a:srgbClr val="f0f5ff"/>
              </a:gs>
            </a:gsLst>
            <a:lin ang="16200000"/>
          </a:gradFill>
          <a:ln w="9360">
            <a:solidFill>
              <a:srgbClr val="adbcd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инцип творчества и успе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8"/>
          <p:cNvSpPr/>
          <p:nvPr/>
        </p:nvSpPr>
        <p:spPr>
          <a:xfrm>
            <a:off x="5486400" y="5715000"/>
            <a:ext cx="1828800" cy="642600"/>
          </a:xfrm>
          <a:prstGeom prst="rect">
            <a:avLst/>
          </a:prstGeom>
          <a:gradFill rotWithShape="0">
            <a:gsLst>
              <a:gs pos="0">
                <a:srgbClr val="ccdeff"/>
              </a:gs>
              <a:gs pos="100000">
                <a:srgbClr val="f0f5ff"/>
              </a:gs>
            </a:gsLst>
            <a:lin ang="16200000"/>
          </a:gradFill>
          <a:ln w="9360">
            <a:solidFill>
              <a:srgbClr val="adbcd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инцип дове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Арка 12"/>
          <p:cNvSpPr/>
          <p:nvPr/>
        </p:nvSpPr>
        <p:spPr>
          <a:xfrm>
            <a:off x="4008600" y="1085760"/>
            <a:ext cx="685800" cy="1127160"/>
          </a:xfrm>
          <a:custGeom>
            <a:avLst/>
            <a:gdLst>
              <a:gd name="textAreaLeft" fmla="*/ 0 w 685800"/>
              <a:gd name="textAreaRight" fmla="*/ 686160 w 685800"/>
              <a:gd name="textAreaTop" fmla="*/ 0 h 1127160"/>
              <a:gd name="textAreaBottom" fmla="*/ 563760 h 1127160"/>
            </a:gdLst>
            <a:ahLst/>
            <a:rect l="textAreaLeft" t="textAreaTop" r="textAreaRight" b="textAreaBottom"/>
            <a:pathLst>
              <a:path w="685800" h="1127125">
                <a:moveTo>
                  <a:pt x="0" y="563562"/>
                </a:moveTo>
                <a:lnTo>
                  <a:pt x="0" y="563562"/>
                </a:lnTo>
                <a:arcTo wR="342900" hR="563563" stAng="10800000" swAng="10800010"/>
                <a:lnTo>
                  <a:pt x="514350" y="563563"/>
                </a:lnTo>
                <a:lnTo>
                  <a:pt x="514350" y="563563"/>
                </a:lnTo>
                <a:arcTo wR="171450" hR="392113" stAng="0" swAng="-10800000"/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Арка 13"/>
          <p:cNvSpPr/>
          <p:nvPr/>
        </p:nvSpPr>
        <p:spPr>
          <a:xfrm rot="16200000">
            <a:off x="3695760" y="1409400"/>
            <a:ext cx="685800" cy="762120"/>
          </a:xfrm>
          <a:custGeom>
            <a:avLst/>
            <a:gdLst>
              <a:gd name="textAreaLeft" fmla="*/ 0 w 685800"/>
              <a:gd name="textAreaRight" fmla="*/ 686160 w 685800"/>
              <a:gd name="textAreaTop" fmla="*/ 0 h 762120"/>
              <a:gd name="textAreaBottom" fmla="*/ 381240 h 762120"/>
            </a:gdLst>
            <a:ahLst/>
            <a:rect l="textAreaLeft" t="textAreaTop" r="textAreaRight" b="textAreaBottom"/>
            <a:pathLst>
              <a:path w="685800" h="762000">
                <a:moveTo>
                  <a:pt x="0" y="381000"/>
                </a:moveTo>
                <a:lnTo>
                  <a:pt x="0" y="381000"/>
                </a:lnTo>
                <a:arcTo wR="342900" hR="381000" stAng="10800000" swAng="10800010"/>
                <a:lnTo>
                  <a:pt x="514350" y="381000"/>
                </a:lnTo>
                <a:lnTo>
                  <a:pt x="514350" y="381000"/>
                </a:lnTo>
                <a:arcTo wR="171450" hR="209550" stAng="0" swAng="-10800000"/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Арка 14"/>
          <p:cNvSpPr/>
          <p:nvPr/>
        </p:nvSpPr>
        <p:spPr>
          <a:xfrm rot="5400000">
            <a:off x="4381200" y="1409760"/>
            <a:ext cx="685800" cy="762120"/>
          </a:xfrm>
          <a:custGeom>
            <a:avLst/>
            <a:gdLst>
              <a:gd name="textAreaLeft" fmla="*/ 0 w 685800"/>
              <a:gd name="textAreaRight" fmla="*/ 686160 w 685800"/>
              <a:gd name="textAreaTop" fmla="*/ 0 h 762120"/>
              <a:gd name="textAreaBottom" fmla="*/ 381240 h 762120"/>
            </a:gdLst>
            <a:ahLst/>
            <a:rect l="textAreaLeft" t="textAreaTop" r="textAreaRight" b="textAreaBottom"/>
            <a:pathLst>
              <a:path w="685800" h="762000">
                <a:moveTo>
                  <a:pt x="0" y="381000"/>
                </a:moveTo>
                <a:lnTo>
                  <a:pt x="0" y="381000"/>
                </a:lnTo>
                <a:arcTo wR="342900" hR="381000" stAng="10800000" swAng="10800010"/>
                <a:lnTo>
                  <a:pt x="514350" y="381000"/>
                </a:lnTo>
                <a:lnTo>
                  <a:pt x="514350" y="381000"/>
                </a:lnTo>
                <a:arcTo wR="171450" hR="209550" stAng="0" swAng="-10800000"/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8"/>
          <p:cNvSpPr/>
          <p:nvPr/>
        </p:nvSpPr>
        <p:spPr>
          <a:xfrm>
            <a:off x="1371600" y="4800600"/>
            <a:ext cx="6019920" cy="520200"/>
          </a:xfrm>
          <a:prstGeom prst="ellipse">
            <a:avLst/>
          </a:prstGeom>
          <a:solidFill>
            <a:srgbClr val="ccff99"/>
          </a:solidFill>
          <a:ln w="9360">
            <a:solidFill>
              <a:srgbClr val="adbcd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д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9"/>
          <p:cNvSpPr/>
          <p:nvPr/>
        </p:nvSpPr>
        <p:spPr>
          <a:xfrm>
            <a:off x="1066680" y="5334120"/>
            <a:ext cx="221004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adbcd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еятельност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30"/>
          <p:cNvSpPr/>
          <p:nvPr/>
        </p:nvSpPr>
        <p:spPr>
          <a:xfrm>
            <a:off x="3276720" y="5181480"/>
            <a:ext cx="2209680" cy="642600"/>
          </a:xfrm>
          <a:prstGeom prst="rect">
            <a:avLst/>
          </a:prstGeom>
          <a:solidFill>
            <a:srgbClr val="ccff99"/>
          </a:solidFill>
          <a:ln w="9360">
            <a:solidFill>
              <a:srgbClr val="adbcd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Личностно-ориентирова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32"/>
          <p:cNvSpPr/>
          <p:nvPr/>
        </p:nvSpPr>
        <p:spPr>
          <a:xfrm>
            <a:off x="5410080" y="5334120"/>
            <a:ext cx="243864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adbcd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мпетентност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34"/>
          <p:cNvSpPr/>
          <p:nvPr/>
        </p:nvSpPr>
        <p:spPr>
          <a:xfrm rot="19245000">
            <a:off x="1506600" y="3378240"/>
            <a:ext cx="2022480" cy="649080"/>
          </a:xfrm>
          <a:prstGeom prst="ellipse">
            <a:avLst/>
          </a:prstGeom>
          <a:gradFill rotWithShape="0">
            <a:gsLst>
              <a:gs pos="0">
                <a:srgbClr val="f6a7a5"/>
              </a:gs>
              <a:gs pos="100000">
                <a:srgbClr val="fde7e6"/>
              </a:gs>
            </a:gsLst>
            <a:lin ang="18558000"/>
          </a:gradFill>
          <a:ln w="9360">
            <a:solidFill>
              <a:srgbClr val="ad444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разовательная дея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35"/>
          <p:cNvSpPr/>
          <p:nvPr/>
        </p:nvSpPr>
        <p:spPr>
          <a:xfrm>
            <a:off x="2590920" y="4114800"/>
            <a:ext cx="3504960" cy="685800"/>
          </a:xfrm>
          <a:prstGeom prst="rect">
            <a:avLst/>
          </a:prstGeom>
          <a:solidFill>
            <a:srgbClr val="ccff33"/>
          </a:solidFill>
          <a:ln w="93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Круговая стрелка 38"/>
          <p:cNvSpPr/>
          <p:nvPr/>
        </p:nvSpPr>
        <p:spPr>
          <a:xfrm rot="19061400">
            <a:off x="-228600" y="4242960"/>
            <a:ext cx="2314440" cy="1828800"/>
          </a:xfrm>
          <a:custGeom>
            <a:avLst/>
            <a:gdLst>
              <a:gd name="textAreaLeft" fmla="*/ 419760 w 2314440"/>
              <a:gd name="textAreaRight" fmla="*/ 1894680 w 2314440"/>
              <a:gd name="textAreaTop" fmla="*/ 348480 h 1828800"/>
              <a:gd name="textAreaBottom" fmla="*/ 1480320 h 1828800"/>
            </a:gdLst>
            <a:ahLst/>
            <a:rect l="textAreaLeft" t="textAreaTop" r="textAreaRight" b="textAreaBottom"/>
            <a:pathLst>
              <a:path w="2314575" h="1828800">
                <a:moveTo>
                  <a:pt x="114300" y="914399"/>
                </a:moveTo>
                <a:lnTo>
                  <a:pt x="114300" y="914399"/>
                </a:lnTo>
                <a:arcTo wR="1042988" hR="800100" stAng="-10799997" swAng="9802055"/>
                <a:lnTo>
                  <a:pt x="2227245" y="624065"/>
                </a:lnTo>
                <a:lnTo>
                  <a:pt x="2085975" y="914402"/>
                </a:lnTo>
                <a:lnTo>
                  <a:pt x="1770045" y="624064"/>
                </a:lnTo>
                <a:lnTo>
                  <a:pt x="1858754" y="624064"/>
                </a:lnTo>
                <a:lnTo>
                  <a:pt x="1858754" y="624064"/>
                </a:lnTo>
                <a:arcTo wR="814388" hR="571500" stAng="-1349069" swAng="-9450927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Овал 39"/>
          <p:cNvSpPr/>
          <p:nvPr/>
        </p:nvSpPr>
        <p:spPr>
          <a:xfrm rot="19638000">
            <a:off x="153720" y="4712760"/>
            <a:ext cx="1520640" cy="633600"/>
          </a:xfrm>
          <a:prstGeom prst="ellipse">
            <a:avLst/>
          </a:prstGeom>
          <a:gradFill rotWithShape="0">
            <a:gsLst>
              <a:gs pos="0">
                <a:srgbClr val="f6a7a5"/>
              </a:gs>
              <a:gs pos="100000">
                <a:srgbClr val="fde7e6"/>
              </a:gs>
            </a:gsLst>
            <a:lin ang="18162000"/>
          </a:gradFill>
          <a:ln w="9360">
            <a:solidFill>
              <a:srgbClr val="ad444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нцеп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2590920" y="4127400"/>
            <a:ext cx="35049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диалога, игровые,рефлексивные,педагогической поддержки, диагностические,создание ситуации выбора и успеха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Овал 42"/>
          <p:cNvSpPr/>
          <p:nvPr/>
        </p:nvSpPr>
        <p:spPr>
          <a:xfrm>
            <a:off x="3886200" y="3581280"/>
            <a:ext cx="1447920" cy="533520"/>
          </a:xfrm>
          <a:prstGeom prst="ellipse">
            <a:avLst/>
          </a:prstGeom>
          <a:solidFill>
            <a:srgbClr val="ccff33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Овал 43"/>
          <p:cNvSpPr/>
          <p:nvPr/>
        </p:nvSpPr>
        <p:spPr>
          <a:xfrm rot="20695800">
            <a:off x="4749840" y="3228480"/>
            <a:ext cx="1447920" cy="381240"/>
          </a:xfrm>
          <a:prstGeom prst="ellipse">
            <a:avLst/>
          </a:prstGeom>
          <a:solidFill>
            <a:srgbClr val="ccff33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8"/>
          <p:cNvSpPr/>
          <p:nvPr/>
        </p:nvSpPr>
        <p:spPr>
          <a:xfrm rot="1443600">
            <a:off x="2846160" y="2940840"/>
            <a:ext cx="1828800" cy="520200"/>
          </a:xfrm>
          <a:prstGeom prst="ellipse">
            <a:avLst/>
          </a:prstGeom>
          <a:solidFill>
            <a:srgbClr val="ccff33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ё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Круговая стрелка 46"/>
          <p:cNvSpPr/>
          <p:nvPr/>
        </p:nvSpPr>
        <p:spPr>
          <a:xfrm rot="19061400">
            <a:off x="1177920" y="2663640"/>
            <a:ext cx="2119320" cy="1828800"/>
          </a:xfrm>
          <a:custGeom>
            <a:avLst/>
            <a:gdLst>
              <a:gd name="textAreaLeft" fmla="*/ 390960 w 2119320"/>
              <a:gd name="textAreaRight" fmla="*/ 1728360 w 2119320"/>
              <a:gd name="textAreaTop" fmla="*/ 348480 h 1828800"/>
              <a:gd name="textAreaBottom" fmla="*/ 1480320 h 1828800"/>
            </a:gdLst>
            <a:ahLst/>
            <a:rect l="textAreaLeft" t="textAreaTop" r="textAreaRight" b="textAreaBottom"/>
            <a:pathLst>
              <a:path w="2119313" h="1828800">
                <a:moveTo>
                  <a:pt x="114300" y="914399"/>
                </a:moveTo>
                <a:lnTo>
                  <a:pt x="114300" y="914399"/>
                </a:lnTo>
                <a:arcTo wR="945357" hR="800100" stAng="-10799996" swAng="9808923"/>
                <a:lnTo>
                  <a:pt x="2054976" y="649821"/>
                </a:lnTo>
                <a:lnTo>
                  <a:pt x="1890713" y="914402"/>
                </a:lnTo>
                <a:lnTo>
                  <a:pt x="1597776" y="649820"/>
                </a:lnTo>
                <a:lnTo>
                  <a:pt x="1694975" y="649820"/>
                </a:lnTo>
                <a:lnTo>
                  <a:pt x="1694975" y="649820"/>
                </a:lnTo>
                <a:arcTo wR="716757" hR="571500" stAng="-1356557" swAng="-9443438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"/>
          <p:cNvSpPr/>
          <p:nvPr/>
        </p:nvSpPr>
        <p:spPr>
          <a:xfrm rot="19813800">
            <a:off x="4427640" y="2648880"/>
            <a:ext cx="2057400" cy="520200"/>
          </a:xfrm>
          <a:prstGeom prst="ellipse">
            <a:avLst/>
          </a:prstGeom>
          <a:solidFill>
            <a:srgbClr val="ccff33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Овал 25"/>
          <p:cNvGrpSpPr/>
          <p:nvPr/>
        </p:nvGrpSpPr>
        <p:grpSpPr>
          <a:xfrm>
            <a:off x="5010120" y="927000"/>
            <a:ext cx="2908440" cy="1498680"/>
            <a:chOff x="5010120" y="927000"/>
            <a:chExt cx="2908440" cy="1498680"/>
          </a:xfrm>
        </p:grpSpPr>
        <p:pic>
          <p:nvPicPr>
            <p:cNvPr id="77" name="Овал 25" descr=""/>
            <p:cNvPicPr/>
            <p:nvPr/>
          </p:nvPicPr>
          <p:blipFill>
            <a:blip r:embed="rId1"/>
            <a:stretch/>
          </p:blipFill>
          <p:spPr>
            <a:xfrm>
              <a:off x="5010120" y="927000"/>
              <a:ext cx="2908440" cy="14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 rot="20779200">
              <a:off x="5402160" y="1186920"/>
              <a:ext cx="1806840" cy="66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Учебно-познавательн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Овал 33"/>
          <p:cNvGrpSpPr/>
          <p:nvPr/>
        </p:nvGrpSpPr>
        <p:grpSpPr>
          <a:xfrm>
            <a:off x="2846520" y="182520"/>
            <a:ext cx="3389040" cy="1328760"/>
            <a:chOff x="2846520" y="182520"/>
            <a:chExt cx="3389040" cy="1328760"/>
          </a:xfrm>
        </p:grpSpPr>
        <p:pic>
          <p:nvPicPr>
            <p:cNvPr id="80" name="Овал 33" descr=""/>
            <p:cNvPicPr/>
            <p:nvPr/>
          </p:nvPicPr>
          <p:blipFill>
            <a:blip r:embed="rId2"/>
            <a:stretch/>
          </p:blipFill>
          <p:spPr>
            <a:xfrm>
              <a:off x="2846520" y="182520"/>
              <a:ext cx="338904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3330720" y="361800"/>
              <a:ext cx="210168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Информационно-коммуникативн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2" name="Овал 35" descr=""/>
          <p:cNvPicPr/>
          <p:nvPr/>
        </p:nvPicPr>
        <p:blipFill>
          <a:blip r:embed="rId3"/>
          <a:stretch/>
        </p:blipFill>
        <p:spPr>
          <a:xfrm>
            <a:off x="3981600" y="1182600"/>
            <a:ext cx="723600" cy="2017800"/>
          </a:xfrm>
          <a:prstGeom prst="rect">
            <a:avLst/>
          </a:prstGeom>
          <a:ln w="0">
            <a:noFill/>
          </a:ln>
        </p:spPr>
      </p:pic>
      <p:grpSp>
        <p:nvGrpSpPr>
          <p:cNvPr id="83" name="Овал 36"/>
          <p:cNvGrpSpPr/>
          <p:nvPr/>
        </p:nvGrpSpPr>
        <p:grpSpPr>
          <a:xfrm>
            <a:off x="1547640" y="1036800"/>
            <a:ext cx="2616480" cy="1603080"/>
            <a:chOff x="1547640" y="1036800"/>
            <a:chExt cx="2616480" cy="1603080"/>
          </a:xfrm>
        </p:grpSpPr>
        <p:pic>
          <p:nvPicPr>
            <p:cNvPr id="84" name="Овал 36" descr=""/>
            <p:cNvPicPr/>
            <p:nvPr/>
          </p:nvPicPr>
          <p:blipFill>
            <a:blip r:embed="rId4"/>
            <a:stretch/>
          </p:blipFill>
          <p:spPr>
            <a:xfrm>
              <a:off x="1547640" y="1036800"/>
              <a:ext cx="2616480" cy="160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 rot="872400">
              <a:off x="1898640" y="1308240"/>
              <a:ext cx="1600200" cy="75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Л</a:t>
              </a:r>
              <a:r>
                <a:rPr b="1" i="1" lang="ru-RU" sz="1600" spc="-1" strike="noStrike">
                  <a:solidFill>
                    <a:srgbClr val="000000"/>
                  </a:solidFill>
                  <a:latin typeface="Arial"/>
                </a:rPr>
                <a:t>ичностно-ценностны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Круговая стрелка 40"/>
          <p:cNvSpPr/>
          <p:nvPr/>
        </p:nvSpPr>
        <p:spPr>
          <a:xfrm rot="10969200">
            <a:off x="3320640" y="1420920"/>
            <a:ext cx="2043000" cy="1828800"/>
          </a:xfrm>
          <a:custGeom>
            <a:avLst/>
            <a:gdLst>
              <a:gd name="textAreaLeft" fmla="*/ 379800 w 2043000"/>
              <a:gd name="textAreaRight" fmla="*/ 1663200 w 2043000"/>
              <a:gd name="textAreaTop" fmla="*/ 348480 h 1828800"/>
              <a:gd name="textAreaBottom" fmla="*/ 1480320 h 1828800"/>
            </a:gdLst>
            <a:ahLst/>
            <a:rect l="textAreaLeft" t="textAreaTop" r="textAreaRight" b="textAreaBottom"/>
            <a:pathLst>
              <a:path w="2043113" h="1828800">
                <a:moveTo>
                  <a:pt x="114300" y="914399"/>
                </a:moveTo>
                <a:lnTo>
                  <a:pt x="114300" y="914399"/>
                </a:lnTo>
                <a:arcTo wR="907257" hR="800100" stAng="-10799996" swAng="9812479"/>
                <a:lnTo>
                  <a:pt x="1986652" y="660251"/>
                </a:lnTo>
                <a:lnTo>
                  <a:pt x="1814513" y="914402"/>
                </a:lnTo>
                <a:lnTo>
                  <a:pt x="1529452" y="660250"/>
                </a:lnTo>
                <a:lnTo>
                  <a:pt x="1629412" y="660250"/>
                </a:lnTo>
                <a:lnTo>
                  <a:pt x="1629412" y="660250"/>
                </a:lnTo>
                <a:arcTo wR="678657" hR="571500" stAng="-1361407" swAng="-9438587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403848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Calibri"/>
              </a:rPr>
              <a:t>                    </a:t>
            </a:r>
            <a:r>
              <a:rPr b="1" lang="ru-RU" sz="3200" spc="-1" strike="noStrike">
                <a:solidFill>
                  <a:srgbClr val="993300"/>
                </a:solidFill>
                <a:latin typeface="Calibri"/>
              </a:rPr>
              <a:t>Критерии             </a:t>
            </a:r>
            <a:br>
              <a:rPr sz="3200"/>
            </a:br>
            <a:r>
              <a:rPr b="1" lang="ru-RU" sz="3200" spc="-1" strike="noStrike">
                <a:solidFill>
                  <a:srgbClr val="993300"/>
                </a:solidFill>
                <a:latin typeface="Calibri"/>
              </a:rPr>
              <a:t>            показателей     </a:t>
            </a:r>
            <a:br>
              <a:rPr sz="3200"/>
            </a:br>
            <a:r>
              <a:rPr b="1" lang="ru-RU" sz="3200" spc="-1" strike="noStrike">
                <a:solidFill>
                  <a:srgbClr val="993300"/>
                </a:solidFill>
                <a:latin typeface="Calibri"/>
              </a:rPr>
              <a:t>    сформированности </a:t>
            </a:r>
            <a:br>
              <a:rPr sz="3200"/>
            </a:br>
            <a:r>
              <a:rPr b="1" lang="ru-RU" sz="3200" spc="-1" strike="noStrike">
                <a:solidFill>
                  <a:srgbClr val="993300"/>
                </a:solidFill>
                <a:latin typeface="Calibri"/>
              </a:rPr>
              <a:t>       читателькой компетент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Схема 3" descr=""/>
          <p:cNvPicPr/>
          <p:nvPr/>
        </p:nvPicPr>
        <p:blipFill>
          <a:blip r:embed="rId1"/>
          <a:stretch/>
        </p:blipFill>
        <p:spPr>
          <a:xfrm>
            <a:off x="2182680" y="-30240"/>
            <a:ext cx="7205760" cy="71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Содержимое 3" descr=""/>
          <p:cNvPicPr/>
          <p:nvPr/>
        </p:nvPicPr>
        <p:blipFill>
          <a:blip r:embed="rId1"/>
          <a:stretch/>
        </p:blipFill>
        <p:spPr>
          <a:xfrm>
            <a:off x="450720" y="450720"/>
            <a:ext cx="8242560" cy="5681880"/>
          </a:xfrm>
          <a:prstGeom prst="rect">
            <a:avLst/>
          </a:prstGeom>
          <a:ln w="0">
            <a:noFill/>
          </a:ln>
        </p:spPr>
      </p:pic>
      <p:sp>
        <p:nvSpPr>
          <p:cNvPr id="90" name="Овал 4"/>
          <p:cNvSpPr/>
          <p:nvPr/>
        </p:nvSpPr>
        <p:spPr>
          <a:xfrm>
            <a:off x="3733920" y="2819520"/>
            <a:ext cx="1752480" cy="1218960"/>
          </a:xfrm>
          <a:prstGeom prst="ellipse">
            <a:avLst/>
          </a:prstGeom>
          <a:solidFill>
            <a:srgbClr val="b2c1db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субъе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5T05:47:16Z</dcterms:created>
  <dc:creator>Римма</dc:creator>
  <dc:description/>
  <dc:language>en-US</dc:language>
  <cp:lastModifiedBy>111</cp:lastModifiedBy>
  <dcterms:modified xsi:type="dcterms:W3CDTF">2015-03-23T18:52:41Z</dcterms:modified>
  <cp:revision>89</cp:revision>
  <dc:subject/>
  <dc:title>Мой проект</dc:title>
</cp:coreProperties>
</file>