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4A48-A6BC-4CA4-9672-468A6107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7DAC-6E77-4FF2-8D0A-002628D1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6CA8-E5A5-4C92-904D-9AF152C1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7865-90D5-40AA-AE8A-95446199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8C82-17ED-42D4-97AF-9FDA2DE3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81A0-A930-49FE-85D9-CF8682EA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448B-2A53-4DA2-9A1F-F9A08DF4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BFD8-D16A-400A-B633-42753EA0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5B06-7FA4-4CE2-8A46-0BB6DDEC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8300-E7CE-46F3-8DEA-53B7A3D0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B165-7B26-439A-A6E7-62C208F6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5FE0-361A-4B3A-A3C3-A710439B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80A1-075C-4758-9CCE-04FA01C0DA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oth.narod.ru/enc/1/4.files/image024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14760" y="285840"/>
            <a:ext cx="5743440" cy="49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 Дню защиты детей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казочная викторина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«НЕ БЫВАЕТ ПРАВ БЕЗ ОБЯЗАННОСТЕЙ»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86160" y="5214600"/>
            <a:ext cx="485784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дготовила  Сиводед Е.Н. воспитатель ГБУЗ МНПЦ БТ филиал Детское отделение ДЗМ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Рисунок 3" descr="http://kladraz.ru/upload/blogs/5831_b9a4efface73516f4a734f6f7885565e.jpg"/>
          <p:cNvPicPr/>
          <p:nvPr/>
        </p:nvPicPr>
        <p:blipFill>
          <a:blip r:embed="rId1"/>
          <a:stretch/>
        </p:blipFill>
        <p:spPr>
          <a:xfrm>
            <a:off x="214200" y="214200"/>
            <a:ext cx="2467080" cy="2181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"/>
          <p:cNvPicPr/>
          <p:nvPr/>
        </p:nvPicPr>
        <p:blipFill>
          <a:blip r:embed="rId1"/>
          <a:stretch/>
        </p:blipFill>
        <p:spPr>
          <a:xfrm>
            <a:off x="28440" y="276120"/>
            <a:ext cx="6667560" cy="6581880"/>
          </a:xfrm>
          <a:prstGeom prst="rect">
            <a:avLst/>
          </a:prstGeom>
          <a:ln w="0">
            <a:noFill/>
          </a:ln>
        </p:spPr>
      </p:pic>
      <p:sp>
        <p:nvSpPr>
          <p:cNvPr id="57" name="Скругленная прямоугольная выноска 5"/>
          <p:cNvSpPr/>
          <p:nvPr/>
        </p:nvSpPr>
        <p:spPr>
          <a:xfrm>
            <a:off x="3624120" y="115920"/>
            <a:ext cx="5340600" cy="15843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е имеете права подвергать меня пыткам и жестокому обращению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http://kladraz.ru/upload/blogs/5831_1f7c7245d5e47bf306f7b37fa625deb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http://kladraz.ru/upload/blogs/5831_a1a8c4e95f58d7401a2f7af84b6eb306.jpg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http://kladraz.ru/upload/blogs/5831_1c3d9fdb4b6de1f596fa4845ff64d53f.jpg"/>
          <p:cNvPicPr/>
          <p:nvPr/>
        </p:nvPicPr>
        <p:blipFill>
          <a:blip r:embed="rId1"/>
          <a:stretch/>
        </p:blipFill>
        <p:spPr>
          <a:xfrm>
            <a:off x="214200" y="285840"/>
            <a:ext cx="8715600" cy="6286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http://kladraz.ru/upload/blogs/5831_f2f74489520e43e56354eb404c056f11.jpg"/>
          <p:cNvPicPr/>
          <p:nvPr/>
        </p:nvPicPr>
        <p:blipFill>
          <a:blip r:embed="rId1"/>
          <a:stretch/>
        </p:blipFill>
        <p:spPr>
          <a:xfrm>
            <a:off x="285840" y="285840"/>
            <a:ext cx="8643960" cy="6215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http://kladraz.ru/upload/blogs/5831_76f69fad06d6fa1c38d9ad9a31730f59.jpg"/>
          <p:cNvPicPr/>
          <p:nvPr/>
        </p:nvPicPr>
        <p:blipFill>
          <a:blip r:embed="rId1"/>
          <a:stretch/>
        </p:blipFill>
        <p:spPr>
          <a:xfrm>
            <a:off x="3143160" y="2286000"/>
            <a:ext cx="5786640" cy="43578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3165480" cy="3970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24000" y="189000"/>
            <a:ext cx="8362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вободу передвижени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1403280" y="212760"/>
            <a:ext cx="6878880" cy="5159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24000" y="189000"/>
            <a:ext cx="8362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Личную неприкосновенност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Рисунок 2" descr=""/>
          <p:cNvPicPr/>
          <p:nvPr/>
        </p:nvPicPr>
        <p:blipFill>
          <a:blip r:embed="rId1"/>
          <a:srcRect l="0" t="5900" r="0" b="17454"/>
          <a:stretch/>
        </p:blipFill>
        <p:spPr>
          <a:xfrm>
            <a:off x="0" y="155520"/>
            <a:ext cx="9144000" cy="5256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24000" y="189000"/>
            <a:ext cx="8362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Тру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Рисунок 2" descr=""/>
          <p:cNvPicPr/>
          <p:nvPr/>
        </p:nvPicPr>
        <p:blipFill>
          <a:blip r:embed="rId1"/>
          <a:srcRect l="0" t="31104" r="0" b="0"/>
          <a:stretch/>
        </p:blipFill>
        <p:spPr>
          <a:xfrm>
            <a:off x="1763640" y="201600"/>
            <a:ext cx="5537160" cy="5195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9" descr="http://kladraz.ru/upload/blogs/5831_aaf0fcc012254ccbee161755d10d0e7d.jpg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513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Картинка 19 из 1726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2314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http://kladraz.ru/upload/blogs/5831_970643f4cf661ffbbd2547742167d6b1.jpg"/>
          <p:cNvPicPr/>
          <p:nvPr/>
        </p:nvPicPr>
        <p:blipFill>
          <a:blip r:embed="rId1"/>
          <a:stretch/>
        </p:blipFill>
        <p:spPr>
          <a:xfrm>
            <a:off x="357120" y="428760"/>
            <a:ext cx="8429760" cy="6119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2" descr="http://kladraz.ru/upload/blogs/5831_39fcb6148e39eeb2eb2325d703354545.jpg"/>
          <p:cNvPicPr/>
          <p:nvPr/>
        </p:nvPicPr>
        <p:blipFill>
          <a:blip r:embed="rId1"/>
          <a:stretch/>
        </p:blipFill>
        <p:spPr>
          <a:xfrm>
            <a:off x="1928880" y="214200"/>
            <a:ext cx="5332320" cy="6357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http://kladraz.ru/upload/blogs/5831_a7daf163a7bc790489b170ed9073b4a3.jpg"/>
          <p:cNvPicPr/>
          <p:nvPr/>
        </p:nvPicPr>
        <p:blipFill>
          <a:blip r:embed="rId1"/>
          <a:stretch/>
        </p:blipFill>
        <p:spPr>
          <a:xfrm>
            <a:off x="285840" y="428760"/>
            <a:ext cx="8501040" cy="5786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http://kladraz.ru/upload/blogs/5831_1873bea95dbcab582f7c031bb391bb0a.jpg"/>
          <p:cNvPicPr/>
          <p:nvPr/>
        </p:nvPicPr>
        <p:blipFill>
          <a:blip r:embed="rId1"/>
          <a:stretch/>
        </p:blipFill>
        <p:spPr>
          <a:xfrm>
            <a:off x="285840" y="214200"/>
            <a:ext cx="8678880" cy="6286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http://kladraz.ru/upload/blogs/5831_f1de04d6b237997069ad5ac7a9b9dbf6.jpg"/>
          <p:cNvPicPr/>
          <p:nvPr/>
        </p:nvPicPr>
        <p:blipFill>
          <a:blip r:embed="rId1"/>
          <a:stretch/>
        </p:blipFill>
        <p:spPr>
          <a:xfrm>
            <a:off x="214200" y="214200"/>
            <a:ext cx="8705880" cy="6357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24000" y="189000"/>
            <a:ext cx="8362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обственность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Рисунок 2" descr=""/>
          <p:cNvPicPr/>
          <p:nvPr/>
        </p:nvPicPr>
        <p:blipFill>
          <a:blip r:embed="rId1"/>
          <a:stretch/>
        </p:blipFill>
        <p:spPr>
          <a:xfrm>
            <a:off x="2176560" y="0"/>
            <a:ext cx="4657680" cy="552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"/>
          <p:cNvPicPr/>
          <p:nvPr/>
        </p:nvPicPr>
        <p:blipFill>
          <a:blip r:embed="rId1"/>
          <a:stretch/>
        </p:blipFill>
        <p:spPr>
          <a:xfrm>
            <a:off x="2556000" y="3068640"/>
            <a:ext cx="3935160" cy="33847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2" descr=""/>
          <p:cNvPicPr/>
          <p:nvPr/>
        </p:nvPicPr>
        <p:blipFill>
          <a:blip r:embed="rId2"/>
          <a:stretch/>
        </p:blipFill>
        <p:spPr>
          <a:xfrm>
            <a:off x="2179800" y="992160"/>
            <a:ext cx="4687560" cy="54612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" descr=""/>
          <p:cNvPicPr/>
          <p:nvPr/>
        </p:nvPicPr>
        <p:blipFill>
          <a:blip r:embed="rId3"/>
          <a:stretch/>
        </p:blipFill>
        <p:spPr>
          <a:xfrm>
            <a:off x="468360" y="917640"/>
            <a:ext cx="8380440" cy="5545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http://kladraz.ru/upload/blogs/5831_c3fa4f1e3f96224d6c18522b007c62a1.jpg"/>
          <p:cNvPicPr/>
          <p:nvPr/>
        </p:nvPicPr>
        <p:blipFill>
          <a:blip r:embed="rId1"/>
          <a:stretch/>
        </p:blipFill>
        <p:spPr>
          <a:xfrm>
            <a:off x="214200" y="142920"/>
            <a:ext cx="8715600" cy="650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http://kladraz.ru/upload/blogs/5831_b9a4efface73516f4a734f6f7885565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7920" y="836640"/>
            <a:ext cx="9136080" cy="5189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0" y="8092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 хорошо, что есть права!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Закон нас строго защищает.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И в нем важны нам все права,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Они великой силой обладаю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Товарищи взрослые и дети!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За своё будущее мы все в ответе!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Права и обязанности свои знайте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Хорошими людьми вырастайт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2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Calibri"/>
              </a:rPr>
              <a:t>СПАСИБО ЗА ВНИМАНИЕ!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http://kladraz.ru/upload/blogs/5831_17448d4562e3ed7083220b62dee3442d.jpg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357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" descr=""/>
          <p:cNvPicPr/>
          <p:nvPr/>
        </p:nvPicPr>
        <p:blipFill>
          <a:blip r:embed="rId2"/>
          <a:stretch/>
        </p:blipFill>
        <p:spPr>
          <a:xfrm>
            <a:off x="250920" y="2970360"/>
            <a:ext cx="4537080" cy="388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0" y="380880"/>
            <a:ext cx="9109080" cy="6072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24000" y="189000"/>
            <a:ext cx="8362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Рисунок 4" descr=""/>
          <p:cNvPicPr/>
          <p:nvPr/>
        </p:nvPicPr>
        <p:blipFill>
          <a:blip r:embed="rId1"/>
          <a:stretch/>
        </p:blipFill>
        <p:spPr>
          <a:xfrm>
            <a:off x="2435400" y="1125360"/>
            <a:ext cx="4140000" cy="4970520"/>
          </a:xfrm>
          <a:prstGeom prst="rect">
            <a:avLst/>
          </a:prstGeom>
          <a:ln w="0">
            <a:noFill/>
          </a:ln>
        </p:spPr>
      </p:pic>
      <p:sp>
        <p:nvSpPr>
          <p:cNvPr id="53" name="Скругленная прямоугольная выноска 3"/>
          <p:cNvSpPr/>
          <p:nvPr/>
        </p:nvSpPr>
        <p:spPr>
          <a:xfrm>
            <a:off x="324000" y="476280"/>
            <a:ext cx="3743280" cy="20160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е имеешь права посягать на мою ЖИЗН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rcRect l="1325" t="0" r="1325" b="10877"/>
          <a:stretch/>
        </p:blipFill>
        <p:spPr>
          <a:xfrm>
            <a:off x="1763640" y="1628640"/>
            <a:ext cx="6769080" cy="4592880"/>
          </a:xfrm>
          <a:prstGeom prst="rect">
            <a:avLst/>
          </a:prstGeom>
          <a:ln w="0">
            <a:noFill/>
          </a:ln>
        </p:spPr>
      </p:pic>
      <p:sp>
        <p:nvSpPr>
          <p:cNvPr id="55" name="Скругленная прямоугольная выноска 5"/>
          <p:cNvSpPr/>
          <p:nvPr/>
        </p:nvSpPr>
        <p:spPr>
          <a:xfrm>
            <a:off x="324000" y="476280"/>
            <a:ext cx="4608360" cy="20160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е имеешь права лишать меня СВОБОДЫ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uslana</cp:lastModifiedBy>
  <dcterms:modified xsi:type="dcterms:W3CDTF">2017-08-30T05:50:33Z</dcterms:modified>
  <cp:revision>37</cp:revision>
  <dc:subject/>
  <dc:title>Слайд 1</dc:title>
</cp:coreProperties>
</file>