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gif" ContentType="image/gif"/>
  <Override PartName="/ppt/media/image13.png" ContentType="image/png"/>
  <Override PartName="/ppt/media/image5.gif" ContentType="image/gif"/>
  <Override PartName="/ppt/media/image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03D88-5CBA-48EB-9DC9-D5ADF8054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F9026-5BBA-4480-BC7D-ACC842616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D4137-AC41-4605-A0A5-15C2E1FA6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F8D88-C139-4132-AF6F-AF9210964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114F6-4E20-462F-974B-AFEF5A110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AB057-B8E6-4501-80E4-5C547A16C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36D7C-FD54-4951-AF23-ECC8C914D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CACF3-3B26-4CCA-9643-292423654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B9C19-80FE-47E6-B43A-8F169C6C8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95CA3-2B82-402A-84A3-6FCEAE88B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D8014-FC3C-460A-B1B5-B0D15B4A5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9B360-6046-450F-A885-C0F934E9C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49451-3051-4A38-A269-1983EA6B2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FA949-E5F5-485A-9529-71F8DB3DD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CDE27-2524-416F-87BA-ADC1E6EE7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F0FA6-A605-4C46-97CE-0EB14A844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C2B48-DD05-4DC2-9C64-0E482F764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8CC99B-5B27-4563-A496-11A2C32CC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ED5645-8E7A-4C1E-BDFC-CB956AB25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5E354F-56AD-4A3B-B9AB-DED0BC6EF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8AE57C-EFF8-4141-91AA-D873FF08C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DA58EC-1FA0-4B60-B2C6-7C3C8DC07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504CE-DE0C-4CF4-B0BD-F63FD1A7D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43291B-9901-456A-8513-2B6B67C28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08B8D8-8B43-409E-9D45-CBFD4543B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8E7477-500F-4931-9658-61AEC7433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A7B256-6EE2-4B50-8AC9-C24E99A12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8461BE-C0D3-4525-A6A2-062889EBB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5BA74A-62A7-4E19-90E6-65E2E7C88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4E13DA-C953-4C71-91FE-3BDEE7AAC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AD1F3-1BC4-4822-BB80-72C1BB412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821C9-D845-446E-99A1-C30805C52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FCD5C-44E4-4CEE-B097-6353518C4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F2F74-516A-4230-8FEF-83B15510F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7569B-37E3-4AF0-8F0A-4DECDC33C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A8AD9-84D7-46CC-8821-251A4DBE5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E33D75A-6139-4710-A085-0A57E1C3CA70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C045483-ED09-4956-A65E-C33EF0916127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290AB77-2B4F-491D-8C01-531E1AE30394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2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2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440" cy="175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8b8b8b"/>
              </a:solidFill>
              <a:latin typeface="Calibri"/>
            </a:endParaRPr>
          </a:p>
        </p:txBody>
      </p:sp>
      <p:pic>
        <p:nvPicPr>
          <p:cNvPr id="125" name="Picture 2" descr="D:\Заставка_Что-_Где-_Когда-_2013.jpg"/>
          <p:cNvPicPr/>
          <p:nvPr/>
        </p:nvPicPr>
        <p:blipFill>
          <a:blip r:embed="rId1"/>
          <a:stretch/>
        </p:blipFill>
        <p:spPr>
          <a:xfrm>
            <a:off x="0" y="685800"/>
            <a:ext cx="9143640" cy="54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D:\МАМА\Безымянный1.png"/>
          <p:cNvPicPr/>
          <p:nvPr/>
        </p:nvPicPr>
        <p:blipFill>
          <a:blip r:embed="rId1"/>
          <a:stretch/>
        </p:blipFill>
        <p:spPr>
          <a:xfrm>
            <a:off x="1979640" y="0"/>
            <a:ext cx="6440040" cy="27619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3" descr="D:\МАМА\Безымянный2.png"/>
          <p:cNvPicPr/>
          <p:nvPr/>
        </p:nvPicPr>
        <p:blipFill>
          <a:blip r:embed="rId2"/>
          <a:stretch/>
        </p:blipFill>
        <p:spPr>
          <a:xfrm>
            <a:off x="1979640" y="0"/>
            <a:ext cx="6440040" cy="27619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4" descr="D:\МАМА\Безымянный.png"/>
          <p:cNvPicPr/>
          <p:nvPr/>
        </p:nvPicPr>
        <p:blipFill>
          <a:blip r:embed="rId3"/>
          <a:stretch/>
        </p:blipFill>
        <p:spPr>
          <a:xfrm>
            <a:off x="899640" y="0"/>
            <a:ext cx="7416360" cy="27961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5" descr="D:\МАМА\Безымянный1.png"/>
          <p:cNvPicPr/>
          <p:nvPr/>
        </p:nvPicPr>
        <p:blipFill>
          <a:blip r:embed="rId4"/>
          <a:stretch/>
        </p:blipFill>
        <p:spPr>
          <a:xfrm>
            <a:off x="1115640" y="1772640"/>
            <a:ext cx="7056360" cy="26384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6" descr="D:\МАМА\Безымянный2.png"/>
          <p:cNvPicPr/>
          <p:nvPr/>
        </p:nvPicPr>
        <p:blipFill>
          <a:blip r:embed="rId5"/>
          <a:stretch/>
        </p:blipFill>
        <p:spPr>
          <a:xfrm>
            <a:off x="1043640" y="3501000"/>
            <a:ext cx="7200360" cy="27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D:\МАМА\0ea55491a937cd4b7af03e2fae4e000f.jpg"/>
          <p:cNvPicPr/>
          <p:nvPr/>
        </p:nvPicPr>
        <p:blipFill>
          <a:blip r:embed="rId1"/>
          <a:stretch/>
        </p:blipFill>
        <p:spPr>
          <a:xfrm>
            <a:off x="819720" y="1448640"/>
            <a:ext cx="7504200" cy="396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5" descr="D:\МАМА\geo3b2.png"/>
          <p:cNvPicPr/>
          <p:nvPr/>
        </p:nvPicPr>
        <p:blipFill>
          <a:blip r:embed="rId1"/>
          <a:stretch/>
        </p:blipFill>
        <p:spPr>
          <a:xfrm>
            <a:off x="2665440" y="1308960"/>
            <a:ext cx="3813120" cy="423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3" descr="D:\МАМА\geo3b3.png"/>
          <p:cNvPicPr/>
          <p:nvPr/>
        </p:nvPicPr>
        <p:blipFill>
          <a:blip r:embed="rId1"/>
          <a:stretch/>
        </p:blipFill>
        <p:spPr>
          <a:xfrm>
            <a:off x="2843640" y="1711440"/>
            <a:ext cx="3456000" cy="343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D:\МАМА\geo3b1.png"/>
          <p:cNvPicPr/>
          <p:nvPr/>
        </p:nvPicPr>
        <p:blipFill>
          <a:blip r:embed="rId1"/>
          <a:stretch/>
        </p:blipFill>
        <p:spPr>
          <a:xfrm>
            <a:off x="2615760" y="1484640"/>
            <a:ext cx="3912480" cy="38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2" descr="D:\МАМА\Заставка_Что-_Где-_Когда-_2013.jpg"/>
          <p:cNvPicPr/>
          <p:nvPr/>
        </p:nvPicPr>
        <p:blipFill>
          <a:blip r:embed="rId1"/>
          <a:stretch/>
        </p:blipFill>
        <p:spPr>
          <a:xfrm>
            <a:off x="0" y="682200"/>
            <a:ext cx="9143640" cy="549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467640" y="0"/>
            <a:ext cx="8229240" cy="685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0" algn="ctr">
              <a:lnSpc>
                <a:spcPct val="100000"/>
              </a:lnSpc>
              <a:spcBef>
                <a:spcPts val="1760"/>
              </a:spcBef>
              <a:buNone/>
              <a:tabLst>
                <a:tab algn="l" pos="0"/>
              </a:tabLst>
            </a:pPr>
            <a:r>
              <a:rPr b="0" lang="ru-RU" sz="8800" spc="-1" strike="noStrike">
                <a:solidFill>
                  <a:srgbClr val="000000"/>
                </a:solidFill>
                <a:latin typeface="Calibri"/>
              </a:rPr>
              <a:t>6, 9, А, 2</a:t>
            </a:r>
            <a:endParaRPr b="0" lang="ru-RU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67640" y="0"/>
            <a:ext cx="8229240" cy="685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0" algn="ctr">
              <a:lnSpc>
                <a:spcPct val="100000"/>
              </a:lnSpc>
              <a:spcBef>
                <a:spcPts val="1760"/>
              </a:spcBef>
              <a:buNone/>
              <a:tabLst>
                <a:tab algn="l" pos="0"/>
              </a:tabLst>
            </a:pPr>
            <a:r>
              <a:rPr b="0" lang="ru-RU" sz="8800" spc="-1" strike="noStrike">
                <a:solidFill>
                  <a:srgbClr val="000000"/>
                </a:solidFill>
                <a:latin typeface="Calibri"/>
              </a:rPr>
              <a:t>1, 8, 21, 7</a:t>
            </a:r>
            <a:endParaRPr b="0" lang="ru-RU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467640" y="0"/>
            <a:ext cx="8229240" cy="685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0" algn="ctr">
              <a:lnSpc>
                <a:spcPct val="100000"/>
              </a:lnSpc>
              <a:spcBef>
                <a:spcPts val="1760"/>
              </a:spcBef>
              <a:buNone/>
              <a:tabLst>
                <a:tab algn="l" pos="0"/>
              </a:tabLst>
            </a:pPr>
            <a:r>
              <a:rPr b="0" lang="ru-RU" sz="8800" spc="-1" strike="noStrike">
                <a:solidFill>
                  <a:srgbClr val="000000"/>
                </a:solidFill>
                <a:latin typeface="Calibri"/>
              </a:rPr>
              <a:t>20, 41, 100, 15</a:t>
            </a:r>
            <a:endParaRPr b="0" lang="ru-RU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467640" y="0"/>
            <a:ext cx="8229240" cy="685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0" algn="ctr">
              <a:lnSpc>
                <a:spcPct val="100000"/>
              </a:lnSpc>
              <a:spcBef>
                <a:spcPts val="1760"/>
              </a:spcBef>
              <a:buNone/>
              <a:tabLst>
                <a:tab algn="l" pos="0"/>
              </a:tabLst>
            </a:pPr>
            <a:r>
              <a:rPr b="0" lang="ru-RU" sz="8800" spc="-1" strike="noStrike">
                <a:solidFill>
                  <a:srgbClr val="000000"/>
                </a:solidFill>
                <a:latin typeface="Calibri"/>
              </a:rPr>
              <a:t>&gt;, &lt;  , 5, =</a:t>
            </a:r>
            <a:endParaRPr b="0" lang="ru-RU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D:\МАМА\Безымянный.png"/>
          <p:cNvPicPr/>
          <p:nvPr/>
        </p:nvPicPr>
        <p:blipFill>
          <a:blip r:embed="rId1"/>
          <a:stretch/>
        </p:blipFill>
        <p:spPr>
          <a:xfrm>
            <a:off x="0" y="1484640"/>
            <a:ext cx="9143640" cy="352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D:\МАМА\Заставка_Что-_Где-_Когда-_2013.jpg"/>
          <p:cNvPicPr/>
          <p:nvPr/>
        </p:nvPicPr>
        <p:blipFill>
          <a:blip r:embed="rId1"/>
          <a:stretch/>
        </p:blipFill>
        <p:spPr>
          <a:xfrm>
            <a:off x="0" y="822960"/>
            <a:ext cx="9143640" cy="521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395640" y="2493000"/>
            <a:ext cx="8229240" cy="161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760"/>
              </a:spcBef>
              <a:buNone/>
              <a:tabLst>
                <a:tab algn="l" pos="0"/>
              </a:tabLst>
            </a:pPr>
            <a:r>
              <a:rPr b="0" lang="ru-RU" sz="8800" spc="-1" strike="noStrike">
                <a:solidFill>
                  <a:srgbClr val="000000"/>
                </a:solidFill>
                <a:latin typeface="Calibri"/>
              </a:rPr>
              <a:t>7 + 2 = ?</a:t>
            </a:r>
            <a:endParaRPr b="0" lang="ru-RU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467640" y="2421000"/>
            <a:ext cx="8229240" cy="262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760"/>
              </a:spcBef>
              <a:buNone/>
              <a:tabLst>
                <a:tab algn="l" pos="0"/>
              </a:tabLst>
            </a:pPr>
            <a:r>
              <a:rPr b="0" lang="ru-RU" sz="8800" spc="-1" strike="noStrike">
                <a:solidFill>
                  <a:srgbClr val="000000"/>
                </a:solidFill>
                <a:latin typeface="Calibri"/>
              </a:rPr>
              <a:t>10 – 1 = ?</a:t>
            </a:r>
            <a:endParaRPr b="0" lang="ru-RU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67640" y="2925000"/>
            <a:ext cx="8229240" cy="182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760"/>
              </a:spcBef>
              <a:buNone/>
              <a:tabLst>
                <a:tab algn="l" pos="0"/>
              </a:tabLst>
            </a:pPr>
            <a:r>
              <a:rPr b="0" lang="ru-RU" sz="8800" spc="-1" strike="noStrike">
                <a:solidFill>
                  <a:srgbClr val="000000"/>
                </a:solidFill>
                <a:latin typeface="Calibri"/>
              </a:rPr>
              <a:t>6 + 3 = ?</a:t>
            </a:r>
            <a:endParaRPr b="0" lang="ru-RU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2" descr="D:\МАМА\Заставка_Что-_Где-_Когда-_2013.jpg"/>
          <p:cNvPicPr/>
          <p:nvPr/>
        </p:nvPicPr>
        <p:blipFill>
          <a:blip r:embed="rId1"/>
          <a:stretch/>
        </p:blipFill>
        <p:spPr>
          <a:xfrm>
            <a:off x="0" y="836640"/>
            <a:ext cx="9143640" cy="521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2" descr="D:\МАМА\Безымянный4.png"/>
          <p:cNvPicPr/>
          <p:nvPr/>
        </p:nvPicPr>
        <p:blipFill>
          <a:blip r:embed="rId1"/>
          <a:stretch/>
        </p:blipFill>
        <p:spPr>
          <a:xfrm>
            <a:off x="1547640" y="1268640"/>
            <a:ext cx="6264360" cy="450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3" descr="D:\МАМА\Безымянный5.png"/>
          <p:cNvPicPr/>
          <p:nvPr/>
        </p:nvPicPr>
        <p:blipFill>
          <a:blip r:embed="rId1"/>
          <a:stretch/>
        </p:blipFill>
        <p:spPr>
          <a:xfrm>
            <a:off x="1619640" y="1556640"/>
            <a:ext cx="6039720" cy="38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2" descr="D:\МАМА\Заставка_Что-_Где-_Когда-_2013.jpg"/>
          <p:cNvPicPr/>
          <p:nvPr/>
        </p:nvPicPr>
        <p:blipFill>
          <a:blip r:embed="rId1"/>
          <a:stretch/>
        </p:blipFill>
        <p:spPr>
          <a:xfrm>
            <a:off x="0" y="822960"/>
            <a:ext cx="9143640" cy="521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D:\МАМА\Безымянный.png"/>
          <p:cNvPicPr/>
          <p:nvPr/>
        </p:nvPicPr>
        <p:blipFill>
          <a:blip r:embed="rId1"/>
          <a:stretch/>
        </p:blipFill>
        <p:spPr>
          <a:xfrm rot="5400000">
            <a:off x="2390760" y="3350880"/>
            <a:ext cx="4361760" cy="15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D:\МАМА\Безымянный.png"/>
          <p:cNvPicPr/>
          <p:nvPr/>
        </p:nvPicPr>
        <p:blipFill>
          <a:blip r:embed="rId1"/>
          <a:stretch/>
        </p:blipFill>
        <p:spPr>
          <a:xfrm rot="18664800">
            <a:off x="2086200" y="3340080"/>
            <a:ext cx="4970520" cy="1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2" descr="D:\МАМА\Безымянный.png"/>
          <p:cNvPicPr/>
          <p:nvPr/>
        </p:nvPicPr>
        <p:blipFill>
          <a:blip r:embed="rId1"/>
          <a:stretch/>
        </p:blipFill>
        <p:spPr>
          <a:xfrm rot="20031000">
            <a:off x="1984680" y="3196080"/>
            <a:ext cx="4866120" cy="1735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5" descr="D:\МАМА\Безымянный.png"/>
          <p:cNvPicPr/>
          <p:nvPr/>
        </p:nvPicPr>
        <p:blipFill>
          <a:blip r:embed="rId2"/>
          <a:stretch/>
        </p:blipFill>
        <p:spPr>
          <a:xfrm rot="1561200">
            <a:off x="2140920" y="3213000"/>
            <a:ext cx="4634640" cy="16524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52000" y="2421000"/>
            <a:ext cx="1162080" cy="56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0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3" descr="D:\МАМА\img2.gif"/>
          <p:cNvPicPr/>
          <p:nvPr/>
        </p:nvPicPr>
        <p:blipFill>
          <a:blip r:embed="rId1"/>
          <a:stretch/>
        </p:blipFill>
        <p:spPr>
          <a:xfrm>
            <a:off x="1743120" y="1845000"/>
            <a:ext cx="5657400" cy="316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D:\МАМА\img3.gif"/>
          <p:cNvPicPr/>
          <p:nvPr/>
        </p:nvPicPr>
        <p:blipFill>
          <a:blip r:embed="rId1"/>
          <a:stretch/>
        </p:blipFill>
        <p:spPr>
          <a:xfrm>
            <a:off x="2591640" y="1778760"/>
            <a:ext cx="3960000" cy="33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D:\МАМА\Безымянный1.png"/>
          <p:cNvPicPr/>
          <p:nvPr/>
        </p:nvPicPr>
        <p:blipFill>
          <a:blip r:embed="rId1"/>
          <a:stretch/>
        </p:blipFill>
        <p:spPr>
          <a:xfrm>
            <a:off x="919800" y="1862640"/>
            <a:ext cx="7304400" cy="31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D:\МАМА\Безымянный2.png"/>
          <p:cNvPicPr/>
          <p:nvPr/>
        </p:nvPicPr>
        <p:blipFill>
          <a:blip r:embed="rId1"/>
          <a:stretch/>
        </p:blipFill>
        <p:spPr>
          <a:xfrm>
            <a:off x="1046160" y="1917000"/>
            <a:ext cx="705132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  <Words>43</Words>
  <Paragraphs>8</Paragraphs>
  <Company>Функциональность ограничена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06T13:03:53Z</dcterms:created>
  <dc:creator>Демонстрационная версия</dc:creator>
  <dc:description/>
  <dc:language>en-US</dc:language>
  <cp:lastModifiedBy>Демонстрационная версия</cp:lastModifiedBy>
  <dcterms:modified xsi:type="dcterms:W3CDTF">2016-04-28T09:58:02Z</dcterms:modified>
  <cp:revision>9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27</vt:r8>
  </property>
</Properties>
</file>