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36E-1159-4A63-9DA3-E009471D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11E-C64E-4B10-9CD4-FEEA7F77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DA8-9541-4671-8F23-A7FB882E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838-19C7-43CC-ACE8-5BB89D16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716A-B795-44A6-A458-55FA74D1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DB28-D535-4597-BFCE-441F0742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B708-2D0E-4D38-A571-79BE4961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6CD9-03AC-4190-97CF-D9030C8D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8243-3C4E-43A0-A085-BBD5D6BD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3B3A-EBDB-4F66-9088-0157F440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9C16-616F-47C8-86DC-21CF816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41C-D813-4C75-920C-7361042D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DBAE-BBDF-4C99-BEC7-9FBFDD71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B51D-1975-4AD5-AB91-DAC42A1E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442B-7152-4639-9365-EE61F619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7636-BC23-4640-A28A-D7DE1407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DB3A-71E9-4525-B7B3-351C6F1C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40E-2A33-41DE-984A-B726835D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43E-6C9D-4F84-A3AD-5BE7F677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0F7-5C4A-48AD-8C0F-82AE94CB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AB8-FD76-44A5-8CF7-81186065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7E1-0259-4C0C-AA55-50CF23CA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EE5-7577-4DE6-B198-79C0674B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08C-CAB6-4A15-AE9E-3FF3576A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5B86-75C9-4CC1-A7AE-780289320D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2521-FCE5-4A22-9EA9-635F142598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yandex.ru/yandsearch?img_url=www.cook.freecopy.su/cookbook/pictures/4306.jpg&amp;iorient=&amp;icolor=&amp;site=&amp;text=&#1082;&#1072;&#1088;&#1090;&#1080;&#1085;&#1082;&#1080;%20&#1095;&#1072;&#1081;&#1085;&#1080;&#1082;&amp;wp=&amp;pos=4&amp;isize=&amp;type=&amp;recent=&amp;rpt=simage&amp;itype=&amp;nojs=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yandex.ru/yandsearch?img_url=damascus.ru/images/damascus_akses_vost_350s.jpg&amp;iorient=&amp;icolor=&amp;site=&amp;text=&#1082;&#1072;&#1088;&#1090;&#1080;&#1085;&#1082;&#1080;%20&#1082;&#1086;&#1092;&#1077;&#1081;&#1085;&#1080;&#1082;&amp;wp=&amp;pos=1&amp;isize=&amp;type=&amp;recent=&amp;rpt=simage&amp;itype=&amp;nojs=1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Система работы по развитию самостоятельности обучающихся на уроках физики посредством технологии проблемного обучения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Современному ученику нужно передавать не столько информацию как собрание готовых фактов, сколько метод их получения, анализа и прогнозирования интеллектуального развития личности» 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…При любых методах обучения менее способные учащиеся достигнут менее высоких результатов в усвоении знаний. Но можно предполагать, что именно для этой группы учащихся особенно необходимо проблемное обучение, позволяющее выполнять посильные творческие задания и тем самым способствующее развитию их мышл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.М. Матюшк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кофейник"/>
          <p:cNvPicPr/>
          <p:nvPr/>
        </p:nvPicPr>
        <p:blipFill>
          <a:blip r:embed="rId1"/>
          <a:stretch/>
        </p:blipFill>
        <p:spPr>
          <a:xfrm>
            <a:off x="3571920" y="642960"/>
            <a:ext cx="221940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Picture 4" descr="лейка 2"/>
          <p:cNvPicPr/>
          <p:nvPr/>
        </p:nvPicPr>
        <p:blipFill>
          <a:blip r:embed="rId2"/>
          <a:stretch/>
        </p:blipFill>
        <p:spPr>
          <a:xfrm>
            <a:off x="6715080" y="428760"/>
            <a:ext cx="192888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6" descr="http://im2-tub-ru.yandex.net/i?id=177372438-6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4143240"/>
            <a:ext cx="2547720" cy="22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8" descr="http://im6-tub-ru.yandex.net/i?id=114170530-51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14800" y="3643200"/>
            <a:ext cx="1928880" cy="264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Picture 10" descr="http://im0-tub-ru.yandex.net/i?id=573793063-03-72&amp;n=21"/>
          <p:cNvPicPr/>
          <p:nvPr/>
        </p:nvPicPr>
        <p:blipFill>
          <a:blip r:embed="rId7"/>
          <a:stretch/>
        </p:blipFill>
        <p:spPr>
          <a:xfrm>
            <a:off x="285840" y="3500280"/>
            <a:ext cx="235728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14" descr="http://im8-tub-ru.yandex.net/i?id=278564995-11-72&amp;n=21"/>
          <p:cNvPicPr/>
          <p:nvPr/>
        </p:nvPicPr>
        <p:blipFill>
          <a:blip r:embed="rId8"/>
          <a:stretch/>
        </p:blipFill>
        <p:spPr>
          <a:xfrm>
            <a:off x="357120" y="357120"/>
            <a:ext cx="271476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5" name="Номер слайда 1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86EE-1805-4E1A-8F21-EE68B70C74E0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В каком случае груз нести легче? Точка опоры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A2CC-AF6D-4DEB-BBC2-185B01984A8E}" type="slidenum">
              <a:rPr b="0" lang="en-US" sz="1000" spc="-1" strike="noStrike">
                <a:solidFill>
                  <a:srgbClr val="330033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Рисунок 4" descr="books.gif"/>
          <p:cNvPicPr/>
          <p:nvPr/>
        </p:nvPicPr>
        <p:blipFill>
          <a:blip r:embed="rId1"/>
          <a:stretch/>
        </p:blipFill>
        <p:spPr>
          <a:xfrm>
            <a:off x="7786800" y="21420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6" descr="ris-3.jpg"/>
          <p:cNvPicPr/>
          <p:nvPr/>
        </p:nvPicPr>
        <p:blipFill>
          <a:blip r:embed="rId2"/>
          <a:srcRect l="0" t="46675" r="49970" b="2916"/>
          <a:stretch/>
        </p:blipFill>
        <p:spPr>
          <a:xfrm>
            <a:off x="3143160" y="1071720"/>
            <a:ext cx="1857600" cy="15714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ris-3.jpg"/>
          <p:cNvPicPr/>
          <p:nvPr/>
        </p:nvPicPr>
        <p:blipFill>
          <a:blip r:embed="rId3"/>
          <a:srcRect l="49970" t="13123" r="0" b="23330"/>
          <a:stretch/>
        </p:blipFill>
        <p:spPr>
          <a:xfrm>
            <a:off x="857160" y="1071720"/>
            <a:ext cx="1803600" cy="1568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216800" y="14288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288600" y="1214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264960" y="4714920"/>
            <a:ext cx="887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Эксперимент. Опишите и объясните наблюдаемые я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зовите вид теплопереда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ак осуществляется перенос энерг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F:\ФИЗИКА\КАРТИНКИ и ТАБЛИЦЫ\ТЕРМОДИНАМИКА И МОЛЕКУЛЯРНАЯ ФИЗИКА\ris-4.jpg"/>
          <p:cNvPicPr/>
          <p:nvPr/>
        </p:nvPicPr>
        <p:blipFill>
          <a:blip r:embed="rId4"/>
          <a:srcRect l="0" t="0" r="62960" b="35124"/>
          <a:stretch/>
        </p:blipFill>
        <p:spPr>
          <a:xfrm>
            <a:off x="5643720" y="107172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USER\Searches\Pictures\т7.jpg"/>
          <p:cNvPicPr/>
          <p:nvPr/>
        </p:nvPicPr>
        <p:blipFill>
          <a:blip r:embed="rId5"/>
          <a:stretch/>
        </p:blipFill>
        <p:spPr>
          <a:xfrm>
            <a:off x="3143160" y="3071880"/>
            <a:ext cx="1819440" cy="16574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5"/>
          <p:cNvSpPr/>
          <p:nvPr/>
        </p:nvSpPr>
        <p:spPr>
          <a:xfrm>
            <a:off x="5574600" y="1143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4431600" y="39290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0033"/>
                </a:solidFill>
                <a:latin typeface="Times New Roman"/>
              </a:rPr>
              <a:t>Алгоритм постановки проблемного вопроса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Внимательно прочитайте текст, уясните его содержани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Выделите главную мысль (ключевые моменты, основные идеи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Обратите внимание на наличие противоречий (несоответствий, различие подходов, объяснений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Определите, в чем суть выявленных противоречий; насколько они существенн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Сформулируйте на основе этих противоречий проблемный вопрос, подумайте о возможных вариантах ответа на нег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Задачи, реализуемые при формировании самостоятельности обучающихся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развитие самостоятельности в познавательной деятель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обучение самостоятельности в применении полученн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тивореч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данный момент уровень самостоятельной активности обучающихся не соответствует требованиям современного общества к школе в формировании личности, которая умела бы самостоятельно творчески решать научные, производственные, общественные задачи, критически мыслить, вырабатывать и защищать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блем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ри минимальном количестве уроков физики на базовом уровне и большом объёме изучаемого материала сформировать самостоятельность в познавательной деятельности обучающихся, как один из факторов готовности к саморазвитию и непрерывному образова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Ведущая педагогическая идея: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я учения без принуждения, основанная на переживании радости познания мира, на подлинном интересе к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Новизна опыта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 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рганизации самостоятельной познавательной деятельности на уроках физики через создание проблемных ситуаций, создание дополнительного дидактического материала, содержащего измерительные, экспериментальные и исследовательские задания, которые реально можно выполнить с использованием традиционного оборудования кабинета физ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Целью  педагогической деятельности является :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амостоятельности обучающихся на уроках физики посредством технологии проблемного обучения при изучении нового 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Уровни проблемного обуче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- й урове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- педагог ставит проблему, формулирует ее и направляет обучающихся на самостоятельный поиск путей решения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- й урове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- педагог указывает на проблему, обучающиеся самостоятельно формулируют и решают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- й урове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- обучающиеся сами обнаруживают, формулируют и решают пробл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этапы проблемного уро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этап:  Постановка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этап:  Поиск ре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этап: Выражение ре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этап: Реализация проду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1T13:34:46Z</dcterms:created>
  <dc:creator>User</dc:creator>
  <dc:description/>
  <dc:language>en-US</dc:language>
  <cp:lastModifiedBy>User</cp:lastModifiedBy>
  <dcterms:modified xsi:type="dcterms:W3CDTF">2017-08-29T16:57:18Z</dcterms:modified>
  <cp:revision>4</cp:revision>
  <dc:subject/>
  <dc:title>Слайд 1</dc:title>
</cp:coreProperties>
</file>