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2D23-82E5-448C-9442-F38530BF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D20D-2263-4BC6-9DFF-48136971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B8D8-9565-42C3-9FC6-DE7C3388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CEC2-32CA-455C-A8FF-D7F21DD1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F0CF-6189-4F3A-86ED-68FACDFC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17E1-22CE-4B77-B385-D5CA81CE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AA3E-D3E9-4C30-9FD4-CDC79398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746C-B598-477D-928E-CCD984D8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112D-614A-41ED-B257-506AE965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2D48-9DAF-48FD-858F-7AA540D6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0C9F-928C-4084-B156-BB300DB2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2946-AC79-4719-B367-334A4AE7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5B6D-782C-4C0D-9B3F-3427095A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48A8-2D68-41D9-B6BA-D07D4670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9AE5-B2CF-44E8-8E10-99615496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E556-3BA0-4A70-9CBE-48750D75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7782-08D5-4781-BC7F-0F725FF8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C3929-7FD2-441E-B909-8FA48E62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7A6EE-51E3-40F1-960F-6278DF18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844B-A571-4108-88BA-1F2B1B88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7514-9F43-4299-B2E2-83EF47AE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268C-9CC4-4CA1-AB9F-00879B77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660C-693B-49CB-85C8-3EBF020B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3A3B-6871-4B38-B555-BA0459C6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7AA8-CE17-424C-A9A2-FAEF59DD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93E9B-59DA-4D4D-994E-9D1BB1B2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44DBA-B99F-4216-A3B3-A17BFEE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08A4-C7A7-4060-A724-142B61A4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5E614-5A47-4BA1-AC33-F56C9D38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4DD7-36D5-4444-A46D-946024ED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E9501-D0D4-4F28-A8DA-2CA2D6B0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E3B7D-9703-4095-8A53-89B0F20C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4316A-768B-473D-BE42-B8FEFD68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993B-F3CC-49AA-AA00-7707B6DF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8824E-F779-423A-8AE9-13FFDC5A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590B0-3412-472D-9E9B-B092D9D6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71F6B-F743-4207-92FC-8BEFE39D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05D3C-FE34-4A65-938C-725E6860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6101E-7A7C-44DD-B546-0174C496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073FA-6874-4D83-9C90-DF1D8B34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7772-9A78-4CC9-B1AA-AF18EF1C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D748B-E88A-4E25-9F5A-E5BDCEF6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E3BAE-A815-4BC2-996E-72AFAE6C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D464-B5F2-4C75-9DE9-9E741B66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1E1FF-E2F2-4612-8E16-F555CA68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E11A-C676-41A9-835A-92F573CE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77A28-3CD6-477A-B1A1-68A46DC0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976C-2376-48E5-AB8C-898DE69B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AEC5-61E3-4A2C-B0D5-428A653CCE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C5CB-8156-4EF8-B7D8-5EF23D1045B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0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7692-0CD1-4A29-8C25-EBB5E731CF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1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41E1-6DFD-4920-801E-29F23493D65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Презентация на тему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ыполнила: УЧЕНИЦА 4 «А» КЛАСС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АОУ «СОШ школы № 33 с УИОП»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ивкова Вале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447920" y="2133720"/>
            <a:ext cx="723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965240" y="2089080"/>
            <a:ext cx="672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447920" y="19810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ила поведения на железной дороге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3886200" cy="1828800"/>
          </a:xfrm>
          <a:prstGeom prst="rect">
            <a:avLst/>
          </a:prstGeom>
          <a:solidFill>
            <a:srgbClr val="ffeea7"/>
          </a:solidFill>
          <a:ln w="324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пытайся попасть в вагон или выйти из вагона во время движения!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2735280" cy="4019400"/>
          </a:xfrm>
          <a:prstGeom prst="rect">
            <a:avLst/>
          </a:prstGeom>
          <a:ln w="3240">
            <a:solidFill>
              <a:srgbClr val="3333cc"/>
            </a:solidFill>
            <a:miter/>
          </a:ln>
        </p:spPr>
      </p:pic>
      <p:pic>
        <p:nvPicPr>
          <p:cNvPr id="206" name="Picture 9" descr=""/>
          <p:cNvPicPr/>
          <p:nvPr/>
        </p:nvPicPr>
        <p:blipFill>
          <a:blip r:embed="rId2"/>
          <a:stretch/>
        </p:blipFill>
        <p:spPr>
          <a:xfrm>
            <a:off x="5562720" y="409680"/>
            <a:ext cx="2828880" cy="4000320"/>
          </a:xfrm>
          <a:prstGeom prst="rect">
            <a:avLst/>
          </a:prstGeom>
          <a:ln w="3240">
            <a:solidFill>
              <a:srgbClr val="3333cc"/>
            </a:solidFill>
            <a:miter/>
          </a:ln>
        </p:spPr>
      </p:pic>
      <p:sp>
        <p:nvSpPr>
          <p:cNvPr id="207" name="Rectangle 10"/>
          <p:cNvSpPr/>
          <p:nvPr/>
        </p:nvSpPr>
        <p:spPr>
          <a:xfrm>
            <a:off x="4572000" y="4876920"/>
            <a:ext cx="4191120" cy="1523880"/>
          </a:xfrm>
          <a:prstGeom prst="rect">
            <a:avLst/>
          </a:prstGeom>
          <a:solidFill>
            <a:srgbClr val="ffeea7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подходи к вагонам до полной остановки поезда!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AutoShape 12"/>
          <p:cNvSpPr/>
          <p:nvPr/>
        </p:nvSpPr>
        <p:spPr>
          <a:xfrm rot="5400000">
            <a:off x="3993120" y="3807720"/>
            <a:ext cx="1019160" cy="1081080"/>
          </a:xfrm>
          <a:custGeom>
            <a:avLst/>
            <a:gdLst>
              <a:gd name="textAreaLeft" fmla="*/ 586440 w 1019160"/>
              <a:gd name="textAreaRight" fmla="*/ 925920 w 1019160"/>
              <a:gd name="textAreaTop" fmla="*/ 217440 h 1081080"/>
              <a:gd name="textAreaBottom" fmla="*/ 39096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669" y="0"/>
                </a:lnTo>
                <a:lnTo>
                  <a:pt x="14669" y="4345"/>
                </a:lnTo>
                <a:lnTo>
                  <a:pt x="12427" y="4345"/>
                </a:lnTo>
                <a:cubicBezTo>
                  <a:pt x="5564" y="4345"/>
                  <a:pt x="0" y="7843"/>
                  <a:pt x="0" y="12158"/>
                </a:cubicBezTo>
                <a:lnTo>
                  <a:pt x="0" y="21600"/>
                </a:lnTo>
                <a:lnTo>
                  <a:pt x="3545" y="21600"/>
                </a:lnTo>
                <a:lnTo>
                  <a:pt x="3545" y="12158"/>
                </a:lnTo>
                <a:cubicBezTo>
                  <a:pt x="3545" y="9758"/>
                  <a:pt x="7522" y="7813"/>
                  <a:pt x="12427" y="7813"/>
                </a:cubicBezTo>
                <a:lnTo>
                  <a:pt x="14669" y="7813"/>
                </a:lnTo>
                <a:lnTo>
                  <a:pt x="1466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AutoShape 13"/>
          <p:cNvSpPr/>
          <p:nvPr/>
        </p:nvSpPr>
        <p:spPr>
          <a:xfrm rot="16200000">
            <a:off x="4507560" y="2026080"/>
            <a:ext cx="1019160" cy="1081080"/>
          </a:xfrm>
          <a:custGeom>
            <a:avLst/>
            <a:gdLst>
              <a:gd name="textAreaLeft" fmla="*/ 586440 w 1019160"/>
              <a:gd name="textAreaRight" fmla="*/ 925920 w 1019160"/>
              <a:gd name="textAreaTop" fmla="*/ 217440 h 1081080"/>
              <a:gd name="textAreaBottom" fmla="*/ 39096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669" y="0"/>
                </a:lnTo>
                <a:lnTo>
                  <a:pt x="14669" y="4345"/>
                </a:lnTo>
                <a:lnTo>
                  <a:pt x="12427" y="4345"/>
                </a:lnTo>
                <a:cubicBezTo>
                  <a:pt x="5564" y="4345"/>
                  <a:pt x="0" y="7843"/>
                  <a:pt x="0" y="12158"/>
                </a:cubicBezTo>
                <a:lnTo>
                  <a:pt x="0" y="21600"/>
                </a:lnTo>
                <a:lnTo>
                  <a:pt x="3545" y="21600"/>
                </a:lnTo>
                <a:lnTo>
                  <a:pt x="3545" y="12158"/>
                </a:lnTo>
                <a:cubicBezTo>
                  <a:pt x="3545" y="9758"/>
                  <a:pt x="7522" y="7813"/>
                  <a:pt x="12427" y="7813"/>
                </a:cubicBezTo>
                <a:lnTo>
                  <a:pt x="14669" y="7813"/>
                </a:lnTo>
                <a:lnTo>
                  <a:pt x="1466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4038480" cy="2057400"/>
          </a:xfrm>
          <a:prstGeom prst="rect">
            <a:avLst/>
          </a:prstGeom>
          <a:solidFill>
            <a:srgbClr val="ffeea7"/>
          </a:solidFill>
          <a:ln w="324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прыгай с пассажирской платформы на железнодорожные путя!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572000" y="4876920"/>
            <a:ext cx="4191120" cy="1066680"/>
          </a:xfrm>
          <a:prstGeom prst="rect">
            <a:avLst/>
          </a:prstGeom>
          <a:solidFill>
            <a:srgbClr val="ffeea7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прислоняйся к стоящим вагонам!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AutoShape 6"/>
          <p:cNvSpPr/>
          <p:nvPr/>
        </p:nvSpPr>
        <p:spPr>
          <a:xfrm rot="5400000">
            <a:off x="3993120" y="3807720"/>
            <a:ext cx="1019160" cy="1081080"/>
          </a:xfrm>
          <a:custGeom>
            <a:avLst/>
            <a:gdLst>
              <a:gd name="textAreaLeft" fmla="*/ 586440 w 1019160"/>
              <a:gd name="textAreaRight" fmla="*/ 925920 w 1019160"/>
              <a:gd name="textAreaTop" fmla="*/ 217440 h 1081080"/>
              <a:gd name="textAreaBottom" fmla="*/ 39096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669" y="0"/>
                </a:lnTo>
                <a:lnTo>
                  <a:pt x="14669" y="4345"/>
                </a:lnTo>
                <a:lnTo>
                  <a:pt x="12427" y="4345"/>
                </a:lnTo>
                <a:cubicBezTo>
                  <a:pt x="5564" y="4345"/>
                  <a:pt x="0" y="7843"/>
                  <a:pt x="0" y="12158"/>
                </a:cubicBezTo>
                <a:lnTo>
                  <a:pt x="0" y="21600"/>
                </a:lnTo>
                <a:lnTo>
                  <a:pt x="3545" y="21600"/>
                </a:lnTo>
                <a:lnTo>
                  <a:pt x="3545" y="12158"/>
                </a:lnTo>
                <a:cubicBezTo>
                  <a:pt x="3545" y="9758"/>
                  <a:pt x="7522" y="7813"/>
                  <a:pt x="12427" y="7813"/>
                </a:cubicBezTo>
                <a:lnTo>
                  <a:pt x="14669" y="7813"/>
                </a:lnTo>
                <a:lnTo>
                  <a:pt x="1466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AutoShape 7"/>
          <p:cNvSpPr/>
          <p:nvPr/>
        </p:nvSpPr>
        <p:spPr>
          <a:xfrm rot="16200000">
            <a:off x="4526640" y="2178360"/>
            <a:ext cx="1019160" cy="1081080"/>
          </a:xfrm>
          <a:custGeom>
            <a:avLst/>
            <a:gdLst>
              <a:gd name="textAreaLeft" fmla="*/ 586440 w 1019160"/>
              <a:gd name="textAreaRight" fmla="*/ 925920 w 1019160"/>
              <a:gd name="textAreaTop" fmla="*/ 217440 h 1081080"/>
              <a:gd name="textAreaBottom" fmla="*/ 39096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669" y="0"/>
                </a:lnTo>
                <a:lnTo>
                  <a:pt x="14669" y="4345"/>
                </a:lnTo>
                <a:lnTo>
                  <a:pt x="12427" y="4345"/>
                </a:lnTo>
                <a:cubicBezTo>
                  <a:pt x="5564" y="4345"/>
                  <a:pt x="0" y="7843"/>
                  <a:pt x="0" y="12158"/>
                </a:cubicBezTo>
                <a:lnTo>
                  <a:pt x="0" y="21600"/>
                </a:lnTo>
                <a:lnTo>
                  <a:pt x="3545" y="21600"/>
                </a:lnTo>
                <a:lnTo>
                  <a:pt x="3545" y="12158"/>
                </a:lnTo>
                <a:cubicBezTo>
                  <a:pt x="3545" y="9758"/>
                  <a:pt x="7522" y="7813"/>
                  <a:pt x="12427" y="7813"/>
                </a:cubicBezTo>
                <a:lnTo>
                  <a:pt x="14669" y="7813"/>
                </a:lnTo>
                <a:lnTo>
                  <a:pt x="1466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4" name="Picture 8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2874960" cy="4038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15" name="Picture 9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2952720" cy="414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43040" y="4876920"/>
            <a:ext cx="3429000" cy="1295280"/>
          </a:xfrm>
          <a:prstGeom prst="rect">
            <a:avLst/>
          </a:prstGeom>
          <a:solidFill>
            <a:srgbClr val="ffeea7"/>
          </a:solidFill>
          <a:ln w="324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поднимайся на крыши вагонов !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838080" y="685800"/>
            <a:ext cx="4572000" cy="1219320"/>
          </a:xfrm>
          <a:prstGeom prst="rect">
            <a:avLst/>
          </a:prstGeom>
          <a:solidFill>
            <a:srgbClr val="ffeea7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играй с огнеопасными вещями !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AutoShape 4"/>
          <p:cNvSpPr/>
          <p:nvPr/>
        </p:nvSpPr>
        <p:spPr>
          <a:xfrm rot="5400000">
            <a:off x="3993120" y="3807720"/>
            <a:ext cx="1019160" cy="1081080"/>
          </a:xfrm>
          <a:custGeom>
            <a:avLst/>
            <a:gdLst>
              <a:gd name="textAreaLeft" fmla="*/ 586440 w 1019160"/>
              <a:gd name="textAreaRight" fmla="*/ 925920 w 1019160"/>
              <a:gd name="textAreaTop" fmla="*/ 217440 h 1081080"/>
              <a:gd name="textAreaBottom" fmla="*/ 39096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669" y="0"/>
                </a:lnTo>
                <a:lnTo>
                  <a:pt x="14669" y="4345"/>
                </a:lnTo>
                <a:lnTo>
                  <a:pt x="12427" y="4345"/>
                </a:lnTo>
                <a:cubicBezTo>
                  <a:pt x="5564" y="4345"/>
                  <a:pt x="0" y="7843"/>
                  <a:pt x="0" y="12158"/>
                </a:cubicBezTo>
                <a:lnTo>
                  <a:pt x="0" y="21600"/>
                </a:lnTo>
                <a:lnTo>
                  <a:pt x="3545" y="21600"/>
                </a:lnTo>
                <a:lnTo>
                  <a:pt x="3545" y="12158"/>
                </a:lnTo>
                <a:cubicBezTo>
                  <a:pt x="3545" y="9758"/>
                  <a:pt x="7522" y="7813"/>
                  <a:pt x="12427" y="7813"/>
                </a:cubicBezTo>
                <a:lnTo>
                  <a:pt x="14669" y="7813"/>
                </a:lnTo>
                <a:lnTo>
                  <a:pt x="1466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AutoShape 5"/>
          <p:cNvSpPr/>
          <p:nvPr/>
        </p:nvSpPr>
        <p:spPr>
          <a:xfrm rot="16200000">
            <a:off x="4526640" y="2026080"/>
            <a:ext cx="1019160" cy="1081080"/>
          </a:xfrm>
          <a:custGeom>
            <a:avLst/>
            <a:gdLst>
              <a:gd name="textAreaLeft" fmla="*/ 586440 w 1019160"/>
              <a:gd name="textAreaRight" fmla="*/ 925920 w 1019160"/>
              <a:gd name="textAreaTop" fmla="*/ 217440 h 1081080"/>
              <a:gd name="textAreaBottom" fmla="*/ 39096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669" y="0"/>
                </a:lnTo>
                <a:lnTo>
                  <a:pt x="14669" y="4345"/>
                </a:lnTo>
                <a:lnTo>
                  <a:pt x="12427" y="4345"/>
                </a:lnTo>
                <a:cubicBezTo>
                  <a:pt x="5564" y="4345"/>
                  <a:pt x="0" y="7843"/>
                  <a:pt x="0" y="12158"/>
                </a:cubicBezTo>
                <a:lnTo>
                  <a:pt x="0" y="21600"/>
                </a:lnTo>
                <a:lnTo>
                  <a:pt x="3545" y="21600"/>
                </a:lnTo>
                <a:lnTo>
                  <a:pt x="3545" y="12158"/>
                </a:lnTo>
                <a:cubicBezTo>
                  <a:pt x="3545" y="9758"/>
                  <a:pt x="7522" y="7813"/>
                  <a:pt x="12427" y="7813"/>
                </a:cubicBezTo>
                <a:lnTo>
                  <a:pt x="14669" y="7813"/>
                </a:lnTo>
                <a:lnTo>
                  <a:pt x="1466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0" name="Picture 11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981160" cy="4276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1" name="Picture 12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2772000" cy="4124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43040" y="5181480"/>
            <a:ext cx="3429000" cy="990720"/>
          </a:xfrm>
          <a:prstGeom prst="rect">
            <a:avLst/>
          </a:prstGeom>
          <a:solidFill>
            <a:srgbClr val="ffeea7"/>
          </a:solidFill>
          <a:ln w="324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ходи по железным путям!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85800" y="0"/>
            <a:ext cx="4572000" cy="2133720"/>
          </a:xfrm>
          <a:prstGeom prst="rect">
            <a:avLst/>
          </a:prstGeom>
          <a:solidFill>
            <a:srgbClr val="ffeea7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используй наушники и телефоны при переходе через железнодорожные пути!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AutoShape 4"/>
          <p:cNvSpPr/>
          <p:nvPr/>
        </p:nvSpPr>
        <p:spPr>
          <a:xfrm rot="5400000">
            <a:off x="3993120" y="3807720"/>
            <a:ext cx="1019160" cy="1081080"/>
          </a:xfrm>
          <a:custGeom>
            <a:avLst/>
            <a:gdLst>
              <a:gd name="textAreaLeft" fmla="*/ 586440 w 1019160"/>
              <a:gd name="textAreaRight" fmla="*/ 925920 w 1019160"/>
              <a:gd name="textAreaTop" fmla="*/ 217440 h 1081080"/>
              <a:gd name="textAreaBottom" fmla="*/ 39096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669" y="0"/>
                </a:lnTo>
                <a:lnTo>
                  <a:pt x="14669" y="4345"/>
                </a:lnTo>
                <a:lnTo>
                  <a:pt x="12427" y="4345"/>
                </a:lnTo>
                <a:cubicBezTo>
                  <a:pt x="5564" y="4345"/>
                  <a:pt x="0" y="7843"/>
                  <a:pt x="0" y="12158"/>
                </a:cubicBezTo>
                <a:lnTo>
                  <a:pt x="0" y="21600"/>
                </a:lnTo>
                <a:lnTo>
                  <a:pt x="3545" y="21600"/>
                </a:lnTo>
                <a:lnTo>
                  <a:pt x="3545" y="12158"/>
                </a:lnTo>
                <a:cubicBezTo>
                  <a:pt x="3545" y="9758"/>
                  <a:pt x="7522" y="7813"/>
                  <a:pt x="12427" y="7813"/>
                </a:cubicBezTo>
                <a:lnTo>
                  <a:pt x="14669" y="7813"/>
                </a:lnTo>
                <a:lnTo>
                  <a:pt x="1466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AutoShape 5"/>
          <p:cNvSpPr/>
          <p:nvPr/>
        </p:nvSpPr>
        <p:spPr>
          <a:xfrm rot="16200000">
            <a:off x="4526640" y="2254680"/>
            <a:ext cx="1019160" cy="1081080"/>
          </a:xfrm>
          <a:custGeom>
            <a:avLst/>
            <a:gdLst>
              <a:gd name="textAreaLeft" fmla="*/ 586440 w 1019160"/>
              <a:gd name="textAreaRight" fmla="*/ 925920 w 1019160"/>
              <a:gd name="textAreaTop" fmla="*/ 217440 h 1081080"/>
              <a:gd name="textAreaBottom" fmla="*/ 39096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669" y="0"/>
                </a:lnTo>
                <a:lnTo>
                  <a:pt x="14669" y="4345"/>
                </a:lnTo>
                <a:lnTo>
                  <a:pt x="12427" y="4345"/>
                </a:lnTo>
                <a:cubicBezTo>
                  <a:pt x="5564" y="4345"/>
                  <a:pt x="0" y="7843"/>
                  <a:pt x="0" y="12158"/>
                </a:cubicBezTo>
                <a:lnTo>
                  <a:pt x="0" y="21600"/>
                </a:lnTo>
                <a:lnTo>
                  <a:pt x="3545" y="21600"/>
                </a:lnTo>
                <a:lnTo>
                  <a:pt x="3545" y="12158"/>
                </a:lnTo>
                <a:cubicBezTo>
                  <a:pt x="3545" y="9758"/>
                  <a:pt x="7522" y="7813"/>
                  <a:pt x="12427" y="7813"/>
                </a:cubicBezTo>
                <a:lnTo>
                  <a:pt x="14669" y="7813"/>
                </a:lnTo>
                <a:lnTo>
                  <a:pt x="1466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2923920" cy="4286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7" name="Picture 7" descr=""/>
          <p:cNvPicPr/>
          <p:nvPr/>
        </p:nvPicPr>
        <p:blipFill>
          <a:blip r:embed="rId2"/>
          <a:stretch/>
        </p:blipFill>
        <p:spPr>
          <a:xfrm>
            <a:off x="5486400" y="457200"/>
            <a:ext cx="3105000" cy="4429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3886200" cy="1828800"/>
          </a:xfrm>
          <a:prstGeom prst="rect">
            <a:avLst/>
          </a:prstGeom>
          <a:solidFill>
            <a:srgbClr val="ffeea7"/>
          </a:solidFill>
          <a:ln w="324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стой на подножках и переходных площадках!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343400" y="5105520"/>
            <a:ext cx="4572000" cy="1066680"/>
          </a:xfrm>
          <a:prstGeom prst="rect">
            <a:avLst/>
          </a:prstGeom>
          <a:solidFill>
            <a:srgbClr val="ffeea7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открывай двери вагонов на ходу поезда!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AutoShape 4"/>
          <p:cNvSpPr/>
          <p:nvPr/>
        </p:nvSpPr>
        <p:spPr>
          <a:xfrm rot="5400000">
            <a:off x="3993120" y="3807720"/>
            <a:ext cx="1019160" cy="1081080"/>
          </a:xfrm>
          <a:custGeom>
            <a:avLst/>
            <a:gdLst>
              <a:gd name="textAreaLeft" fmla="*/ 586440 w 1019160"/>
              <a:gd name="textAreaRight" fmla="*/ 925920 w 1019160"/>
              <a:gd name="textAreaTop" fmla="*/ 217440 h 1081080"/>
              <a:gd name="textAreaBottom" fmla="*/ 39096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669" y="0"/>
                </a:lnTo>
                <a:lnTo>
                  <a:pt x="14669" y="4345"/>
                </a:lnTo>
                <a:lnTo>
                  <a:pt x="12427" y="4345"/>
                </a:lnTo>
                <a:cubicBezTo>
                  <a:pt x="5564" y="4345"/>
                  <a:pt x="0" y="7843"/>
                  <a:pt x="0" y="12158"/>
                </a:cubicBezTo>
                <a:lnTo>
                  <a:pt x="0" y="21600"/>
                </a:lnTo>
                <a:lnTo>
                  <a:pt x="3545" y="21600"/>
                </a:lnTo>
                <a:lnTo>
                  <a:pt x="3545" y="12158"/>
                </a:lnTo>
                <a:cubicBezTo>
                  <a:pt x="3545" y="9758"/>
                  <a:pt x="7522" y="7813"/>
                  <a:pt x="12427" y="7813"/>
                </a:cubicBezTo>
                <a:lnTo>
                  <a:pt x="14669" y="7813"/>
                </a:lnTo>
                <a:lnTo>
                  <a:pt x="1466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AutoShape 5"/>
          <p:cNvSpPr/>
          <p:nvPr/>
        </p:nvSpPr>
        <p:spPr>
          <a:xfrm rot="16200000">
            <a:off x="4755240" y="2254680"/>
            <a:ext cx="1019160" cy="1081080"/>
          </a:xfrm>
          <a:custGeom>
            <a:avLst/>
            <a:gdLst>
              <a:gd name="textAreaLeft" fmla="*/ 586440 w 1019160"/>
              <a:gd name="textAreaRight" fmla="*/ 925920 w 1019160"/>
              <a:gd name="textAreaTop" fmla="*/ 217440 h 1081080"/>
              <a:gd name="textAreaBottom" fmla="*/ 39096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669" y="0"/>
                </a:lnTo>
                <a:lnTo>
                  <a:pt x="14669" y="4345"/>
                </a:lnTo>
                <a:lnTo>
                  <a:pt x="12427" y="4345"/>
                </a:lnTo>
                <a:cubicBezTo>
                  <a:pt x="5564" y="4345"/>
                  <a:pt x="0" y="7843"/>
                  <a:pt x="0" y="12158"/>
                </a:cubicBezTo>
                <a:lnTo>
                  <a:pt x="0" y="21600"/>
                </a:lnTo>
                <a:lnTo>
                  <a:pt x="3545" y="21600"/>
                </a:lnTo>
                <a:lnTo>
                  <a:pt x="3545" y="12158"/>
                </a:lnTo>
                <a:cubicBezTo>
                  <a:pt x="3545" y="9758"/>
                  <a:pt x="7522" y="7813"/>
                  <a:pt x="12427" y="7813"/>
                </a:cubicBezTo>
                <a:lnTo>
                  <a:pt x="14669" y="7813"/>
                </a:lnTo>
                <a:lnTo>
                  <a:pt x="1466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2" name="Picture 8" descr=""/>
          <p:cNvPicPr/>
          <p:nvPr/>
        </p:nvPicPr>
        <p:blipFill>
          <a:blip r:embed="rId1"/>
          <a:stretch/>
        </p:blipFill>
        <p:spPr>
          <a:xfrm>
            <a:off x="5867280" y="457200"/>
            <a:ext cx="2791080" cy="4095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3" name="Picture 9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3116520" cy="4038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3720" y="2057040"/>
            <a:ext cx="449568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Tahoma"/>
              </a:rPr>
              <a:t>КОНЕЦ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ER</cp:lastModifiedBy>
  <dcterms:modified xsi:type="dcterms:W3CDTF">2017-08-30T05:14:0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