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20.png" ContentType="image/png"/>
  <Override PartName="/ppt/media/image28.png" ContentType="image/png"/>
  <Override PartName="/ppt/media/image5.png" ContentType="image/png"/>
  <Override PartName="/ppt/media/image29.jpeg" ContentType="image/jpeg"/>
  <Override PartName="/ppt/media/image27.jpeg" ContentType="image/jpe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4C1E-19B4-4A0F-BD15-40254C983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775F-BC57-4FA3-9C47-5B03E01B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2F39-37CB-4BA2-86FD-49C590E68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856A-BEF4-4965-996B-2F43562D5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DC6C-C708-4666-B60D-8CBFA134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3D20-BD13-42F0-BD38-9F71A750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C353-70B3-4C0C-9DD1-1AAA6D58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9691-8A2B-45AE-B58D-3062388D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4A27-37ED-40F5-BB3E-7F6544DD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94CE-798C-4F19-BCA4-401B79CC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62A6-E28C-43AF-82BA-2B8D319D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2F5D-963E-47F0-8D4F-4F1FE556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FD83-D6F4-4EB0-AE9E-C7415DC8D2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CC7F-B4D4-4FC5-B623-EAC139295D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7.jpe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изика  8 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особы измен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нутренней энерг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менишкина Нина Васильевна,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БОУ Кутуликская СОШ,Иркутская область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858920" y="1557000"/>
            <a:ext cx="3854520" cy="4032360"/>
          </a:xfrm>
          <a:prstGeom prst="rect">
            <a:avLst/>
          </a:prstGeom>
          <a:solidFill>
            <a:srgbClr val="ffffff"/>
          </a:solidFill>
          <a:ln w="31680">
            <a:solidFill>
              <a:srgbClr val="385d8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Увеличение внутренней энергии произошло 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за счет совершения работы при натирании трубки веревк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Цилиндр 4"/>
          <p:cNvGrpSpPr/>
          <p:nvPr/>
        </p:nvGrpSpPr>
        <p:grpSpPr>
          <a:xfrm>
            <a:off x="1889280" y="890640"/>
            <a:ext cx="873000" cy="944640"/>
            <a:chOff x="1889280" y="890640"/>
            <a:chExt cx="873000" cy="944640"/>
          </a:xfrm>
        </p:grpSpPr>
        <p:pic>
          <p:nvPicPr>
            <p:cNvPr id="80" name="Цилиндр 4" descr=""/>
            <p:cNvPicPr/>
            <p:nvPr/>
          </p:nvPicPr>
          <p:blipFill>
            <a:blip r:embed="rId2"/>
            <a:stretch/>
          </p:blipFill>
          <p:spPr>
            <a:xfrm>
              <a:off x="1889280" y="890640"/>
              <a:ext cx="87300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2000160" y="1177920"/>
              <a:ext cx="714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Цилиндр 6"/>
          <p:cNvGrpSpPr/>
          <p:nvPr/>
        </p:nvGrpSpPr>
        <p:grpSpPr>
          <a:xfrm>
            <a:off x="1816200" y="3535200"/>
            <a:ext cx="1019160" cy="2232360"/>
            <a:chOff x="1816200" y="3535200"/>
            <a:chExt cx="1019160" cy="2232360"/>
          </a:xfrm>
        </p:grpSpPr>
        <p:pic>
          <p:nvPicPr>
            <p:cNvPr id="83" name="Цилиндр 6" descr=""/>
            <p:cNvPicPr/>
            <p:nvPr/>
          </p:nvPicPr>
          <p:blipFill>
            <a:blip r:embed="rId3"/>
            <a:stretch/>
          </p:blipFill>
          <p:spPr>
            <a:xfrm>
              <a:off x="1816200" y="3535200"/>
              <a:ext cx="1019160" cy="22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928880" y="3792600"/>
              <a:ext cx="85716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Выноска-облако 7"/>
          <p:cNvGrpSpPr/>
          <p:nvPr/>
        </p:nvGrpSpPr>
        <p:grpSpPr>
          <a:xfrm>
            <a:off x="1109520" y="1901880"/>
            <a:ext cx="2346480" cy="1957320"/>
            <a:chOff x="1109520" y="1901880"/>
            <a:chExt cx="2346480" cy="1957320"/>
          </a:xfrm>
        </p:grpSpPr>
        <p:pic>
          <p:nvPicPr>
            <p:cNvPr id="86" name="Выноска-облако 7" descr=""/>
            <p:cNvPicPr/>
            <p:nvPr/>
          </p:nvPicPr>
          <p:blipFill>
            <a:blip r:embed="rId4"/>
            <a:stretch/>
          </p:blipFill>
          <p:spPr>
            <a:xfrm>
              <a:off x="1109520" y="1901880"/>
              <a:ext cx="2346480" cy="19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457280" y="2198520"/>
              <a:ext cx="1494000" cy="11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Прямая соединительная линия 9" descr=""/>
          <p:cNvPicPr/>
          <p:nvPr/>
        </p:nvPicPr>
        <p:blipFill>
          <a:blip r:embed="rId5"/>
          <a:stretch/>
        </p:blipFill>
        <p:spPr>
          <a:xfrm>
            <a:off x="189000" y="4492800"/>
            <a:ext cx="1755720" cy="15228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ая соединительная линия 11" descr=""/>
          <p:cNvPicPr/>
          <p:nvPr/>
        </p:nvPicPr>
        <p:blipFill>
          <a:blip r:embed="rId6"/>
          <a:stretch/>
        </p:blipFill>
        <p:spPr>
          <a:xfrm>
            <a:off x="2762280" y="4286160"/>
            <a:ext cx="1328760" cy="13968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ая соединительная линия 13" descr=""/>
          <p:cNvPicPr/>
          <p:nvPr/>
        </p:nvPicPr>
        <p:blipFill>
          <a:blip r:embed="rId7"/>
          <a:stretch/>
        </p:blipFill>
        <p:spPr>
          <a:xfrm>
            <a:off x="1889280" y="4346640"/>
            <a:ext cx="1000080" cy="377640"/>
          </a:xfrm>
          <a:prstGeom prst="rect">
            <a:avLst/>
          </a:prstGeom>
          <a:ln w="0">
            <a:noFill/>
          </a:ln>
        </p:spPr>
      </p:pic>
      <p:sp>
        <p:nvSpPr>
          <p:cNvPr id="91" name="Стрелка вправо 16"/>
          <p:cNvSpPr/>
          <p:nvPr/>
        </p:nvSpPr>
        <p:spPr>
          <a:xfrm>
            <a:off x="500040" y="5072040"/>
            <a:ext cx="977760" cy="21420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трелка влево 17"/>
          <p:cNvSpPr/>
          <p:nvPr/>
        </p:nvSpPr>
        <p:spPr>
          <a:xfrm>
            <a:off x="428760" y="5429160"/>
            <a:ext cx="1000080" cy="214560"/>
          </a:xfrm>
          <a:prstGeom prst="leftArrow">
            <a:avLst>
              <a:gd name="adj1" fmla="val 50000"/>
              <a:gd name="adj2" fmla="val 49934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трелка вправо 20"/>
          <p:cNvSpPr/>
          <p:nvPr/>
        </p:nvSpPr>
        <p:spPr>
          <a:xfrm>
            <a:off x="3000240" y="5072040"/>
            <a:ext cx="978120" cy="214200"/>
          </a:xfrm>
          <a:prstGeom prst="rightArrow">
            <a:avLst>
              <a:gd name="adj1" fmla="val 50000"/>
              <a:gd name="adj2" fmla="val 5004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трелка влево 21"/>
          <p:cNvSpPr/>
          <p:nvPr/>
        </p:nvSpPr>
        <p:spPr>
          <a:xfrm>
            <a:off x="2928960" y="5429160"/>
            <a:ext cx="1000080" cy="214560"/>
          </a:xfrm>
          <a:prstGeom prst="leftArrow">
            <a:avLst>
              <a:gd name="adj1" fmla="val 50000"/>
              <a:gd name="adj2" fmla="val 49934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Цилиндр 23"/>
          <p:cNvGrpSpPr/>
          <p:nvPr/>
        </p:nvGrpSpPr>
        <p:grpSpPr>
          <a:xfrm>
            <a:off x="1889280" y="2889360"/>
            <a:ext cx="873000" cy="944280"/>
            <a:chOff x="1889280" y="2889360"/>
            <a:chExt cx="873000" cy="944280"/>
          </a:xfrm>
        </p:grpSpPr>
        <p:pic>
          <p:nvPicPr>
            <p:cNvPr id="96" name="Цилиндр 23" descr=""/>
            <p:cNvPicPr/>
            <p:nvPr/>
          </p:nvPicPr>
          <p:blipFill>
            <a:blip r:embed="rId8"/>
            <a:stretch/>
          </p:blipFill>
          <p:spPr>
            <a:xfrm>
              <a:off x="1889280" y="2889360"/>
              <a:ext cx="87300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2000160" y="3178080"/>
              <a:ext cx="714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Box 15"/>
          <p:cNvSpPr/>
          <p:nvPr/>
        </p:nvSpPr>
        <p:spPr>
          <a:xfrm>
            <a:off x="5872680" y="692280"/>
            <a:ext cx="173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Способ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9962-BEC8-4140-829B-D6FE431BF1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Users\USER\Searches\Pictures\Таблицы и рисунки по физике\ТЕПЛОТА\vol809.jpg"/>
          <p:cNvPicPr/>
          <p:nvPr/>
        </p:nvPicPr>
        <p:blipFill>
          <a:blip r:embed="rId2"/>
          <a:stretch/>
        </p:blipFill>
        <p:spPr>
          <a:xfrm>
            <a:off x="395280" y="1989000"/>
            <a:ext cx="2952720" cy="4535640"/>
          </a:xfrm>
          <a:prstGeom prst="rect">
            <a:avLst/>
          </a:prstGeom>
          <a:ln w="25560">
            <a:solidFill>
              <a:srgbClr val="006600"/>
            </a:solidFill>
            <a:miter/>
          </a:ln>
        </p:spPr>
      </p:pic>
      <p:sp>
        <p:nvSpPr>
          <p:cNvPr id="10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BCAE-2F10-490C-A391-933B05D24A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Users\USER\Searches\Pictures\Таблицы и рисунки по физике\ТЕПЛОТА\fire.gif"/>
          <p:cNvPicPr/>
          <p:nvPr/>
        </p:nvPicPr>
        <p:blipFill>
          <a:blip r:embed="rId3"/>
          <a:stretch/>
        </p:blipFill>
        <p:spPr>
          <a:xfrm>
            <a:off x="3924360" y="692280"/>
            <a:ext cx="5010120" cy="4714920"/>
          </a:xfrm>
          <a:prstGeom prst="rect">
            <a:avLst/>
          </a:prstGeom>
          <a:ln w="3168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42920" y="549000"/>
            <a:ext cx="5654520" cy="2144520"/>
          </a:xfrm>
          <a:prstGeom prst="rect">
            <a:avLst/>
          </a:prstGeom>
          <a:solidFill>
            <a:srgbClr val="ffffff"/>
          </a:solidFill>
          <a:ln w="3168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Сжатый воздух 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выталкивает пробку 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и при этом охлаждается.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Почем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F:\ФИЗИКА\КАРТИНКИ и ТАБЛИЦЫ\ТЕРМОДИНАМИКА И МОЛЕКУЛЯРНАЯ ФИЗИКА\теплота\07h-i2.jpg"/>
          <p:cNvPicPr/>
          <p:nvPr/>
        </p:nvPicPr>
        <p:blipFill>
          <a:blip r:embed="rId2"/>
          <a:srcRect l="0" t="7380" r="55463" b="0"/>
          <a:stretch/>
        </p:blipFill>
        <p:spPr>
          <a:xfrm>
            <a:off x="428760" y="357120"/>
            <a:ext cx="1857240" cy="2857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F:\ФИЗИКА\КАРТИНКИ и ТАБЛИЦЫ\ТЕРМОДИНАМИКА И МОЛЕКУЛЯРНАЯ ФИЗИКА\теплота\07h-i2.jpg"/>
          <p:cNvPicPr/>
          <p:nvPr/>
        </p:nvPicPr>
        <p:blipFill>
          <a:blip r:embed="rId3"/>
          <a:srcRect l="55463" t="7380" r="0" b="0"/>
          <a:stretch/>
        </p:blipFill>
        <p:spPr>
          <a:xfrm>
            <a:off x="428760" y="3429000"/>
            <a:ext cx="1857240" cy="27860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3132000" y="3933720"/>
            <a:ext cx="5423040" cy="1800360"/>
          </a:xfrm>
          <a:prstGeom prst="rect">
            <a:avLst/>
          </a:prstGeom>
          <a:solidFill>
            <a:srgbClr val="ffffff"/>
          </a:solidFill>
          <a:ln w="316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Внутренняя энергия те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уменьшаетс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если тело само</a:t>
            </a:r>
            <a:r>
              <a:rPr b="1" lang="en-US" sz="2800" spc="-1" strike="noStrike">
                <a:solidFill>
                  <a:srgbClr val="1f497d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соверша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механическую раб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D9CC-3535-4EED-BA31-1917444056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3F5F-B29A-4728-ADEB-D973DE064F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Цилиндр 8"/>
          <p:cNvGrpSpPr/>
          <p:nvPr/>
        </p:nvGrpSpPr>
        <p:grpSpPr>
          <a:xfrm>
            <a:off x="1463760" y="676440"/>
            <a:ext cx="871560" cy="944280"/>
            <a:chOff x="1463760" y="676440"/>
            <a:chExt cx="871560" cy="944280"/>
          </a:xfrm>
        </p:grpSpPr>
        <p:pic>
          <p:nvPicPr>
            <p:cNvPr id="110" name="Цилиндр 8" descr=""/>
            <p:cNvPicPr/>
            <p:nvPr/>
          </p:nvPicPr>
          <p:blipFill>
            <a:blip r:embed="rId2"/>
            <a:stretch/>
          </p:blipFill>
          <p:spPr>
            <a:xfrm>
              <a:off x="1463760" y="676440"/>
              <a:ext cx="87156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571760" y="963720"/>
              <a:ext cx="714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Box 14"/>
          <p:cNvSpPr/>
          <p:nvPr/>
        </p:nvSpPr>
        <p:spPr>
          <a:xfrm>
            <a:off x="3635280" y="1413000"/>
            <a:ext cx="5218200" cy="426816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Вода в цилиндре нагревается, кипит, </a:t>
            </a:r>
            <a:br>
              <a:rPr sz="2800"/>
            </a:b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образуется па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Нагретый пар расширя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и выталкивает проб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Внутренняя энергия п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превращ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в механическ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энергию про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C:\Users\USER\Searches\Pictures\т6.jpg"/>
          <p:cNvPicPr/>
          <p:nvPr/>
        </p:nvPicPr>
        <p:blipFill>
          <a:blip r:embed="rId3"/>
          <a:stretch/>
        </p:blipFill>
        <p:spPr>
          <a:xfrm>
            <a:off x="1000080" y="5214960"/>
            <a:ext cx="1643040" cy="1357200"/>
          </a:xfrm>
          <a:prstGeom prst="rect">
            <a:avLst/>
          </a:prstGeom>
          <a:ln w="0">
            <a:noFill/>
          </a:ln>
        </p:spPr>
      </p:pic>
      <p:grpSp>
        <p:nvGrpSpPr>
          <p:cNvPr id="114" name="Цилиндр 16"/>
          <p:cNvGrpSpPr/>
          <p:nvPr/>
        </p:nvGrpSpPr>
        <p:grpSpPr>
          <a:xfrm>
            <a:off x="1463760" y="3322800"/>
            <a:ext cx="1011240" cy="2224080"/>
            <a:chOff x="1463760" y="3322800"/>
            <a:chExt cx="1011240" cy="2224080"/>
          </a:xfrm>
        </p:grpSpPr>
        <p:pic>
          <p:nvPicPr>
            <p:cNvPr id="115" name="Цилиндр 16" descr=""/>
            <p:cNvPicPr/>
            <p:nvPr/>
          </p:nvPicPr>
          <p:blipFill>
            <a:blip r:embed="rId4"/>
            <a:stretch/>
          </p:blipFill>
          <p:spPr>
            <a:xfrm>
              <a:off x="1463760" y="3322800"/>
              <a:ext cx="1011240" cy="22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1571760" y="3578400"/>
              <a:ext cx="857160" cy="18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Цилиндр 17"/>
          <p:cNvGrpSpPr/>
          <p:nvPr/>
        </p:nvGrpSpPr>
        <p:grpSpPr>
          <a:xfrm>
            <a:off x="1536840" y="2676600"/>
            <a:ext cx="871560" cy="944640"/>
            <a:chOff x="1536840" y="2676600"/>
            <a:chExt cx="871560" cy="944640"/>
          </a:xfrm>
        </p:grpSpPr>
        <p:pic>
          <p:nvPicPr>
            <p:cNvPr id="118" name="Цилиндр 17" descr=""/>
            <p:cNvPicPr/>
            <p:nvPr/>
          </p:nvPicPr>
          <p:blipFill>
            <a:blip r:embed="rId5"/>
            <a:stretch/>
          </p:blipFill>
          <p:spPr>
            <a:xfrm>
              <a:off x="1536840" y="2676600"/>
              <a:ext cx="87156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1643040" y="2963880"/>
              <a:ext cx="714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Выноска-облако 9"/>
          <p:cNvGrpSpPr/>
          <p:nvPr/>
        </p:nvGrpSpPr>
        <p:grpSpPr>
          <a:xfrm>
            <a:off x="755640" y="1689120"/>
            <a:ext cx="2341440" cy="1987560"/>
            <a:chOff x="755640" y="1689120"/>
            <a:chExt cx="2341440" cy="1987560"/>
          </a:xfrm>
        </p:grpSpPr>
        <p:pic>
          <p:nvPicPr>
            <p:cNvPr id="121" name="Выноска-облако 9" descr=""/>
            <p:cNvPicPr/>
            <p:nvPr/>
          </p:nvPicPr>
          <p:blipFill>
            <a:blip r:embed="rId6"/>
            <a:stretch/>
          </p:blipFill>
          <p:spPr>
            <a:xfrm>
              <a:off x="755640" y="1689120"/>
              <a:ext cx="234144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100160" y="1984320"/>
              <a:ext cx="1493640" cy="11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Box 15"/>
          <p:cNvSpPr/>
          <p:nvPr/>
        </p:nvSpPr>
        <p:spPr>
          <a:xfrm>
            <a:off x="5357880" y="620640"/>
            <a:ext cx="175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Способ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6"/>
          <p:cNvSpPr/>
          <p:nvPr/>
        </p:nvSpPr>
        <p:spPr>
          <a:xfrm>
            <a:off x="324000" y="620640"/>
            <a:ext cx="8572320" cy="3111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F:\ФИЗИКА\КАРТИНКИ и ТАБЛИЦЫ\07c-i1.gif"/>
          <p:cNvPicPr/>
          <p:nvPr/>
        </p:nvPicPr>
        <p:blipFill>
          <a:blip r:embed="rId2"/>
          <a:srcRect l="0" t="0" r="57826" b="0"/>
          <a:stretch/>
        </p:blipFill>
        <p:spPr>
          <a:xfrm>
            <a:off x="714240" y="1714680"/>
            <a:ext cx="1292400" cy="2000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F:\ФИЗИКА\КАРТИНКИ и ТАБЛИЦЫ\07c-i1.gif"/>
          <p:cNvPicPr/>
          <p:nvPr/>
        </p:nvPicPr>
        <p:blipFill>
          <a:blip r:embed="rId3"/>
          <a:srcRect l="75611" t="65106" r="6670" b="7509"/>
          <a:stretch/>
        </p:blipFill>
        <p:spPr>
          <a:xfrm>
            <a:off x="1357200" y="300024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C:\Users\USER\Searches\Pictures\т2.jpg"/>
          <p:cNvPicPr/>
          <p:nvPr/>
        </p:nvPicPr>
        <p:blipFill>
          <a:blip r:embed="rId4"/>
          <a:stretch/>
        </p:blipFill>
        <p:spPr>
          <a:xfrm>
            <a:off x="2714760" y="1928880"/>
            <a:ext cx="428400" cy="1566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F:\ФИЗИКА\КАРТИНКИ и ТАБЛИЦЫ\07c-i1.gif"/>
          <p:cNvPicPr/>
          <p:nvPr/>
        </p:nvPicPr>
        <p:blipFill>
          <a:blip r:embed="rId5"/>
          <a:srcRect l="75611" t="65106" r="6670" b="7509"/>
          <a:stretch/>
        </p:blipFill>
        <p:spPr>
          <a:xfrm>
            <a:off x="2428920" y="3214800"/>
            <a:ext cx="430200" cy="473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F:\ФИЗИКА\КАРТИНКИ и ТАБЛИЦЫ\07c-i1.gif"/>
          <p:cNvPicPr/>
          <p:nvPr/>
        </p:nvPicPr>
        <p:blipFill>
          <a:blip r:embed="rId6"/>
          <a:srcRect l="57826" t="0" r="0" b="0"/>
          <a:stretch/>
        </p:blipFill>
        <p:spPr>
          <a:xfrm>
            <a:off x="3857760" y="1785960"/>
            <a:ext cx="1285920" cy="1933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F:\ФИЗИКА\КАРТИНКИ и ТАБЛИЦЫ\07c-i1.gif"/>
          <p:cNvPicPr/>
          <p:nvPr/>
        </p:nvPicPr>
        <p:blipFill>
          <a:blip r:embed="rId7"/>
          <a:srcRect l="64495" t="0" r="24455" b="17522"/>
          <a:stretch/>
        </p:blipFill>
        <p:spPr>
          <a:xfrm>
            <a:off x="6429240" y="2071800"/>
            <a:ext cx="357480" cy="1508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F:\ФИЗИКА\КАРТИНКИ и ТАБЛИЦЫ\07c-i1.gif"/>
          <p:cNvPicPr/>
          <p:nvPr/>
        </p:nvPicPr>
        <p:blipFill>
          <a:blip r:embed="rId8"/>
          <a:srcRect l="75611" t="65106" r="6670" b="7509"/>
          <a:stretch/>
        </p:blipFill>
        <p:spPr>
          <a:xfrm>
            <a:off x="6143760" y="3214800"/>
            <a:ext cx="500040" cy="4604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12"/>
          <p:cNvSpPr/>
          <p:nvPr/>
        </p:nvSpPr>
        <p:spPr>
          <a:xfrm>
            <a:off x="2219400" y="15001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⁰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C:\Users\USER\Searches\Pictures\т1.jpg"/>
          <p:cNvPicPr/>
          <p:nvPr/>
        </p:nvPicPr>
        <p:blipFill>
          <a:blip r:embed="rId9"/>
          <a:srcRect l="4724" t="0" r="4724" b="2438"/>
          <a:stretch/>
        </p:blipFill>
        <p:spPr>
          <a:xfrm>
            <a:off x="7143840" y="1785960"/>
            <a:ext cx="1285920" cy="19429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4"/>
          <p:cNvSpPr/>
          <p:nvPr/>
        </p:nvSpPr>
        <p:spPr>
          <a:xfrm>
            <a:off x="5790240" y="278604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⁰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5"/>
          <p:cNvSpPr/>
          <p:nvPr/>
        </p:nvSpPr>
        <p:spPr>
          <a:xfrm>
            <a:off x="324000" y="4581360"/>
            <a:ext cx="8501040" cy="137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Металлический цилинд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передал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часть своей внутренней энер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2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6A63-29C8-42AE-B67C-E99C192922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Двойная стрелка влево/вправо 26"/>
          <p:cNvSpPr/>
          <p:nvPr/>
        </p:nvSpPr>
        <p:spPr>
          <a:xfrm>
            <a:off x="3214800" y="2286000"/>
            <a:ext cx="2714400" cy="1055520"/>
          </a:xfrm>
          <a:prstGeom prst="leftRightArrow">
            <a:avLst>
              <a:gd name="adj1" fmla="val 50000"/>
              <a:gd name="adj2" fmla="val 50004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539280" y="907560"/>
            <a:ext cx="8115480" cy="199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  <a:ea typeface="Arial"/>
              </a:rPr>
              <a:t>Процесс изменения внутренней энергии без совершения работы над телом </a:t>
            </a:r>
            <a:br>
              <a:rPr sz="2800"/>
            </a:br>
            <a:r>
              <a:rPr b="1" lang="en-US" sz="2800" spc="-1" strike="noStrike">
                <a:solidFill>
                  <a:srgbClr val="002060"/>
                </a:solidFill>
                <a:latin typeface="Calibri"/>
                <a:ea typeface="Arial"/>
              </a:rPr>
              <a:t>или самим телом называется теплопередач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3" descr="C:\Users\USER\Searches\Pictures\Таблицы и рисунки по физике\ТЕПЛОТА\опыт с физическим прибором куб Лесли.gif"/>
          <p:cNvPicPr/>
          <p:nvPr/>
        </p:nvPicPr>
        <p:blipFill>
          <a:blip r:embed="rId2"/>
          <a:stretch/>
        </p:blipFill>
        <p:spPr>
          <a:xfrm>
            <a:off x="571680" y="3857760"/>
            <a:ext cx="2143080" cy="1857240"/>
          </a:xfrm>
          <a:prstGeom prst="rect">
            <a:avLst/>
          </a:prstGeom>
          <a:ln w="25560">
            <a:solidFill>
              <a:srgbClr val="006600"/>
            </a:solidFill>
            <a:miter/>
          </a:ln>
        </p:spPr>
      </p:pic>
      <p:pic>
        <p:nvPicPr>
          <p:cNvPr id="140" name="Picture 2" descr="F:\ФИЗИКА\КАРТИНКИ и ТАБЛИЦЫ\ТЕРМОДИНАМИКА И МОЛЕКУЛЯРНАЯ ФИЗИКА\излучение\EH7140C.jpg"/>
          <p:cNvPicPr/>
          <p:nvPr/>
        </p:nvPicPr>
        <p:blipFill>
          <a:blip r:embed="rId3"/>
          <a:srcRect l="2100" t="17914" r="3150" b="16860"/>
          <a:stretch/>
        </p:blipFill>
        <p:spPr>
          <a:xfrm>
            <a:off x="5857920" y="3857760"/>
            <a:ext cx="2708280" cy="1857240"/>
          </a:xfrm>
          <a:prstGeom prst="rect">
            <a:avLst/>
          </a:prstGeom>
          <a:ln w="25560">
            <a:solidFill>
              <a:srgbClr val="006600"/>
            </a:solidFill>
            <a:miter/>
          </a:ln>
        </p:spPr>
      </p:pic>
      <p:pic>
        <p:nvPicPr>
          <p:cNvPr id="141" name="Picture 4" descr="F:\ФИЗИКА\КАРТИНКИ и ТАБЛИЦЫ\ТЕРМОДИНАМИКА И МОЛЕКУЛЯРНАЯ ФИЗИКА\теплопроводность\tea.jpg"/>
          <p:cNvPicPr/>
          <p:nvPr/>
        </p:nvPicPr>
        <p:blipFill>
          <a:blip r:embed="rId4"/>
          <a:stretch/>
        </p:blipFill>
        <p:spPr>
          <a:xfrm>
            <a:off x="3000240" y="3857760"/>
            <a:ext cx="2581560" cy="1857240"/>
          </a:xfrm>
          <a:prstGeom prst="rect">
            <a:avLst/>
          </a:prstGeom>
          <a:ln w="25560">
            <a:solidFill>
              <a:srgbClr val="006600"/>
            </a:solidFill>
            <a:miter/>
          </a:ln>
        </p:spPr>
      </p:pic>
      <p:sp>
        <p:nvSpPr>
          <p:cNvPr id="142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2618-1ECD-4142-B056-2FFC73BB49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Содержимое 5" descr=""/>
          <p:cNvPicPr/>
          <p:nvPr/>
        </p:nvPicPr>
        <p:blipFill>
          <a:blip r:embed="rId2"/>
          <a:stretch/>
        </p:blipFill>
        <p:spPr>
          <a:xfrm>
            <a:off x="353880" y="353880"/>
            <a:ext cx="8508960" cy="5778720"/>
          </a:xfrm>
          <a:prstGeom prst="rect">
            <a:avLst/>
          </a:prstGeom>
          <a:ln w="0">
            <a:noFill/>
          </a:ln>
        </p:spPr>
      </p:pic>
      <p:sp>
        <p:nvSpPr>
          <p:cNvPr id="14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7921-3916-4DC5-B447-5ADEEDC2A7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Прямая со стрелкой 6"/>
          <p:cNvCxnSpPr/>
          <p:nvPr/>
        </p:nvCxnSpPr>
        <p:spPr>
          <a:xfrm>
            <a:off x="7643880" y="5786280"/>
            <a:ext cx="357840" cy="572400"/>
          </a:xfrm>
          <a:prstGeom prst="straightConnector1">
            <a:avLst/>
          </a:prstGeom>
          <a:ln w="442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46" name="Прямая со стрелкой 8"/>
          <p:cNvCxnSpPr>
            <a:endCxn id="144" idx="1"/>
          </p:cNvCxnSpPr>
          <p:nvPr/>
        </p:nvCxnSpPr>
        <p:spPr>
          <a:xfrm flipH="1">
            <a:off x="6552360" y="5785920"/>
            <a:ext cx="19800" cy="753480"/>
          </a:xfrm>
          <a:prstGeom prst="straightConnector1">
            <a:avLst/>
          </a:prstGeom>
          <a:ln w="442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47" name="Прямая со стрелкой 9"/>
          <p:cNvCxnSpPr/>
          <p:nvPr/>
        </p:nvCxnSpPr>
        <p:spPr>
          <a:xfrm flipH="1">
            <a:off x="4857480" y="5786280"/>
            <a:ext cx="429120" cy="643320"/>
          </a:xfrm>
          <a:prstGeom prst="straightConnector1">
            <a:avLst/>
          </a:prstGeom>
          <a:ln w="4428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0D62-0B0A-4080-A54F-CB276DE12C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4" descr="books.gif"/>
          <p:cNvPicPr/>
          <p:nvPr/>
        </p:nvPicPr>
        <p:blipFill>
          <a:blip r:embed="rId2"/>
          <a:stretch/>
        </p:blipFill>
        <p:spPr>
          <a:xfrm>
            <a:off x="611280" y="1916280"/>
            <a:ext cx="3571920" cy="4143240"/>
          </a:xfrm>
          <a:prstGeom prst="rect">
            <a:avLst/>
          </a:prstGeom>
          <a:ln w="0">
            <a:noFill/>
          </a:ln>
        </p:spPr>
      </p:pic>
      <p:pic>
        <p:nvPicPr>
          <p:cNvPr id="150" name="Прямоугольник 5" descr=""/>
          <p:cNvPicPr/>
          <p:nvPr/>
        </p:nvPicPr>
        <p:blipFill>
          <a:blip r:embed="rId3"/>
          <a:stretch/>
        </p:blipFill>
        <p:spPr>
          <a:xfrm>
            <a:off x="665280" y="426960"/>
            <a:ext cx="7796160" cy="2438640"/>
          </a:xfrm>
          <a:prstGeom prst="rect">
            <a:avLst/>
          </a:prstGeom>
          <a:ln w="0">
            <a:noFill/>
          </a:ln>
        </p:spPr>
      </p:pic>
      <p:pic>
        <p:nvPicPr>
          <p:cNvPr id="151" name="Прямоугольник 6" descr=""/>
          <p:cNvPicPr/>
          <p:nvPr/>
        </p:nvPicPr>
        <p:blipFill>
          <a:blip r:embed="rId4"/>
          <a:stretch/>
        </p:blipFill>
        <p:spPr>
          <a:xfrm>
            <a:off x="4535640" y="2176560"/>
            <a:ext cx="3968640" cy="8583480"/>
          </a:xfrm>
          <a:prstGeom prst="rect">
            <a:avLst/>
          </a:prstGeom>
          <a:ln w="0">
            <a:noFill/>
          </a:ln>
        </p:spPr>
      </p:pic>
      <p:pic>
        <p:nvPicPr>
          <p:cNvPr id="152" name="Прямоугольник 10" descr=""/>
          <p:cNvPicPr/>
          <p:nvPr/>
        </p:nvPicPr>
        <p:blipFill>
          <a:blip r:embed="rId5"/>
          <a:stretch/>
        </p:blipFill>
        <p:spPr>
          <a:xfrm>
            <a:off x="1547640" y="914400"/>
            <a:ext cx="443232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56760" y="620280"/>
            <a:ext cx="8572680" cy="3095640"/>
          </a:xfrm>
          <a:prstGeom prst="rect">
            <a:avLst/>
          </a:prstGeom>
          <a:solidFill>
            <a:srgbClr val="ffffff"/>
          </a:solidFill>
          <a:ln w="31680">
            <a:solidFill>
              <a:srgbClr val="31859c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Если кусок алюминиевой проволоки быстро изгибать в одном и том же месте то в одну, то в другую сторону, то это место сильно нагревается. Объясните явл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4286160"/>
            <a:ext cx="8572680" cy="1911600"/>
          </a:xfrm>
          <a:prstGeom prst="rect">
            <a:avLst/>
          </a:prstGeom>
          <a:solidFill>
            <a:srgbClr val="b7dee8"/>
          </a:solidFill>
          <a:ln w="31680">
            <a:solidFill>
              <a:srgbClr val="31859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Ответ: 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Над проволокой совершается механическая работа. Механическая энергия превращается во внутренню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94D9-11C2-4B9C-8E4C-486A7BEC1C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5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65428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Чем объясняется сильный нагрев покрышек автомобиля во время длительной езды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3143160"/>
            <a:ext cx="8229600" cy="2982960"/>
          </a:xfrm>
          <a:prstGeom prst="rect">
            <a:avLst/>
          </a:prstGeom>
          <a:solidFill>
            <a:srgbClr val="b7dee8"/>
          </a:solidFill>
          <a:ln w="3168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Ответ: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окрышки нагреваютс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з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а счёт работы трения при частичном проскальзывании 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по полотну дороги и за счёт  работы деформации покрышки при качен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222E-E218-43C2-ABAE-055B352C4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5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Цель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должить формирование понятия внутренней энергии на основе МКТ. Изучение двух способов изменения внутренней энер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ерить усвоение понятия внутренней  энер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еспечить усвоение двух способов изменения внутренней энергии те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ь самостоятельность учащих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казать значимость изучаемого материала в жиз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8143560" cy="251136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Как можно отогреть озябшие руки, не используя нагретых предметов или теплых перчаток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71680" y="3000240"/>
            <a:ext cx="8115120" cy="3268800"/>
          </a:xfrm>
          <a:prstGeom prst="rect">
            <a:avLst/>
          </a:prstGeom>
          <a:solidFill>
            <a:srgbClr val="b7dee8"/>
          </a:solidFill>
          <a:ln w="3168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Ответ: 1.Потереть руки – внутренняя энергия рук изменяется  путем совершения механической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                   </a:t>
            </a: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2.  Подышать на руки – внутренняя энергия рук изменяется путем теплопереда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B667-7915-4AFD-97EB-0ECDFDD3A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5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5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 групп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1.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является причиной изменения внутренней энергии тел в приведенных ниже явлениях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евание воды кипятильником;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лаждение продуктов, положенных в холодильник;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горание спички при чирканье ею о коробок;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ьное нагревание и сгорание искусственных спутников земли  при вхождении их в нижние плотные слои атмосферы;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быстро изгибать проволоку в одном и том же месте то в одну, то в другую сторону, то это место сильно нагревается;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отовление пищи;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быстро скользить вниз по шесту или канату, можно обжечь руки;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евание воды в бассейне в жаркий летний день;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абивании гвоздя его шляпка нагревается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чка вспыхивает при внесении ее в пламя свечи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105520" y="1599840"/>
            <a:ext cx="4038480" cy="586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2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дите примеры изменения внутренней энергии тела в процессе совершения работы при: трении, ударе, сжат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258920" y="2924280"/>
          <a:ext cx="6769080" cy="2305080"/>
        </p:xfrm>
        <a:graphic>
          <a:graphicData uri="http://schemas.openxmlformats.org/drawingml/2006/table">
            <a:tbl>
              <a:tblPr/>
              <a:tblGrid>
                <a:gridCol w="2257560"/>
                <a:gridCol w="2255760"/>
                <a:gridCol w="2255760"/>
              </a:tblGrid>
              <a:tr h="12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трен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удар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сжат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916360" y="620640"/>
            <a:ext cx="4968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Домашнее задание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br>
              <a:rPr sz="32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§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3, практическое задание 1, стр. 10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;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) задачи № 293, 294 Лукашик В.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4804-36F7-4C25-B952-33981A24D7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2448000" y="4076640"/>
            <a:ext cx="42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Спасибо за работу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Желаю успехов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Рисунок 4" descr="books.gif"/>
          <p:cNvPicPr/>
          <p:nvPr/>
        </p:nvPicPr>
        <p:blipFill>
          <a:blip r:embed="rId2"/>
          <a:stretch/>
        </p:blipFill>
        <p:spPr>
          <a:xfrm>
            <a:off x="468360" y="404640"/>
            <a:ext cx="220644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Тип уро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урок изучения новог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Метод обуче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источникам знаний – видеомет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характеру познавательной деятельности – объяснительно- иллюстратив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Метод контроля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ный контро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Форма организации учебного процесс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онталь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4" descr="books.gif"/>
          <p:cNvPicPr/>
          <p:nvPr/>
        </p:nvPicPr>
        <p:blipFill>
          <a:blip r:embed="rId2"/>
          <a:stretch/>
        </p:blipFill>
        <p:spPr>
          <a:xfrm>
            <a:off x="755640" y="1989000"/>
            <a:ext cx="3143160" cy="426564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6" descr=""/>
          <p:cNvPicPr/>
          <p:nvPr/>
        </p:nvPicPr>
        <p:blipFill>
          <a:blip r:embed="rId3"/>
          <a:stretch/>
        </p:blipFill>
        <p:spPr>
          <a:xfrm>
            <a:off x="3956040" y="2328840"/>
            <a:ext cx="5005440" cy="724212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9" descr=""/>
          <p:cNvPicPr/>
          <p:nvPr/>
        </p:nvPicPr>
        <p:blipFill>
          <a:blip r:embed="rId4"/>
          <a:stretch/>
        </p:blipFill>
        <p:spPr>
          <a:xfrm>
            <a:off x="-152280" y="133200"/>
            <a:ext cx="9388440" cy="198144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10" descr=""/>
          <p:cNvPicPr/>
          <p:nvPr/>
        </p:nvPicPr>
        <p:blipFill>
          <a:blip r:embed="rId5"/>
          <a:stretch/>
        </p:blipFill>
        <p:spPr>
          <a:xfrm>
            <a:off x="1274760" y="957240"/>
            <a:ext cx="4430880" cy="4022640"/>
          </a:xfrm>
          <a:prstGeom prst="rect">
            <a:avLst/>
          </a:prstGeom>
          <a:ln w="0">
            <a:noFill/>
          </a:ln>
        </p:spPr>
      </p:pic>
      <p:sp>
        <p:nvSpPr>
          <p:cNvPr id="51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38EA-D29B-4692-90F3-24CFEE8427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57120" y="642960"/>
            <a:ext cx="8786880" cy="48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813600" indent="-813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Какое движение называют тепловы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Содержимое 2"/>
          <p:cNvSpPr/>
          <p:nvPr/>
        </p:nvSpPr>
        <p:spPr>
          <a:xfrm>
            <a:off x="0" y="1413000"/>
            <a:ext cx="878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Как связано движение молекул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температурой тел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одержимое 2"/>
          <p:cNvSpPr/>
          <p:nvPr/>
        </p:nvSpPr>
        <p:spPr>
          <a:xfrm>
            <a:off x="0" y="3933720"/>
            <a:ext cx="878688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03DB-8C2E-4781-B359-2DC5BCCD9C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250920" y="263700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Зависимость скорости движения молекул  от температуры 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1187280" y="371628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↑ →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молеку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1258920" y="501336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↓ →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молеку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↓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395280" y="1484280"/>
            <a:ext cx="77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28400" y="571320"/>
            <a:ext cx="8715240" cy="69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 Какую энергию называют   внутренне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одержимое 2"/>
          <p:cNvSpPr/>
          <p:nvPr/>
        </p:nvSpPr>
        <p:spPr>
          <a:xfrm>
            <a:off x="428760" y="2997360"/>
            <a:ext cx="871524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C7AD-DA5F-4959-8F8B-4BC8257D78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250920" y="2133720"/>
            <a:ext cx="8353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 На верхней и нижней полках шкафа лежат два  совершенно одинаковых шара. Какой из них  обладает большей внутренней энергией? Потенциальной энергией? Кинетической энерги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468360" y="5445000"/>
            <a:ext cx="75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От чего зависит внутрення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нергия тела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1269-7078-46EA-8231-022B0A5F59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357120" y="285840"/>
            <a:ext cx="8429760" cy="1428840"/>
          </a:xfrm>
          <a:prstGeom prst="rect">
            <a:avLst/>
          </a:prstGeom>
          <a:solidFill>
            <a:srgbClr val="ffffff"/>
          </a:solidFill>
          <a:ln w="507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Внутренняя энергия те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Евн = Еп + Ек всех молекул 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500040" y="2000160"/>
            <a:ext cx="3571920" cy="21430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Молекулы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обладают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потенциальной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энергией, </a:t>
            </a:r>
            <a:br>
              <a:rPr sz="2400"/>
            </a:b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т.к.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взаимодействуют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друг с друг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5143680" y="2000160"/>
            <a:ext cx="3643200" cy="21430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Молекулы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обладают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кинетической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энергией, </a:t>
            </a:r>
            <a:br>
              <a:rPr sz="2400"/>
            </a:b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т.к.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непрерывно движу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500040" y="4429080"/>
            <a:ext cx="3571920" cy="200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Е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зависит от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асстояния между молекулами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(агрегатного состояния веще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Заголовок 1"/>
          <p:cNvSpPr/>
          <p:nvPr/>
        </p:nvSpPr>
        <p:spPr>
          <a:xfrm>
            <a:off x="5143680" y="4429080"/>
            <a:ext cx="3643200" cy="200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Е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к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ависит от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скорости движения молекул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(температур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F:\ФИЗИКА\КАРТИНКИ и ТАБЛИЦЫ\ТЕРМОДИНАМИКА И МОЛЕКУЛЯРНАЯ ФИЗИКА\строение вещества\0200301.gif"/>
          <p:cNvPicPr/>
          <p:nvPr/>
        </p:nvPicPr>
        <p:blipFill>
          <a:blip r:embed="rId2"/>
          <a:srcRect l="71059" t="33268" r="0" b="0"/>
          <a:stretch/>
        </p:blipFill>
        <p:spPr>
          <a:xfrm rot="2703000">
            <a:off x="3672000" y="3373200"/>
            <a:ext cx="1816200" cy="18417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72" name="Picture 2" descr="F:\ФИЗИКА\КАРТИНКИ и ТАБЛИЦЫ\ТЕРМОДИНАМИКА И МОЛЕКУЛЯРНАЯ ФИЗИКА\теплота\index2.gif"/>
          <p:cNvPicPr/>
          <p:nvPr/>
        </p:nvPicPr>
        <p:blipFill>
          <a:blip r:embed="rId3"/>
          <a:stretch/>
        </p:blipFill>
        <p:spPr>
          <a:xfrm>
            <a:off x="3714840" y="3714840"/>
            <a:ext cx="1785960" cy="121428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11280" y="177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↑ →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молекул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↑ → U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Зависимость внутренней энергии тела от температуры тела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611280" y="30686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↓ →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молекул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↓ → U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539F-3577-4F09-81E5-E99B78669D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Прямоугольник 4" descr=""/>
          <p:cNvPicPr/>
          <p:nvPr/>
        </p:nvPicPr>
        <p:blipFill>
          <a:blip r:embed="rId2"/>
          <a:stretch/>
        </p:blipFill>
        <p:spPr>
          <a:xfrm>
            <a:off x="-231840" y="1706400"/>
            <a:ext cx="9547200" cy="37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05:30:59Z</dcterms:created>
  <dc:creator>USER</dc:creator>
  <dc:description/>
  <dc:language>en-US</dc:language>
  <cp:lastModifiedBy>User</cp:lastModifiedBy>
  <dcterms:modified xsi:type="dcterms:W3CDTF">2017-08-29T17:15:25Z</dcterms:modified>
  <cp:revision>84</cp:revision>
  <dc:subject/>
  <dc:title>Уроки физики в 8 классе</dc:title>
</cp:coreProperties>
</file>