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D13-EBEA-4EF9-B2A1-2BFD4D15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EEA-B621-4D1F-95A2-5D134937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AB9-D92F-4A72-A017-7EB22C07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911-36E2-4222-A948-5B9B953A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F20-3E40-4AD5-8B8B-79C5B05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740-79E4-4F4A-A9BA-E74F026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D93-88FC-4CBE-8069-F343B930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D16-979C-421B-ABE3-F0430D41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58A-AF48-49B4-8F95-0FD2270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C3D-B10F-4BD3-8FBA-951515A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E52-E40E-4ACC-98C8-62E3564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C4E-8262-41A4-9946-16FFE6D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4B0-E486-42A0-8593-70866025A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B95-CD55-41F9-81AF-3EFE4045C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ка  8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обы из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енней энер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менишкина Нина Васильевна,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Кутуликская СОШ,Иркутская область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8920" y="1557000"/>
            <a:ext cx="3854520" cy="4032360"/>
          </a:xfrm>
          <a:prstGeom prst="rect">
            <a:avLst/>
          </a:prstGeom>
          <a:solidFill>
            <a:srgbClr val="ffffff"/>
          </a:solidFill>
          <a:ln w="3168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величение внутренней энергии произошло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за счет совершения работы при натирании трубки верев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Цилиндр 4"/>
          <p:cNvGrpSpPr/>
          <p:nvPr/>
        </p:nvGrpSpPr>
        <p:grpSpPr>
          <a:xfrm>
            <a:off x="1889280" y="890640"/>
            <a:ext cx="873000" cy="944640"/>
            <a:chOff x="1889280" y="890640"/>
            <a:chExt cx="873000" cy="944640"/>
          </a:xfrm>
        </p:grpSpPr>
        <p:pic>
          <p:nvPicPr>
            <p:cNvPr id="80" name="Цилиндр 4" descr=""/>
            <p:cNvPicPr/>
            <p:nvPr/>
          </p:nvPicPr>
          <p:blipFill>
            <a:blip r:embed="rId2"/>
            <a:stretch/>
          </p:blipFill>
          <p:spPr>
            <a:xfrm>
              <a:off x="1889280" y="890640"/>
              <a:ext cx="87300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000160" y="1177920"/>
              <a:ext cx="71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Цилиндр 6"/>
          <p:cNvGrpSpPr/>
          <p:nvPr/>
        </p:nvGrpSpPr>
        <p:grpSpPr>
          <a:xfrm>
            <a:off x="1816200" y="3535200"/>
            <a:ext cx="1019160" cy="2232360"/>
            <a:chOff x="1816200" y="3535200"/>
            <a:chExt cx="1019160" cy="2232360"/>
          </a:xfrm>
        </p:grpSpPr>
        <p:pic>
          <p:nvPicPr>
            <p:cNvPr id="83" name="Цилиндр 6" descr=""/>
            <p:cNvPicPr/>
            <p:nvPr/>
          </p:nvPicPr>
          <p:blipFill>
            <a:blip r:embed="rId3"/>
            <a:stretch/>
          </p:blipFill>
          <p:spPr>
            <a:xfrm>
              <a:off x="1816200" y="3535200"/>
              <a:ext cx="101916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928880" y="3792600"/>
              <a:ext cx="8571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Выноска-облако 7"/>
          <p:cNvGrpSpPr/>
          <p:nvPr/>
        </p:nvGrpSpPr>
        <p:grpSpPr>
          <a:xfrm>
            <a:off x="1109520" y="1901880"/>
            <a:ext cx="2346480" cy="1957320"/>
            <a:chOff x="1109520" y="1901880"/>
            <a:chExt cx="2346480" cy="1957320"/>
          </a:xfrm>
        </p:grpSpPr>
        <p:pic>
          <p:nvPicPr>
            <p:cNvPr id="86" name="Выноска-облако 7" descr=""/>
            <p:cNvPicPr/>
            <p:nvPr/>
          </p:nvPicPr>
          <p:blipFill>
            <a:blip r:embed="rId4"/>
            <a:stretch/>
          </p:blipFill>
          <p:spPr>
            <a:xfrm>
              <a:off x="1109520" y="1901880"/>
              <a:ext cx="23464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57280" y="2198520"/>
              <a:ext cx="149400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89000" y="4492800"/>
            <a:ext cx="1755720" cy="152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ая соединительная линия 11" descr=""/>
          <p:cNvPicPr/>
          <p:nvPr/>
        </p:nvPicPr>
        <p:blipFill>
          <a:blip r:embed="rId6"/>
          <a:stretch/>
        </p:blipFill>
        <p:spPr>
          <a:xfrm>
            <a:off x="2762280" y="4286160"/>
            <a:ext cx="1328760" cy="1396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ая соединительная линия 13" descr=""/>
          <p:cNvPicPr/>
          <p:nvPr/>
        </p:nvPicPr>
        <p:blipFill>
          <a:blip r:embed="rId7"/>
          <a:stretch/>
        </p:blipFill>
        <p:spPr>
          <a:xfrm>
            <a:off x="1889280" y="4346640"/>
            <a:ext cx="1000080" cy="37764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16"/>
          <p:cNvSpPr/>
          <p:nvPr/>
        </p:nvSpPr>
        <p:spPr>
          <a:xfrm>
            <a:off x="500040" y="5072040"/>
            <a:ext cx="977760" cy="21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лево 17"/>
          <p:cNvSpPr/>
          <p:nvPr/>
        </p:nvSpPr>
        <p:spPr>
          <a:xfrm>
            <a:off x="428760" y="5429160"/>
            <a:ext cx="1000080" cy="214560"/>
          </a:xfrm>
          <a:prstGeom prst="left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20"/>
          <p:cNvSpPr/>
          <p:nvPr/>
        </p:nvSpPr>
        <p:spPr>
          <a:xfrm>
            <a:off x="3000240" y="5072040"/>
            <a:ext cx="978120" cy="214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лево 21"/>
          <p:cNvSpPr/>
          <p:nvPr/>
        </p:nvSpPr>
        <p:spPr>
          <a:xfrm>
            <a:off x="2928960" y="5429160"/>
            <a:ext cx="1000080" cy="214560"/>
          </a:xfrm>
          <a:prstGeom prst="left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Цилиндр 23"/>
          <p:cNvGrpSpPr/>
          <p:nvPr/>
        </p:nvGrpSpPr>
        <p:grpSpPr>
          <a:xfrm>
            <a:off x="1889280" y="2889360"/>
            <a:ext cx="873000" cy="944280"/>
            <a:chOff x="1889280" y="2889360"/>
            <a:chExt cx="873000" cy="944280"/>
          </a:xfrm>
        </p:grpSpPr>
        <p:pic>
          <p:nvPicPr>
            <p:cNvPr id="96" name="Цилиндр 23" descr=""/>
            <p:cNvPicPr/>
            <p:nvPr/>
          </p:nvPicPr>
          <p:blipFill>
            <a:blip r:embed="rId8"/>
            <a:stretch/>
          </p:blipFill>
          <p:spPr>
            <a:xfrm>
              <a:off x="1889280" y="2889360"/>
              <a:ext cx="8730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000160" y="3178080"/>
              <a:ext cx="71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5"/>
          <p:cNvSpPr/>
          <p:nvPr/>
        </p:nvSpPr>
        <p:spPr>
          <a:xfrm>
            <a:off x="5872680" y="69228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пособ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80C-4B0E-42D9-8147-C35657BB3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USER\Searches\Pictures\Таблицы и рисунки по физике\ТЕПЛОТА\vol809.jpg"/>
          <p:cNvPicPr/>
          <p:nvPr/>
        </p:nvPicPr>
        <p:blipFill>
          <a:blip r:embed="rId2"/>
          <a:stretch/>
        </p:blipFill>
        <p:spPr>
          <a:xfrm>
            <a:off x="395280" y="1989000"/>
            <a:ext cx="2952720" cy="45356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7F77-B5D1-4819-849C-8D5DD1D99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USER\Searches\Pictures\Таблицы и рисунки по физике\ТЕПЛОТА\fire.gif"/>
          <p:cNvPicPr/>
          <p:nvPr/>
        </p:nvPicPr>
        <p:blipFill>
          <a:blip r:embed="rId3"/>
          <a:stretch/>
        </p:blipFill>
        <p:spPr>
          <a:xfrm>
            <a:off x="3924360" y="692280"/>
            <a:ext cx="5010120" cy="4714920"/>
          </a:xfrm>
          <a:prstGeom prst="rect">
            <a:avLst/>
          </a:prstGeom>
          <a:ln w="316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5654520" cy="21445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жатый воздух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ыталкивает пробку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ри этом охлаждается.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F:\ФИЗИКА\КАРТИНКИ и ТАБЛИЦЫ\ТЕРМОДИНАМИКА И МОЛЕКУЛЯРНАЯ ФИЗИКА\теплота\07h-i2.jpg"/>
          <p:cNvPicPr/>
          <p:nvPr/>
        </p:nvPicPr>
        <p:blipFill>
          <a:blip r:embed="rId2"/>
          <a:srcRect l="0" t="7380" r="55463" b="0"/>
          <a:stretch/>
        </p:blipFill>
        <p:spPr>
          <a:xfrm>
            <a:off x="428760" y="357120"/>
            <a:ext cx="18572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:\ФИЗИКА\КАРТИНКИ и ТАБЛИЦЫ\ТЕРМОДИНАМИКА И МОЛЕКУЛЯРНАЯ ФИЗИКА\теплота\07h-i2.jpg"/>
          <p:cNvPicPr/>
          <p:nvPr/>
        </p:nvPicPr>
        <p:blipFill>
          <a:blip r:embed="rId3"/>
          <a:srcRect l="55463" t="7380" r="0" b="0"/>
          <a:stretch/>
        </p:blipFill>
        <p:spPr>
          <a:xfrm>
            <a:off x="428760" y="3429000"/>
            <a:ext cx="1857240" cy="2786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132000" y="3933720"/>
            <a:ext cx="5423040" cy="18003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нутренняя энергия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если тело само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оверш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еханическ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354-AC9E-4CEB-B63D-7BE6DA0B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CC6-181F-4933-9D5A-C8AA718E9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Цилиндр 8"/>
          <p:cNvGrpSpPr/>
          <p:nvPr/>
        </p:nvGrpSpPr>
        <p:grpSpPr>
          <a:xfrm>
            <a:off x="1463760" y="676440"/>
            <a:ext cx="871560" cy="944280"/>
            <a:chOff x="1463760" y="676440"/>
            <a:chExt cx="871560" cy="944280"/>
          </a:xfrm>
        </p:grpSpPr>
        <p:pic>
          <p:nvPicPr>
            <p:cNvPr id="110" name="Цилиндр 8" descr=""/>
            <p:cNvPicPr/>
            <p:nvPr/>
          </p:nvPicPr>
          <p:blipFill>
            <a:blip r:embed="rId2"/>
            <a:stretch/>
          </p:blipFill>
          <p:spPr>
            <a:xfrm>
              <a:off x="1463760" y="676440"/>
              <a:ext cx="871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71760" y="963720"/>
              <a:ext cx="714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4"/>
          <p:cNvSpPr/>
          <p:nvPr/>
        </p:nvSpPr>
        <p:spPr>
          <a:xfrm>
            <a:off x="3635280" y="1413000"/>
            <a:ext cx="5218200" cy="4268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ода в цилиндре нагревается, кипит,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образуется п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Нагретый пар расшир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и выталкивает п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нутренняя энергия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пре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 механ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энергию пр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USER\Searches\Pictures\т6.jpg"/>
          <p:cNvPicPr/>
          <p:nvPr/>
        </p:nvPicPr>
        <p:blipFill>
          <a:blip r:embed="rId3"/>
          <a:stretch/>
        </p:blipFill>
        <p:spPr>
          <a:xfrm>
            <a:off x="1000080" y="5214960"/>
            <a:ext cx="1643040" cy="1357200"/>
          </a:xfrm>
          <a:prstGeom prst="rect">
            <a:avLst/>
          </a:prstGeom>
          <a:ln w="0">
            <a:noFill/>
          </a:ln>
        </p:spPr>
      </p:pic>
      <p:grpSp>
        <p:nvGrpSpPr>
          <p:cNvPr id="114" name="Цилиндр 16"/>
          <p:cNvGrpSpPr/>
          <p:nvPr/>
        </p:nvGrpSpPr>
        <p:grpSpPr>
          <a:xfrm>
            <a:off x="1463760" y="3322800"/>
            <a:ext cx="1011240" cy="2224080"/>
            <a:chOff x="1463760" y="3322800"/>
            <a:chExt cx="1011240" cy="2224080"/>
          </a:xfrm>
        </p:grpSpPr>
        <p:pic>
          <p:nvPicPr>
            <p:cNvPr id="115" name="Цилиндр 16" descr=""/>
            <p:cNvPicPr/>
            <p:nvPr/>
          </p:nvPicPr>
          <p:blipFill>
            <a:blip r:embed="rId4"/>
            <a:stretch/>
          </p:blipFill>
          <p:spPr>
            <a:xfrm>
              <a:off x="1463760" y="3322800"/>
              <a:ext cx="1011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71760" y="3578400"/>
              <a:ext cx="8571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Цилиндр 17"/>
          <p:cNvGrpSpPr/>
          <p:nvPr/>
        </p:nvGrpSpPr>
        <p:grpSpPr>
          <a:xfrm>
            <a:off x="1536840" y="2676600"/>
            <a:ext cx="871560" cy="944640"/>
            <a:chOff x="1536840" y="2676600"/>
            <a:chExt cx="871560" cy="944640"/>
          </a:xfrm>
        </p:grpSpPr>
        <p:pic>
          <p:nvPicPr>
            <p:cNvPr id="118" name="Цилиндр 17" descr=""/>
            <p:cNvPicPr/>
            <p:nvPr/>
          </p:nvPicPr>
          <p:blipFill>
            <a:blip r:embed="rId5"/>
            <a:stretch/>
          </p:blipFill>
          <p:spPr>
            <a:xfrm>
              <a:off x="1536840" y="2676600"/>
              <a:ext cx="871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643040" y="2963880"/>
              <a:ext cx="714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Выноска-облако 9"/>
          <p:cNvGrpSpPr/>
          <p:nvPr/>
        </p:nvGrpSpPr>
        <p:grpSpPr>
          <a:xfrm>
            <a:off x="755640" y="1689120"/>
            <a:ext cx="2341440" cy="1987560"/>
            <a:chOff x="755640" y="1689120"/>
            <a:chExt cx="2341440" cy="1987560"/>
          </a:xfrm>
        </p:grpSpPr>
        <p:pic>
          <p:nvPicPr>
            <p:cNvPr id="121" name="Выноска-облако 9" descr=""/>
            <p:cNvPicPr/>
            <p:nvPr/>
          </p:nvPicPr>
          <p:blipFill>
            <a:blip r:embed="rId6"/>
            <a:stretch/>
          </p:blipFill>
          <p:spPr>
            <a:xfrm>
              <a:off x="755640" y="1689120"/>
              <a:ext cx="2341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100160" y="1984320"/>
              <a:ext cx="149364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5"/>
          <p:cNvSpPr/>
          <p:nvPr/>
        </p:nvSpPr>
        <p:spPr>
          <a:xfrm>
            <a:off x="5357880" y="620640"/>
            <a:ext cx="17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посо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6"/>
          <p:cNvSpPr/>
          <p:nvPr/>
        </p:nvSpPr>
        <p:spPr>
          <a:xfrm>
            <a:off x="324000" y="620640"/>
            <a:ext cx="857232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ФИЗИКА\КАРТИНКИ и ТАБЛИЦЫ\07c-i1.gif"/>
          <p:cNvPicPr/>
          <p:nvPr/>
        </p:nvPicPr>
        <p:blipFill>
          <a:blip r:embed="rId2"/>
          <a:srcRect l="0" t="0" r="57826" b="0"/>
          <a:stretch/>
        </p:blipFill>
        <p:spPr>
          <a:xfrm>
            <a:off x="714240" y="1714680"/>
            <a:ext cx="1292400" cy="200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F:\ФИЗИКА\КАРТИНКИ и ТАБЛИЦЫ\07c-i1.gif"/>
          <p:cNvPicPr/>
          <p:nvPr/>
        </p:nvPicPr>
        <p:blipFill>
          <a:blip r:embed="rId3"/>
          <a:srcRect l="75611" t="65106" r="6670" b="7509"/>
          <a:stretch/>
        </p:blipFill>
        <p:spPr>
          <a:xfrm>
            <a:off x="1357200" y="3000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Users\USER\Searches\Pictures\т2.jpg"/>
          <p:cNvPicPr/>
          <p:nvPr/>
        </p:nvPicPr>
        <p:blipFill>
          <a:blip r:embed="rId4"/>
          <a:stretch/>
        </p:blipFill>
        <p:spPr>
          <a:xfrm>
            <a:off x="2714760" y="1928880"/>
            <a:ext cx="42840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ФИЗИКА\КАРТИНКИ и ТАБЛИЦЫ\07c-i1.gif"/>
          <p:cNvPicPr/>
          <p:nvPr/>
        </p:nvPicPr>
        <p:blipFill>
          <a:blip r:embed="rId5"/>
          <a:srcRect l="75611" t="65106" r="6670" b="7509"/>
          <a:stretch/>
        </p:blipFill>
        <p:spPr>
          <a:xfrm>
            <a:off x="2428920" y="3214800"/>
            <a:ext cx="430200" cy="47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ФИЗИКА\КАРТИНКИ и ТАБЛИЦЫ\07c-i1.gif"/>
          <p:cNvPicPr/>
          <p:nvPr/>
        </p:nvPicPr>
        <p:blipFill>
          <a:blip r:embed="rId6"/>
          <a:srcRect l="57826" t="0" r="0" b="0"/>
          <a:stretch/>
        </p:blipFill>
        <p:spPr>
          <a:xfrm>
            <a:off x="3857760" y="1785960"/>
            <a:ext cx="1285920" cy="1933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F:\ФИЗИКА\КАРТИНКИ и ТАБЛИЦЫ\07c-i1.gif"/>
          <p:cNvPicPr/>
          <p:nvPr/>
        </p:nvPicPr>
        <p:blipFill>
          <a:blip r:embed="rId7"/>
          <a:srcRect l="64495" t="0" r="24455" b="17522"/>
          <a:stretch/>
        </p:blipFill>
        <p:spPr>
          <a:xfrm>
            <a:off x="6429240" y="2071800"/>
            <a:ext cx="357480" cy="150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F:\ФИЗИКА\КАРТИНКИ и ТАБЛИЦЫ\07c-i1.gif"/>
          <p:cNvPicPr/>
          <p:nvPr/>
        </p:nvPicPr>
        <p:blipFill>
          <a:blip r:embed="rId8"/>
          <a:srcRect l="75611" t="65106" r="6670" b="7509"/>
          <a:stretch/>
        </p:blipFill>
        <p:spPr>
          <a:xfrm>
            <a:off x="6143760" y="3214800"/>
            <a:ext cx="500040" cy="460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2"/>
          <p:cNvSpPr/>
          <p:nvPr/>
        </p:nvSpPr>
        <p:spPr>
          <a:xfrm>
            <a:off x="2219400" y="1500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\Users\USER\Searches\Pictures\т1.jpg"/>
          <p:cNvPicPr/>
          <p:nvPr/>
        </p:nvPicPr>
        <p:blipFill>
          <a:blip r:embed="rId9"/>
          <a:srcRect l="4724" t="0" r="4724" b="2438"/>
          <a:stretch/>
        </p:blipFill>
        <p:spPr>
          <a:xfrm>
            <a:off x="7143840" y="1785960"/>
            <a:ext cx="1285920" cy="1942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5790240" y="27860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324000" y="4581360"/>
            <a:ext cx="85010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Металлический цилинд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передал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часть своей внутренней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A8C-63A9-4BC7-80A6-FE7CC4D53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войная стрелка влево/вправо 26"/>
          <p:cNvSpPr/>
          <p:nvPr/>
        </p:nvSpPr>
        <p:spPr>
          <a:xfrm>
            <a:off x="3214800" y="2286000"/>
            <a:ext cx="2714400" cy="105552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280" y="907560"/>
            <a:ext cx="8115480" cy="19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цесс изменения внутренней энергии без совершения работы над телом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или самим телом называется теплопереда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USER\Searches\Pictures\Таблицы и рисунки по физике\ТЕПЛОТА\опыт с физическим прибором куб Лесли.gif"/>
          <p:cNvPicPr/>
          <p:nvPr/>
        </p:nvPicPr>
        <p:blipFill>
          <a:blip r:embed="rId2"/>
          <a:stretch/>
        </p:blipFill>
        <p:spPr>
          <a:xfrm>
            <a:off x="571680" y="3857760"/>
            <a:ext cx="214308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40" name="Picture 2" descr="F:\ФИЗИКА\КАРТИНКИ и ТАБЛИЦЫ\ТЕРМОДИНАМИКА И МОЛЕКУЛЯРНАЯ ФИЗИКА\излучение\EH7140C.jpg"/>
          <p:cNvPicPr/>
          <p:nvPr/>
        </p:nvPicPr>
        <p:blipFill>
          <a:blip r:embed="rId3"/>
          <a:srcRect l="2100" t="17914" r="3150" b="16860"/>
          <a:stretch/>
        </p:blipFill>
        <p:spPr>
          <a:xfrm>
            <a:off x="5857920" y="3857760"/>
            <a:ext cx="270828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41" name="Picture 4" descr="F:\ФИЗИКА\КАРТИНКИ и ТАБЛИЦЫ\ТЕРМОДИНАМИКА И МОЛЕКУЛЯРНАЯ ФИЗИКА\теплопроводность\tea.jpg"/>
          <p:cNvPicPr/>
          <p:nvPr/>
        </p:nvPicPr>
        <p:blipFill>
          <a:blip r:embed="rId4"/>
          <a:stretch/>
        </p:blipFill>
        <p:spPr>
          <a:xfrm>
            <a:off x="3000240" y="3857760"/>
            <a:ext cx="258156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4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59A-2CA5-4C9A-9C3F-2175B237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5" descr=""/>
          <p:cNvPicPr/>
          <p:nvPr/>
        </p:nvPicPr>
        <p:blipFill>
          <a:blip r:embed="rId2"/>
          <a:stretch/>
        </p:blipFill>
        <p:spPr>
          <a:xfrm>
            <a:off x="353880" y="353880"/>
            <a:ext cx="8508960" cy="57787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229-C869-42BF-933F-280F9CA33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6"/>
          <p:cNvCxnSpPr/>
          <p:nvPr/>
        </p:nvCxnSpPr>
        <p:spPr>
          <a:xfrm>
            <a:off x="7643880" y="5786280"/>
            <a:ext cx="357840" cy="57240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6" name="Прямая со стрелкой 8"/>
          <p:cNvCxnSpPr>
            <a:endCxn id="144" idx="1"/>
          </p:cNvCxnSpPr>
          <p:nvPr/>
        </p:nvCxnSpPr>
        <p:spPr>
          <a:xfrm flipH="1">
            <a:off x="6552360" y="5785920"/>
            <a:ext cx="19800" cy="75348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7" name="Прямая со стрелкой 9"/>
          <p:cNvCxnSpPr/>
          <p:nvPr/>
        </p:nvCxnSpPr>
        <p:spPr>
          <a:xfrm flipH="1">
            <a:off x="4857480" y="5786280"/>
            <a:ext cx="429120" cy="64332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BAAD-D5A2-4345-BCD6-4B023758C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books.gif"/>
          <p:cNvPicPr/>
          <p:nvPr/>
        </p:nvPicPr>
        <p:blipFill>
          <a:blip r:embed="rId2"/>
          <a:stretch/>
        </p:blipFill>
        <p:spPr>
          <a:xfrm>
            <a:off x="611280" y="1916280"/>
            <a:ext cx="3571920" cy="41432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5" descr=""/>
          <p:cNvPicPr/>
          <p:nvPr/>
        </p:nvPicPr>
        <p:blipFill>
          <a:blip r:embed="rId3"/>
          <a:stretch/>
        </p:blipFill>
        <p:spPr>
          <a:xfrm>
            <a:off x="665280" y="426960"/>
            <a:ext cx="7796160" cy="24386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" descr=""/>
          <p:cNvPicPr/>
          <p:nvPr/>
        </p:nvPicPr>
        <p:blipFill>
          <a:blip r:embed="rId4"/>
          <a:stretch/>
        </p:blipFill>
        <p:spPr>
          <a:xfrm>
            <a:off x="4535640" y="2176560"/>
            <a:ext cx="3968640" cy="858348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0" descr=""/>
          <p:cNvPicPr/>
          <p:nvPr/>
        </p:nvPicPr>
        <p:blipFill>
          <a:blip r:embed="rId5"/>
          <a:stretch/>
        </p:blipFill>
        <p:spPr>
          <a:xfrm>
            <a:off x="1547640" y="914400"/>
            <a:ext cx="44323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620280"/>
            <a:ext cx="8572680" cy="30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Если кусок алюминиевой проволоки быстро изгибать в одном и том же месте то в одну, то в другую сторону, то это место сильно нагревается. Объясните яв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4286160"/>
            <a:ext cx="8572680" cy="1911600"/>
          </a:xfrm>
          <a:prstGeom prst="rect">
            <a:avLst/>
          </a:prstGeom>
          <a:solidFill>
            <a:srgbClr val="b7dee8"/>
          </a:solidFill>
          <a:ln w="31680">
            <a:solidFill>
              <a:srgbClr val="31859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Ответ: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Над проволокой совершается механическая работа. Механическая энергия превращается во внутренню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1BDC-F711-41CB-B2F9-344F70554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Чем объясняется сильный нагрев покрышек автомобиля во время длительной ез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solidFill>
            <a:srgbClr val="b7dee8"/>
          </a:solidFill>
          <a:ln w="316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Ответ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крышки нагреваютс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счёт работы трения при частичном проскальзывании 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по полотну дороги и за счёт  работы деформации покрышки при кач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F745-BC79-4E5D-9470-BA91767EF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ь формирование понятия внутренней энергии на основе МКТ. Изучение двух способов изменения внутренней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усвоение понятия внутренней 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ть усвоение двух способов изменения внутренней энергии 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ь самостоятельность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значимость изучаемого материала в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143560" cy="25113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Как можно отогреть озябшие руки, не используя нагретых предметов или теплых перчато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1680" y="3000240"/>
            <a:ext cx="8115120" cy="3268800"/>
          </a:xfrm>
          <a:prstGeom prst="rect">
            <a:avLst/>
          </a:prstGeom>
          <a:solidFill>
            <a:srgbClr val="b7dee8"/>
          </a:solidFill>
          <a:ln w="316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Ответ: 1.Потереть руки – внутренняя энергия рук изменяется  путем совершения механиче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2.  Подышать на руки – внутренняя энергия рук изменяется путем теплопере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81E-7924-4FBA-BC43-74FA17F5B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причиной изменения внутренней энергии тел в приведенных ниже явлениях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ание воды кипятильником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е продуктов, положенных в холодильник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орание спички при чирканье ею о коробок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е нагревание и сгорание искусственных спутников земли  при вхождении их в нижние плотные слои атмосферы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стро изгибать проволоку в одном и том же месте то в одну, то в другую сторону, то это место сильно нагревается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ие пищ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стро скользить вниз по шесту или канату, можно обжечь рук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ание воды в бассейне в жаркий летний день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бивании гвоздя его шляпка нагреваетс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чка вспыхивает при внесении ее в пламя свеч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1599840"/>
            <a:ext cx="403848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изменения внутренней энергии тела в процессе совершения работы при: трении, ударе, сжат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58920" y="2924280"/>
          <a:ext cx="6769080" cy="2305080"/>
        </p:xfrm>
        <a:graphic>
          <a:graphicData uri="http://schemas.openxmlformats.org/drawingml/2006/table">
            <a:tbl>
              <a:tblPr/>
              <a:tblGrid>
                <a:gridCol w="2257560"/>
                <a:gridCol w="2255760"/>
                <a:gridCol w="2255760"/>
              </a:tblGrid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тр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уда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сжат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360" y="620640"/>
            <a:ext cx="4968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3, практическое задание 1, стр. 1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 задачи № 293, 294 Лукашик В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A6D-4753-45C8-AB5A-82715A021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448000" y="407664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Спасибо за работу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Желаю успехов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books.gif"/>
          <p:cNvPicPr/>
          <p:nvPr/>
        </p:nvPicPr>
        <p:blipFill>
          <a:blip r:embed="rId2"/>
          <a:stretch/>
        </p:blipFill>
        <p:spPr>
          <a:xfrm>
            <a:off x="468360" y="404640"/>
            <a:ext cx="22064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Тип уро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рок изучения нов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тод обу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источникам знаний – видеомет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характеру познавательной деятельности – объяснительно- иллюстратив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тод контрол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й 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Форма организации учебного процес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books.gif"/>
          <p:cNvPicPr/>
          <p:nvPr/>
        </p:nvPicPr>
        <p:blipFill>
          <a:blip r:embed="rId2"/>
          <a:stretch/>
        </p:blipFill>
        <p:spPr>
          <a:xfrm>
            <a:off x="755640" y="1989000"/>
            <a:ext cx="3143160" cy="4265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3"/>
          <a:stretch/>
        </p:blipFill>
        <p:spPr>
          <a:xfrm>
            <a:off x="3956040" y="2328840"/>
            <a:ext cx="5005440" cy="7242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9" descr=""/>
          <p:cNvPicPr/>
          <p:nvPr/>
        </p:nvPicPr>
        <p:blipFill>
          <a:blip r:embed="rId4"/>
          <a:stretch/>
        </p:blipFill>
        <p:spPr>
          <a:xfrm>
            <a:off x="-152280" y="133200"/>
            <a:ext cx="93884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5"/>
          <a:stretch/>
        </p:blipFill>
        <p:spPr>
          <a:xfrm>
            <a:off x="1274760" y="957240"/>
            <a:ext cx="443088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6B4-F303-4A51-9F8F-F1D69142B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20" y="642960"/>
            <a:ext cx="87868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3600" indent="-813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Какое движение называют теплов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0" y="1413000"/>
            <a:ext cx="87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 связано движение молекул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емпературой т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0" y="3933720"/>
            <a:ext cx="87868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9872-D9DC-4160-AA14-34188397D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0920" y="263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висимость скорости движения молекул  от температуры 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187280" y="371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↑ 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258920" y="5013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↓ 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95280" y="148428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571320"/>
            <a:ext cx="871524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Какую энергию называют   внутрен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428760" y="2997360"/>
            <a:ext cx="871524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D70-33CA-4E86-8119-38CE53B88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50920" y="213372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На верхней и нижней полках шкафа лежат два  совершенно одинаковых шара. Какой из них  обладает большей внутренней энергией? Потенциальной энергией? Кинетической энерг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68360" y="544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От чего зависит 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нергия тел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2D4A-53AC-470F-B33E-99BF1A06D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57120" y="285840"/>
            <a:ext cx="8429760" cy="14288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нутренняя энергия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Евн = Еп + Ек всех молекул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00040" y="2000160"/>
            <a:ext cx="3571920" cy="21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олекулы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обладаю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потенциальной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энергией,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т.к.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заимодействуют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5143680" y="2000160"/>
            <a:ext cx="3643200" cy="21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екулы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обладают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кинетическо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энергией,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т.к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епрерывно движу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00040" y="4429080"/>
            <a:ext cx="3571920" cy="200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зависит о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стояния между молекулами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агрегатного состояния ве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143680" y="4429080"/>
            <a:ext cx="3643200" cy="200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висит о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скорости движения молекул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темпер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F:\ФИЗИКА\КАРТИНКИ и ТАБЛИЦЫ\ТЕРМОДИНАМИКА И МОЛЕКУЛЯРНАЯ ФИЗИКА\строение вещества\0200301.gif"/>
          <p:cNvPicPr/>
          <p:nvPr/>
        </p:nvPicPr>
        <p:blipFill>
          <a:blip r:embed="rId2"/>
          <a:srcRect l="71059" t="33268" r="0" b="0"/>
          <a:stretch/>
        </p:blipFill>
        <p:spPr>
          <a:xfrm rot="2703000">
            <a:off x="3672000" y="3373200"/>
            <a:ext cx="1816200" cy="1841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72" name="Picture 2" descr="F:\ФИЗИКА\КАРТИНКИ и ТАБЛИЦЫ\ТЕРМОДИНАМИКА И МОЛЕКУЛЯРНАЯ ФИЗИКА\теплота\index2.gif"/>
          <p:cNvPicPr/>
          <p:nvPr/>
        </p:nvPicPr>
        <p:blipFill>
          <a:blip r:embed="rId3"/>
          <a:stretch/>
        </p:blipFill>
        <p:spPr>
          <a:xfrm>
            <a:off x="3714840" y="3714840"/>
            <a:ext cx="1785960" cy="1214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↑ 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↑ → 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Зависимость внутренней энергии тела от температуры тел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1280" y="3068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↓ 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↓ → 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E0F-ABA9-4A48-8F9C-30D955BA9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1706400"/>
            <a:ext cx="9547200" cy="37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5:30:59Z</dcterms:created>
  <dc:creator>USER</dc:creator>
  <dc:description/>
  <dc:language>en-US</dc:language>
  <cp:lastModifiedBy>User</cp:lastModifiedBy>
  <dcterms:modified xsi:type="dcterms:W3CDTF">2017-08-29T17:15:25Z</dcterms:modified>
  <cp:revision>84</cp:revision>
  <dc:subject/>
  <dc:title>Уроки физики в 8 классе</dc:title>
</cp:coreProperties>
</file>