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wmf" ContentType="image/x-wmf"/>
  <Override PartName="/ppt/media/image21.jpeg" ContentType="image/jpeg"/>
  <Override PartName="/ppt/media/image19.gif" ContentType="image/gif"/>
  <Override PartName="/ppt/media/image14.jpeg" ContentType="image/jpeg"/>
  <Override PartName="/ppt/media/image15.wmf" ContentType="image/x-wmf"/>
  <Override PartName="/ppt/media/image26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22.gif" ContentType="image/gif"/>
  <Override PartName="/ppt/media/image12.wmf" ContentType="image/x-wmf"/>
  <Override PartName="/ppt/media/image29.jpeg" ContentType="image/jpeg"/>
  <Override PartName="/ppt/media/image5.png" ContentType="image/png"/>
  <Override PartName="/ppt/media/image9.wmf" ContentType="image/x-wmf"/>
  <Override PartName="/ppt/media/image4.jpeg" ContentType="image/jpeg"/>
  <Override PartName="/ppt/media/image8.wmf" ContentType="image/x-wmf"/>
  <Override PartName="/ppt/media/image33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3.jpeg" ContentType="image/jpeg"/>
  <Override PartName="/ppt/media/image30.jpeg" ContentType="image/jpeg"/>
  <Override PartName="/ppt/media/image7.wmf" ContentType="image/x-wmf"/>
  <Override PartName="/ppt/media/image11.wmf" ContentType="image/x-wmf"/>
  <Override PartName="/ppt/media/image17.jpeg" ContentType="image/jpeg"/>
  <Override PartName="/ppt/media/image23.gif" ContentType="image/gif"/>
  <Override PartName="/ppt/media/image6.wmf" ContentType="image/x-wmf"/>
  <Override PartName="/ppt/media/image35.jpeg" ContentType="image/jpeg"/>
  <Override PartName="/ppt/media/image1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04E-4F7D-4AE5-8E06-FA3EAC7D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4C5-B8AC-45F9-8BFF-E815FE8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DD0-64D5-4D83-8C77-D53DE111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FB8-FE82-4FA9-B7AD-8521B7E8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2EDA-A4D5-4ACC-A631-03CEA475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FB2-3C99-4E26-A006-62C87921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8C15-1BAE-416C-A977-257B1C5C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D56D-C710-4468-9C55-830F49F4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A645-4E6E-4AA9-80A4-60E0BC23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326-CED5-4472-973E-0AFCF02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A6C5-987B-4EF8-AC83-AEF860A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694-C4EC-4DDD-8B3C-6E2FDAC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D075-CF3C-4AE9-9D21-7E6E81D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AF7-7E22-49C8-A5DA-6B05FFC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0C7F-E183-4C47-8D74-3F2703E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F90-05AE-47ED-B68C-843E3840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400B-110E-4FCD-8BB4-03AC98A9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9BA-7D21-4D8D-BB62-BFF0EA6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3DD-9580-4F7D-9DEB-348EF5EC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554-36AB-4ACF-B66D-DBEDF23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BF2-7E91-458F-969E-E7B742EC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166-64AA-417B-96DD-EB86FD4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B8C-5E29-4CED-B632-AAD68EF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478-DA10-40FA-9934-8E6A8461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27C-6D56-4702-A740-3DAC95A95F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79E-3F8D-412E-AAFF-3DB0B797EF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76720" y="5084280"/>
            <a:ext cx="406728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оект выполн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еник 4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33"/>
                </a:solidFill>
                <a:latin typeface="Times New Roman"/>
              </a:rPr>
              <a:t>Кахута Ки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23"/>
          <p:cNvSpPr txBox="1"/>
          <p:nvPr/>
        </p:nvSpPr>
        <p:spPr>
          <a:xfrm>
            <a:off x="1187280" y="404640"/>
            <a:ext cx="7201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Так ли важен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завтрак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p:transition spd="slow" advTm="11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6" descr="http://t1.gstatic.com/images?q=tbn:ANd9GcRVGhjPhRzwdAxsmnLpqzdpiZtLX2fnltCF3g_FT5lL2cldUEA6"/>
          <p:cNvPicPr/>
          <p:nvPr/>
        </p:nvPicPr>
        <p:blipFill>
          <a:blip r:embed="rId1"/>
          <a:stretch/>
        </p:blipFill>
        <p:spPr>
          <a:xfrm>
            <a:off x="6372360" y="263700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http://t0.gstatic.com/images?q=tbn:ANd9GcTedmaJkAghxMdVOL-M3j5hDv83HIr2Dl9vDCaxLhi4zhJc_jEXdA"/>
          <p:cNvPicPr/>
          <p:nvPr/>
        </p:nvPicPr>
        <p:blipFill>
          <a:blip r:embed="rId2"/>
          <a:stretch/>
        </p:blipFill>
        <p:spPr>
          <a:xfrm>
            <a:off x="3851280" y="458136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http://t3.gstatic.com/images?q=tbn:ANd9GcQgY9SdAnOZrYyM74sw5YH97kBELQY7Qw0YX66MM_eLRXYEOyBc"/>
          <p:cNvPicPr/>
          <p:nvPr/>
        </p:nvPicPr>
        <p:blipFill>
          <a:blip r:embed="rId3"/>
          <a:stretch/>
        </p:blipFill>
        <p:spPr>
          <a:xfrm>
            <a:off x="4716360" y="0"/>
            <a:ext cx="1762200" cy="259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img0.liveinternet.ru/images/attach/c/1/50/655/50655888_Povarenok.gif"/>
          <p:cNvPicPr/>
          <p:nvPr/>
        </p:nvPicPr>
        <p:blipFill>
          <a:blip r:embed="rId4"/>
          <a:stretch/>
        </p:blipFill>
        <p:spPr>
          <a:xfrm>
            <a:off x="1258920" y="2133720"/>
            <a:ext cx="1944720" cy="23050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3"/>
          <p:cNvSpPr/>
          <p:nvPr/>
        </p:nvSpPr>
        <p:spPr>
          <a:xfrm>
            <a:off x="3635280" y="2133720"/>
            <a:ext cx="2737080" cy="2303280"/>
          </a:xfrm>
          <a:prstGeom prst="ellipse">
            <a:avLst/>
          </a:prstGeom>
          <a:gradFill rotWithShape="0">
            <a:gsLst>
              <a:gs pos="0">
                <a:srgbClr val="78ffff"/>
              </a:gs>
              <a:gs pos="100000">
                <a:srgbClr val="d7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качеству фруктовых сал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Овал 7"/>
          <p:cNvSpPr/>
          <p:nvPr/>
        </p:nvSpPr>
        <p:spPr>
          <a:xfrm>
            <a:off x="1332000" y="4149720"/>
            <a:ext cx="2663640" cy="2448000"/>
          </a:xfrm>
          <a:prstGeom prst="ellipse">
            <a:avLst/>
          </a:prstGeom>
          <a:gradFill rotWithShape="0">
            <a:gsLst>
              <a:gs pos="0">
                <a:srgbClr val="889cff"/>
              </a:gs>
              <a:gs pos="100000">
                <a:srgbClr val="dde2ff"/>
              </a:gs>
            </a:gsLst>
            <a:lin ang="16200000"/>
          </a:gradFill>
          <a:ln w="9360">
            <a:solidFill>
              <a:srgbClr val="2758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: сладкий, свойственный вкусу фруктов и яго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1187280" y="260280"/>
            <a:ext cx="2664000" cy="2448000"/>
          </a:xfrm>
          <a:prstGeom prst="ellipse">
            <a:avLst/>
          </a:prstGeom>
          <a:gradFill rotWithShape="0">
            <a:gsLst>
              <a:gs pos="0">
                <a:srgbClr val="889cff"/>
              </a:gs>
              <a:gs pos="100000">
                <a:srgbClr val="dde2ff"/>
              </a:gs>
            </a:gsLst>
            <a:lin ang="16200000"/>
          </a:gradFill>
          <a:ln w="9360">
            <a:solidFill>
              <a:srgbClr val="2758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: фрукты и ягоды сохраняют форму, равномерно распределены в салат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6156360" y="189000"/>
            <a:ext cx="2663640" cy="2519280"/>
          </a:xfrm>
          <a:prstGeom prst="ellipse">
            <a:avLst/>
          </a:prstGeom>
          <a:gradFill rotWithShape="0">
            <a:gsLst>
              <a:gs pos="0">
                <a:srgbClr val="889cff"/>
              </a:gs>
              <a:gs pos="100000">
                <a:srgbClr val="dde2ff"/>
              </a:gs>
            </a:gsLst>
            <a:lin ang="16200000"/>
          </a:gradFill>
          <a:ln w="9360">
            <a:solidFill>
              <a:srgbClr val="2758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истенция: соответствует виду фруктов или яг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6012000" y="4005360"/>
            <a:ext cx="2700360" cy="2448000"/>
          </a:xfrm>
          <a:prstGeom prst="ellipse">
            <a:avLst/>
          </a:prstGeom>
          <a:gradFill rotWithShape="0">
            <a:gsLst>
              <a:gs pos="0">
                <a:srgbClr val="889cff"/>
              </a:gs>
              <a:gs pos="100000">
                <a:srgbClr val="dde2ff"/>
              </a:gs>
            </a:gsLst>
            <a:lin ang="16200000"/>
          </a:gradFill>
          <a:ln w="9360">
            <a:solidFill>
              <a:srgbClr val="2758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и запах: свойственный входящим в блюдо продукт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трелка углом 19"/>
          <p:cNvSpPr/>
          <p:nvPr/>
        </p:nvSpPr>
        <p:spPr>
          <a:xfrm rot="16200000">
            <a:off x="5002920" y="4509360"/>
            <a:ext cx="720720" cy="1008000"/>
          </a:xfrm>
          <a:custGeom>
            <a:avLst/>
            <a:gdLst/>
            <a:ahLst/>
            <a:rect l="l" t="t" r="r" b="b"/>
            <a:pathLst>
              <a:path w="720725" h="1008062">
                <a:moveTo>
                  <a:pt x="0" y="1008062"/>
                </a:moveTo>
                <a:lnTo>
                  <a:pt x="0" y="370208"/>
                </a:lnTo>
                <a:cubicBezTo>
                  <a:pt x="0" y="203841"/>
                  <a:pt x="134867" y="68974"/>
                  <a:pt x="301234" y="68974"/>
                </a:cubicBezTo>
                <a:lnTo>
                  <a:pt x="540544" y="68973"/>
                </a:lnTo>
                <a:lnTo>
                  <a:pt x="540544" y="0"/>
                </a:lnTo>
                <a:lnTo>
                  <a:pt x="720725" y="159064"/>
                </a:lnTo>
                <a:lnTo>
                  <a:pt x="540544" y="318128"/>
                </a:lnTo>
                <a:lnTo>
                  <a:pt x="540544" y="249155"/>
                </a:lnTo>
                <a:lnTo>
                  <a:pt x="301234" y="249155"/>
                </a:lnTo>
                <a:cubicBezTo>
                  <a:pt x="234378" y="249155"/>
                  <a:pt x="180181" y="303352"/>
                  <a:pt x="180181" y="370208"/>
                </a:cubicBezTo>
                <a:lnTo>
                  <a:pt x="180181" y="1008062"/>
                </a:lnTo>
                <a:lnTo>
                  <a:pt x="0" y="1008062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Стрелка углом 20"/>
          <p:cNvSpPr/>
          <p:nvPr/>
        </p:nvSpPr>
        <p:spPr>
          <a:xfrm rot="5400000">
            <a:off x="4284720" y="1197000"/>
            <a:ext cx="719280" cy="1008000"/>
          </a:xfrm>
          <a:custGeom>
            <a:avLst/>
            <a:gdLst/>
            <a:ahLst/>
            <a:rect l="l" t="t" r="r" b="b"/>
            <a:pathLst>
              <a:path w="719137" h="1008063">
                <a:moveTo>
                  <a:pt x="0" y="1008063"/>
                </a:moveTo>
                <a:lnTo>
                  <a:pt x="0" y="390463"/>
                </a:lnTo>
                <a:cubicBezTo>
                  <a:pt x="0" y="216702"/>
                  <a:pt x="140861" y="75841"/>
                  <a:pt x="314622" y="75841"/>
                </a:cubicBezTo>
                <a:lnTo>
                  <a:pt x="539353" y="75840"/>
                </a:lnTo>
                <a:lnTo>
                  <a:pt x="539353" y="0"/>
                </a:lnTo>
                <a:lnTo>
                  <a:pt x="719137" y="165732"/>
                </a:lnTo>
                <a:lnTo>
                  <a:pt x="539353" y="331465"/>
                </a:lnTo>
                <a:lnTo>
                  <a:pt x="539353" y="255624"/>
                </a:lnTo>
                <a:lnTo>
                  <a:pt x="314622" y="255624"/>
                </a:lnTo>
                <a:cubicBezTo>
                  <a:pt x="240153" y="255624"/>
                  <a:pt x="179784" y="315993"/>
                  <a:pt x="179784" y="390462"/>
                </a:cubicBezTo>
                <a:lnTo>
                  <a:pt x="179784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Стрелка углом 21"/>
          <p:cNvSpPr/>
          <p:nvPr/>
        </p:nvSpPr>
        <p:spPr>
          <a:xfrm>
            <a:off x="2771640" y="306864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0" y="936625"/>
                </a:moveTo>
                <a:lnTo>
                  <a:pt x="0" y="405408"/>
                </a:lnTo>
                <a:cubicBezTo>
                  <a:pt x="0" y="231263"/>
                  <a:pt x="141172" y="90091"/>
                  <a:pt x="315317" y="90091"/>
                </a:cubicBezTo>
                <a:lnTo>
                  <a:pt x="540544" y="90091"/>
                </a:lnTo>
                <a:lnTo>
                  <a:pt x="540544" y="0"/>
                </a:lnTo>
                <a:lnTo>
                  <a:pt x="720725" y="180181"/>
                </a:lnTo>
                <a:lnTo>
                  <a:pt x="540544" y="360363"/>
                </a:lnTo>
                <a:lnTo>
                  <a:pt x="540544" y="270272"/>
                </a:lnTo>
                <a:lnTo>
                  <a:pt x="315317" y="270272"/>
                </a:lnTo>
                <a:cubicBezTo>
                  <a:pt x="240683" y="270272"/>
                  <a:pt x="180181" y="330774"/>
                  <a:pt x="180181" y="405408"/>
                </a:cubicBezTo>
                <a:lnTo>
                  <a:pt x="180181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Стрелка углом 22"/>
          <p:cNvSpPr/>
          <p:nvPr/>
        </p:nvSpPr>
        <p:spPr>
          <a:xfrm rot="10800000">
            <a:off x="6443640" y="2781360"/>
            <a:ext cx="727200" cy="1008000"/>
          </a:xfrm>
          <a:custGeom>
            <a:avLst/>
            <a:gdLst/>
            <a:ahLst/>
            <a:rect l="l" t="t" r="r" b="b"/>
            <a:pathLst>
              <a:path w="727075" h="1008063">
                <a:moveTo>
                  <a:pt x="0" y="1008063"/>
                </a:moveTo>
                <a:lnTo>
                  <a:pt x="0" y="408980"/>
                </a:lnTo>
                <a:cubicBezTo>
                  <a:pt x="0" y="233301"/>
                  <a:pt x="142416" y="90885"/>
                  <a:pt x="318095" y="90885"/>
                </a:cubicBezTo>
                <a:lnTo>
                  <a:pt x="545306" y="90884"/>
                </a:lnTo>
                <a:lnTo>
                  <a:pt x="545306" y="0"/>
                </a:lnTo>
                <a:lnTo>
                  <a:pt x="727075" y="181769"/>
                </a:lnTo>
                <a:lnTo>
                  <a:pt x="545306" y="363538"/>
                </a:lnTo>
                <a:lnTo>
                  <a:pt x="545306" y="272653"/>
                </a:lnTo>
                <a:lnTo>
                  <a:pt x="318095" y="272653"/>
                </a:lnTo>
                <a:cubicBezTo>
                  <a:pt x="242804" y="272653"/>
                  <a:pt x="181768" y="333689"/>
                  <a:pt x="181768" y="408980"/>
                </a:cubicBezTo>
                <a:cubicBezTo>
                  <a:pt x="181768" y="608674"/>
                  <a:pt x="181769" y="808369"/>
                  <a:pt x="181769" y="1008063"/>
                </a:cubicBezTo>
                <a:lnTo>
                  <a:pt x="0" y="1008063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45920" y="2276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Picture 2" descr="http://t2.gstatic.com/images?q=tbn:ANd9GcTBobasMCxesnwBWacnuRieXt404R2pMiD_GrUagcQoHYC8Pii-Hg"/>
          <p:cNvPicPr/>
          <p:nvPr/>
        </p:nvPicPr>
        <p:blipFill>
          <a:blip r:embed="rId1"/>
          <a:stretch/>
        </p:blipFill>
        <p:spPr>
          <a:xfrm>
            <a:off x="1476360" y="260280"/>
            <a:ext cx="2664000" cy="23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0.gstatic.com/images?q=tbn:ANd9GcRXxYeqouy9RCa4wtdpv8IW7kt2-3x1vvpM8gb8cDiisMeZhgR1"/>
          <p:cNvPicPr/>
          <p:nvPr/>
        </p:nvPicPr>
        <p:blipFill>
          <a:blip r:embed="rId2"/>
          <a:stretch/>
        </p:blipFill>
        <p:spPr>
          <a:xfrm>
            <a:off x="4356000" y="3357720"/>
            <a:ext cx="4005360" cy="299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чему я задумался над этим вопросом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9640" y="3429000"/>
            <a:ext cx="73440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Во-первых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аждое утро мама и папа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ят, что надо обязательно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автрак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Во-вторых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чительница часто спрашивае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одноклассников, завтрака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 они утр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9" descr="фото 1"/>
          <p:cNvPicPr/>
          <p:nvPr/>
        </p:nvPicPr>
        <p:blipFill>
          <a:blip r:embed="rId2"/>
          <a:stretch/>
        </p:blipFill>
        <p:spPr>
          <a:xfrm>
            <a:off x="5580000" y="333360"/>
            <a:ext cx="3167280" cy="2122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Arial"/>
              </a:rPr>
              <a:t>Чтобы ответить на этот вопрос, я решил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говорить с мамой о важности завтра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ыяснить, завтракают ли дома ученики нашего кла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беседовать с классным руководителем и выяснить сколько учеников нашего класса завтракают в школ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бедить ребят о важности завтра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j0215526"/>
          <p:cNvPicPr/>
          <p:nvPr/>
        </p:nvPicPr>
        <p:blipFill>
          <a:blip r:embed="rId6"/>
          <a:stretch/>
        </p:blipFill>
        <p:spPr>
          <a:xfrm>
            <a:off x="7740720" y="5661000"/>
            <a:ext cx="901800" cy="8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215784"/>
          <p:cNvPicPr/>
          <p:nvPr/>
        </p:nvPicPr>
        <p:blipFill>
          <a:blip r:embed="rId7"/>
          <a:stretch/>
        </p:blipFill>
        <p:spPr>
          <a:xfrm>
            <a:off x="6227640" y="6093000"/>
            <a:ext cx="690840" cy="62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j0215780"/>
          <p:cNvPicPr/>
          <p:nvPr/>
        </p:nvPicPr>
        <p:blipFill>
          <a:blip r:embed="rId8"/>
          <a:stretch/>
        </p:blipFill>
        <p:spPr>
          <a:xfrm>
            <a:off x="324000" y="5661000"/>
            <a:ext cx="576000" cy="90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j0215795"/>
          <p:cNvPicPr/>
          <p:nvPr/>
        </p:nvPicPr>
        <p:blipFill>
          <a:blip r:embed="rId9"/>
          <a:stretch/>
        </p:blipFill>
        <p:spPr>
          <a:xfrm>
            <a:off x="179280" y="3573360"/>
            <a:ext cx="617760" cy="105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j0215524"/>
          <p:cNvPicPr/>
          <p:nvPr/>
        </p:nvPicPr>
        <p:blipFill>
          <a:blip r:embed="rId10"/>
          <a:stretch/>
        </p:blipFill>
        <p:spPr>
          <a:xfrm>
            <a:off x="2124000" y="6189840"/>
            <a:ext cx="741600" cy="66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j0215523"/>
          <p:cNvPicPr/>
          <p:nvPr/>
        </p:nvPicPr>
        <p:blipFill>
          <a:blip r:embed="rId11"/>
          <a:stretch/>
        </p:blipFill>
        <p:spPr>
          <a:xfrm>
            <a:off x="4067280" y="6165720"/>
            <a:ext cx="973080" cy="4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j0199279"/>
          <p:cNvPicPr/>
          <p:nvPr/>
        </p:nvPicPr>
        <p:blipFill>
          <a:blip r:embed="rId12"/>
          <a:stretch/>
        </p:blipFill>
        <p:spPr>
          <a:xfrm>
            <a:off x="250920" y="1413000"/>
            <a:ext cx="1272960" cy="110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j0231125"/>
          <p:cNvPicPr/>
          <p:nvPr/>
        </p:nvPicPr>
        <p:blipFill>
          <a:blip r:embed="rId13"/>
          <a:stretch/>
        </p:blipFill>
        <p:spPr>
          <a:xfrm>
            <a:off x="7451640" y="1125360"/>
            <a:ext cx="1239840" cy="194796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1979640" y="260280"/>
            <a:ext cx="716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 уроке «Технологии» я узнал ,что не все люди завтракают. Вот что показало анкетирова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Object 13"/>
          <p:cNvGraphicFramePr/>
          <p:nvPr/>
        </p:nvGraphicFramePr>
        <p:xfrm>
          <a:off x="824040" y="1841400"/>
          <a:ext cx="6967440" cy="42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040" y="1841400"/>
                    <a:ext cx="69674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18" descr="r1910zyn0bzrii899q6x402h86lm01o2_2"/>
          <p:cNvPicPr/>
          <p:nvPr/>
        </p:nvPicPr>
        <p:blipFill>
          <a:blip r:embed="rId4"/>
          <a:stretch/>
        </p:blipFill>
        <p:spPr>
          <a:xfrm>
            <a:off x="179280" y="189000"/>
            <a:ext cx="1944720" cy="13176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роме этого провел опрос о рационе завтра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16000" y="508464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идим многие ребята едят в сухомятку или только пьют чай вместо нормального завтрака. А это первые шаги к заболеванию органов пищева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1042920" y="836640"/>
            <a:ext cx="7200720" cy="4338720"/>
            <a:chOff x="1042920" y="836640"/>
            <a:chExt cx="7200720" cy="4338720"/>
          </a:xfrm>
        </p:grpSpPr>
        <p:graphicFrame>
          <p:nvGraphicFramePr>
            <p:cNvPr id="110" name="Object 19"/>
            <p:cNvGraphicFramePr/>
            <p:nvPr/>
          </p:nvGraphicFramePr>
          <p:xfrm>
            <a:off x="1042920" y="836640"/>
            <a:ext cx="7200720" cy="43387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1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2920" y="836640"/>
                      <a:ext cx="7200720" cy="43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2" name="Picture 20" descr="j0223780"/>
            <p:cNvPicPr/>
            <p:nvPr/>
          </p:nvPicPr>
          <p:blipFill>
            <a:blip r:embed="rId4"/>
            <a:stretch/>
          </p:blipFill>
          <p:spPr>
            <a:xfrm>
              <a:off x="2771640" y="979560"/>
              <a:ext cx="733320" cy="55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3000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j0199284"/>
          <p:cNvPicPr/>
          <p:nvPr/>
        </p:nvPicPr>
        <p:blipFill>
          <a:blip r:embed="rId1"/>
          <a:stretch/>
        </p:blipFill>
        <p:spPr>
          <a:xfrm>
            <a:off x="7524720" y="5661000"/>
            <a:ext cx="115740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94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Учёными доказано, что если ребёнок съедает незначительный по объёму и пищевой ценности завтрак, то он не может работать с полной нагрузкой, работоспособность его в школе значительно падает. Может в этом причина плохой успеваемости некоторых учеников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10" descr="j0199279"/>
          <p:cNvPicPr/>
          <p:nvPr/>
        </p:nvPicPr>
        <p:blipFill>
          <a:blip r:embed="rId2"/>
          <a:stretch/>
        </p:blipFill>
        <p:spPr>
          <a:xfrm>
            <a:off x="179280" y="189000"/>
            <a:ext cx="1187640" cy="1031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09440" y="1916280"/>
            <a:ext cx="8134200" cy="44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ратить внимание родителей на недостаточное питан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комендовать родителям и детям осуществлять два завтрака. Познакомить родителей с информационным букле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ед. работнику провести беседу о важности завтр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брать группу детей и пройти по классам с беседой «Так ли важен завтрак?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1979640" y="404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33"/>
                </a:solidFill>
                <a:latin typeface="Comic Sans MS"/>
              </a:rPr>
              <a:t>Что же делать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042920" y="11970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читаю, что необходим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4" descr="j0223786"/>
          <p:cNvPicPr/>
          <p:nvPr/>
        </p:nvPicPr>
        <p:blipFill>
          <a:blip r:embed="rId2"/>
          <a:stretch/>
        </p:blipFill>
        <p:spPr>
          <a:xfrm>
            <a:off x="179280" y="328464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j0223785"/>
          <p:cNvPicPr/>
          <p:nvPr/>
        </p:nvPicPr>
        <p:blipFill>
          <a:blip r:embed="rId3"/>
          <a:stretch/>
        </p:blipFill>
        <p:spPr>
          <a:xfrm>
            <a:off x="179280" y="2205000"/>
            <a:ext cx="863640" cy="63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223783"/>
          <p:cNvPicPr/>
          <p:nvPr/>
        </p:nvPicPr>
        <p:blipFill>
          <a:blip r:embed="rId4"/>
          <a:stretch/>
        </p:blipFill>
        <p:spPr>
          <a:xfrm>
            <a:off x="250920" y="4581360"/>
            <a:ext cx="792000" cy="57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j0223780"/>
          <p:cNvPicPr/>
          <p:nvPr/>
        </p:nvPicPr>
        <p:blipFill>
          <a:blip r:embed="rId5"/>
          <a:stretch/>
        </p:blipFill>
        <p:spPr>
          <a:xfrm>
            <a:off x="250920" y="5516640"/>
            <a:ext cx="792000" cy="603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3357360"/>
            <a:ext cx="827892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если мы научимся с самого раннего возраста ценить, беречь и укреплять своё здоровье, если мы будем личным примером демонстрировать здоровый образ жизни, то наше поколение будет более здоровым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WordArt 46"/>
          <p:cNvSpPr txBox="1"/>
          <p:nvPr/>
        </p:nvSpPr>
        <p:spPr>
          <a:xfrm>
            <a:off x="395280" y="692280"/>
            <a:ext cx="8352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 результате я пришёл к такому выводу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2" descr="http://t2.gstatic.com/images?q=tbn:ANd9GcTBobasMCxesnwBWacnuRieXt404R2pMiD_GrUagcQoHYC8Pii-Hg"/>
          <p:cNvPicPr/>
          <p:nvPr/>
        </p:nvPicPr>
        <p:blipFill>
          <a:blip r:embed="rId2"/>
          <a:stretch/>
        </p:blipFill>
        <p:spPr>
          <a:xfrm>
            <a:off x="3059280" y="1197000"/>
            <a:ext cx="266364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дин из видов вкусных завтраков-это фруктовый салат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7" name="Picture 2" descr="http://t1.gstatic.com/images?q=tbn:ANd9GcRBfxEkaTRKuI2B1MqCfzUxtaW8wiv7QJvV9tSBFo0yrJ02zR4XrQ"/>
          <p:cNvPicPr/>
          <p:nvPr/>
        </p:nvPicPr>
        <p:blipFill>
          <a:blip r:embed="rId1"/>
          <a:stretch/>
        </p:blipFill>
        <p:spPr>
          <a:xfrm>
            <a:off x="1243080" y="1052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t0.gstatic.com/images?q=tbn:ANd9GcTCHQ8kwKJ8stdk8oW6z2PV03Mnt6euI9R48JdWrLhkSzoxneMGrQ"/>
          <p:cNvPicPr/>
          <p:nvPr/>
        </p:nvPicPr>
        <p:blipFill>
          <a:blip r:embed="rId2"/>
          <a:stretch/>
        </p:blipFill>
        <p:spPr>
          <a:xfrm>
            <a:off x="6300720" y="4508640"/>
            <a:ext cx="2238480" cy="2038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3.gstatic.com/images?q=tbn:ANd9GcSq8mc4C9-nZ31sSJrDxnBAZ4TNQec0P8rTIpwnnYkBvpznI1qhxg"/>
          <p:cNvPicPr/>
          <p:nvPr/>
        </p:nvPicPr>
        <p:blipFill>
          <a:blip r:embed="rId3"/>
          <a:stretch/>
        </p:blipFill>
        <p:spPr>
          <a:xfrm>
            <a:off x="6732720" y="11970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t2.gstatic.com/images?q=tbn:ANd9GcSBVdtKn1EwzrFTPaV0pxqXfrPvu1_NceajbfrTzto7bfB3dVIAdw"/>
          <p:cNvPicPr/>
          <p:nvPr/>
        </p:nvPicPr>
        <p:blipFill>
          <a:blip r:embed="rId4"/>
          <a:stretch/>
        </p:blipFill>
        <p:spPr>
          <a:xfrm>
            <a:off x="3492360" y="119700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t0.gstatic.com/images?q=tbn:ANd9GcTmI2v45rjidi9OVxMmXxsghzUimCsgaCxON89b11p7b82iTo1A"/>
          <p:cNvPicPr/>
          <p:nvPr/>
        </p:nvPicPr>
        <p:blipFill>
          <a:blip r:embed="rId5"/>
          <a:stretch/>
        </p:blipFill>
        <p:spPr>
          <a:xfrm>
            <a:off x="1332000" y="3519360"/>
            <a:ext cx="22510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http://t3.gstatic.com/images?q=tbn:ANd9GcRby7eKljFVINc1DTPmhsiTqtH5a03-vCR-0272jpwIp1J48R-OOA"/>
          <p:cNvPicPr/>
          <p:nvPr/>
        </p:nvPicPr>
        <p:blipFill>
          <a:blip r:embed="rId6"/>
          <a:stretch/>
        </p:blipFill>
        <p:spPr>
          <a:xfrm>
            <a:off x="4211640" y="29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http://t2.gstatic.com/images?q=tbn:ANd9GcTkTjeAK698CHKLnJSF6egKuGg56GHJZe8LnXjlzNZXuDM1XptFIQ"/>
          <p:cNvPicPr/>
          <p:nvPr/>
        </p:nvPicPr>
        <p:blipFill>
          <a:blip r:embed="rId7"/>
          <a:stretch/>
        </p:blipFill>
        <p:spPr>
          <a:xfrm>
            <a:off x="2916360" y="4724280"/>
            <a:ext cx="2638440" cy="1844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7:25:12Z</dcterms:created>
  <dc:creator>home</dc:creator>
  <dc:description/>
  <dc:language>en-US</dc:language>
  <cp:lastModifiedBy>ASER</cp:lastModifiedBy>
  <dcterms:modified xsi:type="dcterms:W3CDTF">2017-08-30T05:37:06Z</dcterms:modified>
  <cp:revision>90</cp:revision>
  <dc:subject/>
  <dc:title>Путешествие на Украину</dc:title>
</cp:coreProperties>
</file>