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4EE-AD6F-482C-AF44-FF31BB78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CD4-84DB-4488-87A7-D5806D49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15B-7F56-4A88-9729-F8C56A48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BB3-B000-495D-AE47-6371F7D8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D1A-F665-4ED5-91C1-CA4F2566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192-1E3F-40CB-9397-792C9960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9FC-14E9-46AE-88CC-5D13DD7A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748-4192-4F80-B7EB-B30D6BE1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1B1-DFBD-4550-AEE4-7F43F928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875-83C2-481A-A49D-680C7887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1C9-82B3-4EFD-93C1-A1B775C6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A5D-3487-459B-A725-473181B6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C079-34B9-43F8-9B1C-AEA2DE58C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барто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ния Львовна Барто родилась в семье ветеринарного врача Льва Николаевича Волова в 1906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3" descr="барто.jpg"/>
          <p:cNvPicPr/>
          <p:nvPr/>
        </p:nvPicPr>
        <p:blipFill>
          <a:blip r:embed="rId1"/>
          <a:stretch/>
        </p:blipFill>
        <p:spPr>
          <a:xfrm>
            <a:off x="2730600" y="2209680"/>
            <a:ext cx="368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инать свое детство Агния Барто не любила. Семья вела типичную по тем временам интеллигентную жизнь: домашнее начальное образование, французский язык, парадные обеды с ананасом на десер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барто бал.jpg"/>
          <p:cNvPicPr/>
          <p:nvPr/>
        </p:nvPicPr>
        <p:blipFill>
          <a:blip r:embed="rId1"/>
          <a:stretch/>
        </p:blipFill>
        <p:spPr>
          <a:xfrm>
            <a:off x="1905120" y="2682720"/>
            <a:ext cx="5486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 Николаевич, поклонник искусства, видел будущее дочери в балете. Агния прилежно занималась танцами, но большого таланта в этом занятии не обнаруживала. Рано проявившуюся творческую энергию направляла в другое русло — стихотворное. Стихами она увлеклась вслед за гимназическими подру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1925 году девятнадцатилетняя Агния Барто выпустила свою первую книжку — "Китайчонок Ван Ли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барто молод.jpg"/>
          <p:cNvPicPr/>
          <p:nvPr/>
        </p:nvPicPr>
        <p:blipFill>
          <a:blip r:embed="rId1"/>
          <a:stretch/>
        </p:blipFill>
        <p:spPr>
          <a:xfrm>
            <a:off x="5257800" y="2286000"/>
            <a:ext cx="2133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Великой Отечественной войны семья Агнии Львовны обосновалась в Свердловск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5" descr="барто война.jpg"/>
          <p:cNvPicPr/>
          <p:nvPr/>
        </p:nvPicPr>
        <p:blipFill>
          <a:blip r:embed="rId1"/>
          <a:stretch/>
        </p:blipFill>
        <p:spPr>
          <a:xfrm>
            <a:off x="1447920" y="1676520"/>
            <a:ext cx="1752480" cy="2109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работала токарем на заводе. В 1942 году  ушла на фронт фронтовым корреспондент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олицу Барто вернулась в 1944-м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стихи Агния Львовна посвятила дочери   Татьяне. А с появлением внука Володи написала ряд стихотворений: "Вовка — добрая душ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5" descr="барто кн таня.jpg"/>
          <p:cNvPicPr/>
          <p:nvPr/>
        </p:nvPicPr>
        <p:blipFill>
          <a:blip r:embed="rId1"/>
          <a:stretch/>
        </p:blipFill>
        <p:spPr>
          <a:xfrm>
            <a:off x="5486400" y="838080"/>
            <a:ext cx="192096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барто вовка.jpg"/>
          <p:cNvPicPr/>
          <p:nvPr/>
        </p:nvPicPr>
        <p:blipFill>
          <a:blip r:embed="rId2"/>
          <a:stretch/>
        </p:blipFill>
        <p:spPr>
          <a:xfrm>
            <a:off x="5410080" y="3809880"/>
            <a:ext cx="2075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Барто часто можно было увидеть среди ребят. Она посещала школы, присутствовала на уроках, встречалась со своими читателями в детских библиотеках. Часто приезжая на выступления Агния Барто предлагала: "Уважаемые дети, - я прочту лишь первую строчку, а вы сами продолжайте остальное". Не было случая, чтобы ребята не вспомнили стихотв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4" descr="барто читает.jpg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ю жизнь посвятила А. Барто детской поэзии и оставила нам много замечательных стихотворени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6" descr="барто кн1.jpg"/>
          <p:cNvPicPr/>
          <p:nvPr/>
        </p:nvPicPr>
        <p:blipFill>
          <a:blip r:embed="rId1"/>
          <a:stretch/>
        </p:blipFill>
        <p:spPr>
          <a:xfrm>
            <a:off x="1295280" y="1600200"/>
            <a:ext cx="18874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8" descr="барто кн3.jpg"/>
          <p:cNvPicPr/>
          <p:nvPr/>
        </p:nvPicPr>
        <p:blipFill>
          <a:blip r:embed="rId2"/>
          <a:stretch/>
        </p:blipFill>
        <p:spPr>
          <a:xfrm>
            <a:off x="5257800" y="1752480"/>
            <a:ext cx="196200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7" descr="барто кн2.jpg"/>
          <p:cNvPicPr/>
          <p:nvPr/>
        </p:nvPicPr>
        <p:blipFill>
          <a:blip r:embed="rId3"/>
          <a:stretch/>
        </p:blipFill>
        <p:spPr>
          <a:xfrm>
            <a:off x="1371600" y="3962520"/>
            <a:ext cx="175248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9" descr="барто кн4.jpg"/>
          <p:cNvPicPr/>
          <p:nvPr/>
        </p:nvPicPr>
        <p:blipFill>
          <a:blip r:embed="rId4"/>
          <a:stretch/>
        </p:blipFill>
        <p:spPr>
          <a:xfrm>
            <a:off x="53341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ухра Галиева</dc:creator>
  <dc:description/>
  <dc:language>en-US</dc:language>
  <cp:lastModifiedBy>Zuhra</cp:lastModifiedBy>
  <dcterms:modified xsi:type="dcterms:W3CDTF">2017-08-31T08:02:1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