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FBC-D811-4CE6-958D-024BE1BE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F7F-09B0-47AD-AE1A-BF7074C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73D-C814-47C2-8C22-0D4D4E30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914-1516-4F8D-AFAE-B6D17869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635-0CEB-4674-A3FB-851F5FC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C57-8FA3-4B65-BB9A-91C0B67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D6F-8904-45A2-B73C-FE8D075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CC0-BDD0-4938-AAB3-90D5C3A8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3EE-9E6C-4659-BEBD-4862F792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5B5-572F-49AC-8E41-32853D7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471-CAB0-4AE2-926C-8A0D4E8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35C-A666-4103-AF3D-9DDAD3FA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D4A-1C40-4641-A959-4C5AE6CA6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барто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ния Львовна Барто родилась в семье ветеринарного врача Льва Николаевича Волова в 19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барто.jpg"/>
          <p:cNvPicPr/>
          <p:nvPr/>
        </p:nvPicPr>
        <p:blipFill>
          <a:blip r:embed="rId1"/>
          <a:stretch/>
        </p:blipFill>
        <p:spPr>
          <a:xfrm>
            <a:off x="2730600" y="2209680"/>
            <a:ext cx="368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инать свое детство Агния Барто не любила. Семья вела типичную по тем временам интеллигентную жизнь: домашнее начальное образование, французский язык, парадные обеды с ананасом на десе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барто бал.jpg"/>
          <p:cNvPicPr/>
          <p:nvPr/>
        </p:nvPicPr>
        <p:blipFill>
          <a:blip r:embed="rId1"/>
          <a:stretch/>
        </p:blipFill>
        <p:spPr>
          <a:xfrm>
            <a:off x="1905120" y="2682720"/>
            <a:ext cx="5486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Николаевич, поклонник искусства, видел будущее дочери в балете. Агния прилежно занималась танцами, но большого таланта в этом занятии не обнаруживала. Рано проявившуюся творческую энергию направляла в другое русло — стихотворное. Стихами она увлеклась вслед за гимназическими подр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1925 году девятнадцатилетняя Агния Барто выпустила свою первую книжку — "Китайчонок Ван Л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барто молод.jpg"/>
          <p:cNvPicPr/>
          <p:nvPr/>
        </p:nvPicPr>
        <p:blipFill>
          <a:blip r:embed="rId1"/>
          <a:stretch/>
        </p:blipFill>
        <p:spPr>
          <a:xfrm>
            <a:off x="5257800" y="2286000"/>
            <a:ext cx="2133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семья Агнии Львовны обосновалась в Свердловс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5" descr="барто война.jpg"/>
          <p:cNvPicPr/>
          <p:nvPr/>
        </p:nvPicPr>
        <p:blipFill>
          <a:blip r:embed="rId1"/>
          <a:stretch/>
        </p:blipFill>
        <p:spPr>
          <a:xfrm>
            <a:off x="1447920" y="1676520"/>
            <a:ext cx="1752480" cy="210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работала токарем на заводе. В 1942 году  ушла на фронт фронтовым корреспондент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олицу Барто вернулась в 1944-м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стихи Агния Львовна посвятила дочери   Татьяне. А с появлением внука Володи написала ряд стихотворений: "Вовка — добрая душ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барто кн таня.jpg"/>
          <p:cNvPicPr/>
          <p:nvPr/>
        </p:nvPicPr>
        <p:blipFill>
          <a:blip r:embed="rId1"/>
          <a:stretch/>
        </p:blipFill>
        <p:spPr>
          <a:xfrm>
            <a:off x="5486400" y="838080"/>
            <a:ext cx="192096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барто вовка.jpg"/>
          <p:cNvPicPr/>
          <p:nvPr/>
        </p:nvPicPr>
        <p:blipFill>
          <a:blip r:embed="rId2"/>
          <a:stretch/>
        </p:blipFill>
        <p:spPr>
          <a:xfrm>
            <a:off x="5410080" y="3809880"/>
            <a:ext cx="207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Барто часто можно было увидеть среди ребят. Она посещала школы, присутствовала на уроках, встречалась со своими читателями в детских библиотеках. Часто приезжая на выступления Агния Барто предлагала: "Уважаемые дети, - я прочту лишь первую строчку, а вы сами продолжайте остальное". Не было случая, чтобы ребята не вспомнили стихот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барто читает.jpg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ю жизнь посвятила А. Барто детской поэзии и оставила нам много замечательных стихотворен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6" descr="барто кн1.jpg"/>
          <p:cNvPicPr/>
          <p:nvPr/>
        </p:nvPicPr>
        <p:blipFill>
          <a:blip r:embed="rId1"/>
          <a:stretch/>
        </p:blipFill>
        <p:spPr>
          <a:xfrm>
            <a:off x="1295280" y="1600200"/>
            <a:ext cx="1887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8" descr="барто кн3.jpg"/>
          <p:cNvPicPr/>
          <p:nvPr/>
        </p:nvPicPr>
        <p:blipFill>
          <a:blip r:embed="rId2"/>
          <a:stretch/>
        </p:blipFill>
        <p:spPr>
          <a:xfrm>
            <a:off x="5257800" y="1752480"/>
            <a:ext cx="196200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7" descr="барто кн2.jpg"/>
          <p:cNvPicPr/>
          <p:nvPr/>
        </p:nvPicPr>
        <p:blipFill>
          <a:blip r:embed="rId3"/>
          <a:stretch/>
        </p:blipFill>
        <p:spPr>
          <a:xfrm>
            <a:off x="1371600" y="39625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9" descr="барто кн4.jpg"/>
          <p:cNvPicPr/>
          <p:nvPr/>
        </p:nvPicPr>
        <p:blipFill>
          <a:blip r:embed="rId4"/>
          <a:stretch/>
        </p:blipFill>
        <p:spPr>
          <a:xfrm>
            <a:off x="53341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ухра Галиева</dc:creator>
  <dc:description/>
  <dc:language>en-US</dc:language>
  <cp:lastModifiedBy>Zuhra</cp:lastModifiedBy>
  <dcterms:modified xsi:type="dcterms:W3CDTF">2017-08-31T08:02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