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9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2AC-D8DF-4D42-8FBE-7474AF25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189-A90B-4608-AF26-BE919302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DF0-1542-4B6E-94E0-7859AD3B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9DF-691E-47C8-9BFE-B9967704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611-C0F2-496F-875B-6018CB2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C93-F74E-484A-84F9-C98D4081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317-D377-4A16-839D-4F231607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20F-7A5D-41AD-B802-66B5D00F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FED-6B63-4328-BE4B-BC719E40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F0E-FC3B-420A-9291-001C7FA7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58F-279A-4678-8468-8DD42A81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B0F-4E1F-4E74-AA46-735C85C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33cc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B393-4FBC-4999-ACFE-A50B46862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438280" y="2362320"/>
            <a:ext cx="4572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ВОДЧИК</a:t>
            </a:r>
            <a:endParaRPr b="1" lang="en-US" sz="4000" spc="1" strike="noStrike">
              <a:ln w="12600">
                <a:solidFill>
                  <a:srgbClr val="660066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04920" y="4495680"/>
            <a:ext cx="8534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ВЕТСКИЙ ПИСАТЕЛЬ</a:t>
            </a:r>
            <a:endParaRPr b="1" lang="en-US" sz="40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733920" y="304920"/>
            <a:ext cx="2286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эт</a:t>
            </a:r>
            <a:endParaRPr b="1" lang="en-US" sz="40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990720" y="152280"/>
            <a:ext cx="739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жизни Бориса Владимировича было два суровых испыта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838080" y="297180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инска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йн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410080" y="304812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еликая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течественна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йн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ронт оба раза он уходил добровольце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334120" y="2286000"/>
            <a:ext cx="11430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2514240" y="2286000"/>
            <a:ext cx="11430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1219320" y="4572000"/>
            <a:ext cx="144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39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6248520" y="49528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41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-352080"/>
            <a:ext cx="8229600" cy="7683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Первое детское стихотворение </a:t>
            </a:r>
            <a:r>
              <a:rPr b="1" lang="ru-RU" sz="6600" spc="-1" strike="noStrike">
                <a:solidFill>
                  <a:srgbClr val="ff9900"/>
                </a:solidFill>
                <a:latin typeface="Arial"/>
              </a:rPr>
              <a:t>"Морской бой"</a:t>
            </a:r>
            <a:r>
              <a:rPr b="1" lang="ru-RU" sz="6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опубликовано в  журнале «Затейник»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1947 году</a:t>
            </a: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под псевдонимом                                                                         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609480" y="60948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рис Вест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4495680" y="762120"/>
            <a:ext cx="43434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Часто терпит пораженье</a:t>
            </a:r>
            <a:br>
              <a:rPr sz="4000"/>
            </a:b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Самый храбрый адмирал,</a:t>
            </a:r>
            <a:br>
              <a:rPr sz="4000"/>
            </a:b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Если место для сраженья</a:t>
            </a:r>
            <a:br>
              <a:rPr sz="4000"/>
            </a:b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Неудачно он избра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3" descr="морской бой"/>
          <p:cNvPicPr/>
          <p:nvPr/>
        </p:nvPicPr>
        <p:blipFill>
          <a:blip r:embed="rId1"/>
          <a:stretch/>
        </p:blipFill>
        <p:spPr>
          <a:xfrm>
            <a:off x="304920" y="304920"/>
            <a:ext cx="3844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533520" y="638280"/>
            <a:ext cx="8305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чатался в журнале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«Мурзилка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газете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«Пионерска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правда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устил сборники стихов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На задней парте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Мартышкино завтра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Никто и другие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Кто на кого похож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Товарищам детям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Школа для птенцов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Считалия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Моя Вообразилия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Если мне подарят лодку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1000313129"/>
          <p:cNvPicPr/>
          <p:nvPr/>
        </p:nvPicPr>
        <p:blipFill>
          <a:blip r:embed="rId1"/>
          <a:stretch/>
        </p:blipFill>
        <p:spPr>
          <a:xfrm>
            <a:off x="2438280" y="380880"/>
            <a:ext cx="46530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80880" y="129600"/>
            <a:ext cx="83822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Заслуженной популярностью пользуются и произведения Заходера, написанные в прозе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Добрый носорог"(197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Русачок"(196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рыбы молчат"(197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добрый носорог"/>
          <p:cNvPicPr/>
          <p:nvPr/>
        </p:nvPicPr>
        <p:blipFill>
          <a:blip r:embed="rId1"/>
          <a:stretch/>
        </p:blipFill>
        <p:spPr>
          <a:xfrm>
            <a:off x="3352680" y="4191120"/>
            <a:ext cx="183852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вредный кот"/>
          <p:cNvPicPr/>
          <p:nvPr/>
        </p:nvPicPr>
        <p:blipFill>
          <a:blip r:embed="rId2"/>
          <a:stretch/>
        </p:blipFill>
        <p:spPr>
          <a:xfrm>
            <a:off x="7010280" y="411480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Русачок"/>
          <p:cNvPicPr/>
          <p:nvPr/>
        </p:nvPicPr>
        <p:blipFill>
          <a:blip r:embed="rId3"/>
          <a:stretch/>
        </p:blipFill>
        <p:spPr>
          <a:xfrm>
            <a:off x="304920" y="2362320"/>
            <a:ext cx="2239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141840"/>
            <a:ext cx="9144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ме «родных» есть у Бориса Владимировича и «иностранные» книжк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 его помощью «англичане»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  <a:ea typeface="Times New Roman"/>
              </a:rPr>
              <a:t>Питер Пэ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  <a:ea typeface="Times New Roman"/>
              </a:rPr>
              <a:t>Мэри Поппин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ang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ыучили русский язы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 И как все радовались, когда раздавалась песен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257800" y="2209680"/>
          <a:ext cx="4191120" cy="266724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26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Приятное дело —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Озорничать!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Не остановишься —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Стоит начать</a:t>
                      </a:r>
                      <a:r>
                        <a:rPr b="1" lang="ru-RU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28" descr="940310017"/>
          <p:cNvPicPr/>
          <p:nvPr/>
        </p:nvPicPr>
        <p:blipFill>
          <a:blip r:embed="rId1"/>
          <a:stretch/>
        </p:blipFill>
        <p:spPr>
          <a:xfrm>
            <a:off x="304920" y="685800"/>
            <a:ext cx="48625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04920" y="212760"/>
            <a:ext cx="84582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Наибольшую</a:t>
            </a: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известность Борису Заходеру в СССР принесли его переводы, а точнее, пересказы произведений зарубежной детской литературы. Именно в его изложении многие читатели познакомились с такой книгой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как «</a:t>
            </a: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Винни-пух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и все-все-все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»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1000444745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487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000444852"/>
          <p:cNvPicPr/>
          <p:nvPr/>
        </p:nvPicPr>
        <p:blipFill>
          <a:blip r:embed="rId2"/>
          <a:stretch/>
        </p:blipFill>
        <p:spPr>
          <a:xfrm>
            <a:off x="6335640" y="3124080"/>
            <a:ext cx="2808360" cy="3733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1000484471"/>
          <p:cNvPicPr/>
          <p:nvPr/>
        </p:nvPicPr>
        <p:blipFill>
          <a:blip r:embed="rId3"/>
          <a:stretch/>
        </p:blipFill>
        <p:spPr>
          <a:xfrm>
            <a:off x="0" y="0"/>
            <a:ext cx="3852720" cy="510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1000514029"/>
          <p:cNvPicPr/>
          <p:nvPr/>
        </p:nvPicPr>
        <p:blipFill>
          <a:blip r:embed="rId4"/>
          <a:stretch/>
        </p:blipFill>
        <p:spPr>
          <a:xfrm>
            <a:off x="2666880" y="2895480"/>
            <a:ext cx="3164040" cy="396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1000484990"/>
          <p:cNvPicPr/>
          <p:nvPr/>
        </p:nvPicPr>
        <p:blipFill>
          <a:blip r:embed="rId5"/>
          <a:stretch/>
        </p:blipFill>
        <p:spPr>
          <a:xfrm>
            <a:off x="0" y="4114800"/>
            <a:ext cx="203184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1000353633"/>
          <p:cNvPicPr/>
          <p:nvPr/>
        </p:nvPicPr>
        <p:blipFill>
          <a:blip r:embed="rId6"/>
          <a:stretch/>
        </p:blipFill>
        <p:spPr>
          <a:xfrm>
            <a:off x="2286000" y="990720"/>
            <a:ext cx="40273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990720" y="533520"/>
            <a:ext cx="557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660680" y="3041640"/>
            <a:ext cx="534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2280" y="228600"/>
            <a:ext cx="883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66cc"/>
                </a:solidFill>
                <a:latin typeface="Comic Sans MS"/>
              </a:rPr>
              <a:t>Мультфиль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66cc"/>
                </a:solidFill>
                <a:latin typeface="Comic Sans MS"/>
              </a:rPr>
              <a:t>«Винни-Пух и все-все»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04920" y="644760"/>
            <a:ext cx="853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Также Борисом Заходером написана пьеса для детского театра: "</a:t>
            </a: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Приключения Алисы в Стране Чудес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" (1982)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lisa_z0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28600" y="-184320"/>
            <a:ext cx="8534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том сборников было много: и совсем тонюсеньких, размером с ладонь, и увесистых томов. И в каждом масса фантазии, много шуток, иногда самая капелька печали и горечи, и необыкновенное количество игры. В его книжках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4419720"/>
          <a:ext cx="6477120" cy="243828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Умеют Львы косматые</a:t>
                      </a:r>
                      <a:br>
                        <a:rPr sz="3600"/>
                      </a:br>
                      <a:r>
                        <a:rPr b="1" i="1" lang="ru-RU" sz="36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Скакать верхом на палочке,</a:t>
                      </a:r>
                      <a:br>
                        <a:rPr sz="3600"/>
                      </a:br>
                      <a:r>
                        <a:rPr b="1" i="1" lang="ru-RU" sz="36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А мраморные статуи</a:t>
                      </a:r>
                      <a:br>
                        <a:rPr sz="3600"/>
                      </a:br>
                      <a:r>
                        <a:rPr b="1" i="1" lang="ru-RU" sz="36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Сыграют с вами в салочки!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zahoder1"/>
          <p:cNvPicPr/>
          <p:nvPr/>
        </p:nvPicPr>
        <p:blipFill>
          <a:blip r:embed="rId1"/>
          <a:stretch/>
        </p:blipFill>
        <p:spPr>
          <a:xfrm>
            <a:off x="228600" y="685800"/>
            <a:ext cx="4213080" cy="556272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4495680" y="1295280"/>
            <a:ext cx="44672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ХОДЕР</a:t>
            </a:r>
            <a:endParaRPr b="1" i="1" lang="en-US" sz="4000" spc="1" strike="noStrike">
              <a:ln w="9360">
                <a:solidFill>
                  <a:srgbClr val="9933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ИС</a:t>
            </a:r>
            <a:endParaRPr b="1" i="1" lang="en-US" sz="4000" spc="1" strike="noStrike">
              <a:ln w="9360">
                <a:solidFill>
                  <a:srgbClr val="9933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ЛАДИМИРОВИЧ</a:t>
            </a:r>
            <a:endParaRPr b="1" i="1" lang="en-US" sz="4000" spc="1" strike="noStrike">
              <a:ln w="9360">
                <a:solidFill>
                  <a:srgbClr val="9933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4"/>
          <p:cNvSpPr/>
          <p:nvPr/>
        </p:nvSpPr>
        <p:spPr>
          <a:xfrm>
            <a:off x="228600" y="1144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А как умеют кувыркаться слова в его стихах!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4714920" y="44546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690480" y="445464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1066680" y="16765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зывает удивленье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лежание тюленье: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ый день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ежит тюлень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ему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ежать не лень!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аль, тюленье прилежанье —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 пример для подражанья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4" descr="Ил. Л.Шульгиной, В.Иванюка к книге Б.Заходера «Стихи и сказки»"/>
          <p:cNvPicPr/>
          <p:nvPr/>
        </p:nvPicPr>
        <p:blipFill>
          <a:blip r:embed="rId1"/>
          <a:stretch/>
        </p:blipFill>
        <p:spPr>
          <a:xfrm>
            <a:off x="5562720" y="1828800"/>
            <a:ext cx="3581280" cy="5029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5" descr="Ил. Л.Шульгиной, В.Иванюка к книге Б.Заходера «Стихи и сказки»"/>
          <p:cNvPicPr/>
          <p:nvPr/>
        </p:nvPicPr>
        <p:blipFill>
          <a:blip r:embed="rId2"/>
          <a:stretch/>
        </p:blipFill>
        <p:spPr>
          <a:xfrm>
            <a:off x="0" y="1752480"/>
            <a:ext cx="354816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-4083120" y="25214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352680" y="2700720"/>
            <a:ext cx="525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альчишкой он решил </a:t>
            </a:r>
            <a:r>
              <a:rPr b="1" i="1" lang="ru-RU" sz="4400" spc="-1" strike="noStrike">
                <a:solidFill>
                  <a:srgbClr val="0033cc"/>
                </a:solidFill>
                <a:latin typeface="Arial"/>
                <a:ea typeface="Times New Roman"/>
              </a:rPr>
              <a:t>утереть нос Жуковском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и перевёл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Times New Roman"/>
              </a:rPr>
              <a:t>Лесного царя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  <a:ea typeface="Times New Roman"/>
              </a:rPr>
              <a:t>»      Гёте.</a:t>
            </a:r>
            <a:r>
              <a:rPr b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i_zahoder6_1"/>
          <p:cNvPicPr/>
          <p:nvPr/>
        </p:nvPicPr>
        <p:blipFill>
          <a:blip r:embed="rId1"/>
          <a:stretch/>
        </p:blipFill>
        <p:spPr>
          <a:xfrm>
            <a:off x="228600" y="1676520"/>
            <a:ext cx="296712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228600" y="2286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прочем, знаменитые стихи и сказки были еще впереди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3581280" y="1752480"/>
            <a:ext cx="49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начал Заходер с переводов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743200" y="671400"/>
            <a:ext cx="60958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ышел первый сборник поэта для ребя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«На задней парте»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609480" y="228600"/>
            <a:ext cx="1981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55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4" name="Picture 6" descr="1092"/>
          <p:cNvPicPr/>
          <p:nvPr/>
        </p:nvPicPr>
        <p:blipFill>
          <a:blip r:embed="rId1"/>
          <a:stretch/>
        </p:blipFill>
        <p:spPr>
          <a:xfrm>
            <a:off x="2362320" y="3352680"/>
            <a:ext cx="4724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505320" y="215280"/>
            <a:ext cx="53337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рис Заходер был широко известен не только в нашей стране, но и за рубежом, он лауреат многих литературных премий, в том числе и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Международной премии им. Г.Х.Андерсе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4" descr="i_zahoder3_1"/>
          <p:cNvPicPr/>
          <p:nvPr/>
        </p:nvPicPr>
        <p:blipFill>
          <a:blip r:embed="rId1"/>
          <a:stretch/>
        </p:blipFill>
        <p:spPr>
          <a:xfrm>
            <a:off x="304920" y="1371600"/>
            <a:ext cx="3289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azbuka_l"/>
          <p:cNvPicPr/>
          <p:nvPr/>
        </p:nvPicPr>
        <p:blipFill>
          <a:blip r:embed="rId1"/>
          <a:stretch/>
        </p:blipFill>
        <p:spPr>
          <a:xfrm>
            <a:off x="7024680" y="0"/>
            <a:ext cx="211932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i_zahoder2_1"/>
          <p:cNvPicPr/>
          <p:nvPr/>
        </p:nvPicPr>
        <p:blipFill>
          <a:blip r:embed="rId2"/>
          <a:stretch/>
        </p:blipFill>
        <p:spPr>
          <a:xfrm>
            <a:off x="2514600" y="1828800"/>
            <a:ext cx="3962520" cy="384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1" descr="1000255706"/>
          <p:cNvPicPr/>
          <p:nvPr/>
        </p:nvPicPr>
        <p:blipFill>
          <a:blip r:embed="rId3"/>
          <a:stretch/>
        </p:blipFill>
        <p:spPr>
          <a:xfrm>
            <a:off x="6629400" y="3505320"/>
            <a:ext cx="212076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2" descr="1000279335"/>
          <p:cNvPicPr/>
          <p:nvPr/>
        </p:nvPicPr>
        <p:blipFill>
          <a:blip r:embed="rId4"/>
          <a:stretch/>
        </p:blipFill>
        <p:spPr>
          <a:xfrm>
            <a:off x="304920" y="3657600"/>
            <a:ext cx="201276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3" descr="1000293717"/>
          <p:cNvPicPr/>
          <p:nvPr/>
        </p:nvPicPr>
        <p:blipFill>
          <a:blip r:embed="rId5"/>
          <a:stretch/>
        </p:blipFill>
        <p:spPr>
          <a:xfrm>
            <a:off x="0" y="0"/>
            <a:ext cx="2503440" cy="3352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000452016"/>
          <p:cNvPicPr/>
          <p:nvPr/>
        </p:nvPicPr>
        <p:blipFill>
          <a:blip r:embed="rId6"/>
          <a:stretch/>
        </p:blipFill>
        <p:spPr>
          <a:xfrm>
            <a:off x="4572000" y="0"/>
            <a:ext cx="2092320" cy="2133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0" descr="1000052043"/>
          <p:cNvPicPr/>
          <p:nvPr/>
        </p:nvPicPr>
        <p:blipFill>
          <a:blip r:embed="rId7"/>
          <a:stretch/>
        </p:blipFill>
        <p:spPr>
          <a:xfrm>
            <a:off x="3505320" y="4606920"/>
            <a:ext cx="2286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3276720" y="457200"/>
            <a:ext cx="5486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"/>
              </a:rPr>
              <a:t>Скончался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"/>
              </a:rPr>
              <a:t>Борис Заходер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"/>
              </a:rPr>
              <a:t>7 ноября 2000 года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"/>
              </a:rPr>
              <a:t>в Москве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i_zahoder_1"/>
          <p:cNvPicPr/>
          <p:nvPr/>
        </p:nvPicPr>
        <p:blipFill>
          <a:blip r:embed="rId1"/>
          <a:stretch/>
        </p:blipFill>
        <p:spPr>
          <a:xfrm>
            <a:off x="152280" y="1828800"/>
            <a:ext cx="3246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685800"/>
            <a:ext cx="86104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99"/>
                </a:solidFill>
                <a:latin typeface="Arial"/>
              </a:rPr>
              <a:t>Родился</a:t>
            </a:r>
            <a:r>
              <a:rPr b="1" lang="ru-RU" sz="8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ff0066"/>
                </a:solidFill>
                <a:latin typeface="Arial"/>
              </a:rPr>
              <a:t>9 сентября 1918 года</a:t>
            </a:r>
            <a:r>
              <a:rPr b="1" lang="ru-RU" sz="8000" spc="-1" strike="noStrike">
                <a:solidFill>
                  <a:srgbClr val="000099"/>
                </a:solidFill>
                <a:latin typeface="Arial"/>
              </a:rPr>
              <a:t> в г. Когуле (Молдавия)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657600" y="38088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i_zahoder_2"/>
          <p:cNvPicPr/>
          <p:nvPr/>
        </p:nvPicPr>
        <p:blipFill>
          <a:blip r:embed="rId1"/>
          <a:stretch/>
        </p:blipFill>
        <p:spPr>
          <a:xfrm>
            <a:off x="380880" y="1295280"/>
            <a:ext cx="283392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3505320" y="4572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ец работал</a:t>
            </a:r>
            <a:endParaRPr b="1" lang="en-US" sz="4000" spc="1" strike="noStrike">
              <a:ln w="9360">
                <a:solidFill>
                  <a:srgbClr val="cc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ристом</a:t>
            </a:r>
            <a:endParaRPr b="1" lang="en-US" sz="4000" spc="1" strike="noStrike">
              <a:ln w="9360">
                <a:solidFill>
                  <a:srgbClr val="cc00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581280" y="35053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ь работала</a:t>
            </a:r>
            <a:endParaRPr b="1" lang="en-US" sz="4000" spc="1" strike="noStrike">
              <a:ln w="9360">
                <a:solidFill>
                  <a:srgbClr val="cc00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дчицей</a:t>
            </a:r>
            <a:endParaRPr b="1" lang="en-US" sz="4000" spc="1" strike="noStrike">
              <a:ln w="9360">
                <a:solidFill>
                  <a:srgbClr val="cc00ff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3352680" y="57150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ла несколько языков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0240" y="3657240"/>
            <a:ext cx="38862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лекался биолог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ил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429000" y="304920"/>
            <a:ext cx="51814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ские годы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шли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Москве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5" descr="барто2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80880" y="-209880"/>
            <a:ext cx="84582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В детстве Борис Заходер, по собственному признанию, был очень «приличным мальчиком». Он не только не играл в футбол, но даже почти не дрался. Правда, несколько «боевых эпизодов» даже такому «тихоне» вспомнить удалось. Однажды, когда ему не было и семи, обидевшись на родителей, он убежал из дома. Его нашли и ругать не стали. Но прочли вслух оставленную им записку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765760" cy="4203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1"/>
          <p:cNvSpPr/>
          <p:nvPr/>
        </p:nvSpPr>
        <p:spPr>
          <a:xfrm rot="482400">
            <a:off x="2895120" y="307764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urlz MT"/>
              </a:rPr>
              <a:t>Сиводня я ухажу навсиг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04920" y="380880"/>
            <a:ext cx="85341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так, драться он не любил, зато все время читал и еще... очень любил животных. Поэтому неудивительно, что Борис не разлучался с книжкой Брема и, не задумываясь, бросался на защиту совершенно незнакомой кошки. Вот откуда его решительное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90520" y="449568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cc33"/>
                </a:solidFill>
                <a:latin typeface="Arial"/>
              </a:rPr>
              <a:t>Наказать я сам готов</a:t>
            </a:r>
            <a:br>
              <a:rPr sz="5400"/>
            </a:br>
            <a:r>
              <a:rPr b="1" i="1" lang="ru-RU" sz="5400" spc="-1" strike="noStrike">
                <a:solidFill>
                  <a:srgbClr val="33cc33"/>
                </a:solidFill>
                <a:latin typeface="Arial"/>
              </a:rPr>
              <a:t>Тех, кто мучает котов</a:t>
            </a:r>
            <a:r>
              <a:rPr b="0" i="1" lang="ru-RU" sz="5400" spc="-1" strike="noStrike">
                <a:solidFill>
                  <a:srgbClr val="33cc33"/>
                </a:solidFill>
                <a:latin typeface="Arial"/>
              </a:rPr>
              <a:t>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_zahoder3_2"/>
          <p:cNvPicPr/>
          <p:nvPr/>
        </p:nvPicPr>
        <p:blipFill>
          <a:blip r:embed="rId1"/>
          <a:stretch/>
        </p:blipFill>
        <p:spPr>
          <a:xfrm>
            <a:off x="762120" y="914400"/>
            <a:ext cx="71625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209680" y="519480"/>
            <a:ext cx="640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 школ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л на заводе учеником токар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лся в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осковском авиационном институ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лся на биологических факультетах в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осковск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азанском университета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1"/>
          <p:cNvSpPr txBox="1"/>
          <p:nvPr/>
        </p:nvSpPr>
        <p:spPr>
          <a:xfrm>
            <a:off x="228600" y="228600"/>
            <a:ext cx="2133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3300"/>
                    </a:gs>
                    <a:gs pos="100000">
                      <a:srgbClr val="ff9900"/>
                    </a:gs>
                  </a:gsLst>
                  <a:lin ang="2700000"/>
                </a:gradFill>
                <a:latin typeface="Times New Roman"/>
              </a:rPr>
              <a:t>1935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3300"/>
                  </a:gs>
                  <a:gs pos="100000">
                    <a:srgbClr val="ff99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4876920" y="2438280"/>
            <a:ext cx="42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ился Литературном институте им.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А.М.Горьког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2819520" y="228600"/>
            <a:ext cx="40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38-1947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Picture 8" descr="36_foto_1"/>
          <p:cNvPicPr/>
          <p:nvPr/>
        </p:nvPicPr>
        <p:blipFill>
          <a:blip r:embed="rId1"/>
          <a:stretch/>
        </p:blipFill>
        <p:spPr>
          <a:xfrm>
            <a:off x="304920" y="2362320"/>
            <a:ext cx="472428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ухра Галиева</dc:creator>
  <dc:description/>
  <dc:language>en-US</dc:language>
  <cp:lastModifiedBy>Zuhra</cp:lastModifiedBy>
  <dcterms:modified xsi:type="dcterms:W3CDTF">2017-08-31T08:06:2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