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D70FE-1E6E-4849-AC8D-85012E9E99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матика. 6 класс.  Виленкин Н.Я. и др.     № 6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матика. 6 класс.  Виленкин Н.Я. и др.     № 24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6073-3E6E-4080-827F-62A779DB1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7012-8236-4E39-AF0B-46EAC33BB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EDAC-DFBC-4BDA-961A-8AC6FAB38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1E7D-E074-4A8C-9475-5EF37F3EC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9E46-BF72-4253-B16E-B8BE07CE3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BD36-25D7-4A33-B4FB-FF9322AB2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E67C-1ACB-4501-A8C5-0F43EE866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8522-10AE-4EAC-88BF-E791CDC13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E192-998B-43B6-AD60-0B34F6227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196D-EC7D-4E85-B9FD-F42F7D0EC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7E06-9E21-4254-9447-0BD5CA2BA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FC77-2498-4CE2-9F1C-19228AFA5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8bffd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D0BA6-796D-4D9D-A9CD-FC026ACD8A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forum.materinstvo.ru/lofiversion/index.php/t74957-500.html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8bffd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Устная работа на уроке 5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«Деление десятичных дробей на натуральное число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59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бота уч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У лицея №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аниловой С. 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Увеличенное изображение"/>
          <p:cNvPicPr/>
          <p:nvPr/>
        </p:nvPicPr>
        <p:blipFill>
          <a:blip r:embed="rId1"/>
          <a:stretch/>
        </p:blipFill>
        <p:spPr>
          <a:xfrm>
            <a:off x="1187280" y="4437000"/>
            <a:ext cx="2349720" cy="19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8bffd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590920" y="4368960"/>
            <a:ext cx="761760" cy="685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191120" y="4368960"/>
            <a:ext cx="761760" cy="685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15000" y="4368960"/>
            <a:ext cx="762120" cy="685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4444920"/>
            <a:ext cx="79524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09680" y="1143000"/>
            <a:ext cx="79560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09680" y="2590920"/>
            <a:ext cx="762120" cy="533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1,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86200" y="1066680"/>
            <a:ext cx="762120" cy="685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1006560"/>
            <a:ext cx="761760" cy="669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70080" y="1384200"/>
            <a:ext cx="927000" cy="1800"/>
          </a:xfrm>
          <a:custGeom>
            <a:avLst/>
            <a:gdLst/>
            <a:ahLst/>
            <a:rect l="l" t="t" r="r" b="b"/>
            <a:pathLst>
              <a:path w="584" h="1">
                <a:moveTo>
                  <a:pt x="584" y="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851040"/>
            <a:ext cx="457200" cy="596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: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00400" y="851040"/>
            <a:ext cx="457200" cy="596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: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90920" y="1638360"/>
            <a:ext cx="1440" cy="939600"/>
          </a:xfrm>
          <a:custGeom>
            <a:avLst/>
            <a:gdLst/>
            <a:ahLst/>
            <a:rect l="l" t="t" r="r" b="b"/>
            <a:pathLst>
              <a:path w="1" h="592">
                <a:moveTo>
                  <a:pt x="0" y="0"/>
                </a:moveTo>
                <a:lnTo>
                  <a:pt x="0" y="592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1752480"/>
            <a:ext cx="457200" cy="596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: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" action="ppaction://hlinkshowjump?jump=nextslide"/>
          </p:cNvPr>
          <p:cNvSpPr/>
          <p:nvPr/>
        </p:nvSpPr>
        <p:spPr>
          <a:xfrm>
            <a:off x="7524720" y="6093000"/>
            <a:ext cx="503280" cy="5029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8080" y="108000"/>
            <a:ext cx="9080280" cy="6705360"/>
            <a:chOff x="28080" y="108000"/>
            <a:chExt cx="9080280" cy="6705360"/>
          </a:xfrm>
        </p:grpSpPr>
        <p:sp>
          <p:nvSpPr>
            <p:cNvPr id="66" name=""/>
            <p:cNvSpPr/>
            <p:nvPr/>
          </p:nvSpPr>
          <p:spPr>
            <a:xfrm>
              <a:off x="498600" y="135360"/>
              <a:ext cx="816660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8560" y="6799680"/>
              <a:ext cx="81403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068400" y="572400"/>
              <a:ext cx="1440" cy="57628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2080" y="572400"/>
              <a:ext cx="27000" cy="57628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2080" y="6321960"/>
              <a:ext cx="4564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8651160" y="6307920"/>
              <a:ext cx="45684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 rot="16200000">
              <a:off x="8633520" y="98280"/>
              <a:ext cx="464400" cy="48348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rot="5400000">
              <a:off x="37440" y="98280"/>
              <a:ext cx="464400" cy="48348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"/>
          <p:cNvSpPr/>
          <p:nvPr/>
        </p:nvSpPr>
        <p:spPr>
          <a:xfrm flipH="1" flipV="1">
            <a:off x="2971080" y="1371600"/>
            <a:ext cx="927000" cy="1440"/>
          </a:xfrm>
          <a:custGeom>
            <a:avLst/>
            <a:gdLst/>
            <a:ahLst/>
            <a:rect l="l" t="t" r="r" b="b"/>
            <a:pathLst>
              <a:path w="584" h="1">
                <a:moveTo>
                  <a:pt x="584" y="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281720" y="4444920"/>
            <a:ext cx="71928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0,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438960" y="4764960"/>
            <a:ext cx="799920" cy="3240"/>
          </a:xfrm>
          <a:custGeom>
            <a:avLst/>
            <a:gdLst/>
            <a:ahLst/>
            <a:rect l="l" t="t" r="r" b="b"/>
            <a:pathLst>
              <a:path w="504" h="2">
                <a:moveTo>
                  <a:pt x="504" y="0"/>
                </a:moveTo>
                <a:lnTo>
                  <a:pt x="0" y="2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1751760" y="4723560"/>
            <a:ext cx="800280" cy="3240"/>
          </a:xfrm>
          <a:custGeom>
            <a:avLst/>
            <a:gdLst/>
            <a:ahLst/>
            <a:rect l="l" t="t" r="r" b="b"/>
            <a:pathLst>
              <a:path w="504" h="2">
                <a:moveTo>
                  <a:pt x="504" y="0"/>
                </a:moveTo>
                <a:lnTo>
                  <a:pt x="0" y="2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3351960" y="4723560"/>
            <a:ext cx="800280" cy="3240"/>
          </a:xfrm>
          <a:custGeom>
            <a:avLst/>
            <a:gdLst/>
            <a:ahLst/>
            <a:rect l="l" t="t" r="r" b="b"/>
            <a:pathLst>
              <a:path w="504" h="2">
                <a:moveTo>
                  <a:pt x="504" y="0"/>
                </a:moveTo>
                <a:lnTo>
                  <a:pt x="0" y="2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4952160" y="4723560"/>
            <a:ext cx="800280" cy="3240"/>
          </a:xfrm>
          <a:custGeom>
            <a:avLst/>
            <a:gdLst/>
            <a:ahLst/>
            <a:rect l="l" t="t" r="r" b="b"/>
            <a:pathLst>
              <a:path w="504" h="2">
                <a:moveTo>
                  <a:pt x="504" y="0"/>
                </a:moveTo>
                <a:lnTo>
                  <a:pt x="0" y="2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05120" y="4191120"/>
            <a:ext cx="457200" cy="596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: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4191120"/>
            <a:ext cx="457200" cy="596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: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105520" y="4191120"/>
            <a:ext cx="457200" cy="609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: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553080" y="4267080"/>
            <a:ext cx="457200" cy="609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: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34120" y="609480"/>
            <a:ext cx="35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Найдит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пропущенные числа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45080" y="5950080"/>
            <a:ext cx="159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max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7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8bffd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376960" y="1828800"/>
            <a:ext cx="79524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0,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281640" y="5715000"/>
            <a:ext cx="762120" cy="533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1,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523880" y="1828800"/>
            <a:ext cx="762120" cy="685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281640" y="2911320"/>
            <a:ext cx="762120" cy="669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" action="ppaction://hlinkshowjump?jump=nextslide"/>
          </p:cNvPr>
          <p:cNvSpPr/>
          <p:nvPr/>
        </p:nvSpPr>
        <p:spPr>
          <a:xfrm>
            <a:off x="4449600" y="609588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080" y="108000"/>
            <a:ext cx="9080280" cy="6705360"/>
            <a:chOff x="28080" y="108000"/>
            <a:chExt cx="9080280" cy="6705360"/>
          </a:xfrm>
        </p:grpSpPr>
        <p:sp>
          <p:nvSpPr>
            <p:cNvPr id="92" name=""/>
            <p:cNvSpPr/>
            <p:nvPr/>
          </p:nvSpPr>
          <p:spPr>
            <a:xfrm>
              <a:off x="498600" y="135360"/>
              <a:ext cx="816660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38560" y="6799680"/>
              <a:ext cx="81403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068400" y="572400"/>
              <a:ext cx="1440" cy="57628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2080" y="572400"/>
              <a:ext cx="27000" cy="57628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2080" y="6321960"/>
              <a:ext cx="4564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8651160" y="6307920"/>
              <a:ext cx="45684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 rot="16200000">
              <a:off x="8633520" y="98280"/>
              <a:ext cx="464400" cy="48348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rot="5400000">
              <a:off x="37440" y="98280"/>
              <a:ext cx="464400" cy="48348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4529160" y="4343400"/>
            <a:ext cx="762120" cy="685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958160" y="4267080"/>
            <a:ext cx="762120" cy="685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649920" y="3543480"/>
            <a:ext cx="1800" cy="876240"/>
          </a:xfrm>
          <a:custGeom>
            <a:avLst/>
            <a:gdLst/>
            <a:ahLst/>
            <a:rect l="l" t="t" r="r" b="b"/>
            <a:pathLst>
              <a:path w="1" h="552">
                <a:moveTo>
                  <a:pt x="1" y="552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419720"/>
            <a:ext cx="79524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738840" y="3657600"/>
            <a:ext cx="457200" cy="596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: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14600" y="457200"/>
            <a:ext cx="762120" cy="685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581280" y="1752480"/>
            <a:ext cx="762120" cy="685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495680" y="380880"/>
            <a:ext cx="762120" cy="685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92560" y="1003320"/>
            <a:ext cx="508320" cy="774720"/>
          </a:xfrm>
          <a:custGeom>
            <a:avLst/>
            <a:gdLst/>
            <a:ahLst/>
            <a:rect l="l" t="t" r="r" b="b"/>
            <a:pathLst>
              <a:path w="320" h="488">
                <a:moveTo>
                  <a:pt x="0" y="0"/>
                </a:moveTo>
                <a:lnTo>
                  <a:pt x="320" y="488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609480"/>
            <a:ext cx="83844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3657600"/>
            <a:ext cx="35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Найдит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пропущенные числа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29080" y="4711680"/>
            <a:ext cx="927360" cy="1440"/>
          </a:xfrm>
          <a:custGeom>
            <a:avLst/>
            <a:gdLst/>
            <a:ahLst/>
            <a:rect l="l" t="t" r="r" b="b"/>
            <a:pathLst>
              <a:path w="584" h="1">
                <a:moveTo>
                  <a:pt x="584" y="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043760" y="4660920"/>
            <a:ext cx="939600" cy="1440"/>
          </a:xfrm>
          <a:custGeom>
            <a:avLst/>
            <a:gdLst/>
            <a:ahLst/>
            <a:rect l="l" t="t" r="r" b="b"/>
            <a:pathLst>
              <a:path w="592" h="1">
                <a:moveTo>
                  <a:pt x="0" y="0"/>
                </a:moveTo>
                <a:lnTo>
                  <a:pt x="59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6662880" y="4876920"/>
            <a:ext cx="1440" cy="876240"/>
          </a:xfrm>
          <a:custGeom>
            <a:avLst/>
            <a:gdLst/>
            <a:ahLst/>
            <a:rect l="l" t="t" r="r" b="b"/>
            <a:pathLst>
              <a:path w="1" h="552">
                <a:moveTo>
                  <a:pt x="1" y="552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95840" y="4203720"/>
            <a:ext cx="457200" cy="596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: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662880" y="4965840"/>
            <a:ext cx="457200" cy="596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: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272360" y="4191120"/>
            <a:ext cx="457200" cy="596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: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191120" y="990720"/>
            <a:ext cx="457200" cy="799920"/>
          </a:xfrm>
          <a:custGeom>
            <a:avLst/>
            <a:gdLst/>
            <a:ahLst/>
            <a:rect l="l" t="t" r="r" b="b"/>
            <a:pathLst>
              <a:path w="288" h="504">
                <a:moveTo>
                  <a:pt x="288" y="0"/>
                </a:moveTo>
                <a:lnTo>
                  <a:pt x="0" y="504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00400" y="1054080"/>
            <a:ext cx="507960" cy="774720"/>
          </a:xfrm>
          <a:custGeom>
            <a:avLst/>
            <a:gdLst/>
            <a:ahLst/>
            <a:rect l="l" t="t" r="r" b="b"/>
            <a:pathLst>
              <a:path w="320" h="488">
                <a:moveTo>
                  <a:pt x="0" y="0"/>
                </a:moveTo>
                <a:lnTo>
                  <a:pt x="320" y="488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33720" y="1066680"/>
            <a:ext cx="457200" cy="800280"/>
          </a:xfrm>
          <a:custGeom>
            <a:avLst/>
            <a:gdLst/>
            <a:ahLst/>
            <a:rect l="l" t="t" r="r" b="b"/>
            <a:pathLst>
              <a:path w="288" h="504">
                <a:moveTo>
                  <a:pt x="288" y="0"/>
                </a:moveTo>
                <a:lnTo>
                  <a:pt x="0" y="504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77760" y="1092240"/>
            <a:ext cx="571680" cy="812880"/>
          </a:xfrm>
          <a:custGeom>
            <a:avLst/>
            <a:gdLst/>
            <a:ahLst/>
            <a:rect l="l" t="t" r="r" b="b"/>
            <a:pathLst>
              <a:path w="360" h="512">
                <a:moveTo>
                  <a:pt x="0" y="0"/>
                </a:moveTo>
                <a:lnTo>
                  <a:pt x="360" y="512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845080" y="5950080"/>
            <a:ext cx="159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max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9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191120" y="1460520"/>
            <a:ext cx="457200" cy="596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: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257800" y="762120"/>
            <a:ext cx="457200" cy="596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: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76720" y="838080"/>
            <a:ext cx="457200" cy="596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: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0" y="1523880"/>
            <a:ext cx="457200" cy="596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: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990720"/>
            <a:ext cx="457200" cy="596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: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8bffd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Задача №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Пять лет назад брату и сестре вместе было 9 лет. Сколько лет им будет вместе через 5 лет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2124000" y="5056200"/>
            <a:ext cx="1001880" cy="1494000"/>
            <a:chOff x="2124000" y="5056200"/>
            <a:chExt cx="1001880" cy="1494000"/>
          </a:xfrm>
        </p:grpSpPr>
        <p:pic>
          <p:nvPicPr>
            <p:cNvPr id="130" name="" descr=""/>
            <p:cNvPicPr/>
            <p:nvPr/>
          </p:nvPicPr>
          <p:blipFill>
            <a:blip r:embed="rId1"/>
            <a:stretch/>
          </p:blipFill>
          <p:spPr>
            <a:xfrm>
              <a:off x="2124000" y="5084640"/>
              <a:ext cx="1001880" cy="14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2285280" y="5973480"/>
              <a:ext cx="698760" cy="311040"/>
            </a:xfrm>
            <a:custGeom>
              <a:avLst/>
              <a:gdLst/>
              <a:ahLst/>
              <a:rect l="l" t="t" r="r" b="b"/>
              <a:pathLst>
                <a:path w="562" h="252">
                  <a:moveTo>
                    <a:pt x="138" y="0"/>
                  </a:moveTo>
                  <a:lnTo>
                    <a:pt x="438" y="8"/>
                  </a:lnTo>
                  <a:lnTo>
                    <a:pt x="562" y="224"/>
                  </a:lnTo>
                  <a:lnTo>
                    <a:pt x="470" y="248"/>
                  </a:lnTo>
                  <a:lnTo>
                    <a:pt x="400" y="96"/>
                  </a:lnTo>
                  <a:lnTo>
                    <a:pt x="454" y="252"/>
                  </a:lnTo>
                  <a:lnTo>
                    <a:pt x="322" y="248"/>
                  </a:lnTo>
                  <a:lnTo>
                    <a:pt x="304" y="96"/>
                  </a:lnTo>
                  <a:lnTo>
                    <a:pt x="304" y="240"/>
                  </a:lnTo>
                  <a:lnTo>
                    <a:pt x="112" y="240"/>
                  </a:lnTo>
                  <a:lnTo>
                    <a:pt x="208" y="96"/>
                  </a:lnTo>
                  <a:lnTo>
                    <a:pt x="90" y="240"/>
                  </a:lnTo>
                  <a:cubicBezTo>
                    <a:pt x="59" y="239"/>
                    <a:pt x="36" y="235"/>
                    <a:pt x="6" y="228"/>
                  </a:cubicBezTo>
                  <a:cubicBezTo>
                    <a:pt x="0" y="227"/>
                    <a:pt x="14" y="228"/>
                    <a:pt x="18" y="224"/>
                  </a:cubicBezTo>
                  <a:cubicBezTo>
                    <a:pt x="25" y="217"/>
                    <a:pt x="4" y="241"/>
                    <a:pt x="30" y="204"/>
                  </a:cubicBezTo>
                  <a:lnTo>
                    <a:pt x="138" y="0"/>
                  </a:lnTo>
                  <a:close/>
                </a:path>
              </a:pathLst>
            </a:custGeom>
            <a:gradFill rotWithShape="0">
              <a:gsLst>
                <a:gs pos="0">
                  <a:srgbClr val="777777"/>
                </a:gs>
                <a:gs pos="50000">
                  <a:srgbClr val="333333"/>
                </a:gs>
                <a:gs pos="100000">
                  <a:srgbClr val="777777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461680" y="5933880"/>
              <a:ext cx="357840" cy="43920"/>
            </a:xfrm>
            <a:custGeom>
              <a:avLst/>
              <a:gdLst/>
              <a:ahLst/>
              <a:rect l="l" t="t" r="r" b="b"/>
              <a:pathLst>
                <a:path w="288" h="36">
                  <a:moveTo>
                    <a:pt x="4" y="0"/>
                  </a:moveTo>
                  <a:cubicBezTo>
                    <a:pt x="11" y="0"/>
                    <a:pt x="17" y="0"/>
                    <a:pt x="24" y="0"/>
                  </a:cubicBezTo>
                  <a:lnTo>
                    <a:pt x="284" y="4"/>
                  </a:lnTo>
                  <a:lnTo>
                    <a:pt x="288" y="36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4d4d4d"/>
                </a:gs>
                <a:gs pos="50000">
                  <a:srgbClr val="000000"/>
                </a:gs>
                <a:gs pos="100000">
                  <a:srgbClr val="4d4d4d"/>
                </a:gs>
              </a:gsLst>
              <a:lin ang="81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2639520" y="5056200"/>
              <a:ext cx="340920" cy="293760"/>
              <a:chOff x="2639520" y="5056200"/>
              <a:chExt cx="340920" cy="293760"/>
            </a:xfrm>
          </p:grpSpPr>
          <p:sp>
            <p:nvSpPr>
              <p:cNvPr id="134" name=""/>
              <p:cNvSpPr/>
              <p:nvPr/>
            </p:nvSpPr>
            <p:spPr>
              <a:xfrm rot="720600">
                <a:off x="2660760" y="5084280"/>
                <a:ext cx="298080" cy="236880"/>
              </a:xfrm>
              <a:custGeom>
                <a:avLst/>
                <a:gdLst/>
                <a:ahLst/>
                <a:rect l="l" t="t" r="r" b="b"/>
                <a:pathLst>
                  <a:path w="576" h="384">
                    <a:moveTo>
                      <a:pt x="288" y="240"/>
                    </a:moveTo>
                    <a:lnTo>
                      <a:pt x="0" y="192"/>
                    </a:lnTo>
                    <a:lnTo>
                      <a:pt x="96" y="0"/>
                    </a:lnTo>
                    <a:lnTo>
                      <a:pt x="288" y="144"/>
                    </a:lnTo>
                    <a:lnTo>
                      <a:pt x="576" y="192"/>
                    </a:lnTo>
                    <a:lnTo>
                      <a:pt x="528" y="336"/>
                    </a:lnTo>
                    <a:lnTo>
                      <a:pt x="432" y="384"/>
                    </a:lnTo>
                    <a:lnTo>
                      <a:pt x="240" y="192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720600">
                <a:off x="2784960" y="5173200"/>
                <a:ext cx="49680" cy="59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2271240" y="5060520"/>
              <a:ext cx="302400" cy="344160"/>
              <a:chOff x="2271240" y="5060520"/>
              <a:chExt cx="302400" cy="344160"/>
            </a:xfrm>
          </p:grpSpPr>
          <p:sp>
            <p:nvSpPr>
              <p:cNvPr id="137" name=""/>
              <p:cNvSpPr/>
              <p:nvPr/>
            </p:nvSpPr>
            <p:spPr>
              <a:xfrm rot="17028000">
                <a:off x="2274120" y="5113080"/>
                <a:ext cx="295920" cy="238680"/>
              </a:xfrm>
              <a:custGeom>
                <a:avLst/>
                <a:gdLst/>
                <a:ahLst/>
                <a:rect l="l" t="t" r="r" b="b"/>
                <a:pathLst>
                  <a:path w="576" h="384">
                    <a:moveTo>
                      <a:pt x="288" y="240"/>
                    </a:moveTo>
                    <a:lnTo>
                      <a:pt x="0" y="192"/>
                    </a:lnTo>
                    <a:lnTo>
                      <a:pt x="96" y="0"/>
                    </a:lnTo>
                    <a:lnTo>
                      <a:pt x="288" y="144"/>
                    </a:lnTo>
                    <a:lnTo>
                      <a:pt x="576" y="192"/>
                    </a:lnTo>
                    <a:lnTo>
                      <a:pt x="528" y="336"/>
                    </a:lnTo>
                    <a:lnTo>
                      <a:pt x="432" y="384"/>
                    </a:lnTo>
                    <a:lnTo>
                      <a:pt x="240" y="192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rot="17028000">
                <a:off x="2396880" y="5202720"/>
                <a:ext cx="49320" cy="59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203640" y="4869000"/>
            <a:ext cx="1117440" cy="17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8bffd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Задача №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На столе лежали конфеты в кучке. Две матери, две дочки да бабушка с внучкой взяли конфет по одной штучке, и не стало кучки. Сколько было конфет в кучк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64149" b="36845"/>
          <a:stretch/>
        </p:blipFill>
        <p:spPr>
          <a:xfrm rot="1341000">
            <a:off x="2771280" y="5084280"/>
            <a:ext cx="1109880" cy="10083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rcRect l="0" t="0" r="64149" b="36845"/>
          <a:stretch/>
        </p:blipFill>
        <p:spPr>
          <a:xfrm rot="1341000">
            <a:off x="3708000" y="4508640"/>
            <a:ext cx="1109880" cy="1008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rcRect l="0" t="0" r="64149" b="36845"/>
          <a:stretch/>
        </p:blipFill>
        <p:spPr>
          <a:xfrm rot="1341000">
            <a:off x="3634920" y="5373720"/>
            <a:ext cx="110988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8bffd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6,77    14,14     2,87    0,63     21,07     7,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читайте чис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круглите каждое число до цел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круглите каждое число до десят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меньшите каждое из чисел в 7 р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множьте каждое из чисел на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меньшите каждое из чисел на 0,5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Увеличить изображени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4292640"/>
            <a:ext cx="236232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8bffd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колько треугольников на чертеж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79640" y="1916280"/>
            <a:ext cx="4608360" cy="1800000"/>
          </a:xfrm>
          <a:custGeom>
            <a:avLst/>
            <a:gdLst>
              <a:gd name="textAreaLeft" fmla="*/ 1013400 w 4608360"/>
              <a:gd name="textAreaRight" fmla="*/ 3594960 w 4608360"/>
              <a:gd name="textAreaTop" fmla="*/ 395640 h 1800000"/>
              <a:gd name="textAreaBottom" fmla="*/ 1404360 h 18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32000" y="1916280"/>
            <a:ext cx="0" cy="180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435640" y="1916280"/>
            <a:ext cx="0" cy="180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32000" y="1916280"/>
            <a:ext cx="1152720" cy="180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4284720" y="1916280"/>
            <a:ext cx="1150920" cy="180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708360" y="2852640"/>
            <a:ext cx="1150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419640" y="2349360"/>
            <a:ext cx="172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356000" y="4724280"/>
            <a:ext cx="1584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8bffd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презентации использованы цепочки и картинки Савченко Е. 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3T05:51:53Z</dcterms:created>
  <dc:creator>User</dc:creator>
  <dc:description/>
  <dc:language>en-US</dc:language>
  <cp:lastModifiedBy>User</cp:lastModifiedBy>
  <dcterms:modified xsi:type="dcterms:W3CDTF">2017-04-21T11:42:02Z</dcterms:modified>
  <cp:revision>4</cp:revision>
  <dc:subject/>
  <dc:title>Устная работа на уроке 5  «Деление десятичных дробей на натуральное число»</dc:title>
</cp:coreProperties>
</file>