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E94D-5B5A-4F08-AC69-E34050D19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. 6 класс.  Виленкин Н.Я. и др.     № 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. 6 класс.  Виленкин Н.Я. и др.     № 2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C43-6C3B-4C90-B88A-A2E6D3D4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F77-5376-4770-81EF-A874600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D79-3186-4663-B469-54BA5127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A67-1EE7-44A6-B3C5-7F6FBA9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4C7-83C6-4CA3-B829-5DC3580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8F9-320C-4A25-80DA-B11AD4D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482-B276-4A71-A12D-3870815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ED3-BA1C-4A14-B091-5D2A6A12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16C-5893-4D94-AD82-49D94CD7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59A-DD6E-4654-9E86-8EC4A70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B2A-9B60-4F44-8652-B0D981B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57A-C01E-4A1D-A60A-4CE2AEF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4E0-BB5A-4353-8FD6-1BC36491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materinstvo.ru/lofiversion/index.php/t74957-500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ная работа на уроке 5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Деление десятичных дробей на натуральное числ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лицея №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иловой С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1187280" y="4437000"/>
            <a:ext cx="234972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436896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36896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36896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44492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143000"/>
            <a:ext cx="79560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590920"/>
            <a:ext cx="76212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0666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006560"/>
            <a:ext cx="761760" cy="66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0080" y="1384200"/>
            <a:ext cx="927000" cy="180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8510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8510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638360"/>
            <a:ext cx="1440" cy="939600"/>
          </a:xfrm>
          <a:custGeom>
            <a:avLst/>
            <a:gdLst/>
            <a:ahLst/>
            <a:rect l="l" t="t" r="r" b="b"/>
            <a:pathLst>
              <a:path w="1" h="592">
                <a:moveTo>
                  <a:pt x="0" y="0"/>
                </a:moveTo>
                <a:lnTo>
                  <a:pt x="0" y="5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7524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66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 flipV="1">
            <a:off x="2971080" y="1371600"/>
            <a:ext cx="927000" cy="144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81720" y="4444920"/>
            <a:ext cx="719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38960" y="4764960"/>
            <a:ext cx="79992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7517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519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9521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419112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4572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6094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пущенные числ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5080" y="59500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x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76960" y="182880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81640" y="5715000"/>
            <a:ext cx="7621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81640" y="2911320"/>
            <a:ext cx="762120" cy="66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449600" y="60958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92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29160" y="43434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8160" y="42670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49920" y="354348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1" y="5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41972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8840" y="365760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572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7524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08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92560" y="1003320"/>
            <a:ext cx="508320" cy="774720"/>
          </a:xfrm>
          <a:custGeom>
            <a:avLst/>
            <a:gdLst/>
            <a:ahLst/>
            <a:rect l="l" t="t" r="r" b="b"/>
            <a:pathLst>
              <a:path w="320" h="488">
                <a:moveTo>
                  <a:pt x="0" y="0"/>
                </a:moveTo>
                <a:lnTo>
                  <a:pt x="320" y="4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480"/>
            <a:ext cx="8384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657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пущенные числ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29080" y="4711680"/>
            <a:ext cx="927360" cy="144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3760" y="4660920"/>
            <a:ext cx="939600" cy="1440"/>
          </a:xfrm>
          <a:custGeom>
            <a:avLst/>
            <a:gdLst/>
            <a:ahLst/>
            <a:rect l="l" t="t" r="r" b="b"/>
            <a:pathLst>
              <a:path w="592" h="1">
                <a:moveTo>
                  <a:pt x="0" y="0"/>
                </a:moveTo>
                <a:lnTo>
                  <a:pt x="5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62880" y="4876920"/>
            <a:ext cx="144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1" y="5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5840" y="42037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49658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7236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990720"/>
            <a:ext cx="457200" cy="799920"/>
          </a:xfrm>
          <a:custGeom>
            <a:avLst/>
            <a:gdLst/>
            <a:ahLst/>
            <a:rect l="l" t="t" r="r" b="b"/>
            <a:pathLst>
              <a:path w="288" h="504">
                <a:moveTo>
                  <a:pt x="288" y="0"/>
                </a:moveTo>
                <a:lnTo>
                  <a:pt x="0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054080"/>
            <a:ext cx="507960" cy="774720"/>
          </a:xfrm>
          <a:custGeom>
            <a:avLst/>
            <a:gdLst/>
            <a:ahLst/>
            <a:rect l="l" t="t" r="r" b="b"/>
            <a:pathLst>
              <a:path w="320" h="488">
                <a:moveTo>
                  <a:pt x="0" y="0"/>
                </a:moveTo>
                <a:lnTo>
                  <a:pt x="320" y="4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066680"/>
            <a:ext cx="457200" cy="800280"/>
          </a:xfrm>
          <a:custGeom>
            <a:avLst/>
            <a:gdLst/>
            <a:ahLst/>
            <a:rect l="l" t="t" r="r" b="b"/>
            <a:pathLst>
              <a:path w="288" h="504">
                <a:moveTo>
                  <a:pt x="288" y="0"/>
                </a:moveTo>
                <a:lnTo>
                  <a:pt x="0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7760" y="1092240"/>
            <a:ext cx="571680" cy="812880"/>
          </a:xfrm>
          <a:custGeom>
            <a:avLst/>
            <a:gdLst/>
            <a:ahLst/>
            <a:rect l="l" t="t" r="r" b="b"/>
            <a:pathLst>
              <a:path w="360" h="512">
                <a:moveTo>
                  <a:pt x="0" y="0"/>
                </a:moveTo>
                <a:lnTo>
                  <a:pt x="360" y="5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5080" y="59500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x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4605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762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8380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5238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9907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ять лет назад брату и сестре вместе было 9 лет. Сколько лет им будет вместе через 5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24000" y="5056200"/>
            <a:ext cx="1001880" cy="1494000"/>
            <a:chOff x="2124000" y="5056200"/>
            <a:chExt cx="1001880" cy="1494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124000" y="5084640"/>
              <a:ext cx="100188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285280" y="5973480"/>
              <a:ext cx="698760" cy="31104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1680" y="5933880"/>
              <a:ext cx="35784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000000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639520" y="5056200"/>
              <a:ext cx="340920" cy="293760"/>
              <a:chOff x="2639520" y="5056200"/>
              <a:chExt cx="340920" cy="293760"/>
            </a:xfrm>
          </p:grpSpPr>
          <p:sp>
            <p:nvSpPr>
              <p:cNvPr id="134" name=""/>
              <p:cNvSpPr/>
              <p:nvPr/>
            </p:nvSpPr>
            <p:spPr>
              <a:xfrm rot="720600">
                <a:off x="2660760" y="5084280"/>
                <a:ext cx="298080" cy="2368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720600">
                <a:off x="2784960" y="5173200"/>
                <a:ext cx="4968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271240" y="5060520"/>
              <a:ext cx="302400" cy="344160"/>
              <a:chOff x="2271240" y="5060520"/>
              <a:chExt cx="302400" cy="344160"/>
            </a:xfrm>
          </p:grpSpPr>
          <p:sp>
            <p:nvSpPr>
              <p:cNvPr id="137" name=""/>
              <p:cNvSpPr/>
              <p:nvPr/>
            </p:nvSpPr>
            <p:spPr>
              <a:xfrm rot="17028000">
                <a:off x="2274120" y="5113080"/>
                <a:ext cx="295920" cy="2386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28000">
                <a:off x="2396880" y="5202720"/>
                <a:ext cx="49320" cy="5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03640" y="4869000"/>
            <a:ext cx="11174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Задача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а столе лежали конфеты в кучке. Две матери, две дочки да бабушка с внучкой взяли конфет по одной штучке, и не стало кучки. Сколько было конфет в куч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64149" b="36845"/>
          <a:stretch/>
        </p:blipFill>
        <p:spPr>
          <a:xfrm rot="1341000">
            <a:off x="2771280" y="5084280"/>
            <a:ext cx="11098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0" r="64149" b="36845"/>
          <a:stretch/>
        </p:blipFill>
        <p:spPr>
          <a:xfrm rot="1341000">
            <a:off x="3708000" y="450864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341000">
            <a:off x="3634920" y="5373720"/>
            <a:ext cx="1109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,77    14,14     2,87    0,63     21,07     7,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т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глите каждое число до це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глите каждое число до дес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ьшите каждое из чисел в 7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ьте каждое из чисел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ьшите каждое из чисел на 0,5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Увеличить 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292640"/>
            <a:ext cx="2362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треугольников на черте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1916280"/>
            <a:ext cx="4608360" cy="1800000"/>
          </a:xfrm>
          <a:custGeom>
            <a:avLst/>
            <a:gdLst>
              <a:gd name="textAreaLeft" fmla="*/ 1013400 w 4608360"/>
              <a:gd name="textAreaRight" fmla="*/ 3594960 w 4608360"/>
              <a:gd name="textAreaTop" fmla="*/ 395640 h 1800000"/>
              <a:gd name="textAreaBottom" fmla="*/ 1404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32000" y="1916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35640" y="1916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916280"/>
            <a:ext cx="1152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84720" y="1916280"/>
            <a:ext cx="11509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2852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2349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72428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езентации использованы цепочки и картинки Савченко Е.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5:51:53Z</dcterms:created>
  <dc:creator>User</dc:creator>
  <dc:description/>
  <dc:language>en-US</dc:language>
  <cp:lastModifiedBy>User</cp:lastModifiedBy>
  <dcterms:modified xsi:type="dcterms:W3CDTF">2017-04-21T11:42:02Z</dcterms:modified>
  <cp:revision>4</cp:revision>
  <dc:subject/>
  <dc:title>Устная работа на уроке 5  «Деление десятичных дробей на натуральное число»</dc:title>
</cp:coreProperties>
</file>