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5AB-A242-4D04-9229-C3D2CBF5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FA0-25FE-4F9C-864E-D1249549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2CE15-FEFB-4475-A863-06188DEC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C430D-E9E5-4FDC-950F-213EBDEB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29A90-D4DD-4292-851B-4D7B8A32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B0544-BB95-4E24-8DDC-056BA057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097D8-650E-434F-A049-B076760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E6DAA-65DD-4049-A45A-C907399E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BB2D7-277E-44A2-BA9E-C97E7B8D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8734F-7783-4A4C-A3EB-ECB58DD5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649DA-26A6-4ADA-8F00-23756123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38565-5E92-458A-8E47-B80F9C78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143-D0F4-4A92-83C6-0D1760D2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7564A-5BA0-4B7E-8B8A-D83BD417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EF4CA-05A3-4862-83A0-909552A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7E956-1A2E-442A-A97E-44073B87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44658-3AA5-41FD-875F-C12FC7BD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FDBE4-AC4A-485B-BEE7-F8740137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A98F8-6FF7-4D08-8AB7-6C47727C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CC2C8-4B84-4752-A155-02C17B1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C5149-7797-4A7F-A133-01DCB743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2A268-0DDC-4BBE-81C1-D2BC5E4F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0EE46-CDA5-4DEF-BF0F-6BB2B564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55D-4406-4985-952A-D8A34278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A3874-2583-4A67-BA20-997E852F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B8FD0-C0F3-43FB-BDAA-A39685A0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4AEEC-CC04-478B-9488-F5F4E3BF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92D9A-2A4C-4A9D-8139-B1047D3B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32C94-CEEC-49AA-8F01-CF2A13BC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1D1A0-FEA9-4678-BCDA-4F087132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A211C-E833-4FA1-8A15-B832B0AF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6D5DE-8256-41CF-9AB5-0674A50F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6EC13-0D72-4EF8-BE3F-E55EA04C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E9DA3-9BEA-491E-BDCD-3D9798C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79C6-22EF-441E-A333-38E8C935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8F0E6-4C2F-4174-BAA4-441EE4AD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930E8-01D5-4DD9-B1A6-01D2E6CF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AEF8C-19A5-4C87-B49D-BD2F94E6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EF3EA-BA1C-4399-8FF1-13F94957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49624-10A7-47FE-9D6B-ECDDEEB8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5654F-E0FD-45DB-B5CD-E0D842D8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3C7EA-F59B-4332-BD32-3F362E53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08258-824A-4425-BFD9-E841677C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F72F6-1AB4-48F8-A884-B4E96BF8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CCDCE-91F0-4812-96A0-E4D65B68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6A81-26DB-4C9A-90BF-12A05A72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92FAC-7AF7-4C3E-91C0-40C81A79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0AE9D-8945-4D72-BC23-F103FD5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AA57D-1985-4DD2-953A-17A7BF48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E01DC-0C19-47E9-9B17-0BB328C9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276EE-50D2-4308-808F-B041312A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6256-9574-4633-AB77-C103AC73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7D10-C238-46F5-90AF-33425B4E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F8E8-7BFB-410C-8C96-72C4DA6F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C5FB-C182-4530-9133-F156E0F6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C85F-0B73-4BEC-8690-C075DEC8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42E-4658-4DCE-AA1A-9A4D40EB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8E47-48BD-409C-9888-F00CE87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A21-A303-479D-A522-E5C41C55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EB75-F2C2-4571-A799-5C79674A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3021-7C0A-40ED-ACB4-201EC140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72A7-679E-43D1-83B5-83BD59D1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922A-DD86-4018-8291-58E48ADC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E2CC-8926-4C0B-83B0-8E897CEC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37FC-15D0-405A-A917-71B92E82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FE2D-5260-4B6E-A8EA-28A005C0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9C6BD-04CE-4557-B305-F2126A6D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06B-B4D8-4FAC-9B84-C3F26230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E1DB-A0A7-4E2F-99F0-6AE0B169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EFA4-97D8-465A-A3C5-674672F2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BBFB-46C6-4266-88F4-CBD85C9D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8FC8-B4AA-4ECC-A6FF-CFEC0FA1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52D6-E141-4D5C-8888-988A6892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4B42-3D71-44A5-8504-DFA73059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887E-A82E-4269-B4AA-D3C1DCCD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FA1C-7D3B-4DD5-A87E-2F7B60B5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8FAFF-D344-4AE1-B1D5-3C7F03CF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6BD75-3056-4CCA-B6F0-CE3345C0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D5C-9B68-4316-9BDE-6C0DF035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AF9F-1E20-4860-AFC3-5DFD93B0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1ED5-F40B-4C7C-A41D-5F0CB6B3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9813D-34ED-4B84-B220-3E54FF6B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7B6F-4F6A-4B47-B655-A1E2C7EE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D9C0-D970-471E-B698-4FFF46FB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FB44-0D73-4BF1-9015-C6CDC572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44968-8EBE-48C5-9A81-7325825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3ECE-01EC-4A6C-B724-CC791DD0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A1129-D575-4DCE-9ED6-9A999620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E7CC1-027E-470A-B76C-5B6CF7BC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AD1-8296-4683-8C5C-1E5F63CB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440F-7F99-4A05-B227-DC746C6B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F4105-2D8C-4A9F-ABAB-0826B622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868B1-436D-4EC2-8C50-E67A9E3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F8376-BBD8-461D-8D92-D5063DE2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505C4-9F8C-4C59-B549-E897CB03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611A8-0A2A-4077-98CE-A8E34C57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5DC14-C10F-44C4-964C-6A75C65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9A28-F82E-4485-AD45-89046CD6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D5167-4DA6-47BA-B949-6CF356B3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9773-3B27-44F6-934F-AB26CC96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AB5-CA09-4EB3-87F2-F48F62B8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BB2E4-6C3D-42AF-A5FC-C3E8C4B1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1C96-94C4-4996-9729-3C2C283A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C00C2-B923-44B3-9AD4-7A34518A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0087-788A-4C31-B512-2FF680BE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17CD6-ACD3-461C-B23D-651987BF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D71D4-89A5-4A77-B966-BBF4B7B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4BDED-3F6F-4940-94B4-0F695F6E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08A65-C185-4248-98F1-F50FA3B9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34ADD-F242-40CE-872D-FE10D410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18C1D-9D37-4BD2-A1B7-EC154A70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914-1D09-48C0-BE09-7FBCDFD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4408-153F-463D-9AF1-A3FEC41E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B74BE-B57B-4D14-85C3-329AF003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FE293-4A47-485A-8FDB-B0B3FEFB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912E7-51B3-4D39-97FA-FB1CFC87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6ADEA-33BB-4DB6-91BC-1649076E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8A52-0E4B-4A9E-AF1E-52DF8CE8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8D8B9-1508-4AD0-AB7E-4377D9F2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8518A-1CAE-4A32-AAF7-2030D6A8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5FDE4-5042-421C-8319-35831AA5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BC2EC-89E6-485F-8236-F6F59619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9A9-B447-4479-929C-1A373ED0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3C4D3-13A6-479C-9B42-A2E8D83A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DD6AE-6FFD-4B45-83FD-0D21B2B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1312D-51C5-47D0-BAA4-4169BEF8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E2B43-ED11-42FC-9C58-84907B80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D2F3-D74C-414A-BD78-8092485C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6563-3B12-442F-B01F-DA62DC68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0C7C1-F17B-46FA-8A17-6FA7AC6A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98BA7-D23E-4091-899E-08FC190F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E8CB2-A476-480E-8BA6-D0B2B9D0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4A02F-43EA-4204-8411-8D39D598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20E-3A38-4A3A-80B9-5C14506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794A2-74D9-4D06-9D73-5F56BE5B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4D4A4-60CC-4EAA-950A-A8FD66E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FEF31-B1B6-4A3D-98B7-F659096F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6FFC-937D-4322-A708-88F2FA0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C59CB-E1F8-4DD0-97B3-F47C6FD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1B100-CC56-47A1-AE93-2909AAA5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9161-E11A-43E7-825C-C2A816EC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F4395-D918-48CE-B5F5-30A36FA0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D5190-606A-4409-922A-AD4C007F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0FE7D-09F9-4DCB-A59D-9C793C3E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b48200">
                  <a:alpha val="69019"/>
                </a:srgbClr>
              </a:gs>
              <a:gs pos="100000">
                <a:srgbClr val="f0a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8984-AB13-4494-BF42-587927531A6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f0ad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680" y="2894760"/>
              <a:ext cx="687096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8000" y="3889440"/>
            <a:ext cx="762120" cy="755640"/>
            <a:chOff x="6858000" y="3889440"/>
            <a:chExt cx="762120" cy="7556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8000" y="388944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91320" y="4572000"/>
            <a:ext cx="384120" cy="384120"/>
            <a:chOff x="5791320" y="4572000"/>
            <a:chExt cx="384120" cy="38412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91320" y="45720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9320" y="384120"/>
            <a:ext cx="731880" cy="731880"/>
            <a:chOff x="1219320" y="384120"/>
            <a:chExt cx="731880" cy="7318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9320" y="384120"/>
              <a:ext cx="731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8A20-96D4-40C6-8D14-D57166041D6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BE6D-D5E5-4D33-984C-EA58FDDADC2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50400" y="5645160"/>
            <a:ext cx="755640" cy="755640"/>
            <a:chOff x="8150400" y="5645160"/>
            <a:chExt cx="755640" cy="75564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50400" y="564516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43960" y="5211720"/>
            <a:ext cx="384120" cy="384120"/>
            <a:chOff x="8643960" y="5211720"/>
            <a:chExt cx="384120" cy="38412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43960" y="52117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5840" y="5645160"/>
            <a:ext cx="830160" cy="828720"/>
            <a:chOff x="285840" y="5645160"/>
            <a:chExt cx="830160" cy="8287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5840" y="5645160"/>
              <a:ext cx="830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ECA3-D359-40FD-BD42-E1FB8FD39D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9320" y="1298520"/>
            <a:ext cx="987480" cy="987480"/>
            <a:chOff x="7699320" y="1298520"/>
            <a:chExt cx="987480" cy="9874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9320" y="129852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6760" y="1932120"/>
            <a:ext cx="511200" cy="512640"/>
            <a:chOff x="7016760" y="1932120"/>
            <a:chExt cx="511200" cy="51264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6760" y="1932120"/>
              <a:ext cx="5112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9040" y="4114800"/>
            <a:ext cx="1212840" cy="1219320"/>
            <a:chOff x="689040" y="4114800"/>
            <a:chExt cx="1212840" cy="12193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9040" y="4114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D2A-3E64-47C1-96D9-3346AEC4012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b48200">
                  <a:alpha val="69019"/>
                </a:srgbClr>
              </a:gs>
              <a:gs pos="100000">
                <a:srgbClr val="f0a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9120" y="669960"/>
            <a:ext cx="755640" cy="757080"/>
            <a:chOff x="8169120" y="669960"/>
            <a:chExt cx="755640" cy="75708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9120" y="669960"/>
              <a:ext cx="755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81840" y="1352520"/>
            <a:ext cx="384120" cy="384120"/>
            <a:chOff x="7881840" y="1352520"/>
            <a:chExt cx="384120" cy="38412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81840" y="13525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5840" y="785880"/>
            <a:ext cx="993600" cy="1000080"/>
            <a:chOff x="285840" y="785880"/>
            <a:chExt cx="993600" cy="100008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5840" y="78588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7323-05F9-4F79-A08E-FA8DCBC7732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02972" y="4559785"/>
                  <a:pt x="1992246" y="3966388"/>
                  <a:pt x="3115058" y="3911480"/>
                </a:cubicBezTo>
                <a:cubicBezTo>
                  <a:pt x="4237870" y="3856572"/>
                  <a:pt x="5939190" y="4331788"/>
                  <a:pt x="6736870" y="4428289"/>
                </a:cubicBezTo>
                <a:cubicBezTo>
                  <a:pt x="7534550" y="4524790"/>
                  <a:pt x="8253185" y="4658343"/>
                  <a:pt x="9149297" y="4461355"/>
                </a:cubicBezTo>
                <a:cubicBezTo>
                  <a:pt x="9150597" y="300012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14528" y="4596192"/>
                  <a:pt x="1857799" y="4264120"/>
                  <a:pt x="2980996" y="4236720"/>
                </a:cubicBezTo>
                <a:cubicBezTo>
                  <a:pt x="4104193" y="4209320"/>
                  <a:pt x="5900665" y="4503309"/>
                  <a:pt x="6739180" y="4593336"/>
                </a:cubicBezTo>
                <a:cubicBezTo>
                  <a:pt x="7577695" y="4683363"/>
                  <a:pt x="8253185" y="4731157"/>
                  <a:pt x="9149297" y="4383685"/>
                </a:cubicBezTo>
                <a:cubicBezTo>
                  <a:pt x="9150597" y="292245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b48200">
                  <a:alpha val="69019"/>
                </a:srgbClr>
              </a:gs>
              <a:gs pos="100000">
                <a:srgbClr val="f0a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64360" y="3852720"/>
            <a:ext cx="762120" cy="755640"/>
            <a:chOff x="8064360" y="3852720"/>
            <a:chExt cx="762120" cy="7556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64360" y="38527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91480" y="4535640"/>
            <a:ext cx="382680" cy="384120"/>
            <a:chOff x="7791480" y="4535640"/>
            <a:chExt cx="382680" cy="3841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91480" y="4535640"/>
              <a:ext cx="3826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304920" y="3840120"/>
            <a:ext cx="993600" cy="1000080"/>
            <a:chOff x="304920" y="3840120"/>
            <a:chExt cx="993600" cy="100008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304920" y="384012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41A2-86D7-4E82-B7CA-79CC5B406C8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custGeom>
            <a:avLst/>
            <a:gdLst/>
            <a:ahLst/>
            <a:rect l="l" t="t" r="r" b="b"/>
            <a:pathLst>
              <a:path w="9144000" h="1929384">
                <a:moveTo>
                  <a:pt x="0" y="256032"/>
                </a:moveTo>
                <a:lnTo>
                  <a:pt x="0" y="1929384"/>
                </a:lnTo>
                <a:cubicBezTo>
                  <a:pt x="574548" y="1726692"/>
                  <a:pt x="1449324" y="1360932"/>
                  <a:pt x="2971800" y="1307592"/>
                </a:cubicBezTo>
                <a:cubicBezTo>
                  <a:pt x="4494276" y="1254252"/>
                  <a:pt x="7606284" y="1872996"/>
                  <a:pt x="9134856" y="1609344"/>
                </a:cubicBezTo>
                <a:lnTo>
                  <a:pt x="9144000" y="0"/>
                </a:lnTo>
                <a:lnTo>
                  <a:pt x="8503920" y="0"/>
                </a:lnTo>
                <a:cubicBezTo>
                  <a:pt x="7543800" y="844296"/>
                  <a:pt x="5111496" y="420624"/>
                  <a:pt x="3858768" y="320040"/>
                </a:cubicBezTo>
                <a:cubicBezTo>
                  <a:pt x="2606040" y="219456"/>
                  <a:pt x="1435608" y="76200"/>
                  <a:pt x="0" y="256032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custGeom>
            <a:avLst/>
            <a:gdLst/>
            <a:ahLst/>
            <a:rect l="l" t="t" r="r" b="b"/>
            <a:pathLst>
              <a:path w="9144381" h="1409700">
                <a:moveTo>
                  <a:pt x="381" y="426720"/>
                </a:moveTo>
                <a:cubicBezTo>
                  <a:pt x="1664589" y="0"/>
                  <a:pt x="3036189" y="134112"/>
                  <a:pt x="4544949" y="234696"/>
                </a:cubicBezTo>
                <a:cubicBezTo>
                  <a:pt x="6053709" y="335280"/>
                  <a:pt x="8239125" y="509016"/>
                  <a:pt x="9144381" y="33528"/>
                </a:cubicBezTo>
                <a:lnTo>
                  <a:pt x="9144381" y="1075944"/>
                </a:lnTo>
                <a:cubicBezTo>
                  <a:pt x="8004429" y="1409700"/>
                  <a:pt x="5931852" y="960582"/>
                  <a:pt x="4407789" y="1011936"/>
                </a:cubicBezTo>
                <a:cubicBezTo>
                  <a:pt x="2883726" y="1063290"/>
                  <a:pt x="1237488" y="1109751"/>
                  <a:pt x="0" y="1384071"/>
                </a:cubicBezTo>
                <a:lnTo>
                  <a:pt x="381" y="426720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15280" y="103320"/>
            <a:ext cx="609480" cy="609480"/>
            <a:chOff x="8315280" y="103320"/>
            <a:chExt cx="609480" cy="60948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15280" y="1033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64320" y="176040"/>
            <a:ext cx="366840" cy="366840"/>
            <a:chOff x="7564320" y="176040"/>
            <a:chExt cx="366840" cy="36684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64320" y="176040"/>
              <a:ext cx="36684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12760" y="933480"/>
            <a:ext cx="993600" cy="998640"/>
            <a:chOff x="212760" y="933480"/>
            <a:chExt cx="993600" cy="9986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12760" y="933480"/>
              <a:ext cx="9936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4A10-6D39-47F8-A62E-34056571A0F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b48200">
                  <a:alpha val="69019"/>
                </a:srgbClr>
              </a:gs>
              <a:gs pos="100000">
                <a:srgbClr val="f0a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9600" y="1006560"/>
            <a:ext cx="615960" cy="614160"/>
            <a:chOff x="8229600" y="1006560"/>
            <a:chExt cx="615960" cy="61416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9600" y="1006560"/>
              <a:ext cx="6159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9320" y="969840"/>
            <a:ext cx="384120" cy="382680"/>
            <a:chOff x="7699320" y="969840"/>
            <a:chExt cx="384120" cy="3826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9320" y="969840"/>
              <a:ext cx="38412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5840" y="785880"/>
            <a:ext cx="993600" cy="1000080"/>
            <a:chOff x="285840" y="785880"/>
            <a:chExt cx="993600" cy="100008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5840" y="78588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D201-3E61-4955-8C79-299CAEE14B6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8B2B-A88F-4CBB-A759-56531D7022F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custGeom>
              <a:avLst/>
              <a:gdLst/>
              <a:ahLst/>
              <a:rect l="l" t="t" r="r" b="b"/>
              <a:pathLst>
                <a:path w="9150620" h="1470041">
                  <a:moveTo>
                    <a:pt x="52" y="1284"/>
                  </a:moveTo>
                  <a:cubicBezTo>
                    <a:pt x="35" y="491948"/>
                    <a:pt x="17" y="761872"/>
                    <a:pt x="0" y="1252536"/>
                  </a:cubicBezTo>
                  <a:cubicBezTo>
                    <a:pt x="304800" y="1097088"/>
                    <a:pt x="1803165" y="328826"/>
                    <a:pt x="3622738" y="425264"/>
                  </a:cubicBezTo>
                  <a:cubicBezTo>
                    <a:pt x="5442311" y="521702"/>
                    <a:pt x="6970396" y="1470041"/>
                    <a:pt x="9144052" y="877824"/>
                  </a:cubicBezTo>
                  <a:cubicBezTo>
                    <a:pt x="9146241" y="585216"/>
                    <a:pt x="9148431" y="292608"/>
                    <a:pt x="9150620" y="0"/>
                  </a:cubicBezTo>
                  <a:lnTo>
                    <a:pt x="52" y="1284"/>
                  </a:lnTo>
                  <a:close/>
                </a:path>
              </a:pathLst>
            </a:custGeom>
            <a:solidFill>
              <a:srgbClr val="f0ad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custGeom>
              <a:avLst/>
              <a:gdLst/>
              <a:ahLst/>
              <a:rect l="l" t="t" r="r" b="b"/>
              <a:pathLst>
                <a:path w="9144052" h="1282732">
                  <a:moveTo>
                    <a:pt x="2371" y="1971"/>
                  </a:moveTo>
                  <a:cubicBezTo>
                    <a:pt x="1581" y="305263"/>
                    <a:pt x="790" y="446133"/>
                    <a:pt x="0" y="749425"/>
                  </a:cubicBezTo>
                  <a:cubicBezTo>
                    <a:pt x="414528" y="587881"/>
                    <a:pt x="1394642" y="355830"/>
                    <a:pt x="3114923" y="315034"/>
                  </a:cubicBezTo>
                  <a:cubicBezTo>
                    <a:pt x="4835204" y="274238"/>
                    <a:pt x="7500499" y="1282732"/>
                    <a:pt x="9144052" y="537135"/>
                  </a:cubicBezTo>
                  <a:cubicBezTo>
                    <a:pt x="9143751" y="358090"/>
                    <a:pt x="9143451" y="179045"/>
                    <a:pt x="9143150" y="0"/>
                  </a:cubicBezTo>
                  <a:lnTo>
                    <a:pt x="2371" y="1971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8D3F-C067-49EF-948A-E4E4070FB7B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f0ad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680" y="2894760"/>
              <a:ext cx="687096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17A8-90CE-40F0-8969-70F596992A0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Прямоугольник 3" descr=""/>
          <p:cNvPicPr/>
          <p:nvPr/>
        </p:nvPicPr>
        <p:blipFill>
          <a:blip r:embed="rId1"/>
          <a:stretch/>
        </p:blipFill>
        <p:spPr>
          <a:xfrm>
            <a:off x="682560" y="4389480"/>
            <a:ext cx="9283680" cy="16826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"/>
          <p:cNvPicPr/>
          <p:nvPr/>
        </p:nvPicPr>
        <p:blipFill>
          <a:blip r:embed="rId2"/>
          <a:stretch/>
        </p:blipFill>
        <p:spPr>
          <a:xfrm>
            <a:off x="1000080" y="-30240"/>
            <a:ext cx="4084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Заголовок 2" descr=""/>
          <p:cNvPicPr/>
          <p:nvPr/>
        </p:nvPicPr>
        <p:blipFill>
          <a:blip r:embed="rId1"/>
          <a:stretch/>
        </p:blipFill>
        <p:spPr>
          <a:xfrm>
            <a:off x="469800" y="109440"/>
            <a:ext cx="8229600" cy="1567080"/>
          </a:xfrm>
          <a:prstGeom prst="rect">
            <a:avLst/>
          </a:prstGeom>
          <a:ln w="0">
            <a:noFill/>
          </a:ln>
        </p:spPr>
      </p:pic>
      <p:pic>
        <p:nvPicPr>
          <p:cNvPr id="612" name="Объект 3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6912000" cy="46990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"/>
          <p:cNvPicPr/>
          <p:nvPr/>
        </p:nvPicPr>
        <p:blipFill>
          <a:blip r:embed="rId3"/>
          <a:stretch/>
        </p:blipFill>
        <p:spPr>
          <a:xfrm>
            <a:off x="250920" y="5877000"/>
            <a:ext cx="2592360" cy="431640"/>
          </a:xfrm>
          <a:prstGeom prst="rect">
            <a:avLst/>
          </a:prstGeom>
          <a:ln w="0">
            <a:noFill/>
          </a:ln>
        </p:spPr>
      </p:pic>
      <p:cxnSp>
        <p:nvCxnSpPr>
          <p:cNvPr id="614" name="Прямая со стрелкой 5"/>
          <p:cNvCxnSpPr/>
          <p:nvPr/>
        </p:nvCxnSpPr>
        <p:spPr>
          <a:xfrm flipV="1">
            <a:off x="2484000" y="4941360"/>
            <a:ext cx="359640" cy="93600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5" name="Прямая со стрелкой 9"/>
          <p:cNvCxnSpPr/>
          <p:nvPr/>
        </p:nvCxnSpPr>
        <p:spPr>
          <a:xfrm flipV="1">
            <a:off x="2484360" y="3788640"/>
            <a:ext cx="1512000" cy="208836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Заголовок 2" descr=""/>
          <p:cNvPicPr/>
          <p:nvPr/>
        </p:nvPicPr>
        <p:blipFill>
          <a:blip r:embed="rId1"/>
          <a:stretch/>
        </p:blipFill>
        <p:spPr>
          <a:xfrm>
            <a:off x="396720" y="401760"/>
            <a:ext cx="8229600" cy="1214280"/>
          </a:xfrm>
          <a:prstGeom prst="rect">
            <a:avLst/>
          </a:prstGeom>
          <a:ln w="0">
            <a:noFill/>
          </a:ln>
        </p:spPr>
      </p:pic>
      <p:pic>
        <p:nvPicPr>
          <p:cNvPr id="617" name="Объект 3" descr="Картинки по запросу схема строения клеточного центра"/>
          <p:cNvPicPr/>
          <p:nvPr/>
        </p:nvPicPr>
        <p:blipFill>
          <a:blip r:embed="rId2"/>
          <a:stretch/>
        </p:blipFill>
        <p:spPr>
          <a:xfrm>
            <a:off x="179280" y="1700280"/>
            <a:ext cx="4969080" cy="432108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4"/>
          <p:cNvSpPr/>
          <p:nvPr/>
        </p:nvSpPr>
        <p:spPr>
          <a:xfrm>
            <a:off x="5148360" y="2995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материнская центрио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– дочерняя центрио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 микротрубочки (центросфер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триплеты микротруб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1" name="Picture 2" descr="Картинки по запросу функции центриолей"/>
          <p:cNvPicPr/>
          <p:nvPr/>
        </p:nvPicPr>
        <p:blipFill>
          <a:blip r:embed="rId1"/>
          <a:stretch/>
        </p:blipFill>
        <p:spPr>
          <a:xfrm>
            <a:off x="19080" y="1341360"/>
            <a:ext cx="9188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3" name="Заголовок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Картинки по запросу функции центриолей веретино деления"/>
          <p:cNvPicPr/>
          <p:nvPr/>
        </p:nvPicPr>
        <p:blipFill>
          <a:blip r:embed="rId2"/>
          <a:stretch/>
        </p:blipFill>
        <p:spPr>
          <a:xfrm>
            <a:off x="539640" y="1773360"/>
            <a:ext cx="8266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Прямоугольник 1" descr=""/>
          <p:cNvPicPr/>
          <p:nvPr/>
        </p:nvPicPr>
        <p:blipFill>
          <a:blip r:embed="rId1"/>
          <a:stretch/>
        </p:blipFill>
        <p:spPr>
          <a:xfrm>
            <a:off x="853920" y="603360"/>
            <a:ext cx="7405920" cy="1689120"/>
          </a:xfrm>
          <a:prstGeom prst="rect">
            <a:avLst/>
          </a:prstGeom>
          <a:ln w="0">
            <a:noFill/>
          </a:ln>
        </p:spPr>
      </p:pic>
      <p:sp>
        <p:nvSpPr>
          <p:cNvPr id="626" name="Текст 3"/>
          <p:cNvSpPr/>
          <p:nvPr/>
        </p:nvSpPr>
        <p:spPr>
          <a:xfrm>
            <a:off x="5500800" y="1500120"/>
            <a:ext cx="3213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0" descr="Картинки по запросу строение рибосомы"/>
          <p:cNvPicPr/>
          <p:nvPr/>
        </p:nvPicPr>
        <p:blipFill>
          <a:blip r:embed="rId2"/>
          <a:stretch/>
        </p:blipFill>
        <p:spPr>
          <a:xfrm>
            <a:off x="1692360" y="1882800"/>
            <a:ext cx="46800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6:42:06Z</dcterms:created>
  <dc:creator>1</dc:creator>
  <dc:description/>
  <dc:language>en-US</dc:language>
  <cp:lastModifiedBy>Кабинет 22</cp:lastModifiedBy>
  <dcterms:modified xsi:type="dcterms:W3CDTF">2016-10-21T04:49:54Z</dcterms:modified>
  <cp:revision>58</cp:revision>
  <dc:subject/>
  <dc:title>Слайд 1</dc:title>
</cp:coreProperties>
</file>