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5BC-3171-42EA-B971-9E53161D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5B2-C1A0-4669-AD83-74089B26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E391F-DA91-4A34-8AC1-4CB562A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7790C-136F-4754-8C59-D7460FCC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513B7-E754-408F-92B8-905C6C14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B7E75-2210-48A9-805D-EBC9FCB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84411-5E95-4CD5-894F-0C2F598B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61838-8F30-481E-ACDF-2E85655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D48BA-0500-432F-8D43-C6435885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0F6DB-4083-405D-B0C6-A449C6E8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6B9A6-5F39-4F93-91A8-125C9E4A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F6A29-E76B-4B54-AB61-F76A8D8C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826-6D24-40CD-93DE-28FF0C85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9CF16-5FBE-4FAA-814B-8F3B6BD1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C81E3-896A-4A6C-BDFD-C3A7E4F5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DC8DE-9E21-4879-8627-ABA079F2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6356D-77CC-4EC8-9C55-22A85914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FD6EC-6B33-4D7D-BDCF-3020EDDE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70FAA-23BE-4786-A94A-25D6F0B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D4AAE-53E4-461F-AB2A-1A1506BA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614CA-3AA4-47AB-AF22-B678B64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D982F-5F59-4073-9B00-26C9E6E9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2F19F-0B22-4AA0-985A-EC2F3FB4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918-6036-414A-B006-6112957B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7CE2A-FF58-4CD7-A50F-CB4C4209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B11AC-2454-4492-BE48-9B04DA39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0141A-6D54-4716-89CF-66BC1038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080B5-5BEA-4ECF-9207-ABB0910C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248BD-49E5-4C32-B953-EF299446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E9C21-4A01-4FEF-8DB2-997CDEA4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A93E2-6B1E-4393-8BD5-6BF11908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F4B18-AB89-427B-9D48-16F59923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D62D5-5ADD-46FB-9805-E25D09F2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97CEE-F3E1-4780-ADD1-61189F83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CC0B-6D2B-4CB3-809F-34D13632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1FDF0-36AA-4BDC-A2F8-7A628A72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F40A0-BC2B-4D24-BD34-4D32F2DE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DA392-2532-4CF7-BFC2-0D862A28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46F3D-1ACD-4DC8-90BD-DB44B496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51717-B84B-4FED-BE9C-3B49E052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7A5FA-26F1-4E78-924C-E848E87D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CFECD-3F03-4C73-B80D-FFAFDC7B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B8AD9-DCEB-4634-8D9A-C74F6FCD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F3E3E-8E4E-4D27-B195-A5E77486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A9FC0-129E-4CA4-A3B7-AE27D573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4900-D48E-4DBC-A38B-296B3D56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F4C94-E95E-4FF4-BC5A-CE9D1457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5453C-7E60-4933-8D6C-F6D62C1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009FC-CD82-4436-B82F-816D7663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57E88-02B2-428A-B7A2-9989C840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783E8-F438-4DEA-B9BB-FB4A53D0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68BC-D467-4D3B-8466-2D505148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CACD-E63E-4C0B-8F85-13914300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B67A-C1F4-4B9F-BE67-96F22665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D8C6-F137-47AD-ADFC-8ECB9087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27F0-0A26-4018-B3CE-F5533F63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521-9F07-48A5-8FA5-0F9B8CF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B0BE-F1EE-4902-BD0D-B4281843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7478-23D5-4B4E-A18B-820778B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C1F7-F7A3-4B58-B5ED-F038174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517B-9F80-42BF-A5B5-AEDB8F11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7620-C466-4825-8263-21740EA0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E4CA-1FDE-42BB-90D9-A68E50CD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1BA8-FF7E-45CB-8ECD-CB5B0D9C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AA6C-803B-4245-AD78-9360814A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8ED7-1BAD-4F0F-A239-D2B1FDF4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AFE9-DF1D-498A-A3D8-3457E227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4F7-41DC-4FCD-8064-060F138A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58E0-18FD-445A-96E5-0A9A9744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C0F8-8AB1-4CBF-94EB-ED6A4683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4701-4807-427D-B144-23F0391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D5F6-942E-40EA-873A-0550AB6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F77E-8209-4C31-B060-D1023BB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8B3F-3EF6-4EF5-95F5-978B948A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8D45-69F8-4D6E-B9C9-CF2722F5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7EB7-6A9A-4D4F-B059-BD8957CD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614ED-996E-4A77-B275-4E05A36F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F2966-BE89-4E76-B669-309BF3C6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04D-4B38-430C-86F3-E760885B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6DFE5-CB75-4FC9-BD3C-3CF99A88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B13F-5D66-497F-A969-B7E4BF3F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6AFCF-59EC-41FE-AEA3-7DF3EEB8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8246D-52AC-41A6-A12E-0866FAF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B4E7-7316-49C6-8FF6-DD594168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E7F99-5765-49DD-814D-8176141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9E6E-CCEE-42FB-A8FE-66FCCABD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34C6-1B57-4D31-B85B-3D0BC669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C464-C800-418C-A1F8-753BD56A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A3D1-9722-4A5A-A827-17DCBF34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AAF-5316-4884-AC67-428994BD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2C2B4-9EF8-47A6-913B-FDC5AA9C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D2C98-BD18-4EE5-A1F2-8AB14A2F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D6936-8E59-4CB8-A7AB-DFC9D0FD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0610D-2F08-4D80-9557-DB07D1D4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F290D-0361-4ADE-9A32-42F42698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4DAE1-87B6-4AAD-B85D-89F727A3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1C494-1A8A-443A-9633-29A348D5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7B723-697B-4585-96CA-D1035142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4F74-0C2C-4781-A489-AD1DEE2D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D8DE8-EC98-4149-9BB3-A95A2AB9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4FD-459F-4FF4-84D9-113E60C3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C0F20-41C6-4778-9805-7FE2CBDE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15C7C-82A9-495A-A57B-3AB20A15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B04A3-7A2B-4F38-9122-8EBDC4C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55926-9947-4A8C-AB7C-821E9B9B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17291-2C3A-4C95-ABC1-E0CEF93C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01106-5243-4B05-A47A-F67DA9A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76D0C-F848-4104-817C-2B4CC4D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D630-B2EB-4451-98F9-14D06159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80F7-39B4-459C-B3FF-CB24147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626D5-8C70-43C4-A4B6-35EFCC5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85F-4578-4EBF-B239-83E2AB94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2F8D9-662C-418F-B454-6DE21675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30C3-6D58-46E0-90BD-E970EC84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86B54-714C-4E01-929A-BAB3636F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B2628-849D-4071-8A7A-225F679F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075E1-86A9-44BE-B0C1-94A06FDE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36B49-D09B-4731-B024-59F4454A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6AFD1-709C-486C-B49F-0DDE9378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F2F7-0F80-4D0E-8FA3-51157C41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094A0-A62B-4C14-9856-23FC677A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1AEA7-A013-483F-91F5-15296161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664-4D1D-485F-9953-3612BA2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523FC-E01C-4FF2-914D-C77659CA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3D35F-4D79-49AF-A2CB-3C6561E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3B96-6721-46ED-A534-0A94D00D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54AF-ECA5-4F78-A0C6-16FA01BE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3032-714E-491E-9604-114C26A6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577D6-FA82-495F-8152-AED93B6B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58A05-5D95-4833-B8F7-E8A70717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2675-4A85-4EC8-B17D-9ECBB0CA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ACB28-8FEC-468B-A048-5D233608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909C9-600F-4E2F-AADE-20B53BBD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BB0-66EC-4E46-A8AD-08661095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19AD3-1284-40E2-8798-282F551C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349B4-92A1-435E-91E9-772AEBF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3E5C7-59EC-4B54-B2D3-80616C71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FBA07-A4BC-43BB-A5AD-B711AEEF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C9F5F-3D2C-46BD-A8D8-6DF15BE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C78EB-C1ED-41CA-AF9B-AE2DD61D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2085-6FB1-49FC-9C23-664C6AD6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073B8-5B79-471C-8AB6-0A37F665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CED6B-79E4-44A4-9498-72FDB94A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AB7E1-EA00-4C65-8A1A-8165893C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b48200">
                  <a:alpha val="69019"/>
                </a:srgbClr>
              </a:gs>
              <a:gs pos="100000">
                <a:srgbClr val="f0a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CA4E-BD9B-4D7E-B08B-AA3D8E593FF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f0ad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8000" y="3889440"/>
            <a:ext cx="762120" cy="755640"/>
            <a:chOff x="6858000" y="3889440"/>
            <a:chExt cx="762120" cy="7556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8000" y="388944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91320" y="4572000"/>
            <a:ext cx="384120" cy="384120"/>
            <a:chOff x="5791320" y="4572000"/>
            <a:chExt cx="384120" cy="38412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91320" y="45720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9320" y="384120"/>
            <a:ext cx="731880" cy="731880"/>
            <a:chOff x="1219320" y="384120"/>
            <a:chExt cx="731880" cy="7318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9320" y="384120"/>
              <a:ext cx="731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C094-BABD-4B6F-BF27-AB7B6246B99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B803-1B94-4481-A889-5AA067C4E82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50400" y="5645160"/>
            <a:ext cx="755640" cy="755640"/>
            <a:chOff x="8150400" y="5645160"/>
            <a:chExt cx="755640" cy="75564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50400" y="56451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43960" y="5211720"/>
            <a:ext cx="384120" cy="384120"/>
            <a:chOff x="8643960" y="5211720"/>
            <a:chExt cx="384120" cy="38412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43960" y="52117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5840" y="5645160"/>
            <a:ext cx="830160" cy="828720"/>
            <a:chOff x="285840" y="5645160"/>
            <a:chExt cx="830160" cy="8287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5840" y="5645160"/>
              <a:ext cx="830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AC8A-4C32-4065-B7E7-0193AF3C37B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9320" y="1298520"/>
            <a:ext cx="987480" cy="987480"/>
            <a:chOff x="7699320" y="1298520"/>
            <a:chExt cx="987480" cy="9874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9320" y="129852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6760" y="1932120"/>
            <a:ext cx="511200" cy="512640"/>
            <a:chOff x="7016760" y="1932120"/>
            <a:chExt cx="511200" cy="51264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6760" y="1932120"/>
              <a:ext cx="5112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9040" y="4114800"/>
            <a:ext cx="1212840" cy="1219320"/>
            <a:chOff x="689040" y="4114800"/>
            <a:chExt cx="1212840" cy="12193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9040" y="4114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CB48-6917-4DA6-AABA-55F73BE2172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b48200">
                  <a:alpha val="69019"/>
                </a:srgbClr>
              </a:gs>
              <a:gs pos="100000">
                <a:srgbClr val="f0a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9120" y="669960"/>
            <a:ext cx="755640" cy="757080"/>
            <a:chOff x="8169120" y="669960"/>
            <a:chExt cx="755640" cy="75708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9120" y="669960"/>
              <a:ext cx="755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81840" y="1352520"/>
            <a:ext cx="384120" cy="384120"/>
            <a:chOff x="7881840" y="1352520"/>
            <a:chExt cx="384120" cy="38412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81840" y="13525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5840" y="785880"/>
            <a:ext cx="993600" cy="1000080"/>
            <a:chOff x="285840" y="785880"/>
            <a:chExt cx="993600" cy="100008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5840" y="78588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FB27-E95A-4539-9879-75D697993A4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b48200">
                  <a:alpha val="69019"/>
                </a:srgbClr>
              </a:gs>
              <a:gs pos="100000">
                <a:srgbClr val="f0a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64360" y="3852720"/>
            <a:ext cx="762120" cy="755640"/>
            <a:chOff x="8064360" y="3852720"/>
            <a:chExt cx="762120" cy="7556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64360" y="38527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91480" y="4535640"/>
            <a:ext cx="382680" cy="384120"/>
            <a:chOff x="7791480" y="4535640"/>
            <a:chExt cx="382680" cy="3841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91480" y="4535640"/>
              <a:ext cx="3826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304920" y="3840120"/>
            <a:ext cx="993600" cy="1000080"/>
            <a:chOff x="304920" y="3840120"/>
            <a:chExt cx="993600" cy="100008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304920" y="384012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95AB-38A1-4A87-8237-53B74483C48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15280" y="103320"/>
            <a:ext cx="609480" cy="609480"/>
            <a:chOff x="8315280" y="103320"/>
            <a:chExt cx="609480" cy="60948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15280" y="1033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64320" y="176040"/>
            <a:ext cx="366840" cy="366840"/>
            <a:chOff x="7564320" y="176040"/>
            <a:chExt cx="366840" cy="36684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64320" y="176040"/>
              <a:ext cx="36684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12760" y="933480"/>
            <a:ext cx="993600" cy="998640"/>
            <a:chOff x="212760" y="933480"/>
            <a:chExt cx="993600" cy="9986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12760" y="933480"/>
              <a:ext cx="9936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AC36-01DB-4F7B-83C5-4A418B09AB6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b48200">
                  <a:alpha val="69019"/>
                </a:srgbClr>
              </a:gs>
              <a:gs pos="100000">
                <a:srgbClr val="f0a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9600" y="1006560"/>
            <a:ext cx="615960" cy="614160"/>
            <a:chOff x="8229600" y="1006560"/>
            <a:chExt cx="615960" cy="61416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9600" y="1006560"/>
              <a:ext cx="6159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9320" y="969840"/>
            <a:ext cx="384120" cy="382680"/>
            <a:chOff x="7699320" y="969840"/>
            <a:chExt cx="384120" cy="3826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9320" y="969840"/>
              <a:ext cx="38412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5840" y="785880"/>
            <a:ext cx="993600" cy="1000080"/>
            <a:chOff x="285840" y="785880"/>
            <a:chExt cx="993600" cy="100008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5840" y="78588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B928-28AC-46D3-B435-759AF58ABD4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f0ad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3C82-0890-47BB-9F27-E4CA1143243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f0ad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DF0E-6F03-4D85-A61A-8B53E4A017C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f0ad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bb76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66c7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0b5cc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64847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6B73-C339-4396-A694-12B18D7AC77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Прямоугольник 3" descr=""/>
          <p:cNvPicPr/>
          <p:nvPr/>
        </p:nvPicPr>
        <p:blipFill>
          <a:blip r:embed="rId1"/>
          <a:stretch/>
        </p:blipFill>
        <p:spPr>
          <a:xfrm>
            <a:off x="682560" y="4389480"/>
            <a:ext cx="9283680" cy="16826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"/>
          <p:cNvPicPr/>
          <p:nvPr/>
        </p:nvPicPr>
        <p:blipFill>
          <a:blip r:embed="rId2"/>
          <a:stretch/>
        </p:blipFill>
        <p:spPr>
          <a:xfrm>
            <a:off x="1000080" y="-30240"/>
            <a:ext cx="4084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Заголовок 2" descr=""/>
          <p:cNvPicPr/>
          <p:nvPr/>
        </p:nvPicPr>
        <p:blipFill>
          <a:blip r:embed="rId1"/>
          <a:stretch/>
        </p:blipFill>
        <p:spPr>
          <a:xfrm>
            <a:off x="469800" y="109440"/>
            <a:ext cx="8229600" cy="1567080"/>
          </a:xfrm>
          <a:prstGeom prst="rect">
            <a:avLst/>
          </a:prstGeom>
          <a:ln w="0">
            <a:noFill/>
          </a:ln>
        </p:spPr>
      </p:pic>
      <p:pic>
        <p:nvPicPr>
          <p:cNvPr id="612" name="Объект 3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6912000" cy="46990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"/>
          <p:cNvPicPr/>
          <p:nvPr/>
        </p:nvPicPr>
        <p:blipFill>
          <a:blip r:embed="rId3"/>
          <a:stretch/>
        </p:blipFill>
        <p:spPr>
          <a:xfrm>
            <a:off x="250920" y="5877000"/>
            <a:ext cx="2592360" cy="431640"/>
          </a:xfrm>
          <a:prstGeom prst="rect">
            <a:avLst/>
          </a:prstGeom>
          <a:ln w="0">
            <a:noFill/>
          </a:ln>
        </p:spPr>
      </p:pic>
      <p:cxnSp>
        <p:nvCxnSpPr>
          <p:cNvPr id="614" name="Прямая со стрелкой 5"/>
          <p:cNvCxnSpPr/>
          <p:nvPr/>
        </p:nvCxnSpPr>
        <p:spPr>
          <a:xfrm flipV="1">
            <a:off x="2484000" y="4941360"/>
            <a:ext cx="359640" cy="93600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5" name="Прямая со стрелкой 9"/>
          <p:cNvCxnSpPr/>
          <p:nvPr/>
        </p:nvCxnSpPr>
        <p:spPr>
          <a:xfrm flipV="1">
            <a:off x="2484360" y="3788640"/>
            <a:ext cx="1512000" cy="2088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Заголовок 2" descr=""/>
          <p:cNvPicPr/>
          <p:nvPr/>
        </p:nvPicPr>
        <p:blipFill>
          <a:blip r:embed="rId1"/>
          <a:stretch/>
        </p:blipFill>
        <p:spPr>
          <a:xfrm>
            <a:off x="396720" y="401760"/>
            <a:ext cx="8229600" cy="1214280"/>
          </a:xfrm>
          <a:prstGeom prst="rect">
            <a:avLst/>
          </a:prstGeom>
          <a:ln w="0">
            <a:noFill/>
          </a:ln>
        </p:spPr>
      </p:pic>
      <p:pic>
        <p:nvPicPr>
          <p:cNvPr id="617" name="Объект 3" descr="Картинки по запросу схема строения клеточного центра"/>
          <p:cNvPicPr/>
          <p:nvPr/>
        </p:nvPicPr>
        <p:blipFill>
          <a:blip r:embed="rId2"/>
          <a:stretch/>
        </p:blipFill>
        <p:spPr>
          <a:xfrm>
            <a:off x="17928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4"/>
          <p:cNvSpPr/>
          <p:nvPr/>
        </p:nvSpPr>
        <p:spPr>
          <a:xfrm>
            <a:off x="5148360" y="2995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материнская центри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– дочерняя центрио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 микротрубочки (центросфер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триплеты микротруб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1" name="Picture 2" descr="Картинки по запросу функции центриолей"/>
          <p:cNvPicPr/>
          <p:nvPr/>
        </p:nvPicPr>
        <p:blipFill>
          <a:blip r:embed="rId1"/>
          <a:stretch/>
        </p:blipFill>
        <p:spPr>
          <a:xfrm>
            <a:off x="19080" y="1341360"/>
            <a:ext cx="9188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8865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Заголовок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Картинки по запросу функции центриолей веретино деления"/>
          <p:cNvPicPr/>
          <p:nvPr/>
        </p:nvPicPr>
        <p:blipFill>
          <a:blip r:embed="rId2"/>
          <a:stretch/>
        </p:blipFill>
        <p:spPr>
          <a:xfrm>
            <a:off x="539640" y="1773360"/>
            <a:ext cx="8266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Прямоугольник 1" descr=""/>
          <p:cNvPicPr/>
          <p:nvPr/>
        </p:nvPicPr>
        <p:blipFill>
          <a:blip r:embed="rId1"/>
          <a:stretch/>
        </p:blipFill>
        <p:spPr>
          <a:xfrm>
            <a:off x="853920" y="603360"/>
            <a:ext cx="7405920" cy="1689120"/>
          </a:xfrm>
          <a:prstGeom prst="rect">
            <a:avLst/>
          </a:prstGeom>
          <a:ln w="0">
            <a:noFill/>
          </a:ln>
        </p:spPr>
      </p:pic>
      <p:sp>
        <p:nvSpPr>
          <p:cNvPr id="626" name="Текст 3"/>
          <p:cNvSpPr/>
          <p:nvPr/>
        </p:nvSpPr>
        <p:spPr>
          <a:xfrm>
            <a:off x="5500800" y="1500120"/>
            <a:ext cx="3213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0" descr="Картинки по запросу строение рибосомы"/>
          <p:cNvPicPr/>
          <p:nvPr/>
        </p:nvPicPr>
        <p:blipFill>
          <a:blip r:embed="rId2"/>
          <a:stretch/>
        </p:blipFill>
        <p:spPr>
          <a:xfrm>
            <a:off x="1692360" y="1882800"/>
            <a:ext cx="46800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6:42:06Z</dcterms:created>
  <dc:creator>1</dc:creator>
  <dc:description/>
  <dc:language>en-US</dc:language>
  <cp:lastModifiedBy>Кабинет 22</cp:lastModifiedBy>
  <dcterms:modified xsi:type="dcterms:W3CDTF">2016-10-21T04:49:54Z</dcterms:modified>
  <cp:revision>58</cp:revision>
  <dc:subject/>
  <dc:title>Слайд 1</dc:title>
</cp:coreProperties>
</file>