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png" ContentType="image/png"/>
  <Override PartName="/ppt/media/image30.jpeg" ContentType="image/jpeg"/>
  <Override PartName="/ppt/media/image3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D05-6E6E-44F2-9CD3-ED5F2CFD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CE1-939F-4159-9197-252433C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B4B-8F25-482F-A62C-02B530D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407-728E-46C7-9810-E27DC876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78E-57B9-405C-9C80-95CFDAB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134-DCD4-4A71-89C6-F52E065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8CE-E5D1-4D3F-B88B-5B665FD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B0D-800B-4EB3-8825-10E4EFE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7F2-84B9-430D-896A-8D1EAB5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608-14F0-4A88-981E-83ED474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3A0-DE77-4FB0-A6CF-C86DB86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8AC-CB98-4497-A2E8-2BE1A94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55A3-F71C-4B08-AC8C-6A1BB74AA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4285800"/>
            <a:ext cx="80010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ный час на тему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Иркутскому району – 80 лет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Смоленщина- 350 лет!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4500720" cy="3371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00040" y="2142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У ИРМО «Смолен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072120" y="17859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тор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горьева Еле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еление Иркутского рай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рритории района проживают 85 045   человек – представители 60 националь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графическая обстановка в районе не вызывает особой тревоги. Средний ежегодный прирост населения составляет около 8 тыс. человек, в основном, за счет миграционного притока в г. Иркут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ниципальная система образования района включает 82 учреждения общего и дополнительного образования (51 общеобразовательная школа: 21 средняя, 3 основных, 27 начальных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8 дошкольных учреждений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 вечерняя школ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 учреждения дополнительного образ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школах района обучаются 8908 ч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7334 учащихся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1574 дошкольников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учреждения клубного ти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массовых библиот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детских музыкальных школ и школ искусст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музея (с. Оёк с. Урик и с. Хомут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История\Desktop\sli30.jpg"/>
          <p:cNvPicPr/>
          <p:nvPr/>
        </p:nvPicPr>
        <p:blipFill>
          <a:blip r:embed="rId1"/>
          <a:stretch/>
        </p:blipFill>
        <p:spPr>
          <a:xfrm>
            <a:off x="4000680" y="3929040"/>
            <a:ext cx="3857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жная политика и спор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лючено соглашение с Союзом биатлонистов России о строительстве биатлонно-лыжного комплекса и о совместном сотрудничестве по развитию биатлона в Прибайкаль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й памятник природы на территории района — озеро Байкал, на берегу которого расположено несколько здравниц и баз отдыха; по Байкальскому тракту вдоль берега Ангары работает множество санаториев, кемпингов-отелей, архитектурно-этнографический музей «Тальцы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2933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D:\5 воспит\7а\фото\7а\тальцы 1702.17\IMG_20170217_221441.jpg"/>
          <p:cNvPicPr/>
          <p:nvPr/>
        </p:nvPicPr>
        <p:blipFill>
          <a:blip r:embed="rId1"/>
          <a:stretch/>
        </p:blipFill>
        <p:spPr>
          <a:xfrm>
            <a:off x="214200" y="2858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5 воспит\7а\фото\7а\тальцы 1702.17\IMG_20170217_215513.jpg"/>
          <p:cNvPicPr/>
          <p:nvPr/>
        </p:nvPicPr>
        <p:blipFill>
          <a:blip r:embed="rId2"/>
          <a:stretch/>
        </p:blipFill>
        <p:spPr>
          <a:xfrm>
            <a:off x="4143240" y="285840"/>
            <a:ext cx="4167360" cy="312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5 воспит\7а\фото\7а\тальцы 1702.17\IMG_20170217_233141.jpg"/>
          <p:cNvPicPr/>
          <p:nvPr/>
        </p:nvPicPr>
        <p:blipFill>
          <a:blip r:embed="rId3"/>
          <a:stretch/>
        </p:blipFill>
        <p:spPr>
          <a:xfrm>
            <a:off x="178596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7" descr=""/>
          <p:cNvPicPr/>
          <p:nvPr/>
        </p:nvPicPr>
        <p:blipFill>
          <a:blip r:embed="rId1"/>
          <a:stretch/>
        </p:blipFill>
        <p:spPr>
          <a:xfrm>
            <a:off x="317520" y="324000"/>
            <a:ext cx="857736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ИСТОРИЯ СЕЛА\для брошюры фотки\HPIM0931.JPG"/>
          <p:cNvPicPr/>
          <p:nvPr/>
        </p:nvPicPr>
        <p:blipFill>
          <a:blip r:embed="rId2"/>
          <a:stretch/>
        </p:blipFill>
        <p:spPr>
          <a:xfrm>
            <a:off x="2214720" y="2643120"/>
            <a:ext cx="53575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с. Смоленщина </a:t>
            </a:r>
            <a:br>
              <a:rPr sz="44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утвержден Думой Смоленского МО, август 2017 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ИСТОРИЯ СЕЛА\село.jpg"/>
          <p:cNvPicPr/>
          <p:nvPr/>
        </p:nvPicPr>
        <p:blipFill>
          <a:blip r:embed="rId1"/>
          <a:stretch/>
        </p:blipFill>
        <p:spPr>
          <a:xfrm>
            <a:off x="357120" y="1500120"/>
            <a:ext cx="31971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Содержимое 2"/>
          <p:cNvSpPr/>
          <p:nvPr/>
        </p:nvSpPr>
        <p:spPr>
          <a:xfrm>
            <a:off x="3857760" y="1428840"/>
            <a:ext cx="4829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исан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зеленом французском щ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азоревая вогнутая левая перевяз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единенная с верхней полови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гнутой правой перевязи, тонк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ймленные серебром. Перевяз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ровождены справа вырастающе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ной натурального цвета с зеле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ной, глубоко  пускающей корни.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хнем поле червленного цв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лотой каравай с золотой солонк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ерху, лежащий на серебрян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от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основание символи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живописных лесистых берегах рек Иркут и Олха жили смоляги, люди, занимавшиеся варкой смолы, и местность назвали Смоляга, а затем Смоленщина. Изображение сибирской сосны символизирует название села и род занятий коренных жителей в давние времена – добыча смолы. Корни сосны, уходящие вглубь, символизируют богатую историю села, так как с. Смоленщина – ровесник Иркутска, датой его основания принято считать 1667 год. Сосна в геральдике - символ долголетия, стойкости и силы харак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оленщина расположена в месте слияния двух рек- Иркут и Олха, которые органично вписываются в пейзаж сельской жизни. Важное значение водных артерий в жизнедеятельности села изображено на гербе в виде сливающихся р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ло расположено между двух городов- Шелехов и Иркутск, что способствует ежегодному приросту населения. Каравай символизирует гостеприимство, радушие и хлебосольство многонационального населения Смоленского муниципа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ИСТОРИЯ СЕЛА\село.jpg"/>
          <p:cNvPicPr/>
          <p:nvPr/>
        </p:nvPicPr>
        <p:blipFill>
          <a:blip r:embed="rId1"/>
          <a:stretch/>
        </p:blipFill>
        <p:spPr>
          <a:xfrm>
            <a:off x="8001000" y="142920"/>
            <a:ext cx="927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дьба, связанная со Смоленщи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39 году в Смоленщину приезжает ссыльный декабрист Владимир Александрович Бечаснов, отбывший 13-летнюю каторгу в Петровском заво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46 году В.А. Бечаснов с разрешения Иркутского генерал-губернатора женился на 18-летней крестьянке из соседнего села Анне Пахомовне Кичигино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поселении Бечаснов занимался самой разнообразной деятельностью: сделал маслобойку, усовершенствовал пароходы для плавания по озеру Байка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егодня потомки В. Бечаснова проживают в Моск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715160" y="0"/>
            <a:ext cx="12765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з  истории Иркутского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 возникновения Иркутского района связана с первым упоминанием Иркутской провинции в административных документах начала XVIII века, когда по Указу Петра Первого Cибирская губерния была разделена на 5 провинций, одной из которых стала Иркутск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22960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41-1945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F:\ИСТОРИЯ СЕЛА\для брошюры фотки\HPIM1026.JPG"/>
          <p:cNvPicPr/>
          <p:nvPr/>
        </p:nvPicPr>
        <p:blipFill>
          <a:blip r:embed="rId1"/>
          <a:stretch/>
        </p:blipFill>
        <p:spPr>
          <a:xfrm>
            <a:off x="857160" y="92880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714240" y="60721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на службу были призваны 320 жителей, отчаянно защищавших Родину от вра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земляки воевали на всех фронтах и направлениях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ргин Михаил Прокопьевич — участник битвы за Берлин. Награждён орденами Отечественной войны 2 степени, Славы 3 степени, медалями «За отвагу», «За освобождение Варшавы», «За взятие Берлина»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гадецкий Владимир Никифорович — участник партизанского движения на Украин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цев Геннадий Григорьевич воевал на Ленинградском направлен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стикова Лариса Ивановна проколесила с госпиталем немало дорог. Её фронтовые пути от 3-го Белорусского фронта до войны с Японией. Родина отметила её медалями «За взятие Кёнигсберга», «За победу над Германией», «За победу над Японией», орденом Отечественной войны 1 степ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стиков Николай Михайлович, учитель по призванию, стал во время войны лётчиком. Среди его военных наград — орден Красной Звез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фьин Пётр Павлович с войной встретился на Дальнем Востоке, где проходил службу в войсках связ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монов Константин Павлович воевал на Западном, 2 Белорусском фрон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шкин Георгий Гаврилович участвовал в освобождении Тулы, Смоленска, Воронежа и других горо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4256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ных односельчан-участников Великой Отечественной войны уже нет в живых. Но память жива. Помним и гордимся  теми, кто не вернулся с полей войны в родное се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их  — 43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F:\ИСТОРИЯ СЕЛА\для брошюры фотки\памятник.jpg"/>
          <p:cNvPicPr/>
          <p:nvPr/>
        </p:nvPicPr>
        <p:blipFill>
          <a:blip r:embed="rId1"/>
          <a:stretch/>
        </p:blipFill>
        <p:spPr>
          <a:xfrm>
            <a:off x="5572080" y="1357200"/>
            <a:ext cx="3389400" cy="3311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785880" y="4790520"/>
            <a:ext cx="757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мая 2015 года на митинге было открытие нового памятника - мемориала Сла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чная слава героям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енькозавод-промартель-пилорама-ДОК 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(деревообрабатывающий комбинат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8592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моленщине с 1927 года существовал пенькозавод и параллельно — предприятие по переработке конопляного семени. Из него делали масло, а оставшийся жмых использовали для кормления скота. Из отходов (переработанной части растения) изготовляли верёвки, морские кан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ли в промартели под руководством начальника участка Есева Петра Петровича. Здесь драли дранку, вязали мет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войны, в 1947 году, организовывается пилорама. Сами пилорамы привезли из Германии, и назывались они «немкам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" descr="PQILgq4cQn8"/>
          <p:cNvPicPr/>
          <p:nvPr/>
        </p:nvPicPr>
        <p:blipFill>
          <a:blip r:embed="rId1"/>
          <a:stretch/>
        </p:blipFill>
        <p:spPr>
          <a:xfrm>
            <a:off x="2928960" y="1500120"/>
            <a:ext cx="3057480" cy="2000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500040" y="3579120"/>
            <a:ext cx="81439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 в 1950 году промартель переименовывается в «Артель имени А.И.Микояна». Строятся новые цеха по переработке ле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сплавляли по Ирку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моленщине брёвна пилили на доски и отправляли готов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цию в Иркутск. В одном из цехов изготовляли бочки, поддо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14200" y="5575680"/>
            <a:ext cx="8929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начала 60-х годов Иркутский деревообрабатывающий комбинат (ДОК) начинает активный выпуск различной продукц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или хлебные лотки, бочки, рамы, табуретки, прищепк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открытия мебельного цеха ДОК стал специализироваться на производстве кухонной меб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чало свою деятельность 16 сентября 1966  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целью усиления поисковых и разведочных работ на драгоценные и полудрагоценные камн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нее чем за 30 лет активного существова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приятия геологами были открыты и разведа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сятки месторождений и проявлений нефрит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азурита, жадеита, чароита, берилла, турмалин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паза, хризолита, аметиста, сердолика, амазонит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фикальцита, мраморного оникса, микрокварцита 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ранулированного квар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25788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«Байкалкварцсамоцвет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F:\ИСТОРИЯ СЕЛА\для брошюры фотки\старые фото\бкс1.jpg"/>
          <p:cNvPicPr/>
          <p:nvPr/>
        </p:nvPicPr>
        <p:blipFill>
          <a:blip r:embed="rId1"/>
          <a:stretch/>
        </p:blipFill>
        <p:spPr>
          <a:xfrm>
            <a:off x="6572160" y="5227560"/>
            <a:ext cx="2286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214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 с развитием геолого-поисковых, разведочных и добычных работ на предприятии развивалась промышленная переработка камнесамоцветного сыр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357280" y="4143240"/>
            <a:ext cx="37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857920" y="2500200"/>
            <a:ext cx="3286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 2001 года оно было признано банкротом и с 2002 года прекратило свое существование как государственное предприя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2003 году предприятие «Байкалкварцсамоцветы» преобразовано в ОАО. Началась новая страница в истории этого предприятия. Вскоре был открыт уникальный геолого-минералогический музей, при посещении которого можно увидеть процесс изготовления и обработки изделий из камн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643800" y="1500120"/>
            <a:ext cx="1817640" cy="133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ИСТОРИЯ СЕЛА\для брошюры фотки\image (11).jpg"/>
          <p:cNvPicPr/>
          <p:nvPr/>
        </p:nvPicPr>
        <p:blipFill>
          <a:blip r:embed="rId2"/>
          <a:stretch/>
        </p:blipFill>
        <p:spPr>
          <a:xfrm>
            <a:off x="4000680" y="5595840"/>
            <a:ext cx="12618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зование. Детский са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 детского сада ведётся с 1970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феврале 2015 года детский сад переехал в новое  здание на 110 человек, детский дворец с названием «Золотой ключ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00160" y="3429000"/>
            <a:ext cx="4068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поминание об организованном обучении детей на  селе появилось в начале ХХ века в «Иркутских епархиальных ведомостях», где сообщалось, что 1 марта 1898 г. в простом доме с. Смоленщина открылась по общественному приговору церковно-приходская школа. С октября 1899 – по март 1900 г. школа бесплатно помещалась в доме г. Саллогуба, а с 27 марта переведена в собственное здание – церковь-школу во имя Святого Георгия Победоносца. При открытии в школу поступило 26 человек. Первой учительницей была Анна Николаевна Бенкогенова. Церковь закрыли в 1935 г. постановлением Горсовета Иркутска.  А с 1937 по 1959 г. здесь располагался клу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0" descr="церковь.jpeg"/>
          <p:cNvPicPr/>
          <p:nvPr/>
        </p:nvPicPr>
        <p:blipFill>
          <a:blip r:embed="rId1"/>
          <a:srcRect l="0" t="-570" r="-131" b="-708"/>
          <a:stretch/>
        </p:blipFill>
        <p:spPr>
          <a:xfrm>
            <a:off x="1928880" y="4214880"/>
            <a:ext cx="55054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кутский район (сельский) впервые образован в августе 1924 под названием Иркутская районная волость. В нее вошли бывшие волости Смоленская, Разводнинская, Уриковская, Култукская, Лиственичная, Ленинский поселок, части Усть-Балейской, Биликтуйской, Большееланской и Мысовская волость. В дальнейшем территория Иркутского района изменялась. В 1937 Иркутский район состоял из 28 сельсоветов, в 1965 – из 10 сельсоветов и 3 поссо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3 году была построена начальная школа с двумя просторными классами, здесь же была пристроена квартира для учителя. До 1964 г. школа носила статус начальной. С увеличением населения возникла необходимость расширения и 1 сентября 1965 г. в Смоленщине открылась восьмилетняя шко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ИСТОРИЯ СЕЛА\для брошюры фотки\старая школа.jpg"/>
          <p:cNvPicPr/>
          <p:nvPr/>
        </p:nvPicPr>
        <p:blipFill>
          <a:blip r:embed="rId1"/>
          <a:stretch/>
        </p:blipFill>
        <p:spPr>
          <a:xfrm>
            <a:off x="1643040" y="3214800"/>
            <a:ext cx="54291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285480"/>
            <a:ext cx="8715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ктябре 1988 г. в Смоленщине открылась средняя ш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F:\ИСТОРИЯ СЕЛА\для брошюры фотки\шккола.jpg"/>
          <p:cNvPicPr/>
          <p:nvPr/>
        </p:nvPicPr>
        <p:blipFill>
          <a:blip r:embed="rId1"/>
          <a:stretch/>
        </p:blipFill>
        <p:spPr>
          <a:xfrm>
            <a:off x="357120" y="1214280"/>
            <a:ext cx="3873600" cy="2907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2800" y="4222440"/>
            <a:ext cx="71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3 года школой руководит опытный энерги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учитель математи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ётный работник народ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ова Ольга Владимиров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072120" y="4643280"/>
            <a:ext cx="2786040" cy="194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Z:\Фото 2015-2016 учебный год\школа 2015 для сайта\_DSC1505.jpg"/>
          <p:cNvPicPr/>
          <p:nvPr/>
        </p:nvPicPr>
        <p:blipFill>
          <a:blip r:embed="rId3"/>
          <a:stretch/>
        </p:blipFill>
        <p:spPr>
          <a:xfrm>
            <a:off x="4641840" y="1285920"/>
            <a:ext cx="4098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рков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99 г. начала действовать построенная Казанская церковь. Настоятелем церкви стал уроженец села отец Михаил (в миру Дидиков Михаил Васильеви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00120" y="3000240"/>
            <a:ext cx="535788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ция Смоленского М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ИСТОРИЯ СЕЛА\для брошюры фотки\643dba2c633a7de403b13739bba99216.jpg"/>
          <p:cNvPicPr/>
          <p:nvPr/>
        </p:nvPicPr>
        <p:blipFill>
          <a:blip r:embed="rId1"/>
          <a:stretch/>
        </p:blipFill>
        <p:spPr>
          <a:xfrm>
            <a:off x="6357960" y="1714680"/>
            <a:ext cx="2355840" cy="2511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142920" y="1714680"/>
            <a:ext cx="607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2005 году на выборах одержал победу Козырский Олег Николаевич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и является главой нашего с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499920" y="1571400"/>
            <a:ext cx="5186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рав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ное сел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рав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имый райо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28760" y="44604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6840" y="3071880"/>
            <a:ext cx="51865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Герб Иркутского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20001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еленом поле с пониженной лазоревой оконечностью, завершенной чередой бегущих волн, на низком серебряном холме золотой сноп пшеничных колосьев; посередине поверх всего – черный бегущий бабр с червлеными глазами, серебряными усами и подпалинами, держащий в пасти червленого соб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твержден Решением Думы Иркутского района от 20 апреля 2009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1666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министративное деление Иркутского рай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14960" y="2282760"/>
            <a:ext cx="3571920" cy="4303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428760" y="2071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йон подразделяется на 21 муниципальное образ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643120" cy="392112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3786120" y="2000160"/>
            <a:ext cx="48578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эр Иркутского района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ролов Леонид Петр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 декабря 2015 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ума Иркутского района </a:t>
            </a:r>
            <a:br>
              <a:rPr sz="40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действует с 1994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созыв Думы Иркутского района начал свою деятельность с 14 сентября 2014 г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функции Думы Иркутского района: правотворческая, представление интересов населения района, оказание содействия и осуществление контроля по исполнению органами местного самоуправления Иркут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епутат Думы от Смоленского М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Содержимое 2"/>
          <p:cNvSpPr/>
          <p:nvPr/>
        </p:nvSpPr>
        <p:spPr>
          <a:xfrm>
            <a:off x="642960" y="2000160"/>
            <a:ext cx="38577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н Фёдор Юр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31T00:10:08Z</dcterms:created>
  <dc:creator>История</dc:creator>
  <dc:description/>
  <dc:language>en-US</dc:language>
  <cp:lastModifiedBy>История</cp:lastModifiedBy>
  <dcterms:modified xsi:type="dcterms:W3CDTF">2017-08-31T04:27:38Z</dcterms:modified>
  <cp:revision>30</cp:revision>
  <dc:subject/>
  <dc:title>Слайд 1</dc:title>
</cp:coreProperties>
</file>