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28.png" ContentType="image/pn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7.png" ContentType="image/png"/>
  <Override PartName="/ppt/media/image22.jpeg" ContentType="image/jpeg"/>
  <Override PartName="/ppt/media/image26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08E29-D8B1-4C47-B32F-8AEDB8AC05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648D1-7DF3-45C2-8ABD-453223C479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ымковские узоры, элементы росписи дымковской игруш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066CF-D227-4825-90FD-B29C40A7AB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т такие замечательные игрушки рождаются!! За студёною водицей собирается девица. Водонос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9A5A2-3106-4D7B-8068-0B9B6AAE4E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расном новеньком седле всадник едет на коне. Всадни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594C5-CE37-4C5A-9D0E-DE50905DC5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глядите, что за птицы?! Расписные петухи, курочки и индюки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478C3-79CE-47DB-8C0E-B1A2E5D51A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пись силуэта барышни, водонос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AF517-D47C-4C12-B18C-4926A31367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ко и разнообразно русское- народное творчество: богородская игрушка, филимоновская игрушка, городетская роспись, семёновская роспись, дымковская игруш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ED55F-B055-4327-AEC4-1CACB4042E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адимир Медведев в гостях у дымковских мастеров расписывает барышню и получает от этого большое удовольств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E9422-7265-4C85-954F-C4A65DA3A5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CCFC7-9B0F-44BE-B223-3A0C6AD2BC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высоком берегу реки Вятки стоит город Киров, где находится слобода Дымково. В этих местах в далёкую старину и «родилась» игрушка, которую нежно и ласково назвали «Дымка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3793E-940C-4458-9827-FA2D1AB6D0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ю зиму женщины слободы лепили игрушки из глины, обжигали, расписывали. Из труб шёл дым, поэтому и игрушки назвали- « Дымковски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8C3F4-7002-4336-8C27-638745F85F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ка Вятка- половодь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D85A9-03FE-4DB5-808B-D59FA67D02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зано, как заботливые руки дымковских мастеров, лепят из глины игруш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F62B5-0355-4627-96EC-892EA57735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тем обжигают их в печ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84B90-34FC-4EDD-A2A5-DFA9E251D8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наконец - расписываю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F67D1-F223-4EF0-BAE4-CFC145D5F8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E934-0DDB-487B-9814-956807E7D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85FF-86B6-448D-B59E-A6D1BD444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F994-F4CE-48D4-9863-F5C31B845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3972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364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3972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364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A6CF-6E44-4458-9351-9CC7EBCA4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3A155-AF8F-438F-A41D-1849ECCF2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56CA9-0E35-4EA1-94E4-22F7DAF61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646B8-C033-454E-9DFF-FF495F5CB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82C5A-EC51-4D0F-B26A-969338667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A81FA-55EA-446B-9C55-94C408890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ABA2C-6A0A-4184-874A-138A87D53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F1A66-15FC-4FC0-B8FC-885EB3F38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BC46-A300-4AD1-9F4C-2FB3230DC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02C96-3187-4C31-BF46-E9C9F265B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050C1-2F7C-4141-A6FC-4D14D4105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A66A5-53EA-4DC6-9D5D-47DE562CA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85DAA-BB41-482B-A74B-AB6F28327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3972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9364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3972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9364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EC6EF-2604-4842-A9A7-93D8AB7BD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F043-7883-46CB-A3DC-B53122E20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567A-64F1-4557-99CD-7C71E1871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0E27-256C-4FAD-9FD8-3BDC55449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49F4-0E30-4A35-AB4E-4AF1AD388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A4FF-74E0-43AB-97D8-9DFE42DCF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C3D6-FD6A-486B-A1C0-232ABA724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D2B5-8C60-4E48-A0D4-95A26D8C1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5a86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5a86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5a867b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a867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68303-F7A5-45FF-9BA8-F6B2CAE89732}" type="slidenum">
              <a:rPr b="0" lang="ru-RU" sz="1200" spc="-1" strike="noStrike">
                <a:solidFill>
                  <a:srgbClr val="5a867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5a86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5a86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5a867b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a867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2BA10-577B-4556-8C1B-B5372A29DE18}" type="slidenum">
              <a:rPr b="0" lang="ru-RU" sz="1200" spc="-1" strike="noStrike">
                <a:solidFill>
                  <a:srgbClr val="5a867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76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5a867b"/>
                </a:solidFill>
                <a:latin typeface="Tahoma"/>
              </a:rPr>
              <a:t>ГОСУДАРСТВЕННОЕ БЮДЖЕТНОЕ ДОШКОЛЬНОЕ ОБРАЗОВАТЕЛЬНОЕ УЧРЕЖДЕНИЕ ДЕТСКИЙ САД № 39 </a:t>
            </a:r>
            <a:br>
              <a:rPr sz="1700"/>
            </a:br>
            <a:r>
              <a:rPr b="0" lang="ru-RU" sz="1700" spc="-1" strike="noStrike">
                <a:solidFill>
                  <a:srgbClr val="5a867b"/>
                </a:solidFill>
                <a:latin typeface="Tahoma"/>
              </a:rPr>
              <a:t>МОСКОВСКОГО РАЙОНА САНКТ-ПЕТЕРБУРГА</a:t>
            </a:r>
            <a:br>
              <a:rPr sz="1700"/>
            </a:br>
            <a:endParaRPr b="0" lang="en-US" sz="17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a867b"/>
                </a:solidFill>
                <a:latin typeface="Tahoma"/>
              </a:rPr>
              <a:t>ДЫМКА – ЗАБАВА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a867b"/>
                </a:solidFill>
                <a:latin typeface="Tahoma"/>
              </a:rPr>
              <a:t>Знакомство с дымковской игрушкой.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a867b"/>
                </a:solidFill>
                <a:latin typeface="Tahoma"/>
              </a:rPr>
              <a:t>Воспитатель:</a:t>
            </a:r>
            <a:endParaRPr b="0" lang="en-US" sz="2000" spc="-1" strike="noStrike">
              <a:solidFill>
                <a:srgbClr val="5a867b"/>
              </a:solidFill>
              <a:latin typeface="Tahom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a867b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5a867b"/>
                </a:solidFill>
                <a:latin typeface="Tahoma"/>
              </a:rPr>
              <a:t>Свиридова Галина Анатольевна</a:t>
            </a:r>
            <a:endParaRPr b="0" lang="en-US" sz="2000" spc="-1" strike="noStrike">
              <a:solidFill>
                <a:srgbClr val="5a867b"/>
              </a:solidFill>
              <a:latin typeface="Tahom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867b"/>
              </a:solidFill>
              <a:latin typeface="Tahom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a867b"/>
                </a:solidFill>
                <a:latin typeface="Tahoma"/>
              </a:rPr>
              <a:t>2017 г.</a:t>
            </a:r>
            <a:endParaRPr b="0" lang="en-US" sz="2000" spc="-1" strike="noStrike">
              <a:solidFill>
                <a:srgbClr val="5a867b"/>
              </a:solidFill>
              <a:latin typeface="Tahom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867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76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5a867b"/>
                </a:solidFill>
                <a:latin typeface="Tahoma"/>
              </a:rPr>
              <a:t>УЗОРЫ</a:t>
            </a:r>
            <a:br>
              <a:rPr sz="1700"/>
            </a:br>
            <a:endParaRPr b="0" lang="en-US" sz="17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113" name="Рисунок 3" descr=""/>
          <p:cNvPicPr/>
          <p:nvPr/>
        </p:nvPicPr>
        <p:blipFill>
          <a:blip r:embed="rId1"/>
          <a:stretch/>
        </p:blipFill>
        <p:spPr>
          <a:xfrm>
            <a:off x="9360" y="-171360"/>
            <a:ext cx="8971200" cy="627696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4" descr=""/>
          <p:cNvPicPr/>
          <p:nvPr/>
        </p:nvPicPr>
        <p:blipFill>
          <a:blip r:embed="rId2"/>
          <a:stretch/>
        </p:blipFill>
        <p:spPr>
          <a:xfrm>
            <a:off x="2050920" y="-125280"/>
            <a:ext cx="4684680" cy="651348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3" descr=""/>
          <p:cNvPicPr/>
          <p:nvPr/>
        </p:nvPicPr>
        <p:blipFill>
          <a:blip r:embed="rId3"/>
          <a:stretch/>
        </p:blipFill>
        <p:spPr>
          <a:xfrm>
            <a:off x="3059280" y="2060640"/>
            <a:ext cx="31780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8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0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875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79280" y="1413000"/>
            <a:ext cx="83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a867b"/>
                </a:solidFill>
                <a:latin typeface="Tahoma"/>
              </a:rPr>
              <a:t>За студеною водицей собирается девица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117" name="Рисунок 3" descr=""/>
          <p:cNvPicPr/>
          <p:nvPr/>
        </p:nvPicPr>
        <p:blipFill>
          <a:blip r:embed="rId1"/>
          <a:stretch/>
        </p:blipFill>
        <p:spPr>
          <a:xfrm>
            <a:off x="1341360" y="1916280"/>
            <a:ext cx="63025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79280" y="1413000"/>
            <a:ext cx="83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a867b"/>
                </a:solidFill>
                <a:latin typeface="Tahoma"/>
              </a:rPr>
              <a:t>В красном новеньком седле всадник едет на коне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119" name="Рисунок 1" descr=""/>
          <p:cNvPicPr/>
          <p:nvPr/>
        </p:nvPicPr>
        <p:blipFill>
          <a:blip r:embed="rId1"/>
          <a:stretch/>
        </p:blipFill>
        <p:spPr>
          <a:xfrm>
            <a:off x="1979640" y="1916280"/>
            <a:ext cx="5665680" cy="42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121" name="Рисунок 1" descr=""/>
          <p:cNvPicPr/>
          <p:nvPr/>
        </p:nvPicPr>
        <p:blipFill>
          <a:blip r:embed="rId1"/>
          <a:stretch/>
        </p:blipFill>
        <p:spPr>
          <a:xfrm>
            <a:off x="2484360" y="1557360"/>
            <a:ext cx="4032360" cy="403236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3" descr=""/>
          <p:cNvPicPr/>
          <p:nvPr/>
        </p:nvPicPr>
        <p:blipFill>
          <a:blip r:embed="rId2"/>
          <a:stretch/>
        </p:blipFill>
        <p:spPr>
          <a:xfrm>
            <a:off x="2484360" y="1582560"/>
            <a:ext cx="3632400" cy="397368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4" descr=""/>
          <p:cNvPicPr/>
          <p:nvPr/>
        </p:nvPicPr>
        <p:blipFill>
          <a:blip r:embed="rId3"/>
          <a:stretch/>
        </p:blipFill>
        <p:spPr>
          <a:xfrm>
            <a:off x="2805120" y="1677960"/>
            <a:ext cx="3711600" cy="38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Рисунок 1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7989840" cy="570708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2" descr=""/>
          <p:cNvPicPr/>
          <p:nvPr/>
        </p:nvPicPr>
        <p:blipFill>
          <a:blip r:embed="rId2"/>
          <a:stretch/>
        </p:blipFill>
        <p:spPr>
          <a:xfrm>
            <a:off x="1979640" y="63360"/>
            <a:ext cx="407664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4" descr=""/>
          <p:cNvPicPr/>
          <p:nvPr/>
        </p:nvPicPr>
        <p:blipFill>
          <a:blip r:embed="rId3"/>
          <a:stretch/>
        </p:blipFill>
        <p:spPr>
          <a:xfrm>
            <a:off x="58680" y="71280"/>
            <a:ext cx="9051840" cy="62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7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7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40" nodeType="after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44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7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Рисунок 7" descr="8.jpg"/>
          <p:cNvPicPr/>
          <p:nvPr/>
        </p:nvPicPr>
        <p:blipFill>
          <a:blip r:embed="rId1"/>
          <a:stretch/>
        </p:blipFill>
        <p:spPr>
          <a:xfrm>
            <a:off x="4821120" y="3724200"/>
            <a:ext cx="1635120" cy="21337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C:\Users\User\Desktop\для 39 садика\клип-арт+шаблоны\4-2_enl.jpg"/>
          <p:cNvPicPr/>
          <p:nvPr/>
        </p:nvPicPr>
        <p:blipFill>
          <a:blip r:embed="rId2"/>
          <a:stretch/>
        </p:blipFill>
        <p:spPr>
          <a:xfrm>
            <a:off x="3048120" y="1200240"/>
            <a:ext cx="1646280" cy="2274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C:\Users\User\Desktop\для 39 садика\клип-арт+шаблоны\D_263_600.jpg"/>
          <p:cNvPicPr/>
          <p:nvPr/>
        </p:nvPicPr>
        <p:blipFill>
          <a:blip r:embed="rId3"/>
          <a:stretch/>
        </p:blipFill>
        <p:spPr>
          <a:xfrm>
            <a:off x="1785960" y="3681360"/>
            <a:ext cx="2176560" cy="217656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a867b"/>
                </a:solidFill>
                <a:latin typeface="Tahoma"/>
              </a:rPr>
              <a:t>ДЫМКОВСКАЯ ИГРУШКА?</a:t>
            </a:r>
            <a:br>
              <a:rPr sz="4000"/>
            </a:b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131" name="Содержимое 3" descr="90.jpg"/>
          <p:cNvPicPr/>
          <p:nvPr/>
        </p:nvPicPr>
        <p:blipFill>
          <a:blip r:embed="rId4"/>
          <a:stretch/>
        </p:blipFill>
        <p:spPr>
          <a:xfrm>
            <a:off x="560520" y="1189080"/>
            <a:ext cx="2079360" cy="2266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C:\Users\User\Desktop\для 39 садика\клип-арт+шаблоны\78442414_4a2f3d382d260e9044be0bda74a53f7f.jpg"/>
          <p:cNvPicPr/>
          <p:nvPr/>
        </p:nvPicPr>
        <p:blipFill>
          <a:blip r:embed="rId5"/>
          <a:stretch/>
        </p:blipFill>
        <p:spPr>
          <a:xfrm>
            <a:off x="5297400" y="1200240"/>
            <a:ext cx="3310200" cy="22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7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79280" y="2349000"/>
            <a:ext cx="83534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a867b"/>
                </a:solidFill>
                <a:latin typeface="Tahoma"/>
              </a:rPr>
              <a:t>СПАСИБО ЗА ВНИМАНИЕ!!!</a:t>
            </a:r>
            <a:endParaRPr b="0" lang="en-US" sz="3600" spc="-1" strike="noStrike">
              <a:solidFill>
                <a:srgbClr val="5a867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Прямоугольник 6"/>
          <p:cNvSpPr/>
          <p:nvPr/>
        </p:nvSpPr>
        <p:spPr>
          <a:xfrm>
            <a:off x="725400" y="1700280"/>
            <a:ext cx="7632720" cy="38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интернет ресурсы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учебник  3 класса Изобразительное Искусство «Искусство вокруг нас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-е изд., Просвещение, 2013.-стр.13-17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рабочая тетрадь «Твоя Мастерская», 3 класс, под редакцией Неменского Б.М.,2-е изд.,  Просвещение  2013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основы народного и декоративно- прикладного искусства « Дымковская игрушка» В.Я.Богатырева, рабочая тетрадь к учебнику В.С.Кузина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образительное Искусство,стр.6,7,8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работы выполненные учащимися ДОУ, мастерами дымковской игруш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8"/>
          <p:cNvSpPr/>
          <p:nvPr/>
        </p:nvSpPr>
        <p:spPr>
          <a:xfrm>
            <a:off x="293760" y="77148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9640" y="756720"/>
            <a:ext cx="8229600" cy="76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5a867b"/>
                </a:solidFill>
                <a:latin typeface="Tahoma"/>
              </a:rPr>
              <a:t>Используемые материалы в презентации</a:t>
            </a:r>
            <a:br>
              <a:rPr sz="1800"/>
            </a:br>
            <a:endParaRPr b="0" lang="en-US" sz="1800" spc="-1" strike="noStrike">
              <a:solidFill>
                <a:srgbClr val="5a867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4920" y="1283760"/>
            <a:ext cx="8280360" cy="466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a867b"/>
                </a:solidFill>
                <a:latin typeface="Times New Roman"/>
                <a:ea typeface="Times New Roman"/>
              </a:rPr>
              <a:t>Здравствуйте ребятки, </a:t>
            </a:r>
            <a:br>
              <a:rPr sz="2800"/>
            </a:br>
            <a:r>
              <a:rPr b="1" lang="ru-RU" sz="2800" spc="-1" strike="noStrike">
                <a:solidFill>
                  <a:srgbClr val="5a867b"/>
                </a:solidFill>
                <a:latin typeface="Times New Roman"/>
                <a:ea typeface="Times New Roman"/>
              </a:rPr>
              <a:t>Машутки и Ванятки,</a:t>
            </a:r>
            <a:br>
              <a:rPr sz="2800"/>
            </a:br>
            <a:r>
              <a:rPr b="1" lang="ru-RU" sz="2800" spc="-1" strike="noStrike">
                <a:solidFill>
                  <a:srgbClr val="5a867b"/>
                </a:solidFill>
                <a:latin typeface="Times New Roman"/>
                <a:ea typeface="Times New Roman"/>
              </a:rPr>
              <a:t>Тани, Сани, Пети и другие дети!</a:t>
            </a:r>
            <a:br>
              <a:rPr sz="2800"/>
            </a:br>
            <a:r>
              <a:rPr b="1" lang="ru-RU" sz="2800" spc="-1" strike="noStrike">
                <a:solidFill>
                  <a:srgbClr val="5a867b"/>
                </a:solidFill>
                <a:latin typeface="Times New Roman"/>
                <a:ea typeface="Times New Roman"/>
              </a:rPr>
              <a:t>Если любите играть, сочинять и рисовать, </a:t>
            </a:r>
            <a:br>
              <a:rPr sz="2800"/>
            </a:br>
            <a:r>
              <a:rPr b="1" lang="ru-RU" sz="2800" spc="-1" strike="noStrike">
                <a:solidFill>
                  <a:srgbClr val="5a867b"/>
                </a:solidFill>
                <a:latin typeface="Times New Roman"/>
                <a:ea typeface="Times New Roman"/>
              </a:rPr>
              <a:t>приезжайте в гости!</a:t>
            </a:r>
            <a:br>
              <a:rPr sz="2800"/>
            </a:br>
            <a:r>
              <a:rPr b="1" lang="ru-RU" sz="2800" spc="-1" strike="noStrike">
                <a:solidFill>
                  <a:srgbClr val="5a867b"/>
                </a:solidFill>
                <a:latin typeface="Times New Roman"/>
                <a:ea typeface="Times New Roman"/>
              </a:rPr>
              <a:t>Милости просим!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5a867b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lang="ru-RU" sz="2800" spc="-1" strike="noStrike">
                <a:solidFill>
                  <a:srgbClr val="5a867b"/>
                </a:solidFill>
                <a:latin typeface="Times New Roman"/>
                <a:ea typeface="Times New Roman"/>
              </a:rPr>
              <a:t>Игрушки из села Дымково</a:t>
            </a:r>
            <a:br>
              <a:rPr sz="2800"/>
            </a:b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94" name="Рисунок 1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1274760" cy="17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a867b"/>
                </a:solidFill>
                <a:latin typeface="Tahoma"/>
              </a:rPr>
              <a:t>видео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33200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5a867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98" name="Picture 4" descr="C:\Users\User\Desktop\для 39 садика\клип-арт+шаблоны\kirov1.jpg"/>
          <p:cNvPicPr/>
          <p:nvPr/>
        </p:nvPicPr>
        <p:blipFill>
          <a:blip r:embed="rId1"/>
          <a:stretch/>
        </p:blipFill>
        <p:spPr>
          <a:xfrm>
            <a:off x="-353880" y="-243000"/>
            <a:ext cx="9666000" cy="734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5a867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4824360" cy="30970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503360" y="48938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102" name="Рисунок 3" descr=""/>
          <p:cNvPicPr/>
          <p:nvPr/>
        </p:nvPicPr>
        <p:blipFill>
          <a:blip r:embed="rId2"/>
          <a:stretch/>
        </p:blipFill>
        <p:spPr>
          <a:xfrm>
            <a:off x="6205680" y="0"/>
            <a:ext cx="2938320" cy="361476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2" descr=""/>
          <p:cNvPicPr/>
          <p:nvPr/>
        </p:nvPicPr>
        <p:blipFill>
          <a:blip r:embed="rId3"/>
          <a:stretch/>
        </p:blipFill>
        <p:spPr>
          <a:xfrm>
            <a:off x="5003640" y="3213000"/>
            <a:ext cx="2627640" cy="3500640"/>
          </a:xfrm>
          <a:prstGeom prst="rect">
            <a:avLst/>
          </a:prstGeom>
          <a:ln w="0">
            <a:noFill/>
          </a:ln>
        </p:spPr>
      </p:pic>
      <p:pic>
        <p:nvPicPr>
          <p:cNvPr id="104" name="Содержимое 3" descr="1_522462b3bda1e522462b3bda5b.jpg"/>
          <p:cNvPicPr/>
          <p:nvPr/>
        </p:nvPicPr>
        <p:blipFill>
          <a:blip r:embed="rId4"/>
          <a:stretch/>
        </p:blipFill>
        <p:spPr>
          <a:xfrm>
            <a:off x="0" y="3247920"/>
            <a:ext cx="499284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6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0" repeatCount="1000">
                                  <p:stCondLst>
                                    <p:cond delay="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6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5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6750"/>
                            </p:stCondLst>
                            <p:childTnLst>
                              <p:par>
                                <p:cTn id="45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6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0" repeatCount="1000">
                                  <p:stCondLst>
                                    <p:cond delay="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" dur="6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5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6750"/>
                            </p:stCondLst>
                            <p:childTnLst>
                              <p:par>
                                <p:cTn id="54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6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106" name="Рисунок 2" descr=""/>
          <p:cNvPicPr/>
          <p:nvPr/>
        </p:nvPicPr>
        <p:blipFill>
          <a:blip r:embed="rId1"/>
          <a:stretch/>
        </p:blipFill>
        <p:spPr>
          <a:xfrm>
            <a:off x="-33480" y="692280"/>
            <a:ext cx="9177480" cy="54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108" name="Рисунок 1" descr=""/>
          <p:cNvPicPr/>
          <p:nvPr/>
        </p:nvPicPr>
        <p:blipFill>
          <a:blip r:embed="rId1"/>
          <a:stretch/>
        </p:blipFill>
        <p:spPr>
          <a:xfrm>
            <a:off x="-42840" y="620640"/>
            <a:ext cx="9217080" cy="518472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3" descr=""/>
          <p:cNvPicPr/>
          <p:nvPr/>
        </p:nvPicPr>
        <p:blipFill>
          <a:blip r:embed="rId2"/>
          <a:stretch/>
        </p:blipFill>
        <p:spPr>
          <a:xfrm>
            <a:off x="395280" y="476280"/>
            <a:ext cx="8085240" cy="582444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4" descr=""/>
          <p:cNvPicPr/>
          <p:nvPr/>
        </p:nvPicPr>
        <p:blipFill>
          <a:blip r:embed="rId3"/>
          <a:stretch/>
        </p:blipFill>
        <p:spPr>
          <a:xfrm>
            <a:off x="-42840" y="655560"/>
            <a:ext cx="9901080" cy="52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625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6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7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3T19:10:15Z</dcterms:created>
  <dc:creator>User</dc:creator>
  <dc:description/>
  <dc:language>en-US</dc:language>
  <cp:lastModifiedBy>Galina</cp:lastModifiedBy>
  <dcterms:modified xsi:type="dcterms:W3CDTF">2017-08-31T09:30:04Z</dcterms:modified>
  <cp:revision>70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61049</vt:lpwstr>
  </property>
</Properties>
</file>