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451-92CC-4064-B64F-29BE1D53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12A-0A6F-4E0C-9E76-67C1377A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98C-D993-49A6-A5A8-EE035C61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199-5581-4D21-BD27-2845C0FE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68E-280D-4AED-AB8D-D5347467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43AE-7BA1-4F73-BB0A-B608A02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FB57-1376-48A3-B24C-11F7856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D5EB-89DF-4A3A-A903-A6555BC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D469-F5DB-4BBD-A009-0DB400F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53A9-AAE4-492E-B871-67940815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4ABF-5D27-4526-A827-FF1C60A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039-E103-484D-A1E9-793D3055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52E2-FB6E-4B15-A1FA-28381CC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B7A-8149-462F-AB8B-16B1C73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2305-DD86-40A3-B6ED-51C7E796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A4DB-FE6F-41F6-8E9E-E05403C5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25EC-49BD-4C19-A25A-1BEBC399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F1FF-2632-4287-98DA-71289B5C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D052-B687-413E-B1A0-997A94F2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FA05-7D7C-4E60-9184-65C9B046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4C7E-2743-49D8-BFBD-AD52DB9D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7043-083E-416B-A0F7-F205468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355-1416-445D-B1A9-CABC65AC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F8FC-C666-443C-A8DA-C0B5E632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5C1E-D320-4C5C-9ACA-E309E5B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CF574-06B3-4F34-839B-F1369692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402A-D6E3-4E1E-83C0-9F18EA5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2EE3-5D94-41EB-85D3-F802D0AD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F07E-99A2-4E36-846C-EFEE8931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6EE7-2C33-40F5-BC54-15903F07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1E7-BEEB-42E5-B2B7-2DC9B58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4CE-AA33-44F7-BEE3-AB551C4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AE5-BD7A-4805-8C6D-E01F1572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82C-850C-4B09-9CE9-0D3F157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E69-1860-4521-860C-4BD0941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020-9F52-4817-A03F-A54333C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D2B-D5C3-4D91-A52C-28F4D193B0A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6B4-5A60-4B0A-9EA1-6A6C0365A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FDEE-4787-4DF6-AC29-4DDADF765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олейбо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450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зентацию выполн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читель физ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БОУ «Пожар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Шипунов Алексей Владими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39528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8920" y="1052280"/>
            <a:ext cx="741708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щения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спользуются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риставные шаги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торые выполняются вперед, назад, вправо, влево. Движение начинают с ноги, ближней к направлению перемещения (при перемещении вправо – с правой ноги, при перемещении влево – с левой). Применяют такие перемещения, когда у игрока достаточно времени и надо переместиться на небольшое расстоя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Двойной ша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ют при быстром выходе к мячу. Движения начинают с дальней к направлению движения но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836640"/>
            <a:ext cx="8820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Бе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яют при сравнительно больших перемещения , 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ыжки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выполнении нападающих ударов и блок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мещения надо включать в разминку на каждом занятии. Это может быть бег из различных исходных положений (сидя, лежа, спиной вперед и др.); бег «змейкой», челночный бег, перемещения приставным шагом с имитацией приемов иг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C:\Documents and Settings\Алеша\Рабочий стол\волейбол(картинки)\волейбол 010.jpg"/>
          <p:cNvPicPr/>
          <p:nvPr/>
        </p:nvPicPr>
        <p:blipFill>
          <a:blip r:embed="rId2"/>
          <a:stretch/>
        </p:blipFill>
        <p:spPr>
          <a:xfrm>
            <a:off x="5500800" y="4797360"/>
            <a:ext cx="3643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488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213920"/>
            <a:ext cx="5500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дача мяча сверху двумя рука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является основным техническим приемом. Игрок должен правильно выйти к мячу и выбрать исходное поло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хника выполнения: ноги согнуты в коленях, одна нога впереди. Туловище вертикально, руки вынесены вперед-вверх и согнуты в локтях, кисти на уровне лица. Кисти образуют «ковш», пальцы напряжены и слегка согнуты. При передаче ноги и руки выпрямляются, и мячу придается нужное напра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33004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700280"/>
            <a:ext cx="528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ем мяча снизу над собой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одачу или нападающий удар обычно принимают снизу двумя руками. Для приема игрок занимает среднюю или низкую стойку. Руки выпрямлены и опущены, кисти соединены «ладонь в ладонь». Мяч принимается на нижнюю часть предплечья («манжеты») с одновременным разгибанием ног и туловища вперед-вверх. Прямые руки поднимаются до уровня гру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31989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341000"/>
            <a:ext cx="89647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ижняя прямая подача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ра в волейбол начинается с подачи. Игрок располагается за лицевой линией, подбрасывает мяч и ударом одной руки направляет его на сторону соперника так, чтобы мяч не коснулся се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е подачи разделяются на нижние и верхние. При верхних подачах удар по мячу наносят на уровне головы и выше, а при нижних – ниже уровня головы. Если подающий стоит лицом к сетке – подача прямая, если боком – боков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0" y="4735440"/>
            <a:ext cx="4572000" cy="212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470480"/>
            <a:ext cx="43210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1600200"/>
            <a:ext cx="49719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амой простой подачей для начинающих волейболистов является нижняя прямая. Игрок стоит лицом к сетке, ноги согнуты в коленях, левая нога впереди (если вы левша, то правая), мяч в левой руке. Правая рука отводится для замаха назад, а левой рукой подбрасывается  мяч вверх на 30-50 см. Мяч ударяется напряженной ладонью на уровне пояса. После удара игрок делает правой ногой шаг впер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2" descr="C:\Documents and Settings\Алеша\Рабочий стол\волейбол(картинки)\волейбол 015.jpg"/>
          <p:cNvPicPr/>
          <p:nvPr/>
        </p:nvPicPr>
        <p:blipFill>
          <a:blip r:embed="rId2"/>
          <a:stretch/>
        </p:blipFill>
        <p:spPr>
          <a:xfrm>
            <a:off x="5838840" y="1500120"/>
            <a:ext cx="3305160" cy="217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Алеша\Рабочий стол\Мама\волейбол(картинки)\волейбол 014.jpg"/>
          <p:cNvPicPr/>
          <p:nvPr/>
        </p:nvPicPr>
        <p:blipFill>
          <a:blip r:embed="rId3"/>
          <a:stretch/>
        </p:blipFill>
        <p:spPr>
          <a:xfrm>
            <a:off x="5429160" y="4071960"/>
            <a:ext cx="3286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143000"/>
            <a:ext cx="4500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дача двумя руками сверху в прыж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Если мяч после приема подачи летит высоко, то можно выполнить передачу в прыжке. Для этого игрок выпрыгивает вверх так, чтобы встретить мяч у лба. Руки выпрямляются вперед-вверх, передавая мяч в нужном направлении и с определенной траекторией. Затем игрок приземляется на согнутые ноги в широкую стой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4765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699920"/>
            <a:ext cx="4214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едача сверху за голову в опорном положении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нужно передать мяч назад, следует подойти под мяч, держа кисти над головой. Разгибая ноги, прогибаясь в пояснице и выпрямляя руки вверх-назад, выполнить передач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4272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692280"/>
            <a:ext cx="889308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ямой нападающий удар – один из самых распространенных приемов в технике волейбола. Он состоит из разбега (с одного, двух, трех шагов), прыжка, удара и приземления. В последнем шаге разбега нога ставится вперед на пятку, к ней приставляется другая нога (стопорящий шаг), руки отводятся назад. Игрок выполняет активный взмах руками вперед-вверх, ноги разгибаются, и выполняется прыжок вверх. В прыжке правая рука движется вверх-назад, левая опускается вдоль туловища. Удар по мячу выполняется напряженной ладонью (кисть накладывается на мяч сзади-сверху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грок приземляется на согнутые н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4344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Прямой нападающий уда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592000"/>
            <a:ext cx="822960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я волейб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ые правила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ка безопас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ые приемы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buClr>
                <a:srgbClr val="00ccff"/>
              </a:buClr>
              <a:buSzPct val="6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204768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шаги разбега выполняются медленно по прямой линии, перпендикулярно сетке, а последний – быстро по мяч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ыжок выполняется вертикально вверх. Приземление и отталкивание осуществляется из одной точ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0" y="3284640"/>
            <a:ext cx="4683240" cy="218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716360" cy="2189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76360" y="40464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приемы иг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345520" cy="379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268360" y="3884760"/>
            <a:ext cx="44643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94920" y="1628640"/>
            <a:ext cx="53290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первые волейбол появился в Соединенных Штатах Америки в 1895 г. Придумал эту игру преподаватель физической культуры Вильям Морган. Первоначально в волейбол играли резиновой камерой, которую перебрасывали через натянутую на высоте 198 см веревку, а позже – через сет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прошедшие более 100 лет волейбол стал одним из самых популярных и массовых видов спорта в мире и в нашей стране, а так же олимпийским видом спор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C:\Documents and Settings\Алеша\Рабочий стол\Мама\волейбол(картинки)\волейбол1.jpg"/>
          <p:cNvPicPr/>
          <p:nvPr/>
        </p:nvPicPr>
        <p:blipFill>
          <a:blip r:embed="rId3"/>
          <a:stretch/>
        </p:blipFill>
        <p:spPr>
          <a:xfrm>
            <a:off x="6219720" y="3346560"/>
            <a:ext cx="1710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9284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а игра доступна детям и взрослым. В нее можно играть и в спортивном зале, и на открытой площадке. В игре развиваются силовые способности, прыгучесть, ловкость, координация движений. Игра в волейбол не только укрепляет здоровье, но и воспитывает такие качества, как смелость, настойчивость, целеустремленность, коллективизм, взаимопомощь, чувство друж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Заголовок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242560" cy="854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25923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7120" y="714240"/>
            <a:ext cx="6215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гра в волейб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лейбол – командная спортивная игра, в которой две команды по 6 человек ведут игру на площадке размером 18*9 м. Игроки одной из команд стремятся переправить мяч передачей или ударом на сторону соперников так, чтобы те не смогли возвратить его обратно, не нарушая прави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лейбольная сетка разделяет площадку на две равные половины. Ширина сетки – 1 м, высота – 2,43 см для мужчин, 2,24 см – для женщин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C:\Documents and Settings\Алеша\Рабочий стол\Мама\волейбол(картинки)\волейбол3.png"/>
          <p:cNvPicPr/>
          <p:nvPr/>
        </p:nvPicPr>
        <p:blipFill>
          <a:blip r:embed="rId2"/>
          <a:stretch/>
        </p:blipFill>
        <p:spPr>
          <a:xfrm>
            <a:off x="6572160" y="2571840"/>
            <a:ext cx="2214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авила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492000" y="1484280"/>
            <a:ext cx="56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гра состоит из трех или пяти партий, каждая из которых продолжается до тех пор, пока одна из команд не наберет 25 очков(с разницей в два очка). Решающая, третья(пятая) партия продолжается до 15 оч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дая команда имеет право трижды, не считая блока, коснуться мяча на своей стороне площадки. Мяч разрешается отбивать любой частью тела выше пояса и стопой. Мяч остается в игре до тех пор, пока не коснется площадки, стен, потолка, других предметов, или до ошибки кого-либо из игроков. За каждый выигранный мяч команда получает 1 оч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гроки на площадке образуют две линии: переднюю и заднюю. Переход игроков выполняется по ходу часовой стр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33847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ехника безопас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204768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занятиях по волейболу необходимо иметь соответствующую спортивную форму (футболка, шорты, носки, кроссовки или кеды на тонкой гибкой подошв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бы избежать травм, следует соблюдать правила техники безопас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начале занятия сделать разминку, хорошо разогреть мышцы и свя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мотреть игровую площадку, чтобы на ней не было опасных предме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ехника безопас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842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принимать мяч сверху на прямые руки, большие пальцы не выставлять впер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приеме мяча снизу не сгибать руки в локтевых сустав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нимательно следить за тем, чтобы мяч не попал под но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ле прыжков приземляться на согнутые ноги в широкую стой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C:\Documents and Settings\Алеша\Рабочий стол\волейбол(картинки)\волейбол 012.jpg"/>
          <p:cNvPicPr/>
          <p:nvPr/>
        </p:nvPicPr>
        <p:blipFill>
          <a:blip r:embed="rId2"/>
          <a:stretch/>
        </p:blipFill>
        <p:spPr>
          <a:xfrm>
            <a:off x="4357800" y="4437000"/>
            <a:ext cx="4786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приемы и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1356840"/>
            <a:ext cx="5799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волейболе выделяют пять основных приемов игры: подача, прием, передача, нападающий удар и блокирование. Все эти элементы сочетаются с различными стойками и перемещениями игр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ой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это удобное исходное положение волейболиста: ноги слегка согнуты, тяжесть тела равномерно распределена на обе ноги, туловище наклонено впер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C:\Documents and Settings\Алеша\Рабочий стол\волейбол(картинки)\волейбол 002.jpg"/>
          <p:cNvPicPr/>
          <p:nvPr/>
        </p:nvPicPr>
        <p:blipFill>
          <a:blip r:embed="rId2"/>
          <a:stretch/>
        </p:blipFill>
        <p:spPr>
          <a:xfrm>
            <a:off x="6012000" y="2349360"/>
            <a:ext cx="30002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за</cp:lastModifiedBy>
  <dcterms:modified xsi:type="dcterms:W3CDTF">2017-08-31T07:56:41Z</dcterms:modified>
  <cp:revision>41</cp:revision>
  <dc:subject/>
  <dc:title>Волейбол. 5-7 классы.</dc:title>
</cp:coreProperties>
</file>