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090C-AE42-4292-82D7-8C6C2E804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 отрезок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3BF3-FF0A-4A74-AB48-B00F293BD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прямой. ани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8B8F-4B78-4DE2-A4D4-B17F005BF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теме с аним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4593-A157-4922-97C9-0DE8ADE59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B36-A2D6-4133-AF0F-55778BAC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069-618C-40E9-AA6A-1A476514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D0E-489C-4B1E-9BB7-AFCF6F15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03E-2A7A-4F3E-893A-98E8B713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24D-2CAB-4DEA-AC58-1B6FB43C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F14-6FCA-4B42-884C-4EF4E5A6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A64-FEDF-48B5-9123-FCADE232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BEC-3725-4677-9C77-6B7D598B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BD2-3B7E-489B-9C02-AF148D3D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FBA-FD18-4206-8A03-B190F2B3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EB6-84E6-4992-A2AB-460AB94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912-E1D9-4B1F-8811-58C5BDDD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AC74-F380-4E63-A217-76DD46648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14240" y="714240"/>
            <a:ext cx="790596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566640" y="549360"/>
            <a:ext cx="7944120" cy="12985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3"/>
          <a:stretch/>
        </p:blipFill>
        <p:spPr>
          <a:xfrm>
            <a:off x="781200" y="2000160"/>
            <a:ext cx="74977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571680" y="2428920"/>
            <a:ext cx="75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тметьте две точки А и В. Начертите прям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ходящую   через эти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00040" y="50004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Отметьте точку А. Начертите три прямые 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ходящие через эту то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651600" y="1214280"/>
            <a:ext cx="782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</a:rPr>
              <a:t>Сколько прямых  можно провести через заданную точку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14280" y="2500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0040" y="3071880"/>
            <a:ext cx="84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ертите еще одну прямую, проходящую через данные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788400" y="3571920"/>
            <a:ext cx="67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</a:rPr>
              <a:t>Сколько прямых можно провести через две т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863280" y="4071960"/>
            <a:ext cx="65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</a:rPr>
              <a:t>Через любые две точки можно провести пряму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TextBox 10"/>
          <p:cNvGrpSpPr/>
          <p:nvPr/>
        </p:nvGrpSpPr>
        <p:grpSpPr>
          <a:xfrm>
            <a:off x="512640" y="4632480"/>
            <a:ext cx="8045640" cy="987120"/>
            <a:chOff x="512640" y="4632480"/>
            <a:chExt cx="8045640" cy="987120"/>
          </a:xfrm>
        </p:grpSpPr>
        <p:pic>
          <p:nvPicPr>
            <p:cNvPr id="108" name="TextBox 10" descr=""/>
            <p:cNvPicPr/>
            <p:nvPr/>
          </p:nvPicPr>
          <p:blipFill>
            <a:blip r:embed="rId2"/>
            <a:stretch/>
          </p:blipFill>
          <p:spPr>
            <a:xfrm>
              <a:off x="512640" y="4632480"/>
              <a:ext cx="804564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71680" y="4714920"/>
              <a:ext cx="79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</a:rPr>
                <a:t>Через любые две точки можно провести прямую, и притом  только одн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TextBox 11"/>
          <p:cNvGrpSpPr/>
          <p:nvPr/>
        </p:nvGrpSpPr>
        <p:grpSpPr>
          <a:xfrm>
            <a:off x="512640" y="1494000"/>
            <a:ext cx="8186760" cy="981000"/>
            <a:chOff x="512640" y="1494000"/>
            <a:chExt cx="8186760" cy="981000"/>
          </a:xfrm>
        </p:grpSpPr>
        <p:pic>
          <p:nvPicPr>
            <p:cNvPr id="111" name="TextBox 11" descr=""/>
            <p:cNvPicPr/>
            <p:nvPr/>
          </p:nvPicPr>
          <p:blipFill>
            <a:blip r:embed="rId3"/>
            <a:stretch/>
          </p:blipFill>
          <p:spPr>
            <a:xfrm>
              <a:off x="512640" y="1494000"/>
              <a:ext cx="81867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71680" y="1571760"/>
              <a:ext cx="807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</a:rPr>
                <a:t>Через заданную точку А можно провести множество прям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TextBox 2"/>
          <p:cNvGrpSpPr/>
          <p:nvPr/>
        </p:nvGrpSpPr>
        <p:grpSpPr>
          <a:xfrm>
            <a:off x="579600" y="628560"/>
            <a:ext cx="8046720" cy="1114560"/>
            <a:chOff x="579600" y="628560"/>
            <a:chExt cx="8046720" cy="1114560"/>
          </a:xfrm>
        </p:grpSpPr>
        <p:pic>
          <p:nvPicPr>
            <p:cNvPr id="115" name="TextBox 2" descr=""/>
            <p:cNvPicPr/>
            <p:nvPr/>
          </p:nvPicPr>
          <p:blipFill>
            <a:blip r:embed="rId2"/>
            <a:stretch/>
          </p:blipFill>
          <p:spPr>
            <a:xfrm>
              <a:off x="579600" y="628560"/>
              <a:ext cx="804672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4296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libri"/>
                </a:rPr>
                <a:t>Часть прямой, ограниченная двумя точками, называется ОТРЕЗК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124000" y="2171880"/>
            <a:ext cx="489600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1013400" y="5072040"/>
            <a:ext cx="3524400" cy="4597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 и В – концы отрезка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28760" y="928800"/>
            <a:ext cx="82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1. Проведите прямую, обозначьте ее буквой а. Отметьте точки </a:t>
            </a:r>
            <a:r>
              <a:rPr b="1" lang="en-US" sz="2200" spc="-1" strike="noStrike">
                <a:solidFill>
                  <a:srgbClr val="4f6228"/>
                </a:solidFill>
                <a:latin typeface="Arial"/>
              </a:rPr>
              <a:t>A, B, C, D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, лежащие на этой прямой. Запишите все получившиеся отрез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28760" y="2071800"/>
            <a:ext cx="8358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2. Начертите прямые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m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, пересекающиеся в точке К. На прямой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отметьте точку М, отличную от точки 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а) Являются ли прямые КМ и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различными прямы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б) Являются ли прямые КМ и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различными прямы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в) Может ли прямая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 проходить через точку 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071800" y="3857760"/>
            <a:ext cx="4276440" cy="187632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5" descr=""/>
          <p:cNvPicPr/>
          <p:nvPr/>
        </p:nvPicPr>
        <p:blipFill>
          <a:blip r:embed="rId3"/>
          <a:stretch/>
        </p:blipFill>
        <p:spPr>
          <a:xfrm>
            <a:off x="1816200" y="231840"/>
            <a:ext cx="53164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" descr=""/>
          <p:cNvPicPr/>
          <p:nvPr/>
        </p:nvPicPr>
        <p:blipFill>
          <a:blip r:embed="rId2"/>
          <a:stretch/>
        </p:blipFill>
        <p:spPr>
          <a:xfrm>
            <a:off x="463680" y="328680"/>
            <a:ext cx="8143920" cy="1933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857160" y="271476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1. В чем заключается смысл приема «Провешивание прямо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2. Где на практике используется данный пр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3. Возможно ли применение данного приема в учебной деятель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2" descr=""/>
          <p:cNvPicPr/>
          <p:nvPr/>
        </p:nvPicPr>
        <p:blipFill>
          <a:blip r:embed="rId2"/>
          <a:stretch/>
        </p:blipFill>
        <p:spPr>
          <a:xfrm>
            <a:off x="225360" y="285840"/>
            <a:ext cx="4022640" cy="1141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725040" y="1500120"/>
            <a:ext cx="32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1 уровень слож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Arial"/>
              </a:rPr>
              <a:t>1. № 2, 5, 6 (учебни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85880" y="2428920"/>
            <a:ext cx="7572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2 уровень слож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Arial"/>
              </a:rPr>
              <a:t>1. Сколько точек пересечения могут иметь три прямые? Рассмотрите все возможные случаи и сделайте соответствующие рису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Arial"/>
              </a:rPr>
              <a:t>2. На плоскости даны три точки. Сколько прямых можно провести через эти точки так, чтобы на каждой прямой лежали хотя бы две из данных точек? ? Рассмотрите все возможные случаи и сделайте соответствующие рису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школа\2017-2018\сайт Педсовет\Шаблоны\Шаблоны\Презентации о школе 2017\27\01_3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571680" y="64296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Как называется наука, занимающаяся    изучением геометрически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71680" y="16430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 Как называется часть геометрии, в которой рассматриваются фигуры на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71680" y="25718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 Как называется часть геометрии, в которой рассматриваются фигуры в простран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71680" y="3571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Сколько прямых можно провести через две т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71680" y="4572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Сколько точек пересечения могут иметь две прям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школа\2017-2018\сайт Педсовет\Шаблоны\Шаблоны\Презентации о школе 2017\27\0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" descr=""/>
          <p:cNvPicPr/>
          <p:nvPr/>
        </p:nvPicPr>
        <p:blipFill>
          <a:blip r:embed="rId2"/>
          <a:stretch/>
        </p:blipFill>
        <p:spPr>
          <a:xfrm>
            <a:off x="493560" y="249120"/>
            <a:ext cx="8248680" cy="1135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857160" y="1428840"/>
            <a:ext cx="591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ик: пп.1, 2; вопросы 1-3 (с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ик: №  1, 3, 4,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олнительное 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285920" y="264312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колько различных прямых можно провести через четыре точки? Рассмотрите все случаи и сделайте соответствующие рису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Галилео Галилей"/>
          <p:cNvPicPr/>
          <p:nvPr/>
        </p:nvPicPr>
        <p:blipFill>
          <a:blip r:embed="rId2"/>
          <a:stretch/>
        </p:blipFill>
        <p:spPr>
          <a:xfrm>
            <a:off x="619200" y="495360"/>
            <a:ext cx="140004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614520" y="2360520"/>
            <a:ext cx="160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Arial"/>
              </a:rPr>
              <a:t>Галилео Гали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143080" y="500040"/>
            <a:ext cx="63579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Arial"/>
                <a:ea typeface="Tahoma"/>
              </a:rPr>
              <a:t>«Природа говорит языком математики: буквы этого языка – круги, треугольники и иные математические фигуры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71680" y="121428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дна из наиболее древних на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ла более 4000 лет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еческого происхождения. В буквальном смысле оно означает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емер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71920" y="3286080"/>
            <a:ext cx="514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Arial"/>
              </a:rPr>
              <a:t>«гео» – по-гречески земля, «метрео» - мер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http://alldrawings.ru/images/cherchenie/istoria_cherteza1.jpg"/>
          <p:cNvPicPr/>
          <p:nvPr/>
        </p:nvPicPr>
        <p:blipFill>
          <a:blip r:embed="rId2"/>
          <a:stretch/>
        </p:blipFill>
        <p:spPr>
          <a:xfrm>
            <a:off x="4071960" y="4286160"/>
            <a:ext cx="4597200" cy="150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https://arhivurokov.ru/videouroki/html/2014/09/04/98685846/img3.jpg"/>
          <p:cNvPicPr/>
          <p:nvPr/>
        </p:nvPicPr>
        <p:blipFill>
          <a:blip r:embed="rId3"/>
          <a:stretch/>
        </p:blipFill>
        <p:spPr>
          <a:xfrm>
            <a:off x="500040" y="32148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4"/>
          <a:stretch/>
        </p:blipFill>
        <p:spPr>
          <a:xfrm>
            <a:off x="420840" y="414360"/>
            <a:ext cx="83692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571680" y="571680"/>
            <a:ext cx="8072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а наука, как и другие,  возникла из потребностей человека: нужно было строить храмы, жилища, прокладывать дороги и оросительные каналы, определять границы земельных участков и их разме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жную роль играли и эстетические потребности людей: рисовать картины, украшать одежду и жили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это способствовало приобретению и накоплению геометрических све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ремена зарождения геометрии правила выводились на основе сведений и фактов добытых опытным путем, поэтому наука не была точ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епенно геометрия становилась наукой, в которой большинство фактов устанавливается путем вывода, рассуждений, доказатель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28760" y="5000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м, кто начал получать новые геометрические факты при помощи рассуждений (доказательств), был древнегреческий учен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Illustrerad Verldshistoria band I Ill 107.jpg"/>
          <p:cNvPicPr/>
          <p:nvPr/>
        </p:nvPicPr>
        <p:blipFill>
          <a:blip r:embed="rId2"/>
          <a:stretch/>
        </p:blipFill>
        <p:spPr>
          <a:xfrm>
            <a:off x="571680" y="2286000"/>
            <a:ext cx="2214360" cy="3368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000240" y="2143080"/>
            <a:ext cx="5572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Фале́с</a:t>
            </a:r>
            <a:r>
              <a:rPr b="0" lang="ru-RU" sz="2200" spc="-1" strike="noStrike">
                <a:solidFill>
                  <a:srgbClr val="984807"/>
                </a:solidFill>
                <a:latin typeface="Arial"/>
              </a:rPr>
              <a:t> (др.-греч. Θαλῆς ὁ Μιλήσιος, 640/624 — 548/545 до н. э.) — древнегреческий философ и математик из Милета (Малая Азия). Представитель ионической натурфилософии и основатель милетской (ионийской) школы, с которой начинается история европейской науки. Традиционно считается основоположником греческой философии (и наук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28760" y="500040"/>
            <a:ext cx="8358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ее влияние на все последующее развитие геометрии оказали труды греческого ученого Евклида.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. до н.э. он написал сочинение «Начала», и почти 2000 лет геометрия изучалась по этой книге, а наука в честь ученого была назва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вклидовой геометри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s://si.wsj.net/public/resources/images/OB-WL501_bkrveu_G_20130222144434.jpg"/>
          <p:cNvPicPr/>
          <p:nvPr/>
        </p:nvPicPr>
        <p:blipFill>
          <a:blip r:embed="rId2"/>
          <a:stretch/>
        </p:blipFill>
        <p:spPr>
          <a:xfrm>
            <a:off x="500040" y="3000240"/>
            <a:ext cx="2997360" cy="2000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3500280" y="2357280"/>
            <a:ext cx="5214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Евклид</a:t>
            </a:r>
            <a:r>
              <a:rPr b="0" lang="ru-RU" sz="2200" spc="-1" strike="noStrike">
                <a:solidFill>
                  <a:srgbClr val="984807"/>
                </a:solidFill>
                <a:latin typeface="Arial"/>
              </a:rPr>
              <a:t> — первый математик Александрийской школы. Его главная работа «Начала» содержит изложение планиметрии, стереометрии и ряда вопросов теории чисел; в ней он подвёл итог предшествующему развитию древнегреческой математики и создал фундамент дальнейшего развития матема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5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79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альтернативный процесс 17"/>
          <p:cNvSpPr/>
          <p:nvPr/>
        </p:nvSpPr>
        <p:spPr>
          <a:xfrm>
            <a:off x="2000160" y="1214280"/>
            <a:ext cx="4714920" cy="71460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еоме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18"/>
          <p:cNvSpPr/>
          <p:nvPr/>
        </p:nvSpPr>
        <p:spPr>
          <a:xfrm rot="1313400">
            <a:off x="2247840" y="1628640"/>
            <a:ext cx="428760" cy="642960"/>
          </a:xfrm>
          <a:prstGeom prst="down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4886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19"/>
          <p:cNvSpPr/>
          <p:nvPr/>
        </p:nvSpPr>
        <p:spPr>
          <a:xfrm rot="20397600">
            <a:off x="6028920" y="161244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7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альтернативный процесс 20"/>
          <p:cNvSpPr/>
          <p:nvPr/>
        </p:nvSpPr>
        <p:spPr>
          <a:xfrm>
            <a:off x="1285920" y="2286000"/>
            <a:ext cx="2000160" cy="612720"/>
          </a:xfrm>
          <a:prstGeom prst="flowChartAlternate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альтернативный процесс 21"/>
          <p:cNvSpPr/>
          <p:nvPr/>
        </p:nvSpPr>
        <p:spPr>
          <a:xfrm>
            <a:off x="5357880" y="2286000"/>
            <a:ext cx="2143080" cy="612720"/>
          </a:xfrm>
          <a:prstGeom prst="flowChartAlternate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р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22"/>
          <p:cNvSpPr/>
          <p:nvPr/>
        </p:nvSpPr>
        <p:spPr>
          <a:xfrm>
            <a:off x="2143080" y="29289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23"/>
          <p:cNvSpPr/>
          <p:nvPr/>
        </p:nvSpPr>
        <p:spPr>
          <a:xfrm>
            <a:off x="6286680" y="29289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альтернативный процесс 24"/>
          <p:cNvSpPr/>
          <p:nvPr/>
        </p:nvSpPr>
        <p:spPr>
          <a:xfrm>
            <a:off x="642960" y="3429000"/>
            <a:ext cx="3714840" cy="1500120"/>
          </a:xfrm>
          <a:prstGeom prst="flowChartAlternateProcess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Часть геометрии, в которой рассматриваются фигуры на плоск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(прямая, отрезок, луч, угол, многоуголь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6"/>
          <p:cNvSpPr/>
          <p:nvPr/>
        </p:nvSpPr>
        <p:spPr>
          <a:xfrm>
            <a:off x="4714920" y="3429000"/>
            <a:ext cx="378612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Часть геометрии, в которой рассматриваются фигуры в пространст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(шар, куб, цилиндр, пирам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500040" y="42876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Геометрия – это наука, занимающаяся    изуч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                         </a:t>
            </a:r>
            <a:r>
              <a:rPr b="1" lang="ru-RU" sz="2200" spc="-1" strike="noStrike">
                <a:solidFill>
                  <a:srgbClr val="984807"/>
                </a:solidFill>
                <a:latin typeface="Arial"/>
              </a:rPr>
              <a:t>геометрических фигу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652320" y="857160"/>
            <a:ext cx="322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ертите прям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71920" y="1428840"/>
            <a:ext cx="389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ее можно обозначи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786200" y="642960"/>
            <a:ext cx="337212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1"/>
          <p:cNvSpPr/>
          <p:nvPr/>
        </p:nvSpPr>
        <p:spPr>
          <a:xfrm>
            <a:off x="642960" y="1857240"/>
            <a:ext cx="3714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2.  Отметьте точку С, не лежащую данной прямой, и точки 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</a:rPr>
              <a:t>D, E, K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, лежащие на этой же пря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4786200" y="2286000"/>
            <a:ext cx="352440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3"/>
          <p:cNvSpPr/>
          <p:nvPr/>
        </p:nvSpPr>
        <p:spPr>
          <a:xfrm>
            <a:off x="642960" y="3571920"/>
            <a:ext cx="3643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 Используя символы принадлежности, запишите предложение: </a:t>
            </a:r>
            <a:r>
              <a:rPr b="1" lang="ru-RU" sz="2200" spc="-1" strike="noStrike">
                <a:solidFill>
                  <a:srgbClr val="4a452a"/>
                </a:solidFill>
                <a:latin typeface="Arial"/>
              </a:rPr>
              <a:t>«Точка К принадлежит прямой  АВ, точка С не принадлежит прямой 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4857840" y="4786200"/>
            <a:ext cx="182880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642960" y="57168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ертите две пересекающиеся прямые. Обозначьте прямые и точку перес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63120" y="1285920"/>
            <a:ext cx="72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Arial"/>
              </a:rPr>
              <a:t>Сколько общих точек может быть у двух прямы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TextBox 4"/>
          <p:cNvGrpSpPr/>
          <p:nvPr/>
        </p:nvGrpSpPr>
        <p:grpSpPr>
          <a:xfrm>
            <a:off x="1298520" y="1920960"/>
            <a:ext cx="6759720" cy="981000"/>
            <a:chOff x="1298520" y="1920960"/>
            <a:chExt cx="6759720" cy="981000"/>
          </a:xfrm>
        </p:grpSpPr>
        <p:pic>
          <p:nvPicPr>
            <p:cNvPr id="96" name="TextBox 4" descr=""/>
            <p:cNvPicPr/>
            <p:nvPr/>
          </p:nvPicPr>
          <p:blipFill>
            <a:blip r:embed="rId2"/>
            <a:stretch/>
          </p:blipFill>
          <p:spPr>
            <a:xfrm>
              <a:off x="1298520" y="1920960"/>
              <a:ext cx="67597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357200" y="2000160"/>
              <a:ext cx="66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</a:rPr>
                <a:t>Две прямые либо имеют одну общую точку, либо не имеют общих точ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1143000" y="3214800"/>
            <a:ext cx="6867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17:48:31Z</dcterms:created>
  <dc:creator>user</dc:creator>
  <dc:description/>
  <dc:language>en-US</dc:language>
  <cp:lastModifiedBy>Оля</cp:lastModifiedBy>
  <dcterms:modified xsi:type="dcterms:W3CDTF">2017-08-31T08:09:18Z</dcterms:modified>
  <cp:revision>76</cp:revision>
  <dc:subject/>
  <dc:title>Слайд 1</dc:title>
</cp:coreProperties>
</file>