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9666288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DD5-B2A7-4538-B060-561DBED4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B4E-9F22-4BAD-AF84-CEE2184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CD95-FA85-4A8B-A09D-F9BCA2C0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B3AC-4B35-433A-AC55-D6844A6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F71D9-8260-4F7A-876F-EF24901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74E50-6FCF-41B9-9D99-BEC438E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0A51-68AA-40EF-A43B-573635D0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4940A-3D68-4DAA-A8C8-007CF02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46AA5-1129-4795-91B0-5D59DD4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B55D3-49B0-4DC6-912E-3005E8B8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4665A-D427-493A-85E0-E01FFAB6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F44C5-7AFC-465B-AA8D-572D7999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ADE-51CB-46F4-B982-8BF59CCD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D713C-F30F-423A-8982-BAF5F009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25F26-3930-4CEE-8393-3B84A884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BA927-D894-4568-922F-35AE661C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5C68-A89B-4AE2-93DD-128A6B4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B5C5D-8166-4B60-B577-72D99DF0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7C3EA-A158-457F-8A88-F125BB6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D58CD-9F0A-4F5C-ABF3-E7827BF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513FF-E828-4F71-B00B-56575B3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8E529-EF8D-4796-80BC-E2B9050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249BC-A194-4AFA-B56C-401590E7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2EB-B6FC-41FE-8C0E-B0ACE676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D88A1-3E1A-42F7-B787-084F4E0B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23D02-C8D3-4251-841A-A73172A2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E9B8-C575-445C-8B23-3723BF4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A872-DD46-40BE-A469-E2EF5723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96552-9EEC-459E-B7BF-F94E883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CAAA-6D7F-4CB2-A67D-836F620B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88891-9A08-47D7-80A9-71C04F34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288A-E17F-4A04-9FC1-602A8A8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B6F7-38A6-4E2A-BB25-2594E39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C0337-1077-4369-BD95-D8551F5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8A59-FAEC-4A6D-8FD0-27A9E323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F9AE7-1B64-426B-9868-30B7406F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8A84-CD1E-4D6B-8E3C-E0090F77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6935-24BE-4834-85F3-C1E595F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D1CBA-135E-4D3D-96CD-26FFB0D0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DE560-1ABC-47D6-A213-4152342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3635-BA7C-469B-9B05-85FA035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8827C-19A8-4D4A-9C06-661EB42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A91B2-D38E-4932-970F-DDEE5AF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C49E-9B77-416F-BDC7-82D3F2C7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E7DBF-C9BC-4B76-A8B7-12C1CA9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9C6-0A0D-421E-A08A-9ED2B73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8E220-EC47-4229-B895-ACCC755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1E561-3359-4ED4-BC1A-14BEF56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43BE2-5E8F-4899-813A-05E1AF1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5579A-177B-4070-8E23-3338657C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0ED86-84C5-4E9A-8A63-82E6E838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B899B-282A-474C-90C7-D3FF023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9C924-BAFD-44FA-B6F1-0F7895F9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BC6E3-BD20-4A7D-A9D1-50E11AB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A2ACC-F98B-4072-98CA-7302546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F3CE8-4CE7-4EDC-8978-E9834E53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53F-5D0F-43D7-8B96-9857BB3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072AB-4AC1-4DC0-B8D4-2C02853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49A5D-61B9-484B-9D2E-6339E1A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B989B-21F1-4E17-9645-8C76AE1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A57D9-7E96-4B95-B36B-7A89F2B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A02BE-2B54-451C-9887-67DACC6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98A03-F0BF-4326-93F4-955F620B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04637-C26C-4896-AFE6-C832D803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C8701-8DAF-4B29-8345-7DAD20BC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6F6F4-44FD-4336-9780-41A2709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EF9AC-2CC0-472E-8BF1-71A6BD13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58F7-357F-4568-AD59-9046F14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52020-6991-47F4-AB48-D2707D3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6951E-D5E9-44E4-A136-ADDB4D03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FA970-9A3D-4C98-ACB9-87DAC82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D2687-DDE3-44ED-9E52-DC6BC4F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411DB-72FF-48B6-AA9D-5B4A09C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BC0B8-1AB0-46E3-BE86-47F9EE6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5BC93-B1B6-46BB-AE9D-C971EF4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EB499-3136-4B03-A68C-1D17DB9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B7416-02A4-4AB5-ADB2-EC15BA0F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C54-26A5-4760-AD97-536893D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036-D447-4BCB-A5F3-BCC66F40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C4D-F926-4DA3-951F-60CD941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18A-774D-466E-8E66-E694FCF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95B5-8026-4EAF-A856-83F510A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1D6-F04B-418C-97B9-6E8FF8A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E03A-EB27-4497-AB90-B5CD6BD8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D9E-9874-41FF-826B-B4D43333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098-BD4D-466A-8FAD-44653FF2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33C0-1058-4221-9454-59D9B7B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E8C7-58E2-4EE2-9C8B-238F53E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997C-F4DA-41B2-9E7D-A5C6972F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2907-6A33-427F-AE99-E36DB5F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25F7-DE5D-44C5-BE54-E5A70421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41F-16E0-4AA3-A1AE-EA96E3C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D6B3-6CEE-40E0-AFAC-DADEFC8F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B81E-F664-44BE-B746-728AB9B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4BE0-6DF1-405A-B971-70FF812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96F4-DED5-4066-BEF2-B2600FB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0A85-1F50-4A7A-B64A-A555011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2FD8-CF38-42CB-8681-57E23DAB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E8AB-1B35-4784-A74C-8F1A16F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2029-E9D6-404A-A4C9-8E83852D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BDD8-8606-43C0-935A-AC7FA922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783F-3CA4-451C-8497-4C12897F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B7E-EB46-4893-9DDD-D67BFB3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6C69-C1CC-47F4-8ECC-A4F8DC2A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8907-24A1-4AA0-BE5C-970503A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9E83-02A1-429E-9C13-06B05437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8FFD-4A0A-4B83-AD32-87FCB97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B337-8B43-42C2-BB78-55D6D30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13CB-D44B-484C-8FB7-23BC2A9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3C72-7A80-4BF8-BED8-6C089A5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1676-A9F2-4792-9607-8FD8E470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BBBC-EEE3-4A61-9846-F30EB4E9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0CBA-9D1C-45C4-B2A1-C925AAF2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ACA-E758-4AA7-A9D6-80EF247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F0597-7A10-4241-A3E3-D196542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44CE-87A0-4B60-A2BB-A88C40DD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2B8F-39E0-4FD2-8E3B-E20887AD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5B32-DA07-42C3-B76A-4E5247E1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B768-3826-41D2-84F2-C48442F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E7F7-E50B-42BC-8F64-D4FD3BB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FB7DC-20C6-429E-8BBC-C6DD69F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94C2-72A2-420A-891C-832408C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DC66-5D8E-4EC1-BAB8-1F1A0005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9E71-3365-4F1F-8A33-06646BEB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E7-0C00-4142-8582-1F91016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1935-58C3-4017-AEC5-17974F1D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C31F-7FC2-470D-8945-B68CA4D8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49C6-8FF7-4229-A323-6E5F0DE3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FEA1E-1DCA-4C01-8357-54947FB0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A9CB-7578-44D0-9854-1CA617D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CECF1-B668-435B-A566-88A36EA0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CA69-BDEC-42A9-B7C3-44D19CC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E412-567E-49B0-8B7C-3B2FF95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B26C-2869-463D-99C0-B39E4E6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19BD-64A4-4BDA-A0A0-E6D960F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7E2-5CB6-4663-B7E7-D431BA5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56C7-EB19-4117-95DB-7BFC96C5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3D88B-5A4F-4D7D-A197-9693A988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802C-1DA0-49FC-8723-D126356A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51B2-1026-48B0-A0F4-7337180A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FBE0-1796-416C-B3D3-0568CAC1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82A9-FD0C-453A-BC9A-1463BEC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034B-7583-40E1-BA45-DAB02E3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D77B1-E7CF-4117-BDFB-A25B908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8BDB-8682-49A8-85CE-0215801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7FCD-B695-436E-A22B-EF8071B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6D8-2F9D-4253-81C6-EC39893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715E2-B4C0-4505-B435-A01ECA6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B4A1-D956-4D0E-9460-DCA05F9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A452-9AD3-4194-8102-FD7969C2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ED26-4716-46CD-BB48-69DBEA9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0C9E-00A1-44A3-9D1A-1E9DF01A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A829-B224-4B21-869F-74B2F7B3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14EC-A717-42E2-9C8F-4DC6348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E6A28-1693-4845-8516-340C29FD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E52B2-B3A8-40B0-ABFA-E37C3493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43E14-C1EE-4B70-9FBE-8E6BA63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03B-5B32-487B-9F9C-4F4AF3C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2BED-E18D-437F-AF63-B7B95862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0B545-AE75-4733-9E98-01042DD9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F281-5970-4E11-AFB6-2F50AE1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97161-A182-43CB-9BBB-5C80CB7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6A87-7BE9-402A-A3EF-3210CC2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25936-0579-4354-A97A-08668649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F4B2-20B2-4153-9893-A4209DF7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6506-8DFD-4A8B-973D-8BA6C09A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AA70-DEAA-441B-8197-31435F9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A1820-8549-4CBD-9C12-DE7A8E3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4AD7-F460-4F42-AC3B-C1DEEA2489A2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894-714A-4D02-AF5E-4E8F78BF918E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0D4-FF9C-4C98-A30A-A26D1A288E5D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5BB6-ADA0-4894-985F-BAABB6725E87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243224"/>
                </a:solidFill>
                <a:latin typeface="Centaur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243224"/>
                </a:solidFill>
                <a:latin typeface="Centaur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3224"/>
                </a:solidFill>
                <a:latin typeface="Centaur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67CD-96A5-401B-BCC7-E3E9B855009B}" type="slidenum">
              <a:rPr b="0" lang="ru-RU" sz="1200" spc="-1" strike="noStrike">
                <a:solidFill>
                  <a:srgbClr val="243224"/>
                </a:solidFill>
                <a:latin typeface="Centaur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entaur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entaur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D96F-0D99-4ACC-9D34-3B83E3492F6C}" type="slidenum">
              <a:rPr b="0" lang="ru-RU" sz="1200" spc="-1" strike="noStrike">
                <a:solidFill>
                  <a:srgbClr val="898989"/>
                </a:solidFill>
                <a:latin typeface="Centaur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5E4-3924-4661-A162-8B0F5DBFE18D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0366-91DC-4162-A6D3-9F8A647AF88C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85B-86E9-4C7C-9260-CED8FB5753DC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378F-D07D-4790-8D08-7A7AA19275A1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4A1-CFB1-4AF2-91A3-AA3EEFB1BF37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C42-153D-4FF4-A452-E86328F392F1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E10-63BA-46A2-AF5B-311E22042C3B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a2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D7B-43E1-48F6-988C-073A91532321}" type="slidenum">
              <a:rPr b="0" lang="ru-RU" sz="1200" spc="-1" strike="noStrike">
                <a:solidFill>
                  <a:srgbClr val="7fa2c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hyperlink" Target="http://www.dgorodok.ru/obrazovanie/zanyatiya-s-rebenkom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360360" y="1017720"/>
            <a:ext cx="8534520" cy="1096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https://im0-tub-ru.yandex.net/i?id=f532c25a0b35fa1eb48c01d9bda4327a-l&amp;n=13"/>
          <p:cNvPicPr/>
          <p:nvPr/>
        </p:nvPicPr>
        <p:blipFill>
          <a:blip r:embed="rId2"/>
          <a:stretch/>
        </p:blipFill>
        <p:spPr>
          <a:xfrm>
            <a:off x="-27000" y="15840"/>
            <a:ext cx="9250200" cy="69422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219640" y="4571640"/>
            <a:ext cx="3703680" cy="20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щенко И.Н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79280" y="4653000"/>
            <a:ext cx="5791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Rectangle 5" descr=""/>
          <p:cNvPicPr/>
          <p:nvPr/>
        </p:nvPicPr>
        <p:blipFill>
          <a:blip r:embed="rId3"/>
          <a:stretch/>
        </p:blipFill>
        <p:spPr>
          <a:xfrm>
            <a:off x="-500040" y="2103480"/>
            <a:ext cx="10217160" cy="298620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6"/>
          <p:cNvSpPr/>
          <p:nvPr/>
        </p:nvSpPr>
        <p:spPr>
          <a:xfrm>
            <a:off x="36360" y="393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БДОУ  детский сад «Теремок»   г.  Цимлян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620640" y="404640"/>
            <a:ext cx="8523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ill Sans MT"/>
              </a:rPr>
              <a:t>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Gill Sans MT"/>
              </a:rPr>
              <a:t>Мнемотехника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немотехника - это совокупность правил и приемов, облегчающих процесс запоминания информаци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немотехника помогает развивать: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ассоциативное мышле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рительную и слуховую память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рительное и слуховое внима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воображение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4" descr="SNC00150.jpg"/>
          <p:cNvPicPr/>
          <p:nvPr/>
        </p:nvPicPr>
        <p:blipFill>
          <a:blip r:embed="rId2"/>
          <a:stretch/>
        </p:blipFill>
        <p:spPr>
          <a:xfrm>
            <a:off x="1042920" y="1569960"/>
            <a:ext cx="7777080" cy="46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17640"/>
            <a:ext cx="9161640" cy="68756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5280" y="228240"/>
            <a:ext cx="720108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Gill Sans MT"/>
              </a:rPr>
              <a:t>             </a:t>
            </a: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Звуковая культура речи</a:t>
            </a: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39280" y="836280"/>
            <a:ext cx="81471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    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          </a:t>
            </a:r>
            <a:r>
              <a:rPr b="1" lang="ru-RU" sz="3500" spc="-1" strike="noStrike">
                <a:solidFill>
                  <a:srgbClr val="ff0000"/>
                </a:solidFill>
                <a:latin typeface="Gill Sans MT"/>
              </a:rPr>
              <a:t>Задачи для детей 3-4 лет: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Совершенствовать умение детей внятно произносить в словах гласные звуки (а,у,и,о,э,ы) и некоторые согласные звуки ( п-б-т-д-к-г-ф-в-т</a:t>
            </a:r>
            <a:r>
              <a:rPr b="1" lang="ru-RU" sz="3500" spc="-1" strike="noStrike">
                <a:solidFill>
                  <a:srgbClr val="4a452a"/>
                </a:solidFill>
                <a:latin typeface="Arial"/>
              </a:rPr>
              <a:t>-д</a:t>
            </a:r>
            <a:r>
              <a:rPr b="1" lang="ru-RU" sz="3500" spc="-1" strike="noStrike">
                <a:solidFill>
                  <a:srgbClr val="4a452a"/>
                </a:solidFill>
                <a:latin typeface="Gill Sans MT"/>
              </a:rPr>
              <a:t>-с-з-ц)</a:t>
            </a:r>
            <a:endParaRPr b="1" lang="en-US" sz="35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  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7920"/>
            <a:ext cx="9150480" cy="68659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68000" y="1052280"/>
            <a:ext cx="8675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Наибольшее беспокойство у родителей вызывает звукопроизношение детей, так как это наиболее заметный дефект. Окружающие могут не заметить ограниченность словаря или особенности грамматического строя речи, а вот не правильное произношение – как на ладошке. Здесь на помощь придут игры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Чистоговорки: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Уп , уп , уп – мама варит суп. (зв. П.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БЫ, бы, бы – идёт дым из трубы. (зв. Б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«Бублик, баранку, батон и буханку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Пекарь из теста испёк спозаранку». (зв. П-б)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«Жа- жа –жа, есть иголки у ежа» 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Речев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ые</a:t>
            </a: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 игр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ы</a:t>
            </a:r>
            <a:r>
              <a:rPr b="1" i="1" lang="ru-RU" sz="2000" spc="-1" strike="noStrike">
                <a:solidFill>
                  <a:srgbClr val="4a452a"/>
                </a:solidFill>
                <a:latin typeface="Arial"/>
              </a:rPr>
              <a:t>:</a:t>
            </a: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«Насос»</a:t>
            </a:r>
            <a:r>
              <a:rPr b="1" i="1" lang="ru-RU" sz="2000" spc="-1" strike="noStrike">
                <a:solidFill>
                  <a:srgbClr val="4a452a"/>
                </a:solidFill>
                <a:latin typeface="Arial"/>
              </a:rPr>
              <a:t>, «Комар», «Жук».</a:t>
            </a:r>
            <a:r>
              <a:rPr b="1" i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Дети, подражая действию насоса, произносят звук «С-С-С…»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комара- «з-з-з», «ж-ж-ж» и др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Логоритмика -упражнения, где движения сопровождаются произнесением соответствующего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текста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i="1" lang="ru-RU" sz="31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100"/>
            </a:br>
            <a:endParaRPr b="1" lang="en-US" sz="31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16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речь взрослых (родителей и педагогов): четкая, неторопливая грамматически  и фонетически правильно оформленная, не следует искажать слова, имитировать детскую речь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обращайте внимание детей, на то, как дети согласовывают слова в предложении, поправляйте ребенка (исправлять допущенные ошибки)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играя с ребенком упражняйте его  в согласовании имен существительных с разными частями речи, например с глаголами: возьмите куклу и спросите: «Кто к нам приехал в гости? и ребенок дает вам полный ответ: «К нам в гости приехала кукла»;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-28440" y="19080"/>
            <a:ext cx="917244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749160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600"/>
            </a:b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1280" y="1412640"/>
            <a:ext cx="82915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используйте игру «Чего не стало?» называть существительное в Р.п. ед.ч. (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поставить 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3-4 игр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ушки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 и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 поочерёдно прятать одну из них…)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учите ребенка самостоятельно описывать игрушку. Для этого ну</a:t>
            </a: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ж</a:t>
            </a: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но: поставить игрушку, посмотреть, затем задать вопросы: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1. Что это? или кто это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2. Какого цвета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3. Это что у зайки? (показать на ушки, хвостик, лапки)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4. Как можно назвать зайку?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00120" y="436320"/>
            <a:ext cx="749160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e30746"/>
                </a:solidFill>
                <a:latin typeface="Gill Sans MT"/>
              </a:rPr>
              <a:t>Советы логопеда:</a:t>
            </a:r>
            <a:br>
              <a:rPr sz="3100"/>
            </a:br>
            <a:endParaRPr b="1" lang="en-US" sz="31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22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755640" y="1413000"/>
            <a:ext cx="7997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учите детей сравнивать предметы находить общее; чем отличается?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учите подбирать слова к определенным глаголам</a:t>
            </a:r>
            <a:r>
              <a:rPr b="1" lang="ru-RU" sz="2800" spc="-1" strike="noStrike">
                <a:solidFill>
                  <a:srgbClr val="4a452a"/>
                </a:solidFill>
                <a:latin typeface="Arial"/>
              </a:rPr>
              <a:t>, существительным</a:t>
            </a: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: собака бежит, а кто еще может бегать и т.д.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spcBef>
                <a:spcPts val="75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Gill Sans MT"/>
              </a:rPr>
              <a:t>для совершенствования правильного звукопроизношения используйте артикуляционную гимнастику</a:t>
            </a:r>
            <a:r>
              <a:rPr b="1" lang="ru-RU" sz="3000" spc="-1" strike="noStrike">
                <a:solidFill>
                  <a:srgbClr val="4a452a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24" name="Прямоугольник 1"/>
          <p:cNvSpPr/>
          <p:nvPr/>
        </p:nvSpPr>
        <p:spPr>
          <a:xfrm>
            <a:off x="277164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Times New Roman"/>
                <a:ea typeface="HGｺﾞｼｯｸE"/>
              </a:rPr>
              <a:t>Советы логопед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Артикуляционная гимнастика.</a:t>
            </a: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000" y="119664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ill Sans MT"/>
              </a:rPr>
              <a:t>Упражнения для губ и щек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1. Покусывание, похлопывание и растирание щек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2. Сытый хомячо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Надуть обе щеки, потом надувать щеки поочередно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3. Голодный хомячо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Втянуть щеки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4. Рот закрыт. Бить кулачком по надутым щекам, в результате чего воздух выходит с силой и шумом.</a:t>
            </a: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ill Sans MT"/>
              </a:rPr>
              <a:t>Упражнения для губ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1. Улыбка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Удерживание губ в улыбке. Зубы не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2. Хоботок (Трубочка)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Вытягивание губ вперед длинной трубочкой. 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3. Заборчик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Губы в улыбке, зубы сомкнуты в естественном прикусе и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4. Бублик (Рупор)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Зубы сомкнуты. Губы округлены и чуть вытянуты вперед. Верхние и нижние резцы видны.</a:t>
            </a:r>
            <a:br>
              <a:rPr sz="1800"/>
            </a:br>
            <a:r>
              <a:rPr b="1" lang="ru-RU" sz="1800" spc="-1" strike="noStrike">
                <a:solidFill>
                  <a:srgbClr val="4a452a"/>
                </a:solidFill>
                <a:latin typeface="Gill Sans MT"/>
              </a:rPr>
              <a:t> </a:t>
            </a: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10920" y="1988640"/>
            <a:ext cx="822636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оторные центры в коре головного мозга человека находятся рядом с моторными центрами пальцев, поэтому, развивая речь и стимулируя моторику пальцев, мы передаем импульсы в речевые центры, что активизирует речь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                 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815160" cy="148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Самомассаж пальцев рук.</a:t>
            </a:r>
            <a:endParaRPr b="1" lang="en-US" sz="3600" spc="-1" strike="noStrike">
              <a:solidFill>
                <a:srgbClr val="e30746"/>
              </a:solidFill>
              <a:latin typeface="Gill Sans MT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3622680" y="2093760"/>
            <a:ext cx="2225520" cy="21718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На ладони находится множество биологически активных точек. Воздействуя на них, можно регулировать функционирование внутренних органов. </a:t>
            </a:r>
            <a:br>
              <a:rPr sz="2100"/>
            </a:b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 Следовательно, воздействуя на определенные точки, можно влиять на соответствующие этой точке орган</a:t>
            </a:r>
            <a:r>
              <a:rPr b="1" lang="ru-RU" sz="2100" spc="-1" strike="noStrike">
                <a:solidFill>
                  <a:srgbClr val="4a452a"/>
                </a:solidFill>
                <a:latin typeface="Arial"/>
              </a:rPr>
              <a:t>ы</a:t>
            </a:r>
            <a:r>
              <a:rPr b="1" lang="ru-RU" sz="2100" spc="-1" strike="noStrike">
                <a:solidFill>
                  <a:srgbClr val="4a452a"/>
                </a:solidFill>
                <a:latin typeface="Gill Sans MT"/>
              </a:rPr>
              <a:t> человека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35" name="Прямоугольник 8"/>
          <p:cNvSpPr/>
          <p:nvPr/>
        </p:nvSpPr>
        <p:spPr>
          <a:xfrm>
            <a:off x="2878200" y="1639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HGｺﾞｼｯｸE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HGｺﾞｼｯｸE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6286680" y="22050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Безымянный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-–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4"/>
          <p:cNvSpPr/>
          <p:nvPr/>
        </p:nvSpPr>
        <p:spPr>
          <a:xfrm>
            <a:off x="6659640" y="2997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мизинец –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39528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большой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Прямоугольник 6"/>
          <p:cNvSpPr/>
          <p:nvPr/>
        </p:nvSpPr>
        <p:spPr>
          <a:xfrm>
            <a:off x="611280" y="2565360"/>
            <a:ext cx="24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указательный палец -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HGｺﾞｼｯｸE"/>
              </a:rPr>
              <a:t>й –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HGｺﾞｼｯｸE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147240" y="765000"/>
            <a:ext cx="9001080" cy="597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ff"/>
                </a:solidFill>
                <a:latin typeface="Gill Sans MT"/>
              </a:rPr>
              <a:t>              </a:t>
            </a:r>
            <a:r>
              <a:rPr b="0" lang="ru-RU" sz="3700" spc="-1" strike="noStrike">
                <a:solidFill>
                  <a:srgbClr val="0000ff"/>
                </a:solidFill>
                <a:latin typeface="Gill Sans MT"/>
              </a:rPr>
              <a:t>Основные задачи речевого развития детей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- овладение нормами и правилами родного языка, определёнными для каждого возраста;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- развитие у детей коммуникативных способностей (способности общаться) 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Хорошо развитая речь ребёнка способствует успешному обучению в школе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30746"/>
                </a:solidFill>
                <a:latin typeface="Gill Sans MT"/>
              </a:rPr>
              <a:t>Пальчиковая гимнастика.</a:t>
            </a:r>
            <a:br>
              <a:rPr sz="3600"/>
            </a:br>
            <a:r>
              <a:rPr b="1" lang="ru-RU" sz="2000" spc="-1" strike="noStrike">
                <a:solidFill>
                  <a:srgbClr val="0000ff"/>
                </a:solidFill>
                <a:latin typeface="Gill Sans MT"/>
              </a:rPr>
              <a:t>Развивает ловкость, подвижность, творческие способности, внимание и скорость реакции, а веселые стихи помогают снять нервное напряжение.</a:t>
            </a:r>
            <a:endParaRPr b="1" lang="en-US" sz="20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2" name="Прямоугольник 2"/>
          <p:cNvSpPr/>
          <p:nvPr/>
        </p:nvSpPr>
        <p:spPr>
          <a:xfrm>
            <a:off x="338040" y="248760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ои пальчики расскажу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Что умеют – все покаж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Их пять на каждой р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се сделать смогу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сегда помогу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Они на дудочке играю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Мячик брос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Белье стир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ол подметаю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Щиплют, ласкают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ять и пять моих ловких пальчиков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Прямоугольник 3"/>
          <p:cNvSpPr/>
          <p:nvPr/>
        </p:nvSpPr>
        <p:spPr>
          <a:xfrm>
            <a:off x="3735360" y="2349360"/>
            <a:ext cx="50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 по лесу скакал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"скачут"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йка корм себе искал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ами обеих рук поочерёдно перебираем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Вдруг у зайки на макушк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Поднялись, как стрелки, ушк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изображаем ушки ручкам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Шорох тихий раздает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Кто-то по лесу крадется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медленно идут по столу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Заяц путает сле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Убегает от беды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HGｺﾞｼｯｸE"/>
              </a:rPr>
              <a:t>(пальчики быстро-быстро бегают по кругу на стол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ы с предметами домашнего обихода.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Достоинством приведенных игр на развитие мелкой моторики у детей является то, что для их проведения не требуется какие-то специальные игрушки, пособия. В играх используются подручные материалы, которые есть в любом доме: пуговицы, крупа и т.д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22672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а с крупой.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6456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Крупа - очень полезный и приятный материал для занятий с ребенком, кроме того они способствуют </a:t>
            </a:r>
            <a:r>
              <a:rPr b="1" lang="ru-RU" sz="2400" spc="-1" strike="noStrike" u="sng">
                <a:solidFill>
                  <a:srgbClr val="db5353"/>
                </a:solidFill>
                <a:uFillTx/>
                <a:latin typeface="Gill Sans MT"/>
                <a:hlinkClick r:id="rId3"/>
              </a:rPr>
              <a:t>развитию мелкой моторики</a:t>
            </a:r>
            <a:r>
              <a:rPr b="1" lang="ru-RU" sz="24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Для игр с крупами подойдет все, что есть в доме: гречка, просо, фасоль, семечки, горох и даже  обычная соль, ну и конечно различные емкости, ложечки и сито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        </a:t>
            </a: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Возьмите яркий поднос. Тонким слоем рассыпьте любую мелкую крупу. Проведите пальчиком ребенка по крупе. Позвольте малышу самому нарисовать несколько хаотичных линий. Затем попробуйте вместе нарисовать рисунок.</a:t>
            </a:r>
            <a:endParaRPr b="1" lang="en-US" sz="2200" spc="-1" strike="noStrike">
              <a:solidFill>
                <a:srgbClr val="4a452a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Gill Sans MT"/>
              </a:rPr>
              <a:t>Крупу можно пересыпать, искать в ней предметы, пересыпать, сортировать, перекладывать, собирать, рисовать, делать аппликацию и многое другое.</a:t>
            </a:r>
            <a:endParaRPr b="1" lang="en-US" sz="2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Gill Sans MT"/>
              </a:rPr>
              <a:t>Игры с пуговицами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5280" y="1601280"/>
            <a:ext cx="8148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Gill Sans MT"/>
              </a:rPr>
              <a:t>Цель этих игр  развивать воображение, внимание, сенсорное восприятие, усидчивость, зрительно-моторную координацию, мелкую моторику пальцев рук. 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Подберите пуговицы разного цвета и размера. Сначала выложите рисунок сами, затем попросите ребенка сделать то же самостоятельно. После того, как ребенок научится выполнять задание без вашей помощи, предложите ему придумывать свои варианты рисунков.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658440" y="162828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Рассказывайте, читайте детям сказки. А хорошо знакомые сказки можно и проиграть.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Сказка нужна всем – и большим и маленьким. Сказкой можно успокоить</a:t>
            </a:r>
            <a:r>
              <a:rPr b="1" lang="ru-RU" sz="2800" spc="-1" strike="noStrike">
                <a:solidFill>
                  <a:srgbClr val="676a55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 поднять настроение , научить понимать другого , улучшить самочувствие. Сказка поможет скоротать время ,  познакомиться с нравственными понятиями , сблизить ребёнка и родителей.</a:t>
            </a:r>
            <a:br>
              <a:rPr sz="2800"/>
            </a:br>
            <a:r>
              <a:rPr b="1" lang="ru-RU" sz="2800" spc="-1" strike="noStrike">
                <a:solidFill>
                  <a:srgbClr val="676a55"/>
                </a:solidFill>
                <a:latin typeface="Gill Sans MT"/>
              </a:rPr>
              <a:t> 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754200" y="1844640"/>
            <a:ext cx="8364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Большое значение для развития речи дошкольника имеет обогащение словаря на основе знаний и представлений об окружающей жизни и в процессе наблюдений 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природ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. Природа имеет уникальные возможности для развития речи детей.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 txBox="1"/>
          <p:nvPr/>
        </p:nvSpPr>
        <p:spPr>
          <a:xfrm>
            <a:off x="285840" y="907560"/>
            <a:ext cx="82152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a452a"/>
                </a:solidFill>
                <a:latin typeface="Gill Sans MT"/>
              </a:rPr>
              <a:t>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Слаженная работа педагогов и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родителей даёт положительные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результаты:</a:t>
            </a:r>
            <a:endParaRPr b="0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дети овладевают правильной речью; </a:t>
            </a:r>
            <a:endParaRPr b="0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20720" indent="-277200" algn="just">
              <a:spcBef>
                <a:spcPts val="825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 них формируются навыки чёткого, грамматически правильного оформления высказывания и выражения мыслей</a:t>
            </a:r>
            <a:r>
              <a:rPr b="1" lang="ru-RU" sz="3300" spc="-1" strike="noStrike">
                <a:solidFill>
                  <a:srgbClr val="4a452a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60" name="Прямоугольник 2" descr=""/>
          <p:cNvPicPr/>
          <p:nvPr/>
        </p:nvPicPr>
        <p:blipFill>
          <a:blip r:embed="rId2"/>
          <a:stretch/>
        </p:blipFill>
        <p:spPr>
          <a:xfrm>
            <a:off x="944640" y="1511280"/>
            <a:ext cx="72486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0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5640"/>
          </a:xfrm>
          <a:prstGeom prst="rect">
            <a:avLst/>
          </a:prstGeom>
          <a:ln w="0">
            <a:noFill/>
          </a:ln>
        </p:spPr>
      </p:pic>
      <p:grpSp>
        <p:nvGrpSpPr>
          <p:cNvPr id="583" name="Organization Chart 7"/>
          <p:cNvGrpSpPr/>
          <p:nvPr/>
        </p:nvGrpSpPr>
        <p:grpSpPr>
          <a:xfrm>
            <a:off x="285840" y="836640"/>
            <a:ext cx="8495280" cy="5711760"/>
            <a:chOff x="285840" y="836640"/>
            <a:chExt cx="8495280" cy="5711760"/>
          </a:xfrm>
        </p:grpSpPr>
        <p:cxnSp>
          <p:nvCxnSpPr>
            <p:cNvPr id="584" name="_s1028"/>
            <p:cNvCxnSpPr>
              <a:stCxn id="585" idx="0"/>
              <a:endCxn id="586" idx="2"/>
            </p:cNvCxnSpPr>
            <p:nvPr/>
          </p:nvCxnSpPr>
          <p:spPr>
            <a:xfrm flipV="1" rot="16200000">
              <a:off x="5105520" y="2547720"/>
              <a:ext cx="1142640" cy="2288520"/>
            </a:xfrm>
            <a:prstGeom prst="bentConnector3">
              <a:avLst>
                <a:gd name="adj1" fmla="val 139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7" name="_s1029"/>
            <p:cNvCxnSpPr>
              <a:stCxn id="588" idx="0"/>
              <a:endCxn id="586" idx="2"/>
            </p:cNvCxnSpPr>
            <p:nvPr/>
          </p:nvCxnSpPr>
          <p:spPr>
            <a:xfrm flipH="1" flipV="1" rot="5400000">
              <a:off x="2818080" y="2548440"/>
              <a:ext cx="1142640" cy="2287440"/>
            </a:xfrm>
            <a:prstGeom prst="bentConnector3">
              <a:avLst>
                <a:gd name="adj1" fmla="val 139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6" name="_s1030"/>
            <p:cNvSpPr/>
            <p:nvPr/>
          </p:nvSpPr>
          <p:spPr>
            <a:xfrm>
              <a:off x="2572560" y="8366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Black"/>
                </a:rPr>
                <a:t>СЛОВАРЬ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_s1031"/>
            <p:cNvSpPr/>
            <p:nvPr/>
          </p:nvSpPr>
          <p:spPr>
            <a:xfrm>
              <a:off x="285840" y="42638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АКТ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лова, которы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бенок произносит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 своей реч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_s1032"/>
            <p:cNvSpPr/>
            <p:nvPr/>
          </p:nvSpPr>
          <p:spPr>
            <a:xfrm>
              <a:off x="4860360" y="4263840"/>
              <a:ext cx="3920760" cy="2284560"/>
            </a:xfrm>
            <a:prstGeom prst="roundRect">
              <a:avLst>
                <a:gd name="adj" fmla="val 16667"/>
              </a:avLst>
            </a:prstGeom>
            <a:solidFill>
              <a:srgbClr val="72a3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Black"/>
                </a:rPr>
                <a:t>ПАССИВНЫ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лова ребено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е произносит,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о соотносит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 предметами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977080" cy="118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Gill Sans MT"/>
              </a:rPr>
              <a:t>Развитие речи детей 3-4 лет</a:t>
            </a:r>
            <a:br>
              <a:rPr sz="3400"/>
            </a:br>
            <a:r>
              <a:rPr b="0" lang="ru-RU" sz="3400" spc="-1" strike="noStrike">
                <a:solidFill>
                  <a:srgbClr val="0000ff"/>
                </a:solidFill>
                <a:latin typeface="Gill Sans MT"/>
              </a:rPr>
              <a:t>1.Формирование словаря.</a:t>
            </a:r>
            <a:endParaRPr b="1" lang="en-US" sz="3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056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ill Sans MT"/>
              </a:rPr>
              <a:t>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Gill Sans MT"/>
              </a:rPr>
              <a:t>Активный словарь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К концу четвертого года словарный запас ребенка достигает приблизительно 1500 — 2000 слов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buClr>
                <a:srgbClr val="676a55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6a55"/>
                </a:solidFill>
                <a:latin typeface="Gill Sans MT"/>
              </a:rPr>
              <a:t>-</a:t>
            </a: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взрослые должны расширять и активизировать словарь  на основе  обогащения представлений о ближайшем окружении. (Название и назначение предметов одежды, обуви, головных уборов, посуды, мебели, видов транспорта; детали и части предметов- у платья-рукава, воротник, карманы, пуговицы;  качества ( цвет, форма, размер), особенности поверхности ( пушистая, шороховатая). 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buClr>
                <a:srgbClr val="4a452a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Gill Sans MT"/>
              </a:rPr>
              <a:t>Обогащать словарь названиями  частей суток, домашних и диких животных, овощей и фруктов.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- в речи присутствуют существительные, глаголы, местоимения (мой, твой, наш), наречия (тут, там, здесь), числительные (один, два), притяжательные прилагательные (дядина шляпа, мамино пальто)</a:t>
            </a:r>
            <a:endParaRPr b="1" lang="en-US" sz="20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676a55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ru-RU" sz="3500" spc="-1" strike="noStrike">
                <a:solidFill>
                  <a:srgbClr val="0000ff"/>
                </a:solidFill>
                <a:latin typeface="Gill Sans MT"/>
              </a:rPr>
              <a:t>2.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1280" y="98064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             </a:t>
            </a: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Задача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совершенствовать умение согласовывать прилагательные с существительными в роде, числе, падеже. 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Упражнение: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Жёлтое…. (солнце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Пушистые…(           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a452a"/>
                </a:solidFill>
                <a:latin typeface="Gill Sans MT"/>
              </a:rPr>
              <a:t>Машина…какая? (        )</a:t>
            </a: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190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39640" y="1052640"/>
            <a:ext cx="845208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а: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 научить употреблять существительные с предлогам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Упражнение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Зайчик ( под столом, над столом, на столе 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Ворона (над крышей, на крыши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Мячик (под столом)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Поросенок (в коробке).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255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Грамматический строй: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9640" y="836640"/>
            <a:ext cx="8452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а: </a:t>
            </a: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чить детей употреблять в речи существительные в форме единственного и множественного числа, обозначающих животных и их детенышей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Упражнение: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Утка- утенок- утята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Кошка- ……..- …….. 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Собака-………- …….. и т.д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       </a:t>
            </a:r>
            <a:r>
              <a:rPr b="1" lang="ru-RU" sz="3500" spc="-1" strike="noStrike">
                <a:solidFill>
                  <a:srgbClr val="0000ff"/>
                </a:solidFill>
                <a:latin typeface="Gill Sans MT"/>
              </a:rPr>
              <a:t>Связная речь</a:t>
            </a:r>
            <a:br>
              <a:rPr sz="3500"/>
            </a:br>
            <a:endParaRPr b="1" lang="en-US" sz="35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0920" y="907920"/>
            <a:ext cx="8380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Задачи :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Развитие диалогической речи. Вовлечение детей в разговор во время рассматриваний предметов, иллюстраций; наблюдений за живой и неживой природой ; после просмотра мультфильмов и спектаклей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Gill Sans MT"/>
              </a:rPr>
              <a:t>Развитие инициативной речи во взаимодействии со взрослыми и сверстниками.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https://im0-tub-ru.yandex.net/i?id=f532c25a0b35fa1eb48c01d9bda4327a-l&amp;n=13"/>
          <p:cNvPicPr/>
          <p:nvPr/>
        </p:nvPicPr>
        <p:blipFill>
          <a:blip r:embed="rId1"/>
          <a:stretch/>
        </p:blipFill>
        <p:spPr>
          <a:xfrm>
            <a:off x="0" y="-23760"/>
            <a:ext cx="9171000" cy="68817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610920" y="549000"/>
            <a:ext cx="85150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ff"/>
                </a:solidFill>
                <a:latin typeface="Gill Sans MT"/>
              </a:rPr>
              <a:t>                          </a:t>
            </a:r>
            <a:r>
              <a:rPr b="1" lang="ru-RU" sz="2600" spc="-1" strike="noStrike">
                <a:solidFill>
                  <a:srgbClr val="0066ff"/>
                </a:solidFill>
                <a:latin typeface="Gill Sans MT"/>
              </a:rPr>
              <a:t>Телефон.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разговоры по телефону (настоящему с бабушкой или игрушечному) способствуют развитию активной устной речи детей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Gill Sans MT"/>
              </a:rPr>
              <a:t>                              </a:t>
            </a:r>
            <a:r>
              <a:rPr b="1" lang="ru-RU" sz="2600" spc="-1" strike="noStrike">
                <a:solidFill>
                  <a:srgbClr val="0000ff"/>
                </a:solidFill>
                <a:latin typeface="Gill Sans MT"/>
              </a:rPr>
              <a:t>Ситуация общения «Расскажи</a:t>
            </a:r>
            <a:r>
              <a:rPr b="0" lang="ru-RU" sz="2600" spc="-1" strike="noStrike">
                <a:solidFill>
                  <a:srgbClr val="ffffff"/>
                </a:solidFill>
                <a:latin typeface="Gill Sans MT"/>
              </a:rPr>
              <a:t>…». </a:t>
            </a: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Взрослый с помощью наводящих вопросов побуждает ребенка делиться своими впечатлениями, опытом.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( …А меня научишь???)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ill Sans MT"/>
              </a:rPr>
              <a:t>Необходимо создавать ситуацию успеха. Похвалить ребенка за интересный рассказ или за то, чему он вас научил.  У ребенка постепенно будет складываться понимание того, что делиться чем-то, рассказывать- это интересно и здорово!</a:t>
            </a:r>
            <a:endParaRPr b="1" lang="en-US" sz="24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4:16:35Z</dcterms:created>
  <dc:creator>1</dc:creator>
  <dc:description/>
  <dc:language>en-US</dc:language>
  <cp:lastModifiedBy>Admin</cp:lastModifiedBy>
  <dcterms:modified xsi:type="dcterms:W3CDTF">2017-08-31T08:27:28Z</dcterms:modified>
  <cp:revision>51</cp:revision>
  <dc:subject/>
  <dc:title>Семинар-практикум для родителей детей младшего возраста</dc:title>
</cp:coreProperties>
</file>