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776-DA4D-4E44-BF1A-8E92E7E2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7ED-B253-4D1C-AC88-6CE45EAF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316-0EC4-47E2-B443-BA7A3EEF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927-FF65-4CCE-9EB3-9F19776F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B767C-BCD8-4AF6-9F37-89289AEE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3D95F-55D3-4751-8F7F-8C62B07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05625-416E-401B-9574-2B9286C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FC865-1F92-4D55-AB65-1E967035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61720-BA42-4B20-9E3D-0DFEBE3E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F44AF-B978-402A-8ED4-CBA478FD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8B005-A439-4142-86B5-94626DC1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0D0-0311-4F7F-90C2-E4D49FBB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9C070-C438-496F-A2EA-180E83CD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02A3F-6650-4F1D-90D3-A1C0043E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FDC23-5364-419F-AC34-A82BCE72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60D82-2416-4B46-BD96-42CCD932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7B0C9-D349-4935-98D1-823BAC35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F37-D7A1-4C03-9F76-D5D7539D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1D2-635A-4DAE-BD71-E7432087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48A-5FB4-48FC-BA23-61BD6799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7BE-AE40-4E38-B5C4-86E6E975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20D-70A0-423B-A3B9-4FD29DBB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95D-C1FA-4F1B-A86B-2F1778A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7C8-149B-4041-A8AC-1ADB77C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A29A-7023-4B99-A220-715527CE3100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AA5D-97BE-4895-9A6A-479D9EFE9819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86772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мма бесконечной геометрической прогрессии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866920" y="4437000"/>
            <a:ext cx="294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та учителя математики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цея №86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ниловой С. Д.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еометрическая прогрессия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овая последовательность, все члены которой отличны от 0 и каждый член которой начиная со второго получается из предыдущего члена умножением его на одно и то же числ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зывают геометрической прогрессией. При этом числ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зывают знаменателем геометрической прогрессии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улы геометрической прогресс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680" y="1927080"/>
            <a:ext cx="67550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ул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го члена геометрической прогрессии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ула сумм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ленов геометрической прогрессии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348000" y="2708280"/>
                <a:ext cx="2160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203640" y="4653000"/>
                <a:ext cx="300024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последовательность сумм геометрической прогресс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85960" y="1341360"/>
                <a:ext cx="487692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640" y="1927080"/>
            <a:ext cx="684072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оследовательность           сходится к пределу      , то число           называется суммой бесконечной геометрической прогрессии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эта последовательность расходится, то о сумме бесконечной геометрической прогрессии не говорят, хотя сумм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ленов прогрессии можно найти и в этом случае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867280" y="1844640"/>
                <a:ext cx="48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219640" y="2205000"/>
                <a:ext cx="452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348000" y="2205000"/>
                <a:ext cx="452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им случай, когда знаменатель , геометрической прогрессии удовлетворяет условию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1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35280" y="476280"/>
                <a:ext cx="458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372360" y="836640"/>
                <a:ext cx="1008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79640" y="2492280"/>
                <a:ext cx="640872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остоянный множитель можно вынести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а знак предел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066760" y="4368960"/>
                <a:ext cx="6086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Зная, что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при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, получи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00360" y="5013360"/>
                <a:ext cx="4824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79640" y="1557360"/>
                <a:ext cx="37148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Вычислим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79640" y="5734080"/>
                <a:ext cx="67690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Следовательно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68340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аким образом, если знаменатель       геометрической прогрессии удовлетворяет неравенству            , то сумма прогрессии существует и вычисляется по формуле         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317080" y="1989000"/>
                <a:ext cx="387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67280" y="4437000"/>
                <a:ext cx="18414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93080" y="2681280"/>
                <a:ext cx="1008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84036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24000" y="1117440"/>
                <a:ext cx="4969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: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 геометрическая прогресси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-8;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68360" y="2637000"/>
                <a:ext cx="48247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Найдем знаменатель прогрессии 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268360" y="3933720"/>
                <a:ext cx="4954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удовлетворяет условию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268360" y="4863960"/>
                <a:ext cx="410544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Вычислим по формуле 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95640" y="2276640"/>
                <a:ext cx="1224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: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5:06:20Z</dcterms:created>
  <dc:creator>User</dc:creator>
  <dc:description/>
  <dc:language>en-US</dc:language>
  <cp:lastModifiedBy>User</cp:lastModifiedBy>
  <dcterms:modified xsi:type="dcterms:W3CDTF">2017-01-08T09:59:29Z</dcterms:modified>
  <cp:revision>7</cp:revision>
  <dc:subject/>
  <dc:title>Сумма бесконечной геометрической прогрессии</dc:title>
</cp:coreProperties>
</file>