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C21D-9C91-4BB4-ABB2-CD114250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AA6-786D-4175-93AD-081036DF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31A-0BFC-478E-A214-322BAFDC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50B-1270-4A17-9636-55490F38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3DE6B-DC41-4AD6-86A2-1C100B78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8EBAC-BCAF-4A50-B4A1-D2281825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0C95C-4B69-4EBA-8652-4C0ED4A7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78586-A6FD-40E0-8EF9-23A971A2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46005-F1F7-4CDC-899D-50EF95FA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12D2A-FC91-4A4C-802F-93A5C2D4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220DE-B1AF-4DF7-BF8D-734C24D9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646-9CB4-4B0B-B143-9CCC4B65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F2EFE-BF45-465B-944D-736AEF14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996CD-C146-4486-AE74-95EE48C8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A69CD-F63E-4F59-94A2-4D87E88B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185B8-938E-4DB2-9F7A-D2BF208E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B2537-E343-4948-86A6-3B9EAE0F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6CE-B8F5-4D7F-9982-8215D0F5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80C-1454-4767-8748-C24EBF6C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EB4-1162-4B3B-A18E-0432D166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5DD-DA63-49B8-B5E8-EDEFB8BE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3372-EA29-4EB0-8B32-9D05C523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092-A29F-4819-B551-8A0CF247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7B7-3B8D-4D1F-B053-05E509FC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5f5f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5f5f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cccc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cccc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cc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E5F0-6EDE-460C-A4CC-68BACF9D4F4B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5f5f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5f5f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EF12-F79E-4079-9ED0-FB445E17B5FD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cccccc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cccccc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cc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686772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умма бесконечной геометрической прогрессии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866920" y="4437000"/>
            <a:ext cx="294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бота учителя математики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цея №86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ниловой С. Д.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еометрическая прогрессия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ловая последовательность, все члены которой отличны от 0 и каждый член которой начиная со второго получается из предыдущего члена умножением его на одно и то же числ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азывают геометрической прогрессией. При этом числ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зывают знаменателем геометрической прогрессии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улы геометрической прогресси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09680" y="1927080"/>
            <a:ext cx="67550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ул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го члена геометрической прогрессии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ула сумм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членов геометрической прогрессии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348000" y="2708280"/>
                <a:ext cx="2160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203640" y="4653000"/>
                <a:ext cx="300024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им последовательность сумм геометрической прогресси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685960" y="1341360"/>
                <a:ext cx="487692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640" y="1927080"/>
            <a:ext cx="684072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последовательность           сходится к пределу      , то число           называется суммой бесконечной геометрической прогрессии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эта последовательность расходится, то о сумме бесконечной геометрической прогрессии не говорят, хотя сумм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ленов прогрессии можно найти и в этом случае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867280" y="1844640"/>
                <a:ext cx="480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219640" y="2205000"/>
                <a:ext cx="452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348000" y="2205000"/>
                <a:ext cx="452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79640" y="33300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им случай, когда знаменатель , геометрической прогрессии удовлетворяет условию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116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35280" y="476280"/>
                <a:ext cx="458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372360" y="836640"/>
                <a:ext cx="1008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79640" y="2492280"/>
                <a:ext cx="640872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Постоянный множитель можно вынести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а знак предела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066760" y="4368960"/>
                <a:ext cx="60865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Зная, что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при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, получи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700360" y="5013360"/>
                <a:ext cx="48243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79640" y="1557360"/>
                <a:ext cx="37148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Вычислим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79640" y="5734080"/>
                <a:ext cx="67690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Следовательно 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68340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аким образом, если знаменатель       геометрической прогрессии удовлетворяет неравенству            , то сумма прогрессии существует и вычисляется по формуле         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8317080" y="1989000"/>
                <a:ext cx="387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067280" y="4437000"/>
                <a:ext cx="18414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93080" y="2681280"/>
                <a:ext cx="1008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мер 1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84036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24000" y="1117440"/>
                <a:ext cx="4969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: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 геометрическая прогресси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-8; 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68360" y="2637000"/>
                <a:ext cx="482472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Найдем знаменатель прогрессии 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268360" y="3933720"/>
                <a:ext cx="49546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удовлетворяет условию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268360" y="4863960"/>
                <a:ext cx="410544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Вычислим по формуле 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195640" y="2276640"/>
                <a:ext cx="1224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йти: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5:06:20Z</dcterms:created>
  <dc:creator>User</dc:creator>
  <dc:description/>
  <dc:language>en-US</dc:language>
  <cp:lastModifiedBy>User</cp:lastModifiedBy>
  <dcterms:modified xsi:type="dcterms:W3CDTF">2017-01-08T09:59:29Z</dcterms:modified>
  <cp:revision>7</cp:revision>
  <dc:subject/>
  <dc:title>Сумма бесконечной геометрической прогрессии</dc:title>
</cp:coreProperties>
</file>