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F93-AC56-424B-98F2-51B41180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461-8949-4BF0-B068-C0006489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6E5-3675-44D0-9335-44766CFB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382-DAC9-4625-B541-79A58C81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15D-67E5-428F-879E-3B688B7A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DB3-424B-4001-909B-A14E6E90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517-921D-410A-9CD1-BAA8AA4C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A45-F43A-44C7-B377-DA95A14C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2D8-DFF6-4BB6-A8A7-04AB912C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9C4-C6D8-4120-A3B5-A646CE1D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FA7-BBA8-4C32-B06E-005C6C04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1F3-838F-4A2B-91C9-31472155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dcffd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CDCA-0FBD-462D-8079-7C898A37D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28760" y="3573360"/>
            <a:ext cx="90486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Грамматика немецкого язык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схемах и таблицах»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584280" y="1989000"/>
            <a:ext cx="8893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а "Репетитор"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712880" y="5300640"/>
            <a:ext cx="62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: Голубых Надежда Владимировна, учитель немецкого языка МКОУ «Верх-Бехтемирская СОШ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9400" y="188640"/>
            <a:ext cx="8915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лонение имен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09760" y="620640"/>
          <a:ext cx="8915400" cy="5767560"/>
        </p:xfrm>
        <a:graphic>
          <a:graphicData uri="http://schemas.openxmlformats.org/drawingml/2006/table">
            <a:tbl>
              <a:tblPr/>
              <a:tblGrid>
                <a:gridCol w="888840"/>
                <a:gridCol w="892080"/>
                <a:gridCol w="889200"/>
                <a:gridCol w="912600"/>
                <a:gridCol w="782640"/>
                <a:gridCol w="981000"/>
                <a:gridCol w="892440"/>
                <a:gridCol w="888840"/>
                <a:gridCol w="892080"/>
                <a:gridCol w="895680"/>
              </a:tblGrid>
              <a:tr h="362160"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енное числ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опред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ртикля и указат. местоим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неопред. артикля, притяж. местоимений и местоимени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учае отсутсвия артикля или местоимения, его замещающег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. р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. р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. р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. р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. р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. р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. р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. р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. р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gridSpan="3"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  <a:tr h="568080"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енное числ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опред. артикля, указат. и притяж. местоимений 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учае отсутсвия артикля или местоимения, его замещающег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544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тепени сравнения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09760" y="1052640"/>
          <a:ext cx="5883120" cy="4824360"/>
        </p:xfrm>
        <a:graphic>
          <a:graphicData uri="http://schemas.openxmlformats.org/drawingml/2006/table">
            <a:tbl>
              <a:tblPr/>
              <a:tblGrid>
                <a:gridCol w="1958760"/>
                <a:gridCol w="1960560"/>
                <a:gridCol w="196380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сходн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n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lech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u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k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nn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lech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ur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dick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nn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schlechte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teuer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z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c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ng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rz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öß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äh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öh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ng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 kürze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 größ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 näch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 höch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s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be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lieb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mei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meist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85"/>
          <p:cNvSpPr/>
          <p:nvPr/>
        </p:nvSpPr>
        <p:spPr>
          <a:xfrm>
            <a:off x="6437160" y="981000"/>
            <a:ext cx="2917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ые случаи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ste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h –d,-t,-s,-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-sch,-x,-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uer-teurer, sauer-saurer,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,o,u         ä,ö,ü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налогич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alt, arg, arm,hart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alt, krank, scharf, schwach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hwarz, stark, warm, grob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mm, gesund, jung,klu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6"/>
          <p:cNvSpPr/>
          <p:nvPr/>
        </p:nvSpPr>
        <p:spPr>
          <a:xfrm>
            <a:off x="6980400" y="2133720"/>
            <a:ext cx="388800" cy="0"/>
          </a:xfrm>
          <a:prstGeom prst="line">
            <a:avLst/>
          </a:prstGeom>
          <a:ln w="9360">
            <a:solidFill>
              <a:srgbClr val="3aac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6427440" y="3716280"/>
            <a:ext cx="3137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ключения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arbeitet viel, aber B arbeitet meh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h interessiere mich sehr 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ü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e, aber noch mehr für Chemi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4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0640" y="475920"/>
            <a:ext cx="8893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ременные формы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84280" y="1052640"/>
          <a:ext cx="8915400" cy="5157720"/>
        </p:xfrm>
        <a:graphic>
          <a:graphicData uri="http://schemas.openxmlformats.org/drawingml/2006/table">
            <a:tbl>
              <a:tblPr/>
              <a:tblGrid>
                <a:gridCol w="1403280"/>
                <a:gridCol w="2732040"/>
                <a:gridCol w="2551320"/>
                <a:gridCol w="2228760"/>
              </a:tblGrid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rn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m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k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r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zip I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er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komm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noFill/>
                  </a:tcPr>
                </a:tc>
              </a:tr>
              <a:tr h="1219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se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 ler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 komm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k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ler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ka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k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hat geler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ist gekomm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um 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wird       lern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m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quamperfek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hatte geler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war gekomm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noFill/>
                  </a:tcPr>
                </a:tc>
              </a:tr>
              <a:tr h="15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um I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wird    gelernt hab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kommen se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98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ложносочиненное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70000" y="1384200"/>
          <a:ext cx="9443880" cy="1103400"/>
        </p:xfrm>
        <a:graphic>
          <a:graphicData uri="http://schemas.openxmlformats.org/drawingml/2006/table">
            <a:tbl>
              <a:tblPr/>
              <a:tblGrid>
                <a:gridCol w="1052280"/>
                <a:gridCol w="1046160"/>
                <a:gridCol w="1051200"/>
                <a:gridCol w="1299960"/>
                <a:gridCol w="623880"/>
                <a:gridCol w="1013040"/>
                <a:gridCol w="860400"/>
                <a:gridCol w="1245960"/>
                <a:gridCol w="12510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er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 seh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ilt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h Haus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Fe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h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noch m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fa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zmit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zen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zmit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zen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55"/>
          <p:cNvSpPr/>
          <p:nvPr/>
        </p:nvSpPr>
        <p:spPr>
          <a:xfrm>
            <a:off x="2269440" y="9097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uptsat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6"/>
          <p:cNvSpPr/>
          <p:nvPr/>
        </p:nvSpPr>
        <p:spPr>
          <a:xfrm>
            <a:off x="7185240" y="8366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uptsat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8"/>
          <p:cNvSpPr/>
          <p:nvPr/>
        </p:nvSpPr>
        <p:spPr>
          <a:xfrm flipH="1">
            <a:off x="1913040" y="10526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9"/>
          <p:cNvSpPr/>
          <p:nvPr/>
        </p:nvSpPr>
        <p:spPr>
          <a:xfrm>
            <a:off x="3316320" y="1052640"/>
            <a:ext cx="54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0"/>
          <p:cNvSpPr/>
          <p:nvPr/>
        </p:nvSpPr>
        <p:spPr>
          <a:xfrm flipH="1">
            <a:off x="6746760" y="98100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1"/>
          <p:cNvSpPr/>
          <p:nvPr/>
        </p:nvSpPr>
        <p:spPr>
          <a:xfrm>
            <a:off x="8229600" y="98100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2"/>
          <p:cNvSpPr/>
          <p:nvPr/>
        </p:nvSpPr>
        <p:spPr>
          <a:xfrm>
            <a:off x="191304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3"/>
          <p:cNvSpPr/>
          <p:nvPr/>
        </p:nvSpPr>
        <p:spPr>
          <a:xfrm>
            <a:off x="386064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4"/>
          <p:cNvSpPr/>
          <p:nvPr/>
        </p:nvSpPr>
        <p:spPr>
          <a:xfrm>
            <a:off x="674676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5"/>
          <p:cNvSpPr/>
          <p:nvPr/>
        </p:nvSpPr>
        <p:spPr>
          <a:xfrm>
            <a:off x="908676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09760" y="3500280"/>
          <a:ext cx="9045360" cy="2970360"/>
        </p:xfrm>
        <a:graphic>
          <a:graphicData uri="http://schemas.openxmlformats.org/drawingml/2006/table">
            <a:tbl>
              <a:tblPr/>
              <a:tblGrid>
                <a:gridCol w="776160"/>
                <a:gridCol w="936720"/>
                <a:gridCol w="1482480"/>
                <a:gridCol w="1089000"/>
                <a:gridCol w="1251000"/>
                <a:gridCol w="1795680"/>
                <a:gridCol w="1714320"/>
              </a:tblGrid>
              <a:tr h="262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s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k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i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 all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 Notizen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n alle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 Lust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wieder nich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r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rag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gessen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g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an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f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eine gute Id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f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h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e Reis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e bio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ich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ine Freund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mer alle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e Blum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h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me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n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geht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gisst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m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ute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spielen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gie</a:t>
                      </a: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u vergess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zmit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zen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k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zmit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zen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</a:tr>
            </a:tbl>
          </a:graphicData>
        </a:graphic>
      </p:graphicFrame>
      <p:sp>
        <p:nvSpPr>
          <p:cNvPr id="238" name="Text Box 159"/>
          <p:cNvSpPr/>
          <p:nvPr/>
        </p:nvSpPr>
        <p:spPr>
          <a:xfrm>
            <a:off x="2164680" y="2406600"/>
            <a:ext cx="58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ложноподчиненное предло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0"/>
          <p:cNvSpPr/>
          <p:nvPr/>
        </p:nvSpPr>
        <p:spPr>
          <a:xfrm>
            <a:off x="2222640" y="2997360"/>
            <a:ext cx="12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uptsat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1"/>
          <p:cNvSpPr/>
          <p:nvPr/>
        </p:nvSpPr>
        <p:spPr>
          <a:xfrm>
            <a:off x="6327360" y="299736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bensat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63"/>
          <p:cNvSpPr/>
          <p:nvPr/>
        </p:nvSpPr>
        <p:spPr>
          <a:xfrm flipH="1">
            <a:off x="1676160" y="3141720"/>
            <a:ext cx="62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64"/>
          <p:cNvSpPr/>
          <p:nvPr/>
        </p:nvSpPr>
        <p:spPr>
          <a:xfrm>
            <a:off x="3390840" y="31417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65"/>
          <p:cNvSpPr/>
          <p:nvPr/>
        </p:nvSpPr>
        <p:spPr>
          <a:xfrm flipH="1">
            <a:off x="5343120" y="3141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6"/>
          <p:cNvSpPr/>
          <p:nvPr/>
        </p:nvSpPr>
        <p:spPr>
          <a:xfrm>
            <a:off x="7527960" y="314172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67"/>
          <p:cNvSpPr/>
          <p:nvPr/>
        </p:nvSpPr>
        <p:spPr>
          <a:xfrm>
            <a:off x="1676520" y="31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69"/>
          <p:cNvSpPr/>
          <p:nvPr/>
        </p:nvSpPr>
        <p:spPr>
          <a:xfrm>
            <a:off x="4170240" y="31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70"/>
          <p:cNvSpPr/>
          <p:nvPr/>
        </p:nvSpPr>
        <p:spPr>
          <a:xfrm>
            <a:off x="5343480" y="31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71"/>
          <p:cNvSpPr/>
          <p:nvPr/>
        </p:nvSpPr>
        <p:spPr>
          <a:xfrm>
            <a:off x="8620200" y="31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84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пряжение глаголов в пасс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819000" y="1052640"/>
          <a:ext cx="8433000" cy="4754520"/>
        </p:xfrm>
        <a:graphic>
          <a:graphicData uri="http://schemas.openxmlformats.org/drawingml/2006/table">
            <a:tbl>
              <a:tblPr/>
              <a:tblGrid>
                <a:gridCol w="4218120"/>
                <a:gridCol w="4214880"/>
              </a:tblGrid>
              <a:tr h="184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se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ch wer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 wir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 wir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 werden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p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ft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hr werd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e werd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k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wur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wurde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wur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 wurden            gep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ft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 wurd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 wurd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84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k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b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b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 sind             gep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ft worden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 se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 si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quamperfek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w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war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w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 waren            gep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ft worden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 war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 war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7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u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werde                                                              wir werd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wirst            gep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ft werden                             ihr werdet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p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ft werden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 wird                                                                   sie werd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2" name="Object 26"/>
              <p:cNvSpPr txBox="1"/>
              <p:nvPr/>
            </p:nvSpPr>
            <p:spPr>
              <a:xfrm>
                <a:off x="5965920" y="1413000"/>
                <a:ext cx="4712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9"/>
              <p:cNvSpPr txBox="1"/>
              <p:nvPr/>
            </p:nvSpPr>
            <p:spPr>
              <a:xfrm>
                <a:off x="1600200" y="1341360"/>
                <a:ext cx="54612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35"/>
              <p:cNvSpPr txBox="1"/>
              <p:nvPr/>
            </p:nvSpPr>
            <p:spPr>
              <a:xfrm>
                <a:off x="5529240" y="5084640"/>
                <a:ext cx="358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36"/>
              <p:cNvSpPr txBox="1"/>
              <p:nvPr/>
            </p:nvSpPr>
            <p:spPr>
              <a:xfrm>
                <a:off x="1521000" y="3284640"/>
                <a:ext cx="4824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7"/>
              <p:cNvSpPr txBox="1"/>
              <p:nvPr/>
            </p:nvSpPr>
            <p:spPr>
              <a:xfrm>
                <a:off x="1628640" y="5013360"/>
                <a:ext cx="358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38"/>
              <p:cNvSpPr txBox="1"/>
              <p:nvPr/>
            </p:nvSpPr>
            <p:spPr>
              <a:xfrm>
                <a:off x="5813280" y="3213000"/>
                <a:ext cx="4651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54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Глаголы с неотделяемыми и отделяемыми приста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363680" y="83664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тделяемые пристав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423040" y="306864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еляемые пристав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7"/>
          <p:cNvGrpSpPr/>
          <p:nvPr/>
        </p:nvGrpSpPr>
        <p:grpSpPr>
          <a:xfrm>
            <a:off x="974880" y="1628640"/>
            <a:ext cx="3353760" cy="2089080"/>
            <a:chOff x="974880" y="1628640"/>
            <a:chExt cx="3353760" cy="2089080"/>
          </a:xfrm>
        </p:grpSpPr>
        <p:sp>
          <p:nvSpPr>
            <p:cNvPr id="263" name="Lock"/>
            <p:cNvSpPr/>
            <p:nvPr/>
          </p:nvSpPr>
          <p:spPr>
            <a:xfrm>
              <a:off x="2223360" y="1628640"/>
              <a:ext cx="1013040" cy="1152360"/>
            </a:xfrm>
            <a:custGeom>
              <a:avLst/>
              <a:gdLst>
                <a:gd name="textAreaLeft" fmla="*/ 34200 w 1013040"/>
                <a:gd name="textAreaRight" fmla="*/ 990720 w 1013040"/>
                <a:gd name="textAreaTop" fmla="*/ 528480 h 1152360"/>
                <a:gd name="textAreaBottom" fmla="*/ 8175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" y="9606"/>
                  </a:moveTo>
                  <a:lnTo>
                    <a:pt x="2048" y="9606"/>
                  </a:lnTo>
                  <a:lnTo>
                    <a:pt x="2048" y="4713"/>
                  </a:lnTo>
                  <a:lnTo>
                    <a:pt x="2420" y="3818"/>
                  </a:lnTo>
                  <a:lnTo>
                    <a:pt x="2979" y="3028"/>
                  </a:lnTo>
                  <a:lnTo>
                    <a:pt x="3537" y="2446"/>
                  </a:lnTo>
                  <a:lnTo>
                    <a:pt x="3956" y="1998"/>
                  </a:lnTo>
                  <a:lnTo>
                    <a:pt x="4492" y="1581"/>
                  </a:lnTo>
                  <a:lnTo>
                    <a:pt x="5143" y="1238"/>
                  </a:lnTo>
                  <a:lnTo>
                    <a:pt x="5912" y="880"/>
                  </a:lnTo>
                  <a:lnTo>
                    <a:pt x="6587" y="641"/>
                  </a:lnTo>
                  <a:lnTo>
                    <a:pt x="7518" y="372"/>
                  </a:lnTo>
                  <a:lnTo>
                    <a:pt x="8425" y="208"/>
                  </a:lnTo>
                  <a:lnTo>
                    <a:pt x="9496" y="59"/>
                  </a:lnTo>
                  <a:lnTo>
                    <a:pt x="10637" y="14"/>
                  </a:lnTo>
                  <a:lnTo>
                    <a:pt x="11614" y="59"/>
                  </a:lnTo>
                  <a:lnTo>
                    <a:pt x="12382" y="119"/>
                  </a:lnTo>
                  <a:lnTo>
                    <a:pt x="13034" y="253"/>
                  </a:lnTo>
                  <a:lnTo>
                    <a:pt x="13779" y="417"/>
                  </a:lnTo>
                  <a:lnTo>
                    <a:pt x="14500" y="611"/>
                  </a:lnTo>
                  <a:lnTo>
                    <a:pt x="14733" y="686"/>
                  </a:lnTo>
                  <a:lnTo>
                    <a:pt x="14989" y="790"/>
                  </a:lnTo>
                  <a:lnTo>
                    <a:pt x="15175" y="865"/>
                  </a:lnTo>
                  <a:lnTo>
                    <a:pt x="15385" y="954"/>
                  </a:lnTo>
                  <a:lnTo>
                    <a:pt x="15431" y="969"/>
                  </a:lnTo>
                  <a:lnTo>
                    <a:pt x="15594" y="1059"/>
                  </a:lnTo>
                  <a:lnTo>
                    <a:pt x="15757" y="1148"/>
                  </a:lnTo>
                  <a:lnTo>
                    <a:pt x="15920" y="1267"/>
                  </a:lnTo>
                  <a:lnTo>
                    <a:pt x="16106" y="1372"/>
                  </a:lnTo>
                  <a:lnTo>
                    <a:pt x="16665" y="1730"/>
                  </a:lnTo>
                  <a:lnTo>
                    <a:pt x="17014" y="1998"/>
                  </a:lnTo>
                  <a:lnTo>
                    <a:pt x="17480" y="2356"/>
                  </a:lnTo>
                  <a:lnTo>
                    <a:pt x="17852" y="2804"/>
                  </a:lnTo>
                  <a:lnTo>
                    <a:pt x="18178" y="3192"/>
                  </a:lnTo>
                  <a:lnTo>
                    <a:pt x="18527" y="3639"/>
                  </a:lnTo>
                  <a:lnTo>
                    <a:pt x="18806" y="4132"/>
                  </a:lnTo>
                  <a:lnTo>
                    <a:pt x="19086" y="4713"/>
                  </a:lnTo>
                  <a:lnTo>
                    <a:pt x="19272" y="5191"/>
                  </a:lnTo>
                  <a:lnTo>
                    <a:pt x="19295" y="9606"/>
                  </a:lnTo>
                  <a:lnTo>
                    <a:pt x="21600" y="9606"/>
                  </a:lnTo>
                  <a:lnTo>
                    <a:pt x="21600" y="16289"/>
                  </a:lnTo>
                  <a:lnTo>
                    <a:pt x="21413" y="17184"/>
                  </a:lnTo>
                  <a:lnTo>
                    <a:pt x="21041" y="17900"/>
                  </a:lnTo>
                  <a:lnTo>
                    <a:pt x="20668" y="18377"/>
                  </a:lnTo>
                  <a:lnTo>
                    <a:pt x="20343" y="18855"/>
                  </a:lnTo>
                  <a:lnTo>
                    <a:pt x="19924" y="19332"/>
                  </a:lnTo>
                  <a:lnTo>
                    <a:pt x="19388" y="19809"/>
                  </a:lnTo>
                  <a:lnTo>
                    <a:pt x="18806" y="20242"/>
                  </a:lnTo>
                  <a:lnTo>
                    <a:pt x="18062" y="20585"/>
                  </a:lnTo>
                  <a:lnTo>
                    <a:pt x="17270" y="20883"/>
                  </a:lnTo>
                  <a:lnTo>
                    <a:pt x="16525" y="21182"/>
                  </a:lnTo>
                  <a:lnTo>
                    <a:pt x="15548" y="21420"/>
                  </a:lnTo>
                  <a:lnTo>
                    <a:pt x="14803" y="21540"/>
                  </a:lnTo>
                  <a:lnTo>
                    <a:pt x="13662" y="21674"/>
                  </a:lnTo>
                  <a:lnTo>
                    <a:pt x="8379" y="21659"/>
                  </a:lnTo>
                  <a:lnTo>
                    <a:pt x="7168" y="21540"/>
                  </a:lnTo>
                  <a:lnTo>
                    <a:pt x="6098" y="21331"/>
                  </a:lnTo>
                  <a:lnTo>
                    <a:pt x="5050" y="21092"/>
                  </a:lnTo>
                  <a:lnTo>
                    <a:pt x="4003" y="20764"/>
                  </a:lnTo>
                  <a:lnTo>
                    <a:pt x="3258" y="20391"/>
                  </a:lnTo>
                  <a:lnTo>
                    <a:pt x="2769" y="20123"/>
                  </a:lnTo>
                  <a:lnTo>
                    <a:pt x="2281" y="19720"/>
                  </a:lnTo>
                  <a:lnTo>
                    <a:pt x="1862" y="19407"/>
                  </a:lnTo>
                  <a:lnTo>
                    <a:pt x="1489" y="19079"/>
                  </a:lnTo>
                  <a:lnTo>
                    <a:pt x="1070" y="18676"/>
                  </a:lnTo>
                  <a:lnTo>
                    <a:pt x="744" y="18258"/>
                  </a:lnTo>
                  <a:lnTo>
                    <a:pt x="325" y="17661"/>
                  </a:lnTo>
                  <a:lnTo>
                    <a:pt x="162" y="17035"/>
                  </a:lnTo>
                  <a:lnTo>
                    <a:pt x="93" y="16468"/>
                  </a:lnTo>
                  <a:lnTo>
                    <a:pt x="93" y="9606"/>
                  </a:lnTo>
                  <a:close/>
                  <a:moveTo>
                    <a:pt x="6098" y="9591"/>
                  </a:moveTo>
                  <a:lnTo>
                    <a:pt x="6098" y="5220"/>
                  </a:lnTo>
                  <a:lnTo>
                    <a:pt x="6191" y="4907"/>
                  </a:lnTo>
                  <a:lnTo>
                    <a:pt x="6307" y="4639"/>
                  </a:lnTo>
                  <a:lnTo>
                    <a:pt x="6517" y="4370"/>
                  </a:lnTo>
                  <a:lnTo>
                    <a:pt x="6680" y="4087"/>
                  </a:lnTo>
                  <a:lnTo>
                    <a:pt x="6889" y="3878"/>
                  </a:lnTo>
                  <a:lnTo>
                    <a:pt x="7308" y="3520"/>
                  </a:lnTo>
                  <a:lnTo>
                    <a:pt x="7843" y="3281"/>
                  </a:lnTo>
                  <a:lnTo>
                    <a:pt x="8402" y="3013"/>
                  </a:lnTo>
                  <a:lnTo>
                    <a:pt x="9031" y="2834"/>
                  </a:lnTo>
                  <a:lnTo>
                    <a:pt x="9659" y="2700"/>
                  </a:lnTo>
                  <a:lnTo>
                    <a:pt x="10497" y="2625"/>
                  </a:lnTo>
                  <a:lnTo>
                    <a:pt x="11125" y="2655"/>
                  </a:lnTo>
                  <a:lnTo>
                    <a:pt x="11987" y="2789"/>
                  </a:lnTo>
                  <a:lnTo>
                    <a:pt x="12522" y="2893"/>
                  </a:lnTo>
                  <a:lnTo>
                    <a:pt x="13011" y="3028"/>
                  </a:lnTo>
                  <a:lnTo>
                    <a:pt x="13290" y="3192"/>
                  </a:lnTo>
                  <a:lnTo>
                    <a:pt x="13709" y="3371"/>
                  </a:lnTo>
                  <a:lnTo>
                    <a:pt x="13872" y="3505"/>
                  </a:lnTo>
                  <a:lnTo>
                    <a:pt x="14058" y="3639"/>
                  </a:lnTo>
                  <a:lnTo>
                    <a:pt x="14291" y="3788"/>
                  </a:lnTo>
                  <a:lnTo>
                    <a:pt x="14431" y="3953"/>
                  </a:lnTo>
                  <a:lnTo>
                    <a:pt x="14617" y="4102"/>
                  </a:lnTo>
                  <a:lnTo>
                    <a:pt x="14826" y="4311"/>
                  </a:lnTo>
                  <a:lnTo>
                    <a:pt x="14919" y="4534"/>
                  </a:lnTo>
                  <a:lnTo>
                    <a:pt x="15036" y="4773"/>
                  </a:lnTo>
                  <a:lnTo>
                    <a:pt x="15175" y="5027"/>
                  </a:lnTo>
                  <a:lnTo>
                    <a:pt x="15245" y="5220"/>
                  </a:lnTo>
                  <a:lnTo>
                    <a:pt x="15245" y="9591"/>
                  </a:lnTo>
                  <a:lnTo>
                    <a:pt x="6098" y="9591"/>
                  </a:lnTo>
                  <a:close/>
                </a:path>
                <a:path w="21600" h="21600">
                  <a:moveTo>
                    <a:pt x="93" y="9606"/>
                  </a:moveTo>
                  <a:lnTo>
                    <a:pt x="21600" y="9606"/>
                  </a:lnTo>
                  <a:lnTo>
                    <a:pt x="93" y="9606"/>
                  </a:lnTo>
                  <a:close/>
                </a:path>
                <a:path w="21600" h="21600">
                  <a:moveTo>
                    <a:pt x="11684" y="17109"/>
                  </a:moveTo>
                  <a:lnTo>
                    <a:pt x="12266" y="19317"/>
                  </a:lnTo>
                  <a:lnTo>
                    <a:pt x="9659" y="19317"/>
                  </a:lnTo>
                  <a:lnTo>
                    <a:pt x="10287" y="17124"/>
                  </a:lnTo>
                  <a:lnTo>
                    <a:pt x="10008" y="16975"/>
                  </a:lnTo>
                  <a:lnTo>
                    <a:pt x="9799" y="16722"/>
                  </a:lnTo>
                  <a:lnTo>
                    <a:pt x="9752" y="16408"/>
                  </a:lnTo>
                  <a:lnTo>
                    <a:pt x="9822" y="16170"/>
                  </a:lnTo>
                  <a:lnTo>
                    <a:pt x="10008" y="16006"/>
                  </a:lnTo>
                  <a:lnTo>
                    <a:pt x="10148" y="15871"/>
                  </a:lnTo>
                  <a:lnTo>
                    <a:pt x="10381" y="15782"/>
                  </a:lnTo>
                  <a:lnTo>
                    <a:pt x="10660" y="15692"/>
                  </a:lnTo>
                  <a:lnTo>
                    <a:pt x="11009" y="15677"/>
                  </a:lnTo>
                  <a:lnTo>
                    <a:pt x="11288" y="15722"/>
                  </a:lnTo>
                  <a:lnTo>
                    <a:pt x="11614" y="15782"/>
                  </a:lnTo>
                  <a:lnTo>
                    <a:pt x="11893" y="15946"/>
                  </a:lnTo>
                  <a:lnTo>
                    <a:pt x="12033" y="16080"/>
                  </a:lnTo>
                  <a:lnTo>
                    <a:pt x="12173" y="16229"/>
                  </a:lnTo>
                  <a:lnTo>
                    <a:pt x="12196" y="16408"/>
                  </a:lnTo>
                  <a:lnTo>
                    <a:pt x="12103" y="16722"/>
                  </a:lnTo>
                  <a:lnTo>
                    <a:pt x="11987" y="16856"/>
                  </a:lnTo>
                  <a:lnTo>
                    <a:pt x="11847" y="16975"/>
                  </a:lnTo>
                  <a:lnTo>
                    <a:pt x="11684" y="17109"/>
                  </a:lnTo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974880" y="1846080"/>
              <a:ext cx="1012680" cy="0"/>
            </a:xfrm>
            <a:prstGeom prst="line">
              <a:avLst/>
            </a:prstGeom>
            <a:ln w="38160">
              <a:solidFill>
                <a:srgbClr val="3aac6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 flipH="1">
              <a:off x="3470400" y="1846080"/>
              <a:ext cx="857880" cy="0"/>
            </a:xfrm>
            <a:prstGeom prst="line">
              <a:avLst/>
            </a:prstGeom>
            <a:ln w="38160">
              <a:solidFill>
                <a:srgbClr val="3aac6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2"/>
            <p:cNvSpPr/>
            <p:nvPr/>
          </p:nvSpPr>
          <p:spPr>
            <a:xfrm flipV="1">
              <a:off x="1051920" y="2277360"/>
              <a:ext cx="935640" cy="142920"/>
            </a:xfrm>
            <a:prstGeom prst="line">
              <a:avLst/>
            </a:prstGeom>
            <a:ln w="38160">
              <a:solidFill>
                <a:srgbClr val="3aac6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 flipH="1" flipV="1">
              <a:off x="3549600" y="2277360"/>
              <a:ext cx="779040" cy="142920"/>
            </a:xfrm>
            <a:prstGeom prst="line">
              <a:avLst/>
            </a:prstGeom>
            <a:ln w="38160">
              <a:solidFill>
                <a:srgbClr val="3aac6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V="1">
              <a:off x="1365120" y="2781000"/>
              <a:ext cx="699840" cy="504720"/>
            </a:xfrm>
            <a:prstGeom prst="line">
              <a:avLst/>
            </a:prstGeom>
            <a:ln w="38160">
              <a:solidFill>
                <a:srgbClr val="3aac6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H="1" flipV="1">
              <a:off x="3002760" y="3069720"/>
              <a:ext cx="313200" cy="647640"/>
            </a:xfrm>
            <a:prstGeom prst="line">
              <a:avLst/>
            </a:prstGeom>
            <a:ln w="38160">
              <a:solidFill>
                <a:srgbClr val="3aac6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H="1" flipV="1">
              <a:off x="3315600" y="2709360"/>
              <a:ext cx="778680" cy="502920"/>
            </a:xfrm>
            <a:prstGeom prst="line">
              <a:avLst/>
            </a:prstGeom>
            <a:ln w="38160">
              <a:solidFill>
                <a:srgbClr val="3aac6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V="1">
              <a:off x="2223360" y="2997000"/>
              <a:ext cx="313200" cy="720720"/>
            </a:xfrm>
            <a:prstGeom prst="line">
              <a:avLst/>
            </a:prstGeom>
            <a:ln w="38160">
              <a:solidFill>
                <a:srgbClr val="3aac6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6"/>
          <p:cNvGrpSpPr/>
          <p:nvPr/>
        </p:nvGrpSpPr>
        <p:grpSpPr>
          <a:xfrm>
            <a:off x="5111280" y="4148280"/>
            <a:ext cx="3273480" cy="1728360"/>
            <a:chOff x="5111280" y="4148280"/>
            <a:chExt cx="3273480" cy="1728360"/>
          </a:xfrm>
        </p:grpSpPr>
        <p:sp>
          <p:nvSpPr>
            <p:cNvPr id="273" name="Line 18"/>
            <p:cNvSpPr/>
            <p:nvPr/>
          </p:nvSpPr>
          <p:spPr>
            <a:xfrm>
              <a:off x="6857280" y="4148280"/>
              <a:ext cx="1527480" cy="0"/>
            </a:xfrm>
            <a:prstGeom prst="line">
              <a:avLst/>
            </a:prstGeom>
            <a:ln w="38160">
              <a:solidFill>
                <a:srgbClr val="3aac6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9"/>
            <p:cNvSpPr/>
            <p:nvPr/>
          </p:nvSpPr>
          <p:spPr>
            <a:xfrm flipH="1">
              <a:off x="5111280" y="4148280"/>
              <a:ext cx="1745640" cy="0"/>
            </a:xfrm>
            <a:prstGeom prst="line">
              <a:avLst/>
            </a:prstGeom>
            <a:ln w="38160">
              <a:solidFill>
                <a:srgbClr val="3aac6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6749280" y="4148280"/>
              <a:ext cx="0" cy="1728360"/>
            </a:xfrm>
            <a:prstGeom prst="line">
              <a:avLst/>
            </a:prstGeom>
            <a:ln w="38160">
              <a:solidFill>
                <a:srgbClr val="3aac6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6749280" y="4148280"/>
              <a:ext cx="873000" cy="1439640"/>
            </a:xfrm>
            <a:prstGeom prst="line">
              <a:avLst/>
            </a:prstGeom>
            <a:ln w="38160">
              <a:solidFill>
                <a:srgbClr val="3aac6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6749280" y="4148280"/>
              <a:ext cx="1416240" cy="719640"/>
            </a:xfrm>
            <a:prstGeom prst="line">
              <a:avLst/>
            </a:prstGeom>
            <a:ln w="38160">
              <a:solidFill>
                <a:srgbClr val="3aac6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 flipH="1">
              <a:off x="5875560" y="4148280"/>
              <a:ext cx="873000" cy="1439640"/>
            </a:xfrm>
            <a:prstGeom prst="line">
              <a:avLst/>
            </a:prstGeom>
            <a:ln w="38160">
              <a:solidFill>
                <a:srgbClr val="3aac6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 flipH="1">
              <a:off x="5548680" y="4148280"/>
              <a:ext cx="1200240" cy="719640"/>
            </a:xfrm>
            <a:prstGeom prst="line">
              <a:avLst/>
            </a:prstGeom>
            <a:ln w="38160">
              <a:solidFill>
                <a:srgbClr val="3aac6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8"/>
          <p:cNvSpPr/>
          <p:nvPr/>
        </p:nvSpPr>
        <p:spPr>
          <a:xfrm>
            <a:off x="270000" y="15559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349200" y="234792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0"/>
          <p:cNvSpPr/>
          <p:nvPr/>
        </p:nvSpPr>
        <p:spPr>
          <a:xfrm>
            <a:off x="741240" y="3211560"/>
            <a:ext cx="7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1"/>
          <p:cNvSpPr/>
          <p:nvPr/>
        </p:nvSpPr>
        <p:spPr>
          <a:xfrm>
            <a:off x="1832040" y="37879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2998800" y="37162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3936960" y="32846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4327560" y="234792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4406760" y="16272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4251240" y="39337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4875120" y="4797360"/>
            <a:ext cx="7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8"/>
          <p:cNvSpPr/>
          <p:nvPr/>
        </p:nvSpPr>
        <p:spPr>
          <a:xfrm>
            <a:off x="5264280" y="55897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6437160" y="59500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0"/>
          <p:cNvSpPr/>
          <p:nvPr/>
        </p:nvSpPr>
        <p:spPr>
          <a:xfrm>
            <a:off x="7527960" y="5589720"/>
            <a:ext cx="7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8070840" y="47973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8421840" y="3933720"/>
            <a:ext cx="14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руг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3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А.В. Батрак, Л.А. Миончинская. Краткий грамматический справочник . Немецкий язык. – Москва.: Лист, 2000. – 26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Г.Д. Ахрипкина. Тесты по немецкому языку. Единый экзамен. Издательский центр «МарТ» Москва. – Ростов-на-Дону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.Ф. Бориско. Бизнес курс немецкого языка. – Киев.: Логос. –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Е.И. Пассов. Пробный учебник нем. яз. Для 5 кл. ср. школы. – Москва, Просвещение,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ИЯШ №2 2002 г. Из опыта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ИЯШ №5 1997 г. Из опыта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hristian Fandrych. Klipp uhd K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är.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 Российское издание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MASS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0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4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8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6" dur="1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0" dur="1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1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 Antiqua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44520" y="836640"/>
            <a:ext cx="914724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Аннота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вествовательное предложени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опросительное предложени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пряжение сильных глагол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Модальные глаголы в предложен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озвратные глагол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клонение существитель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Склонение имен прилагатель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тепени сравнения прилагатель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Временные формы глагол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Сложносочиненное  и сложноподчиненное предлож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пряжение глаголов в пассив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Глаголы с неотделяемыми и отделяемыми приставкам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Литератур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69640" y="189000"/>
            <a:ext cx="9443880" cy="6408720"/>
          </a:xfrm>
          <a:prstGeom prst="rect">
            <a:avLst/>
          </a:prstGeom>
          <a:solidFill>
            <a:srgbClr val="ccffcc">
              <a:alpha val="71000"/>
            </a:srgbClr>
          </a:solidFill>
          <a:ln cap="rnd" w="76320">
            <a:solidFill>
              <a:srgbClr val="3eb44c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«Репетитор» включает в себя грамматические явления, изучаемые в 5-9 классах общеобразовательной школы: склонения имен существительных, прилагательных, особые случаи спряжения глаголов, временные формы глаголо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«Репетитор» может быть  использована на уроках в 7-9 классах, а также в других классах в качестве компьютерного сопровождения, например, при повторении грамматического материала. К каждой грамматической таблице, схеме прилагается большое количество тренировочных упражнений по возрастающей степени слож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 уроках иностранного языка нельзя использовать компьютер постоянно, так как есть множество других задач, решить которые можно лишь при непосредственном общении. Грамматические знания необходимы и потому недооценивать роль таких уроков нельзя. Именно компьютерное обучение несет в себе огромный мотивационный потенциал и соответствует принципам индивидуального обучения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Bookman Old Style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научить школьников ориентироваться в грамматических таблицах и схемах, использовать их и применять для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Bookman Old Style"/>
              </a:rPr>
              <a:t>Задачи:</a:t>
            </a:r>
            <a:r>
              <a:rPr b="0" lang="ru-RU" sz="1600" spc="-1" strike="noStrike">
                <a:solidFill>
                  <a:srgbClr val="0066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1) закрепить и активизировать навык употребления того или иного грамматического яв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2) научить учащихся узнавать это явление при чтении, определять его по формальным признакам, употреблять его в устной и письменной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52280" y="260280"/>
            <a:ext cx="842004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овествовательное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766960" y="765000"/>
            <a:ext cx="46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мочная конструкция предлож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662040" y="4365720"/>
            <a:ext cx="86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ac60"/>
                </a:solidFill>
                <a:latin typeface="Tahoma"/>
              </a:rPr>
              <a:t>Место </a:t>
            </a:r>
            <a:r>
              <a:rPr b="1" lang="en-US" sz="1800" spc="-1" strike="noStrike">
                <a:solidFill>
                  <a:srgbClr val="3aac60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3aac60"/>
                </a:solidFill>
                <a:latin typeface="Tahoma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спрягаемая часть сказуемого (вспомогательный глагол или модальный глагол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3238560" y="1125360"/>
            <a:ext cx="5146200" cy="289080"/>
            <a:chOff x="3238560" y="1125360"/>
            <a:chExt cx="5146200" cy="289080"/>
          </a:xfrm>
        </p:grpSpPr>
        <p:sp>
          <p:nvSpPr>
            <p:cNvPr id="52" name="Line 23"/>
            <p:cNvSpPr/>
            <p:nvPr/>
          </p:nvSpPr>
          <p:spPr>
            <a:xfrm>
              <a:off x="3238560" y="1125360"/>
              <a:ext cx="0" cy="28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4"/>
            <p:cNvSpPr/>
            <p:nvPr/>
          </p:nvSpPr>
          <p:spPr>
            <a:xfrm>
              <a:off x="8384760" y="1125360"/>
              <a:ext cx="0" cy="28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26"/>
          <p:cNvSpPr/>
          <p:nvPr/>
        </p:nvSpPr>
        <p:spPr>
          <a:xfrm>
            <a:off x="662040" y="5013360"/>
            <a:ext cx="86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ac60"/>
                </a:solidFill>
                <a:latin typeface="Tahoma"/>
              </a:rPr>
              <a:t>Середина предложения: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как правило сначала подлежащее, если оно не занимает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мест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662040" y="386064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ac60"/>
                </a:solidFill>
                <a:latin typeface="Tahoma"/>
              </a:rPr>
              <a:t>Место </a:t>
            </a:r>
            <a:r>
              <a:rPr b="1" lang="en-US" sz="1800" spc="-1" strike="noStrike">
                <a:solidFill>
                  <a:srgbClr val="3aac60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3aac60"/>
                </a:solidFill>
                <a:latin typeface="Tahoma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часто подлежащее или обстоятельство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nn,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ute,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rt, …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631800" y="5734080"/>
            <a:ext cx="86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ac60"/>
                </a:solidFill>
                <a:latin typeface="Tahoma"/>
              </a:rPr>
              <a:t>Конец предложения: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вторая часть сказуемого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деляемая приставка, инфинитив или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tizip II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основного глагол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5"/>
          <p:cNvGrpSpPr/>
          <p:nvPr/>
        </p:nvGrpSpPr>
        <p:grpSpPr>
          <a:xfrm>
            <a:off x="4719600" y="1484280"/>
            <a:ext cx="2571480" cy="2025720"/>
            <a:chOff x="4719600" y="1484280"/>
            <a:chExt cx="2571480" cy="2025720"/>
          </a:xfrm>
        </p:grpSpPr>
        <p:sp>
          <p:nvSpPr>
            <p:cNvPr id="58" name="Rectangle 46"/>
            <p:cNvSpPr/>
            <p:nvPr/>
          </p:nvSpPr>
          <p:spPr>
            <a:xfrm>
              <a:off x="4719600" y="1484280"/>
              <a:ext cx="2571480" cy="1490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äter nochm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wir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diese Augab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sch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47"/>
            <p:cNvSpPr/>
            <p:nvPr/>
          </p:nvSpPr>
          <p:spPr>
            <a:xfrm>
              <a:off x="4719600" y="2975040"/>
              <a:ext cx="2571480" cy="534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mit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8"/>
          <p:cNvGrpSpPr/>
          <p:nvPr/>
        </p:nvGrpSpPr>
        <p:grpSpPr>
          <a:xfrm>
            <a:off x="7291440" y="1484280"/>
            <a:ext cx="2098440" cy="2046240"/>
            <a:chOff x="7291440" y="1484280"/>
            <a:chExt cx="2098440" cy="2046240"/>
          </a:xfrm>
        </p:grpSpPr>
        <p:sp>
          <p:nvSpPr>
            <p:cNvPr id="61" name="Rectangle 49"/>
            <p:cNvSpPr/>
            <p:nvPr/>
          </p:nvSpPr>
          <p:spPr>
            <a:xfrm>
              <a:off x="7291440" y="2995560"/>
              <a:ext cx="2098440" cy="53496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end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50"/>
            <p:cNvSpPr/>
            <p:nvPr/>
          </p:nvSpPr>
          <p:spPr>
            <a:xfrm>
              <a:off x="7291440" y="1484280"/>
              <a:ext cx="2098440" cy="149076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. (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ямой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s.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(обратный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ät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51"/>
          <p:cNvGrpSpPr/>
          <p:nvPr/>
        </p:nvGrpSpPr>
        <p:grpSpPr>
          <a:xfrm>
            <a:off x="770040" y="1484280"/>
            <a:ext cx="1766520" cy="2025720"/>
            <a:chOff x="770040" y="1484280"/>
            <a:chExt cx="1766520" cy="2025720"/>
          </a:xfrm>
        </p:grpSpPr>
        <p:sp>
          <p:nvSpPr>
            <p:cNvPr id="64" name="Rectangle 52"/>
            <p:cNvSpPr/>
            <p:nvPr/>
          </p:nvSpPr>
          <p:spPr>
            <a:xfrm>
              <a:off x="770040" y="1484280"/>
              <a:ext cx="1766520" cy="1490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ch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Dann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e Frau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53"/>
            <p:cNvSpPr/>
            <p:nvPr/>
          </p:nvSpPr>
          <p:spPr>
            <a:xfrm>
              <a:off x="770040" y="2975040"/>
              <a:ext cx="1766520" cy="534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54"/>
          <p:cNvGrpSpPr/>
          <p:nvPr/>
        </p:nvGrpSpPr>
        <p:grpSpPr>
          <a:xfrm>
            <a:off x="2536920" y="1484280"/>
            <a:ext cx="2172960" cy="2046240"/>
            <a:chOff x="2536920" y="1484280"/>
            <a:chExt cx="2172960" cy="2046240"/>
          </a:xfrm>
        </p:grpSpPr>
        <p:sp>
          <p:nvSpPr>
            <p:cNvPr id="67" name="Rectangle 55"/>
            <p:cNvSpPr/>
            <p:nvPr/>
          </p:nvSpPr>
          <p:spPr>
            <a:xfrm>
              <a:off x="2536920" y="2995560"/>
              <a:ext cx="2172960" cy="53496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6"/>
            <p:cNvSpPr/>
            <p:nvPr/>
          </p:nvSpPr>
          <p:spPr>
            <a:xfrm>
              <a:off x="2536920" y="1484280"/>
              <a:ext cx="2172960" cy="149076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uf`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e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lefonier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57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9"/>
          <p:cNvSpPr/>
          <p:nvPr/>
        </p:nvSpPr>
        <p:spPr>
          <a:xfrm>
            <a:off x="3224160" y="112536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59920"/>
            <a:ext cx="577404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опрос с вопросительным сло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1"/>
          <p:cNvGrpSpPr/>
          <p:nvPr/>
        </p:nvGrpSpPr>
        <p:grpSpPr>
          <a:xfrm>
            <a:off x="3468600" y="907920"/>
            <a:ext cx="1484280" cy="1150920"/>
            <a:chOff x="3468600" y="907920"/>
            <a:chExt cx="1484280" cy="1150920"/>
          </a:xfrm>
        </p:grpSpPr>
        <p:sp>
          <p:nvSpPr>
            <p:cNvPr id="73" name="Rectangle 12"/>
            <p:cNvSpPr/>
            <p:nvPr/>
          </p:nvSpPr>
          <p:spPr>
            <a:xfrm>
              <a:off x="3468600" y="907920"/>
              <a:ext cx="1484280" cy="847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Sie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d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3468600" y="1755000"/>
              <a:ext cx="1484280" cy="303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mit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4952880" y="907920"/>
            <a:ext cx="1562400" cy="1150560"/>
            <a:chOff x="4952880" y="907920"/>
            <a:chExt cx="1562400" cy="1150560"/>
          </a:xfrm>
        </p:grpSpPr>
        <p:sp>
          <p:nvSpPr>
            <p:cNvPr id="76" name="Rectangle 15"/>
            <p:cNvSpPr/>
            <p:nvPr/>
          </p:nvSpPr>
          <p:spPr>
            <a:xfrm>
              <a:off x="4952880" y="1757880"/>
              <a:ext cx="1562400" cy="30060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end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4952880" y="907920"/>
              <a:ext cx="1562400" cy="83844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s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7"/>
          <p:cNvGrpSpPr/>
          <p:nvPr/>
        </p:nvGrpSpPr>
        <p:grpSpPr>
          <a:xfrm>
            <a:off x="741240" y="909720"/>
            <a:ext cx="1482840" cy="1150920"/>
            <a:chOff x="741240" y="909720"/>
            <a:chExt cx="1482840" cy="1150920"/>
          </a:xfrm>
        </p:grpSpPr>
        <p:sp>
          <p:nvSpPr>
            <p:cNvPr id="79" name="Rectangle 18"/>
            <p:cNvSpPr/>
            <p:nvPr/>
          </p:nvSpPr>
          <p:spPr>
            <a:xfrm>
              <a:off x="741240" y="909720"/>
              <a:ext cx="1482840" cy="847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741240" y="1756800"/>
              <a:ext cx="1482840" cy="303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20"/>
          <p:cNvGrpSpPr/>
          <p:nvPr/>
        </p:nvGrpSpPr>
        <p:grpSpPr>
          <a:xfrm>
            <a:off x="2224080" y="909720"/>
            <a:ext cx="1247760" cy="1150560"/>
            <a:chOff x="2224080" y="909720"/>
            <a:chExt cx="1247760" cy="1150560"/>
          </a:xfrm>
        </p:grpSpPr>
        <p:sp>
          <p:nvSpPr>
            <p:cNvPr id="82" name="Rectangle 21"/>
            <p:cNvSpPr/>
            <p:nvPr/>
          </p:nvSpPr>
          <p:spPr>
            <a:xfrm>
              <a:off x="2224080" y="1759680"/>
              <a:ext cx="1247760" cy="30060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2"/>
            <p:cNvSpPr/>
            <p:nvPr/>
          </p:nvSpPr>
          <p:spPr>
            <a:xfrm>
              <a:off x="2224080" y="909720"/>
              <a:ext cx="1247760" cy="83844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i</a:t>
              </a:r>
              <a:r>
                <a:rPr b="1" lang="el-G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ig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2846520" y="690480"/>
            <a:ext cx="2808000" cy="216000"/>
            <a:chOff x="2846520" y="690480"/>
            <a:chExt cx="2808000" cy="216000"/>
          </a:xfrm>
        </p:grpSpPr>
        <p:grpSp>
          <p:nvGrpSpPr>
            <p:cNvPr id="85" name="Group 5"/>
            <p:cNvGrpSpPr/>
            <p:nvPr/>
          </p:nvGrpSpPr>
          <p:grpSpPr>
            <a:xfrm>
              <a:off x="2846520" y="690480"/>
              <a:ext cx="2808000" cy="216000"/>
              <a:chOff x="2846520" y="690480"/>
              <a:chExt cx="2808000" cy="216000"/>
            </a:xfrm>
          </p:grpSpPr>
          <p:sp>
            <p:nvSpPr>
              <p:cNvPr id="86" name="Line 6"/>
              <p:cNvSpPr/>
              <p:nvPr/>
            </p:nvSpPr>
            <p:spPr>
              <a:xfrm>
                <a:off x="2846520" y="69048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5654520" y="69048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Line 23"/>
            <p:cNvSpPr/>
            <p:nvPr/>
          </p:nvSpPr>
          <p:spPr>
            <a:xfrm>
              <a:off x="2846520" y="69048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2297160" y="3070080"/>
            <a:ext cx="2810880" cy="1150920"/>
            <a:chOff x="2297160" y="3070080"/>
            <a:chExt cx="2810880" cy="1150920"/>
          </a:xfrm>
        </p:grpSpPr>
        <p:sp>
          <p:nvSpPr>
            <p:cNvPr id="90" name="Rectangle 26"/>
            <p:cNvSpPr/>
            <p:nvPr/>
          </p:nvSpPr>
          <p:spPr>
            <a:xfrm>
              <a:off x="2297160" y="3070080"/>
              <a:ext cx="2810880" cy="847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Herr Maier gerade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d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7"/>
            <p:cNvSpPr/>
            <p:nvPr/>
          </p:nvSpPr>
          <p:spPr>
            <a:xfrm>
              <a:off x="2297160" y="3917160"/>
              <a:ext cx="2810880" cy="303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mit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8"/>
          <p:cNvGrpSpPr/>
          <p:nvPr/>
        </p:nvGrpSpPr>
        <p:grpSpPr>
          <a:xfrm>
            <a:off x="5111640" y="3068640"/>
            <a:ext cx="1555920" cy="1150560"/>
            <a:chOff x="5111640" y="3068640"/>
            <a:chExt cx="1555920" cy="1150560"/>
          </a:xfrm>
        </p:grpSpPr>
        <p:sp>
          <p:nvSpPr>
            <p:cNvPr id="93" name="Rectangle 29"/>
            <p:cNvSpPr/>
            <p:nvPr/>
          </p:nvSpPr>
          <p:spPr>
            <a:xfrm>
              <a:off x="5111640" y="3918600"/>
              <a:ext cx="1555920" cy="30060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end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0"/>
            <p:cNvSpPr/>
            <p:nvPr/>
          </p:nvSpPr>
          <p:spPr>
            <a:xfrm>
              <a:off x="5111640" y="3068640"/>
              <a:ext cx="1555920" cy="83844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1"/>
          <p:cNvGrpSpPr/>
          <p:nvPr/>
        </p:nvGrpSpPr>
        <p:grpSpPr>
          <a:xfrm>
            <a:off x="662040" y="3070080"/>
            <a:ext cx="1639800" cy="1150560"/>
            <a:chOff x="662040" y="3070080"/>
            <a:chExt cx="1639800" cy="1150560"/>
          </a:xfrm>
        </p:grpSpPr>
        <p:sp>
          <p:nvSpPr>
            <p:cNvPr id="96" name="Rectangle 32"/>
            <p:cNvSpPr/>
            <p:nvPr/>
          </p:nvSpPr>
          <p:spPr>
            <a:xfrm>
              <a:off x="662040" y="3920040"/>
              <a:ext cx="1639800" cy="30060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3"/>
            <p:cNvSpPr/>
            <p:nvPr/>
          </p:nvSpPr>
          <p:spPr>
            <a:xfrm>
              <a:off x="662040" y="3070080"/>
              <a:ext cx="1639800" cy="83844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onier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m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35"/>
          <p:cNvSpPr/>
          <p:nvPr/>
        </p:nvSpPr>
        <p:spPr>
          <a:xfrm>
            <a:off x="741240" y="2421000"/>
            <a:ext cx="577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бщий вопро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6"/>
          <p:cNvGrpSpPr/>
          <p:nvPr/>
        </p:nvGrpSpPr>
        <p:grpSpPr>
          <a:xfrm>
            <a:off x="1442880" y="2851200"/>
            <a:ext cx="4370400" cy="217440"/>
            <a:chOff x="1442880" y="2851200"/>
            <a:chExt cx="4370400" cy="217440"/>
          </a:xfrm>
        </p:grpSpPr>
        <p:grpSp>
          <p:nvGrpSpPr>
            <p:cNvPr id="100" name="Group 37"/>
            <p:cNvGrpSpPr/>
            <p:nvPr/>
          </p:nvGrpSpPr>
          <p:grpSpPr>
            <a:xfrm>
              <a:off x="1442880" y="2851200"/>
              <a:ext cx="4370400" cy="217440"/>
              <a:chOff x="1442880" y="2851200"/>
              <a:chExt cx="4370400" cy="217440"/>
            </a:xfrm>
          </p:grpSpPr>
          <p:sp>
            <p:nvSpPr>
              <p:cNvPr id="101" name="Line 38"/>
              <p:cNvSpPr/>
              <p:nvPr/>
            </p:nvSpPr>
            <p:spPr>
              <a:xfrm>
                <a:off x="1442880" y="2851200"/>
                <a:ext cx="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5813280" y="2851200"/>
                <a:ext cx="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1442880" y="2851200"/>
              <a:ext cx="437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2297160" y="5230800"/>
            <a:ext cx="2810880" cy="1150920"/>
            <a:chOff x="2297160" y="5230800"/>
            <a:chExt cx="2810880" cy="1150920"/>
          </a:xfrm>
        </p:grpSpPr>
        <p:sp>
          <p:nvSpPr>
            <p:cNvPr id="105" name="Rectangle 42"/>
            <p:cNvSpPr/>
            <p:nvPr/>
          </p:nvSpPr>
          <p:spPr>
            <a:xfrm>
              <a:off x="2297160" y="5230800"/>
              <a:ext cx="2810880" cy="847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jetz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Sie bitte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3"/>
            <p:cNvSpPr/>
            <p:nvPr/>
          </p:nvSpPr>
          <p:spPr>
            <a:xfrm>
              <a:off x="2297160" y="6077880"/>
              <a:ext cx="2810880" cy="303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mit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4"/>
          <p:cNvGrpSpPr/>
          <p:nvPr/>
        </p:nvGrpSpPr>
        <p:grpSpPr>
          <a:xfrm>
            <a:off x="5111640" y="5229360"/>
            <a:ext cx="1555920" cy="1150560"/>
            <a:chOff x="5111640" y="5229360"/>
            <a:chExt cx="1555920" cy="1150560"/>
          </a:xfrm>
        </p:grpSpPr>
        <p:sp>
          <p:nvSpPr>
            <p:cNvPr id="108" name="Rectangle 45"/>
            <p:cNvSpPr/>
            <p:nvPr/>
          </p:nvSpPr>
          <p:spPr>
            <a:xfrm>
              <a:off x="5111640" y="6079320"/>
              <a:ext cx="1555920" cy="30060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end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6"/>
            <p:cNvSpPr/>
            <p:nvPr/>
          </p:nvSpPr>
          <p:spPr>
            <a:xfrm>
              <a:off x="5111640" y="5229360"/>
              <a:ext cx="1555920" cy="83844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f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7"/>
          <p:cNvGrpSpPr/>
          <p:nvPr/>
        </p:nvGrpSpPr>
        <p:grpSpPr>
          <a:xfrm>
            <a:off x="662040" y="5230800"/>
            <a:ext cx="1639800" cy="1150560"/>
            <a:chOff x="662040" y="5230800"/>
            <a:chExt cx="1639800" cy="1150560"/>
          </a:xfrm>
        </p:grpSpPr>
        <p:sp>
          <p:nvSpPr>
            <p:cNvPr id="111" name="Rectangle 48"/>
            <p:cNvSpPr/>
            <p:nvPr/>
          </p:nvSpPr>
          <p:spPr>
            <a:xfrm>
              <a:off x="662040" y="6080760"/>
              <a:ext cx="1639800" cy="30060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9"/>
            <p:cNvSpPr/>
            <p:nvPr/>
          </p:nvSpPr>
          <p:spPr>
            <a:xfrm>
              <a:off x="662040" y="5230800"/>
              <a:ext cx="1639800" cy="83844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ör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hreibe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50"/>
          <p:cNvGrpSpPr/>
          <p:nvPr/>
        </p:nvGrpSpPr>
        <p:grpSpPr>
          <a:xfrm>
            <a:off x="1442880" y="5013360"/>
            <a:ext cx="4370400" cy="216000"/>
            <a:chOff x="1442880" y="5013360"/>
            <a:chExt cx="4370400" cy="216000"/>
          </a:xfrm>
        </p:grpSpPr>
        <p:grpSp>
          <p:nvGrpSpPr>
            <p:cNvPr id="114" name="Group 51"/>
            <p:cNvGrpSpPr/>
            <p:nvPr/>
          </p:nvGrpSpPr>
          <p:grpSpPr>
            <a:xfrm>
              <a:off x="1442880" y="5013360"/>
              <a:ext cx="4370400" cy="216000"/>
              <a:chOff x="1442880" y="5013360"/>
              <a:chExt cx="4370400" cy="216000"/>
            </a:xfrm>
          </p:grpSpPr>
          <p:sp>
            <p:nvSpPr>
              <p:cNvPr id="115" name="Line 52"/>
              <p:cNvSpPr/>
              <p:nvPr/>
            </p:nvSpPr>
            <p:spPr>
              <a:xfrm>
                <a:off x="1442880" y="501336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3"/>
              <p:cNvSpPr/>
              <p:nvPr/>
            </p:nvSpPr>
            <p:spPr>
              <a:xfrm>
                <a:off x="5813280" y="501336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54"/>
            <p:cNvSpPr/>
            <p:nvPr/>
          </p:nvSpPr>
          <p:spPr>
            <a:xfrm>
              <a:off x="1442880" y="5013360"/>
              <a:ext cx="437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55"/>
          <p:cNvSpPr/>
          <p:nvPr/>
        </p:nvSpPr>
        <p:spPr>
          <a:xfrm>
            <a:off x="819000" y="4581360"/>
            <a:ext cx="577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мперати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7059600" y="69228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чание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7"/>
          <p:cNvSpPr/>
          <p:nvPr/>
        </p:nvSpPr>
        <p:spPr>
          <a:xfrm>
            <a:off x="7059600" y="27813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чание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8"/>
          <p:cNvSpPr/>
          <p:nvPr/>
        </p:nvSpPr>
        <p:spPr>
          <a:xfrm>
            <a:off x="6980400" y="4724280"/>
            <a:ext cx="20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9"/>
          <p:cNvSpPr/>
          <p:nvPr/>
        </p:nvSpPr>
        <p:spPr>
          <a:xfrm>
            <a:off x="6826320" y="1052640"/>
            <a:ext cx="280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ительное слово: всегда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сте, подлежащее, как правило, сразу после сказуемог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0"/>
          <p:cNvSpPr/>
          <p:nvPr/>
        </p:nvSpPr>
        <p:spPr>
          <a:xfrm>
            <a:off x="6904080" y="3141720"/>
            <a:ext cx="280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ягаемая часть сказуемого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сто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лежащее, как правило, сразу после сказуемог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2"/>
          <p:cNvSpPr/>
          <p:nvPr/>
        </p:nvSpPr>
        <p:spPr>
          <a:xfrm>
            <a:off x="6980400" y="5238720"/>
            <a:ext cx="28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гол в императиве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сто. «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 иногда стоит перед сказуемы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3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64960" y="189000"/>
            <a:ext cx="57754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пряжение сильных глаг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3"/>
          <p:cNvSpPr/>
          <p:nvPr/>
        </p:nvSpPr>
        <p:spPr>
          <a:xfrm>
            <a:off x="509760" y="1628640"/>
            <a:ext cx="1325520" cy="1440000"/>
          </a:xfrm>
          <a:prstGeom prst="rect">
            <a:avLst/>
          </a:prstGeom>
          <a:solidFill>
            <a:srgbClr val="98d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r/sie/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02"/>
          <p:cNvGrpSpPr/>
          <p:nvPr/>
        </p:nvGrpSpPr>
        <p:grpSpPr>
          <a:xfrm>
            <a:off x="1912680" y="549360"/>
            <a:ext cx="1168560" cy="2518560"/>
            <a:chOff x="1912680" y="549360"/>
            <a:chExt cx="1168560" cy="2518560"/>
          </a:xfrm>
        </p:grpSpPr>
        <p:grpSp>
          <p:nvGrpSpPr>
            <p:cNvPr id="129" name="Group 3"/>
            <p:cNvGrpSpPr/>
            <p:nvPr/>
          </p:nvGrpSpPr>
          <p:grpSpPr>
            <a:xfrm>
              <a:off x="1912680" y="1080000"/>
              <a:ext cx="1168200" cy="1987920"/>
              <a:chOff x="1912680" y="1080000"/>
              <a:chExt cx="1168200" cy="1987920"/>
            </a:xfrm>
          </p:grpSpPr>
          <p:sp>
            <p:nvSpPr>
              <p:cNvPr id="130" name="Rectangle 4"/>
              <p:cNvSpPr/>
              <p:nvPr/>
            </p:nvSpPr>
            <p:spPr>
              <a:xfrm rot="10800000">
                <a:off x="1912680" y="1604880"/>
                <a:ext cx="1168200" cy="14630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 fontScale="96000"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lese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lies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lies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les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…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5"/>
              <p:cNvSpPr/>
              <p:nvPr/>
            </p:nvSpPr>
            <p:spPr>
              <a:xfrm rot="10800000">
                <a:off x="1912680" y="1080000"/>
                <a:ext cx="1168200" cy="524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s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Rectangle 101"/>
            <p:cNvSpPr/>
            <p:nvPr/>
          </p:nvSpPr>
          <p:spPr>
            <a:xfrm>
              <a:off x="1913040" y="549360"/>
              <a:ext cx="1168200" cy="499680"/>
            </a:xfrm>
            <a:prstGeom prst="rect">
              <a:avLst/>
            </a:prstGeom>
            <a:solidFill>
              <a:srgbClr val="98dca0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 i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03"/>
          <p:cNvGrpSpPr/>
          <p:nvPr/>
        </p:nvGrpSpPr>
        <p:grpSpPr>
          <a:xfrm>
            <a:off x="3159000" y="549360"/>
            <a:ext cx="1250640" cy="2518560"/>
            <a:chOff x="3159000" y="549360"/>
            <a:chExt cx="1250640" cy="2518560"/>
          </a:xfrm>
        </p:grpSpPr>
        <p:grpSp>
          <p:nvGrpSpPr>
            <p:cNvPr id="134" name="Group 104"/>
            <p:cNvGrpSpPr/>
            <p:nvPr/>
          </p:nvGrpSpPr>
          <p:grpSpPr>
            <a:xfrm>
              <a:off x="3159000" y="1080000"/>
              <a:ext cx="1250640" cy="1987920"/>
              <a:chOff x="3159000" y="1080000"/>
              <a:chExt cx="1250640" cy="1987920"/>
            </a:xfrm>
          </p:grpSpPr>
          <p:sp>
            <p:nvSpPr>
              <p:cNvPr id="135" name="Rectangle 105"/>
              <p:cNvSpPr/>
              <p:nvPr/>
            </p:nvSpPr>
            <p:spPr>
              <a:xfrm rot="10800000">
                <a:off x="3159000" y="1604880"/>
                <a:ext cx="1250640" cy="14630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 fontScale="96000"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spreche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sprichs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sprich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sprech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…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06"/>
              <p:cNvSpPr/>
              <p:nvPr/>
            </p:nvSpPr>
            <p:spPr>
              <a:xfrm rot="10800000">
                <a:off x="3159000" y="1080000"/>
                <a:ext cx="1250640" cy="524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prech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Rectangle 107"/>
            <p:cNvSpPr/>
            <p:nvPr/>
          </p:nvSpPr>
          <p:spPr>
            <a:xfrm>
              <a:off x="3159000" y="549360"/>
              <a:ext cx="1250640" cy="499680"/>
            </a:xfrm>
            <a:prstGeom prst="rect">
              <a:avLst/>
            </a:prstGeom>
            <a:solidFill>
              <a:srgbClr val="98dca0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i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28"/>
          <p:cNvGrpSpPr/>
          <p:nvPr/>
        </p:nvGrpSpPr>
        <p:grpSpPr>
          <a:xfrm>
            <a:off x="4484520" y="549360"/>
            <a:ext cx="1170000" cy="2518560"/>
            <a:chOff x="4484520" y="549360"/>
            <a:chExt cx="1170000" cy="2518560"/>
          </a:xfrm>
        </p:grpSpPr>
        <p:grpSp>
          <p:nvGrpSpPr>
            <p:cNvPr id="139" name="Group 129"/>
            <p:cNvGrpSpPr/>
            <p:nvPr/>
          </p:nvGrpSpPr>
          <p:grpSpPr>
            <a:xfrm>
              <a:off x="4484520" y="1080000"/>
              <a:ext cx="1170000" cy="1987920"/>
              <a:chOff x="4484520" y="1080000"/>
              <a:chExt cx="1170000" cy="1987920"/>
            </a:xfrm>
          </p:grpSpPr>
          <p:sp>
            <p:nvSpPr>
              <p:cNvPr id="140" name="Rectangle 130"/>
              <p:cNvSpPr/>
              <p:nvPr/>
            </p:nvSpPr>
            <p:spPr>
              <a:xfrm rot="10800000">
                <a:off x="4484520" y="1604880"/>
                <a:ext cx="1170000" cy="14630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 fontScale="96000"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nehme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nimms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nimm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nehm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…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31"/>
              <p:cNvSpPr/>
              <p:nvPr/>
            </p:nvSpPr>
            <p:spPr>
              <a:xfrm rot="10800000">
                <a:off x="4484520" y="1080000"/>
                <a:ext cx="1170000" cy="524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hm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32"/>
            <p:cNvSpPr/>
            <p:nvPr/>
          </p:nvSpPr>
          <p:spPr>
            <a:xfrm>
              <a:off x="4484520" y="549360"/>
              <a:ext cx="1170000" cy="499680"/>
            </a:xfrm>
            <a:prstGeom prst="rect">
              <a:avLst/>
            </a:prstGeom>
            <a:solidFill>
              <a:srgbClr val="98dca0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!!!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33"/>
          <p:cNvGrpSpPr/>
          <p:nvPr/>
        </p:nvGrpSpPr>
        <p:grpSpPr>
          <a:xfrm>
            <a:off x="8385120" y="549360"/>
            <a:ext cx="1170000" cy="2518560"/>
            <a:chOff x="8385120" y="549360"/>
            <a:chExt cx="1170000" cy="2518560"/>
          </a:xfrm>
        </p:grpSpPr>
        <p:grpSp>
          <p:nvGrpSpPr>
            <p:cNvPr id="144" name="Group 134"/>
            <p:cNvGrpSpPr/>
            <p:nvPr/>
          </p:nvGrpSpPr>
          <p:grpSpPr>
            <a:xfrm>
              <a:off x="8385120" y="1080000"/>
              <a:ext cx="1170000" cy="1987920"/>
              <a:chOff x="8385120" y="1080000"/>
              <a:chExt cx="1170000" cy="1987920"/>
            </a:xfrm>
          </p:grpSpPr>
          <p:sp>
            <p:nvSpPr>
              <p:cNvPr id="145" name="Rectangle 135"/>
              <p:cNvSpPr/>
              <p:nvPr/>
            </p:nvSpPr>
            <p:spPr>
              <a:xfrm rot="10800000">
                <a:off x="8385120" y="1604880"/>
                <a:ext cx="1170000" cy="14630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 fontScale="96000"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weiß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weiß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weiß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ss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36"/>
              <p:cNvSpPr/>
              <p:nvPr/>
            </p:nvSpPr>
            <p:spPr>
              <a:xfrm rot="10800000">
                <a:off x="8385120" y="1080000"/>
                <a:ext cx="1170000" cy="524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wiss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Rectangle 137"/>
            <p:cNvSpPr/>
            <p:nvPr/>
          </p:nvSpPr>
          <p:spPr>
            <a:xfrm>
              <a:off x="8385120" y="549360"/>
              <a:ext cx="1170000" cy="499680"/>
            </a:xfrm>
            <a:prstGeom prst="rect">
              <a:avLst/>
            </a:prstGeom>
            <a:solidFill>
              <a:srgbClr val="98dca0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!!!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38"/>
          <p:cNvGrpSpPr/>
          <p:nvPr/>
        </p:nvGrpSpPr>
        <p:grpSpPr>
          <a:xfrm>
            <a:off x="5735520" y="549360"/>
            <a:ext cx="1168560" cy="2518560"/>
            <a:chOff x="5735520" y="549360"/>
            <a:chExt cx="1168560" cy="2518560"/>
          </a:xfrm>
        </p:grpSpPr>
        <p:grpSp>
          <p:nvGrpSpPr>
            <p:cNvPr id="149" name="Group 139"/>
            <p:cNvGrpSpPr/>
            <p:nvPr/>
          </p:nvGrpSpPr>
          <p:grpSpPr>
            <a:xfrm>
              <a:off x="5735520" y="1080000"/>
              <a:ext cx="1168560" cy="1987920"/>
              <a:chOff x="5735520" y="1080000"/>
              <a:chExt cx="1168560" cy="1987920"/>
            </a:xfrm>
          </p:grpSpPr>
          <p:sp>
            <p:nvSpPr>
              <p:cNvPr id="150" name="Rectangle 140"/>
              <p:cNvSpPr/>
              <p:nvPr/>
            </p:nvSpPr>
            <p:spPr>
              <a:xfrm rot="10800000">
                <a:off x="5735520" y="1604880"/>
                <a:ext cx="1168560" cy="14630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 fontScale="96000"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fahre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fährs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ähr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hr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41"/>
              <p:cNvSpPr/>
              <p:nvPr/>
            </p:nvSpPr>
            <p:spPr>
              <a:xfrm rot="10800000">
                <a:off x="5735520" y="1080000"/>
                <a:ext cx="1168560" cy="524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ahr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Rectangle 142"/>
            <p:cNvSpPr/>
            <p:nvPr/>
          </p:nvSpPr>
          <p:spPr>
            <a:xfrm>
              <a:off x="5735520" y="549360"/>
              <a:ext cx="1168560" cy="499680"/>
            </a:xfrm>
            <a:prstGeom prst="rect">
              <a:avLst/>
            </a:prstGeom>
            <a:solidFill>
              <a:srgbClr val="98dca0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 ä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43"/>
          <p:cNvGrpSpPr/>
          <p:nvPr/>
        </p:nvGrpSpPr>
        <p:grpSpPr>
          <a:xfrm>
            <a:off x="6980040" y="549360"/>
            <a:ext cx="1326960" cy="2518560"/>
            <a:chOff x="6980040" y="549360"/>
            <a:chExt cx="1326960" cy="2518560"/>
          </a:xfrm>
        </p:grpSpPr>
        <p:grpSp>
          <p:nvGrpSpPr>
            <p:cNvPr id="154" name="Group 144"/>
            <p:cNvGrpSpPr/>
            <p:nvPr/>
          </p:nvGrpSpPr>
          <p:grpSpPr>
            <a:xfrm>
              <a:off x="6980040" y="1080000"/>
              <a:ext cx="1326600" cy="1987920"/>
              <a:chOff x="6980040" y="1080000"/>
              <a:chExt cx="1326600" cy="1987920"/>
            </a:xfrm>
          </p:grpSpPr>
          <p:sp>
            <p:nvSpPr>
              <p:cNvPr id="155" name="Rectangle 145"/>
              <p:cNvSpPr/>
              <p:nvPr/>
            </p:nvSpPr>
            <p:spPr>
              <a:xfrm rot="10800000">
                <a:off x="6980040" y="1604880"/>
                <a:ext cx="1326600" cy="14630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 fontScale="96000"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laufe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läufs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äuf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uf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46"/>
              <p:cNvSpPr/>
              <p:nvPr/>
            </p:nvSpPr>
            <p:spPr>
              <a:xfrm rot="10800000">
                <a:off x="6980040" y="1080000"/>
                <a:ext cx="1326600" cy="524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aac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rm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aufen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147"/>
            <p:cNvSpPr/>
            <p:nvPr/>
          </p:nvSpPr>
          <p:spPr>
            <a:xfrm>
              <a:off x="6980400" y="549360"/>
              <a:ext cx="1326600" cy="499680"/>
            </a:xfrm>
            <a:prstGeom prst="rect">
              <a:avLst/>
            </a:prstGeom>
            <a:solidFill>
              <a:srgbClr val="98dca0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u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 äu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1987560" y="3573360"/>
          <a:ext cx="6319800" cy="2982960"/>
        </p:xfrm>
        <a:graphic>
          <a:graphicData uri="http://schemas.openxmlformats.org/drawingml/2006/table">
            <a:tbl>
              <a:tblPr/>
              <a:tblGrid>
                <a:gridCol w="2104920"/>
                <a:gridCol w="2105280"/>
                <a:gridCol w="2109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dca0"/>
                    </a:solidFill>
                  </a:tcPr>
                </a:tc>
              </a:tr>
              <a:tr h="35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hab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b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werd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ha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bi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wir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       ha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       i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        wir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 hab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  sin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 werd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 hab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  se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 werde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 hab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  sin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 werd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246"/>
          <p:cNvSpPr/>
          <p:nvPr/>
        </p:nvSpPr>
        <p:spPr>
          <a:xfrm>
            <a:off x="1987560" y="3141720"/>
            <a:ext cx="60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äsen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гол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ben, sein,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62"/>
              <p:cNvSpPr txBox="1"/>
              <p:nvPr/>
            </p:nvSpPr>
            <p:spPr>
              <a:xfrm>
                <a:off x="2173320" y="4724280"/>
                <a:ext cx="363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63"/>
              <p:cNvSpPr txBox="1"/>
              <p:nvPr/>
            </p:nvSpPr>
            <p:spPr>
              <a:xfrm>
                <a:off x="6388200" y="4724280"/>
                <a:ext cx="358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64"/>
              <p:cNvSpPr txBox="1"/>
              <p:nvPr/>
            </p:nvSpPr>
            <p:spPr>
              <a:xfrm>
                <a:off x="4329000" y="4724280"/>
                <a:ext cx="357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Text Box 271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1754280" y="620640"/>
            <a:ext cx="6708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одальные глаголы в предложен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4484520" y="1557360"/>
            <a:ext cx="1666800" cy="2233080"/>
            <a:chOff x="4484520" y="1557360"/>
            <a:chExt cx="1666800" cy="2233080"/>
          </a:xfrm>
        </p:grpSpPr>
        <p:sp>
          <p:nvSpPr>
            <p:cNvPr id="166" name="Rectangle 6"/>
            <p:cNvSpPr/>
            <p:nvPr/>
          </p:nvSpPr>
          <p:spPr>
            <a:xfrm>
              <a:off x="4484520" y="1557360"/>
              <a:ext cx="1666800" cy="16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schon gu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Sie sic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du den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nun endlich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ich morge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84520" y="3200760"/>
              <a:ext cx="1666800" cy="589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mit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6122880" y="1557360"/>
            <a:ext cx="1559160" cy="2232720"/>
            <a:chOff x="6122880" y="1557360"/>
            <a:chExt cx="1559160" cy="2232720"/>
          </a:xfrm>
        </p:grpSpPr>
        <p:sp>
          <p:nvSpPr>
            <p:cNvPr id="169" name="Rectangle 9"/>
            <p:cNvSpPr/>
            <p:nvPr/>
          </p:nvSpPr>
          <p:spPr>
            <a:xfrm>
              <a:off x="6122880" y="3206520"/>
              <a:ext cx="1559160" cy="58356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ende: Infinitiv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122880" y="1557360"/>
              <a:ext cx="1559160" cy="162684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rechnen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erholen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lesen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Auto fahren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kommen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1600200" y="1557360"/>
            <a:ext cx="1324080" cy="2233080"/>
            <a:chOff x="1600200" y="1557360"/>
            <a:chExt cx="1324080" cy="2233080"/>
          </a:xfrm>
        </p:grpSpPr>
        <p:sp>
          <p:nvSpPr>
            <p:cNvPr id="172" name="Rectangle 12"/>
            <p:cNvSpPr/>
            <p:nvPr/>
          </p:nvSpPr>
          <p:spPr>
            <a:xfrm>
              <a:off x="1600200" y="1557360"/>
              <a:ext cx="1324080" cy="16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i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n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1600200" y="3200760"/>
              <a:ext cx="1324080" cy="589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2925720" y="1557360"/>
            <a:ext cx="1592280" cy="2232720"/>
            <a:chOff x="2925720" y="1557360"/>
            <a:chExt cx="1592280" cy="2232720"/>
          </a:xfrm>
        </p:grpSpPr>
        <p:sp>
          <p:nvSpPr>
            <p:cNvPr id="175" name="Rectangle 15"/>
            <p:cNvSpPr/>
            <p:nvPr/>
          </p:nvSpPr>
          <p:spPr>
            <a:xfrm>
              <a:off x="2925720" y="3206520"/>
              <a:ext cx="1592280" cy="58356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  Modalver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onjugier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6"/>
            <p:cNvSpPr/>
            <p:nvPr/>
          </p:nvSpPr>
          <p:spPr>
            <a:xfrm>
              <a:off x="2925720" y="1557360"/>
              <a:ext cx="1592280" cy="162684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an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önne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ll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rf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l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7683480" y="1557360"/>
            <a:ext cx="1952280" cy="2233080"/>
            <a:chOff x="7683480" y="1557360"/>
            <a:chExt cx="1952280" cy="2233080"/>
          </a:xfrm>
        </p:grpSpPr>
        <p:sp>
          <p:nvSpPr>
            <p:cNvPr id="178" name="Rectangle 18"/>
            <p:cNvSpPr/>
            <p:nvPr/>
          </p:nvSpPr>
          <p:spPr>
            <a:xfrm>
              <a:off x="7683480" y="1557360"/>
              <a:ext cx="1952280" cy="16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Способность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Возможность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План, намере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Разреше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Требова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9"/>
            <p:cNvSpPr/>
            <p:nvPr/>
          </p:nvSpPr>
          <p:spPr>
            <a:xfrm>
              <a:off x="7683480" y="3200760"/>
              <a:ext cx="1952280" cy="589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0"/>
          <p:cNvGrpSpPr/>
          <p:nvPr/>
        </p:nvGrpSpPr>
        <p:grpSpPr>
          <a:xfrm>
            <a:off x="2925720" y="4078440"/>
            <a:ext cx="1592280" cy="1655280"/>
            <a:chOff x="2925720" y="4078440"/>
            <a:chExt cx="1592280" cy="1655280"/>
          </a:xfrm>
        </p:grpSpPr>
        <p:sp>
          <p:nvSpPr>
            <p:cNvPr id="181" name="Rectangle 21"/>
            <p:cNvSpPr/>
            <p:nvPr/>
          </p:nvSpPr>
          <p:spPr>
            <a:xfrm>
              <a:off x="2925720" y="5301000"/>
              <a:ext cx="1592280" cy="432720"/>
            </a:xfrm>
            <a:prstGeom prst="rect">
              <a:avLst/>
            </a:prstGeom>
            <a:solidFill>
              <a:srgbClr val="98dca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2"/>
            <p:cNvSpPr/>
            <p:nvPr/>
          </p:nvSpPr>
          <p:spPr>
            <a:xfrm>
              <a:off x="2925720" y="4078440"/>
              <a:ext cx="1592280" cy="120600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üsse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öchte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23"/>
          <p:cNvGrpSpPr/>
          <p:nvPr/>
        </p:nvGrpSpPr>
        <p:grpSpPr>
          <a:xfrm>
            <a:off x="4484520" y="4078440"/>
            <a:ext cx="1669680" cy="1655280"/>
            <a:chOff x="4484520" y="4078440"/>
            <a:chExt cx="1669680" cy="1655280"/>
          </a:xfrm>
        </p:grpSpPr>
        <p:sp>
          <p:nvSpPr>
            <p:cNvPr id="184" name="Rectangle 24"/>
            <p:cNvSpPr/>
            <p:nvPr/>
          </p:nvSpPr>
          <p:spPr>
            <a:xfrm>
              <a:off x="4484520" y="4078440"/>
              <a:ext cx="1669680" cy="121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Sie heu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Sie einen Kaffe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4484520" y="5296680"/>
              <a:ext cx="1669680" cy="437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mit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6"/>
          <p:cNvGrpSpPr/>
          <p:nvPr/>
        </p:nvGrpSpPr>
        <p:grpSpPr>
          <a:xfrm>
            <a:off x="6122880" y="4078440"/>
            <a:ext cx="1560600" cy="1655280"/>
            <a:chOff x="6122880" y="4078440"/>
            <a:chExt cx="1560600" cy="1655280"/>
          </a:xfrm>
        </p:grpSpPr>
        <p:sp>
          <p:nvSpPr>
            <p:cNvPr id="187" name="Rectangle 27"/>
            <p:cNvSpPr/>
            <p:nvPr/>
          </p:nvSpPr>
          <p:spPr>
            <a:xfrm>
              <a:off x="6122880" y="5301000"/>
              <a:ext cx="1560600" cy="432720"/>
            </a:xfrm>
            <a:prstGeom prst="rect">
              <a:avLst/>
            </a:prstGeom>
            <a:solidFill>
              <a:srgbClr val="98dca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zende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8"/>
            <p:cNvSpPr/>
            <p:nvPr/>
          </p:nvSpPr>
          <p:spPr>
            <a:xfrm>
              <a:off x="6122880" y="4078440"/>
              <a:ext cx="1560600" cy="1206000"/>
            </a:xfrm>
            <a:prstGeom prst="rect">
              <a:avLst/>
            </a:prstGeom>
            <a:solidFill>
              <a:srgbClr val="98d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pünktlich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in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nken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9"/>
          <p:cNvGrpSpPr/>
          <p:nvPr/>
        </p:nvGrpSpPr>
        <p:grpSpPr>
          <a:xfrm>
            <a:off x="7683480" y="4078440"/>
            <a:ext cx="1952280" cy="1655280"/>
            <a:chOff x="7683480" y="4078440"/>
            <a:chExt cx="1952280" cy="1655280"/>
          </a:xfrm>
        </p:grpSpPr>
        <p:sp>
          <p:nvSpPr>
            <p:cNvPr id="190" name="Rectangle 30"/>
            <p:cNvSpPr/>
            <p:nvPr/>
          </p:nvSpPr>
          <p:spPr>
            <a:xfrm>
              <a:off x="7683480" y="4078440"/>
              <a:ext cx="1952280" cy="121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Необходимость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ahoma"/>
                </a:rPr>
                <a:t>Жела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1"/>
            <p:cNvSpPr/>
            <p:nvPr/>
          </p:nvSpPr>
          <p:spPr>
            <a:xfrm>
              <a:off x="7683480" y="5296680"/>
              <a:ext cx="1952280" cy="437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aac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32"/>
          <p:cNvSpPr/>
          <p:nvPr/>
        </p:nvSpPr>
        <p:spPr>
          <a:xfrm>
            <a:off x="270000" y="1557360"/>
            <a:ext cx="14065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ssag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-Frag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7918560" y="1052640"/>
            <a:ext cx="13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чение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270000" y="4172040"/>
            <a:ext cx="18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/Nein-Frag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7"/>
          <p:cNvSpPr/>
          <p:nvPr/>
        </p:nvSpPr>
        <p:spPr>
          <a:xfrm>
            <a:off x="3584520" y="126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>
            <a:off x="6969240" y="126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>
            <a:off x="3584520" y="126828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400" y="189000"/>
            <a:ext cx="8915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озвратные глаг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85920" y="692280"/>
          <a:ext cx="7800840" cy="3620880"/>
        </p:xfrm>
        <a:graphic>
          <a:graphicData uri="http://schemas.openxmlformats.org/drawingml/2006/table">
            <a:tbl>
              <a:tblPr/>
              <a:tblGrid>
                <a:gridCol w="866880"/>
                <a:gridCol w="1176120"/>
                <a:gridCol w="819360"/>
                <a:gridCol w="604800"/>
                <a:gridCol w="668160"/>
                <a:gridCol w="1403280"/>
                <a:gridCol w="1395720"/>
                <a:gridCol w="866520"/>
              </a:tblGrid>
              <a:tr h="504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usati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Mant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s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Mant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t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t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t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Mant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Mant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Mant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e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Mant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t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Mant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e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he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Mant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Mant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819000" y="4870440"/>
          <a:ext cx="8591760" cy="1585800"/>
        </p:xfrm>
        <a:graphic>
          <a:graphicData uri="http://schemas.openxmlformats.org/drawingml/2006/table">
            <a:tbl>
              <a:tblPr/>
              <a:tblGrid>
                <a:gridCol w="2027520"/>
                <a:gridCol w="1014120"/>
                <a:gridCol w="3667320"/>
                <a:gridCol w="1882800"/>
              </a:tblGrid>
              <a:tr h="107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n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en Ta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en Mor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h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z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z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im Urlau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am Strand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ter                     dieZ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h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e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ch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bitte            hierher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!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8dca0"/>
                    </a:solidFill>
                  </a:tcPr>
                </a:tc>
              </a:tr>
              <a:tr h="508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98dc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zmit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98dca0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zend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8dca0"/>
                      </a:solidFill>
                    </a:lnL>
                    <a:lnR w="5760">
                      <a:solidFill>
                        <a:srgbClr val="98dca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98dca0"/>
                      </a:solidFill>
                    </a:lnB>
                    <a:solidFill>
                      <a:srgbClr val="98dca0"/>
                    </a:solidFill>
                  </a:tcPr>
                </a:tc>
              </a:tr>
            </a:tbl>
          </a:graphicData>
        </a:graphic>
      </p:graphicFrame>
      <p:sp>
        <p:nvSpPr>
          <p:cNvPr id="202" name="Text Box 226"/>
          <p:cNvSpPr/>
          <p:nvPr/>
        </p:nvSpPr>
        <p:spPr>
          <a:xfrm>
            <a:off x="2424600" y="4295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рядок слов в предложен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05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9400" y="-360"/>
            <a:ext cx="8589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лонение сущест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09760" y="620640"/>
          <a:ext cx="8982000" cy="1743120"/>
        </p:xfrm>
        <a:graphic>
          <a:graphicData uri="http://schemas.openxmlformats.org/drawingml/2006/table">
            <a:tbl>
              <a:tblPr/>
              <a:tblGrid>
                <a:gridCol w="1284120"/>
                <a:gridCol w="1281240"/>
                <a:gridCol w="1280880"/>
                <a:gridCol w="1284480"/>
                <a:gridCol w="1279440"/>
                <a:gridCol w="1287360"/>
                <a:gridCol w="128448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ulin         neutrum          femin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usati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  Mal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Male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 Mal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 Mal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Bil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  Bil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 Bil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Kun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  Mal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d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d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de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d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ns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ns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ns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ns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154"/>
          <p:cNvSpPr/>
          <p:nvPr/>
        </p:nvSpPr>
        <p:spPr>
          <a:xfrm>
            <a:off x="584280" y="350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-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лон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5"/>
          <p:cNvSpPr/>
          <p:nvPr/>
        </p:nvSpPr>
        <p:spPr>
          <a:xfrm>
            <a:off x="2171880" y="3933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 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6"/>
          <p:cNvSpPr/>
          <p:nvPr/>
        </p:nvSpPr>
        <p:spPr>
          <a:xfrm>
            <a:off x="4120920" y="39337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 I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7"/>
          <p:cNvSpPr/>
          <p:nvPr/>
        </p:nvSpPr>
        <p:spPr>
          <a:xfrm>
            <a:off x="351000" y="2421000"/>
            <a:ext cx="5149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чание!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тив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e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дносложных словах посл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d,-t,-s,-sch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t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 Wortes, des Flusses, des Witzes…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8"/>
          <p:cNvSpPr/>
          <p:nvPr/>
        </p:nvSpPr>
        <p:spPr>
          <a:xfrm>
            <a:off x="5493600" y="2421000"/>
            <a:ext cx="3905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чание!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которые иноязычные слова не имею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онч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дативе множественного числа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Radios- den Rad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28760" y="4365720"/>
          <a:ext cx="8967600" cy="1960560"/>
        </p:xfrm>
        <a:graphic>
          <a:graphicData uri="http://schemas.openxmlformats.org/drawingml/2006/table">
            <a:tbl>
              <a:tblPr/>
              <a:tblGrid>
                <a:gridCol w="1282680"/>
                <a:gridCol w="1836720"/>
                <a:gridCol w="2004840"/>
                <a:gridCol w="3843360"/>
              </a:tblGrid>
              <a:tr h="62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uli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ul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98dca0"/>
                    </a:solidFill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usati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H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   H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 H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      Nam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hba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am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aac60"/>
                      </a:solidFill>
                    </a:lnL>
                    <a:lnR w="5760">
                      <a:solidFill>
                        <a:srgbClr val="3aac60"/>
                      </a:solidFill>
                    </a:lnR>
                    <a:lnT w="5760">
                      <a:solidFill>
                        <a:srgbClr val="3aac60"/>
                      </a:solidFill>
                    </a:lnT>
                    <a:lnB w="5760">
                      <a:solidFill>
                        <a:srgbClr val="3aac6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12" name="Text Box 207"/>
          <p:cNvSpPr/>
          <p:nvPr/>
        </p:nvSpPr>
        <p:spPr>
          <a:xfrm>
            <a:off x="7402680" y="6461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09:44:49Z</dcterms:created>
  <dc:creator>user</dc:creator>
  <dc:description/>
  <dc:language>en-US</dc:language>
  <cp:lastModifiedBy>Надежда Голубых</cp:lastModifiedBy>
  <dcterms:modified xsi:type="dcterms:W3CDTF">2017-09-01T14:01:01Z</dcterms:modified>
  <cp:revision>97</cp:revision>
  <dc:subject/>
  <dc:title>Слайд 1</dc:title>
</cp:coreProperties>
</file>