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73F4-E1B0-4EDD-8DEF-CC0FF4A9A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61E6-3632-4182-BEDC-9DF9E0813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A1D5-6F95-4C89-A599-5F126B06F7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49A0-B9EF-4E66-909D-0B04866C8F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86E2-AE97-4E18-AD43-4B67EEB82C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6622-E548-4B9A-9EFB-538D57EE1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3183-2156-4E77-B549-A895E55C38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072-E044-4172-BA0F-8DA30B32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979-5284-439A-B7D9-4A86E241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536F-631A-40E1-8855-F18F5C53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B12-B03F-4AFD-BFAE-AB9019A1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EAB-F0E1-4E47-AA2D-B002AE20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CD8-5DE1-42E2-98E3-465E58A9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D2D-9FE3-408F-A622-2F4558C4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019-2970-4E48-A3DF-B9F8D5E4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300-4811-4CF6-BBD8-00F8DEEF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EBC-6F67-4523-A828-B7A456F2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C25-3745-4082-9DE8-99AA7BDE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306-CDEA-4EE7-8E09-1E400F27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A445-6A77-4744-B380-66EE4E6B4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ankoy.org.ua/wp-content/uploads/2012/01/Funktsii-polusharij-mozga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5418.userapi.com/u1788725/-14/x_bc1539e4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cience.compulenta.ru/upload/iblock/7f1/600_2.png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Rectangle 5"/>
          <p:cNvSpPr/>
          <p:nvPr/>
        </p:nvSpPr>
        <p:spPr>
          <a:xfrm>
            <a:off x="1187280" y="404640"/>
            <a:ext cx="75567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" name="Picture 7" descr="http://www.deti-budushego.com/files/brain2.jpg"/>
          <p:cNvPicPr/>
          <p:nvPr/>
        </p:nvPicPr>
        <p:blipFill>
          <a:blip r:embed="rId2"/>
          <a:stretch/>
        </p:blipFill>
        <p:spPr>
          <a:xfrm>
            <a:off x="5651640" y="2997360"/>
            <a:ext cx="2881080" cy="282240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  <p:sp>
        <p:nvSpPr>
          <p:cNvPr id="53" name="Rectangle 3"/>
          <p:cNvSpPr/>
          <p:nvPr/>
        </p:nvSpPr>
        <p:spPr>
          <a:xfrm>
            <a:off x="324000" y="3068640"/>
            <a:ext cx="460836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0fb1"/>
                </a:solidFill>
                <a:latin typeface="Georgia"/>
              </a:rPr>
              <a:t>«Мозг, хорошо устроенный, стоит больше, чем мозг, хорошо наполненный»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e0fb1"/>
                </a:solidFill>
                <a:latin typeface="Georgia"/>
              </a:rPr>
              <a:t>Мишель де Монтень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WordArt 9"/>
          <p:cNvSpPr txBox="1"/>
          <p:nvPr/>
        </p:nvSpPr>
        <p:spPr>
          <a:xfrm>
            <a:off x="1403280" y="260280"/>
            <a:ext cx="7128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новидности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рганизации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жполушарных связей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ловного мозга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468000" cy="7013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400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835280" y="26028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Тесты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.И. Озерецкого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4" name="Picture 8" descr="P2060448"/>
          <p:cNvPicPr/>
          <p:nvPr/>
        </p:nvPicPr>
        <p:blipFill>
          <a:blip r:embed="rId2"/>
          <a:srcRect l="0" t="0" r="0" b="7848"/>
          <a:stretch/>
        </p:blipFill>
        <p:spPr>
          <a:xfrm>
            <a:off x="5219640" y="1413000"/>
            <a:ext cx="2962440" cy="5184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95" name="Picture 9" descr="P2060450"/>
          <p:cNvPicPr/>
          <p:nvPr/>
        </p:nvPicPr>
        <p:blipFill>
          <a:blip r:embed="rId3"/>
          <a:srcRect l="0" t="0" r="0" b="9845"/>
          <a:stretch/>
        </p:blipFill>
        <p:spPr>
          <a:xfrm>
            <a:off x="1825560" y="1413000"/>
            <a:ext cx="2984400" cy="51847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468000" cy="7013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3400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9" name="Picture 6" descr="P2060455"/>
          <p:cNvPicPr/>
          <p:nvPr/>
        </p:nvPicPr>
        <p:blipFill>
          <a:blip r:embed="rId2"/>
          <a:stretch/>
        </p:blipFill>
        <p:spPr>
          <a:xfrm>
            <a:off x="3348000" y="1413000"/>
            <a:ext cx="3063960" cy="4032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00" name="Picture 7" descr="P2060463"/>
          <p:cNvPicPr/>
          <p:nvPr/>
        </p:nvPicPr>
        <p:blipFill>
          <a:blip r:embed="rId3"/>
          <a:stretch/>
        </p:blipFill>
        <p:spPr>
          <a:xfrm>
            <a:off x="250920" y="1413000"/>
            <a:ext cx="2914560" cy="3960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01" name="Picture 8" descr="P2060470"/>
          <p:cNvPicPr/>
          <p:nvPr/>
        </p:nvPicPr>
        <p:blipFill>
          <a:blip r:embed="rId4"/>
          <a:stretch/>
        </p:blipFill>
        <p:spPr>
          <a:xfrm>
            <a:off x="6659640" y="1413000"/>
            <a:ext cx="2611440" cy="4032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02" name="Rectangle 9"/>
          <p:cNvSpPr/>
          <p:nvPr/>
        </p:nvSpPr>
        <p:spPr>
          <a:xfrm>
            <a:off x="539640" y="2710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обы Н. Озерецкого на выявление у дошкольников доминирующего полушария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468000" cy="70135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400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700360" y="333360"/>
            <a:ext cx="40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иаграмма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087560" y="1557000"/>
            <a:ext cx="231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обладание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евого полушария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5724360" y="155664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обладание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ого полушария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469800" y="2349360"/>
            <a:ext cx="8674200" cy="3744720"/>
            <a:chOff x="469800" y="2349360"/>
            <a:chExt cx="8674200" cy="3744720"/>
          </a:xfrm>
        </p:grpSpPr>
        <p:pic>
          <p:nvPicPr>
            <p:cNvPr id="110" name="Picture 11" descr=""/>
            <p:cNvPicPr/>
            <p:nvPr/>
          </p:nvPicPr>
          <p:blipFill>
            <a:blip r:embed="rId2"/>
            <a:srcRect l="0" t="0" r="29618" b="0"/>
            <a:stretch/>
          </p:blipFill>
          <p:spPr>
            <a:xfrm>
              <a:off x="5510160" y="2349360"/>
              <a:ext cx="3633840" cy="37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2" descr=""/>
            <p:cNvPicPr/>
            <p:nvPr/>
          </p:nvPicPr>
          <p:blipFill>
            <a:blip r:embed="rId3"/>
            <a:stretch/>
          </p:blipFill>
          <p:spPr>
            <a:xfrm>
              <a:off x="469800" y="2349360"/>
              <a:ext cx="5141880" cy="3730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755640" y="1197000"/>
            <a:ext cx="77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Кинезиологические упражн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дают возможность задействовать те участки мозга, которые раньше не принимали участия в учении, и решить проблему неуспешности ребенка логопата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рекционно- развивающая работа направлена от движения к мышлению, а не наоборо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8699400" cy="1152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755640" y="1484280"/>
            <a:ext cx="777708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жается тревожность, пропадает страх , дети становятся спокойнее и увереннее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учшаются навыки самостоятельной работы.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ется устная речь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уется логическое мышление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мотивация к обучению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учшаются коммуникативные навыки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bbe0e3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7"/>
          <p:cNvSpPr txBox="1"/>
          <p:nvPr/>
        </p:nvSpPr>
        <p:spPr>
          <a:xfrm>
            <a:off x="971640" y="1484280"/>
            <a:ext cx="6913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рю за внимание !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685800" y="304920"/>
            <a:ext cx="6912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0fb1"/>
                </a:solidFill>
                <a:latin typeface="Georgia"/>
              </a:rPr>
              <a:t>Основатель кинезиологи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0fb1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снователем научной кинезиологи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 Древней Греции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читался АСКЛЕПИАД,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живший более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000 лет назад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971800" cy="3960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714240" y="14292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0fb1"/>
                </a:solidFill>
                <a:latin typeface="Georgia"/>
              </a:rPr>
              <a:t>Секрет красоты и молодости Клеопатры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0fb1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протяжении всей жизн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ла кинезиологические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пражнения , за счёт которых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ддерживала свой мозг в активном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стоянии. Известно, что старение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рганизма начинается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 старения мозга.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ддерживая  мозг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 состоянии молодости,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ы не позволяем стариться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ему телу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659640" y="3573360"/>
            <a:ext cx="2209680" cy="28749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4211640" y="766800"/>
            <a:ext cx="403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Пол Деннисо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основатель учения «Образовательная кинезиология»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инезиология-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от греческого «кинесис» — движение, «логос» - наука).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6" name="Picture 8" descr="jby3v6Jmb1M"/>
          <p:cNvPicPr/>
          <p:nvPr/>
        </p:nvPicPr>
        <p:blipFill>
          <a:blip r:embed="rId2"/>
          <a:stretch/>
        </p:blipFill>
        <p:spPr>
          <a:xfrm>
            <a:off x="611280" y="692280"/>
            <a:ext cx="3452760" cy="48974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685800" y="304920"/>
            <a:ext cx="6912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0fb1"/>
                </a:solidFill>
                <a:latin typeface="Georgia"/>
              </a:rPr>
              <a:t>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116000" y="1006920"/>
            <a:ext cx="741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Цель Образовательной Кинезиологи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оружить человека знаниями о своем восприятии, своих ощущениях, в том числе и ощущениях положения собственного тела в пространств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тановить гармоничную связь между мышлением, эмоциями и телом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Funktsii-polusharij-mozg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36680"/>
            <a:ext cx="8351640" cy="6213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x_bc1539e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1700280"/>
            <a:ext cx="6840720" cy="4416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7" name="Text Box 8"/>
          <p:cNvSpPr/>
          <p:nvPr/>
        </p:nvSpPr>
        <p:spPr>
          <a:xfrm>
            <a:off x="891000" y="333360"/>
            <a:ext cx="7398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ст определяющий ведущее полушарие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ядя на слова произнесите  цвет, которым они написаны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можно быстрее. Удачи!!!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old_young_woman"/>
          <p:cNvPicPr/>
          <p:nvPr/>
        </p:nvPicPr>
        <p:blipFill>
          <a:blip r:embed="rId2"/>
          <a:stretch/>
        </p:blipFill>
        <p:spPr>
          <a:xfrm>
            <a:off x="4500720" y="1484280"/>
            <a:ext cx="4254480" cy="475308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pic>
        <p:nvPicPr>
          <p:cNvPr id="82" name="Picture 8" descr="1228828544_1210238133_1"/>
          <p:cNvPicPr/>
          <p:nvPr/>
        </p:nvPicPr>
        <p:blipFill>
          <a:blip r:embed="rId3"/>
          <a:stretch/>
        </p:blipFill>
        <p:spPr>
          <a:xfrm>
            <a:off x="324000" y="1484280"/>
            <a:ext cx="3906720" cy="4824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3" name="Rectangle 9"/>
          <p:cNvSpPr/>
          <p:nvPr/>
        </p:nvSpPr>
        <p:spPr>
          <a:xfrm>
            <a:off x="2050920" y="62064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идите ли вы молодую женщину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Гоша\Desktop\фон пузырики.jpg"/>
          <p:cNvPicPr/>
          <p:nvPr/>
        </p:nvPicPr>
        <p:blipFill>
          <a:blip r:embed="rId1"/>
          <a:stretch/>
        </p:blipFill>
        <p:spPr>
          <a:xfrm>
            <a:off x="0" y="0"/>
            <a:ext cx="9468000" cy="701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600_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27280" y="1197000"/>
            <a:ext cx="5616720" cy="4154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87" name="Text Box 11"/>
          <p:cNvSpPr/>
          <p:nvPr/>
        </p:nvSpPr>
        <p:spPr>
          <a:xfrm>
            <a:off x="250920" y="1268280"/>
            <a:ext cx="3025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ство мозга складывается из деятельности двух его полушарий, тесно связанных между собой системой нервных волокон через мозолистое тело головного мозга, через него и происходит передача информации из одного полушария в другое.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400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00360" y="333360"/>
            <a:ext cx="40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озолистое тел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7:38:34Z</dcterms:created>
  <dc:creator>Наталья</dc:creator>
  <dc:description/>
  <dc:language>en-US</dc:language>
  <cp:lastModifiedBy>Иван Батожок</cp:lastModifiedBy>
  <dcterms:modified xsi:type="dcterms:W3CDTF">2017-09-01T14:34:58Z</dcterms:modified>
  <cp:revision>25</cp:revision>
  <dc:subject/>
  <dc:title>Слайд 1</dc:title>
</cp:coreProperties>
</file>