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30753-E277-4C11-9A6F-B8B2A26B5C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3FD2D-AC3A-4550-918C-5460365974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9ED28-3E47-4982-929E-32AB5D4535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0D250-57FE-4023-B656-2EB1C7740A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95678-F32E-493A-B8E7-2703400782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C3AA8-FC4A-4571-83FA-A09CB43AE2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ECADF-DC1F-4432-B033-4AA49F1BA4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EFD72-1C57-4C0A-87C2-BA9208847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E7C6F-439E-4BEF-8367-90368063E3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9E45B-31D7-4FF7-B81F-C250BA94C7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11885-A1FD-42BC-BAAC-D6C98531D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CAE47-4F27-4612-898F-F9257AE2A7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17DDB-25B9-4D89-BA99-EB79417649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7865E-2DCC-48B9-897B-641094C6B3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AE1AE-6040-4982-8D47-4EEA71ECAE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F0282-F12E-429E-B40A-DC5E708E81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7EB98-C122-43E6-A445-8A1E2DF0DC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7F27D-9CE3-45CD-8CE6-E9095DE5EA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A53E35-1B90-45CF-B760-57941CC7B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EC72A-6334-49A2-8D5D-FBD709A7B4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8960-9A69-474A-B612-BB8AEDB00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81CC5-6E1D-43D5-B145-F8E4BCC5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6030-5CB6-4937-ABFF-B961BAFC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CE05-3E5E-4035-AD06-5259C87862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84CB3-A70E-46A9-BF64-D7DE6F50EC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A216D-DEB6-4E5C-9011-4BCDA81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9AC03-4309-4710-9B7F-244822A3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FF2DB-D99E-49B8-A0AB-1377B98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63894-D198-41C6-85A8-E96FED92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B3D4C-16BD-4072-AD75-C9514A09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6801E-0F51-4A3C-B59B-4DDAA80E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B1E3-67B7-4204-B2C6-66C907A1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58625-E65F-4C76-8C1E-7ED7AB9B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54D98-B5E8-416D-A1B2-6F57F694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5916-4607-4664-9537-2A255A71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21EA2-D16A-40DA-B25A-B4BB579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48A9C-BBC6-4D78-8881-FCBF8A4E6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AE4D-D840-415A-85D8-45A7FE3996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7C9F-18E2-4B8F-9132-16654AE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F575-E3CF-4EB5-9326-D933A520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7FE7-2671-4227-916A-4BD20BF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1E43-E2D7-40FF-A8C8-2EE86AE1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E09F-0B30-4B79-AF0C-27295B4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E22F-B309-4041-8F40-0699FB37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6DBD-75DF-4BE9-97CF-24957FDD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698C-2402-42AF-B015-51A1A5F8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A026-C286-4FD3-B3DD-591A65DD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51A2-9E17-4D40-8ED8-A1ADDF35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3CDF-F164-4D45-9E49-70481442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3AC2-900D-4068-B61E-A653D461D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BA292-FC82-4335-8ED2-37AC2674E5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A0479-7BC2-48A2-B802-8193DBAE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48EDE-CFA5-447F-B203-9A5DC65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EB5B-9ADD-4C39-AC8C-3E422BA7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D4BAF-75EC-4882-86A9-17E91939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2A24A-46D6-423B-810C-900F1086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661D8-8CF9-486E-B447-FAB2AC62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ADF5A-6252-494E-ABDE-AA6E7BA0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D5FE8-D42D-4AFC-BB77-2FF49CD6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7DD54-CE44-4048-BEF0-068BDC18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05D8C-C5F0-4503-81CC-FE00BFBD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1DB03-3120-415D-A932-CBCDF58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76637-49C1-493C-9C68-F8263C1D4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94F8-E684-4659-A56A-79E50EB1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3119-D08C-4A50-8FF2-EB61B8DF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EE7E-0768-4FDF-8F2D-3986489C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1E44-5AB0-4E43-A538-FEE6FFF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6A2D-14AD-4C76-A324-F1A70920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8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8174160" y="-92520"/>
            <a:ext cx="760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4F6634B-60C0-4363-B6C9-840F8B574C7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83EBB3-8A7E-4335-80FF-6331BAABD12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4362480" y="10270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020FAF-68A0-4C20-8E76-634D0B43356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V="1">
            <a:off x="4562640" y="1574280"/>
            <a:ext cx="9360" cy="482148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5790960" y="641016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8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F26307-53C8-4AEA-978B-40F094284C7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85840" y="274680"/>
            <a:ext cx="88581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500"/>
            </a:br>
            <a:r>
              <a:rPr b="1" i="1" lang="ru-RU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педагога дополнительного образования в работе с одарёнными детьми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489096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928880" y="465120"/>
            <a:ext cx="6829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 организации работы с одаренными детьм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2786040" y="2714760"/>
            <a:ext cx="61149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благоприятных условий для развития одаренных детей в интересах личности, общества и госуд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2428920" cy="4895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1420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система строи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етырех базовых идея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285840" y="1428840"/>
            <a:ext cx="84009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на осознании самоценности каждого школьника как уникальной, неповторимой лич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на неисчерпаемости возможностей развития каждого ребенка, в том числе его творческих способнос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на приоритете внутренней свободы перед внешней как свободы, необходимой для творческого саморазвит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на понимании природы творческого саморазвития как интегральной характеристики "самости", изначальными компонентами которой являются самопознание, творческое самоопределение, самоорганизация, самоуправление, творческое самосовершенствование и самореализация  личности шк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441440" cy="21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8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 работе с одаренными и талантливыми детьми можно выделить несколько этапов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57360"/>
            <a:ext cx="822816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ежде всего, необходимо  отыскать одарённых дет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алантливый человек талантлив во многом, поэтому ребенок должен иметь право выбора того, каким предметом заниматься углублен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разработка личностно - ориентированного подхода к обучению одаренных детей: талантливые дети всегда жаждут чего-то нового, более сложного, и если их информационный голод останется неутоленным, они быстро потеряют интерес к предмету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на следующем этапе надо развить в одаренном ребенке психологию лидера, осторожно чтобы это не привело к появлению «звездной болезни». Он должен не стеснятся показывать свои способности, не боятся выражать свои мысли, хотя бы потому, что они нестандартны и не имеют аналог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Принципы педагогической деятельности в работе с одаренными детьми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640"/>
            <a:ext cx="8228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максимального разнообразия предоставленных возможностей для развития лич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возрастания роли внеурочной деятель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индивидуализации и дифференциации обучен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создания условий для совместной работы учащихся при минимальном участии педагог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свободы выбора учащимся дополнительных образовательных услуг, помощи, наставничеств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287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Педагог должен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71680" y="1785960"/>
            <a:ext cx="7929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7445520" y="5357880"/>
            <a:ext cx="1460520" cy="12445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4"/>
          <p:cNvSpPr/>
          <p:nvPr/>
        </p:nvSpPr>
        <p:spPr>
          <a:xfrm>
            <a:off x="971640" y="1444680"/>
            <a:ext cx="712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непременно талантливым, способным к экспериментальной и творческой деятель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профессионально грамотны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интеллигентным, нравственным и эрудированны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владеть современными педагогическими технология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психологом, воспитателем и умелым организатором учебно-воспитательного процесс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иметь позитивную Я – концепцию, быть целеустремленным, настойчивым, эмоционально стаби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301680" y="1413000"/>
            <a:ext cx="8504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обогащать учебные программы, т.е. обновлять и расширять содержание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стимулировать познавательные способности дет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работать дифференцированно, осуществлять индивидуальный подход и консультировать учащихс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принимать взвешенные психолого-педагогические реш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анализировать свою учебно-воспитательную деятельность и всего коллекти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отбирать и готовить материалы для коллективных творческих д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301680" y="22536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и работе с одаренными детьми педагогу необходимо уметь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301680" y="-114480"/>
            <a:ext cx="8534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 системе дополнительного образования могут быть выделены следующие формы обучения одаренных и талантливых дет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79280" y="155736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индивидуальное обучение или обучение в малых группах по программам творческого развития в определенной област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работа по исследовательским и творческим проектам в режиме наставничества (в качестве наставника выступает, как правило, ученый, деятель науки или культуры, специалист высокого класс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каникулярные сборы, лагеря, мастер-классы, творческие лаборатори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система творческих конкурсов, фестивалей, олимпиад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детские научно-практические конференции и семинар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85840" y="785880"/>
            <a:ext cx="8643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методы работы с активом детской организации</a:t>
            </a:r>
            <a:r>
              <a:rPr b="1" lang="ru-RU" sz="4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2571840"/>
            <a:ext cx="804384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лективно творческие дела совместно с социо - партне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ы, интеллектуальные игры, слеты, дистанционные проекты, театрализованные представления, акции, форумы, сб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циологические 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агностическое обслед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ртфолио – личных дости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7429680" y="4643280"/>
            <a:ext cx="1714320" cy="206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611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428760" y="1500120"/>
            <a:ext cx="85438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 интеллектуального, коммуникативного, творческого   уровня  учащих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ворческая самореализация члена детской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еспечение преемственности в рабо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 системы работы с нестандартными, креативны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аренными учащими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6429240" y="4214880"/>
            <a:ext cx="2571840" cy="26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28760" y="285840"/>
            <a:ext cx="82296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аждом человеке – солнце, только дайте ему светить.</a:t>
            </a:r>
            <a:br>
              <a:rPr sz="3000"/>
            </a:br>
            <a:r>
              <a:rPr b="1" i="1" lang="ru-RU" sz="3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i="1" lang="ru-RU" sz="29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Сокра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42920" y="3357720"/>
            <a:ext cx="4357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285840" y="260280"/>
            <a:ext cx="85010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1484280"/>
            <a:ext cx="8532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Arial"/>
                <a:ea typeface="Arial"/>
              </a:rPr>
              <a:t>«Среди самых интересных и загадочных явлений природы детская одаренность традиционно занимает одно из ведущих мест»</a:t>
            </a:r>
            <a:br>
              <a:rPr sz="3300"/>
            </a:br>
            <a:r>
              <a:rPr b="1" lang="ru-RU" sz="3300" spc="-1" strike="noStrike">
                <a:solidFill>
                  <a:srgbClr val="7030a0"/>
                </a:solidFill>
                <a:latin typeface="Arial"/>
                <a:ea typeface="Arial"/>
              </a:rPr>
              <a:t>В.А. Аверин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84360" y="5256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“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К любому ребёнку следует относиться с надеждой и ожиданием...”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071800" y="1785960"/>
            <a:ext cx="46432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2071800" y="1744560"/>
            <a:ext cx="464328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-1191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Актуальность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r">
              <a:lnSpc>
                <a:spcPct val="12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Georgia"/>
              </a:rPr>
              <a:t>Распознав свои таланты, дети с их особыми нуждами, независимо от тех проблем и ограничений, с которыми они сталкиваются, всегда могут внести в общество свой собственный вклад. </a:t>
            </a:r>
            <a:br>
              <a:rPr sz="1700"/>
            </a:br>
            <a:r>
              <a:rPr b="1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ефани Дезибур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34c22"/>
                </a:solidFill>
                <a:latin typeface="Georgia"/>
              </a:rPr>
              <a:t>Проблема одаренности в настоящее время становится все более актуальной. Это, прежде всего, связано </a:t>
            </a:r>
            <a:r>
              <a:rPr b="1" i="1" lang="ru-RU" sz="2400" spc="-1" strike="noStrike">
                <a:solidFill>
                  <a:srgbClr val="934c22"/>
                </a:solidFill>
                <a:latin typeface="Georgia"/>
              </a:rPr>
              <a:t>с потребностью общества в неординарной творческой личности.</a:t>
            </a:r>
            <a:r>
              <a:rPr b="0" lang="ru-RU" sz="2400" spc="-1" strike="noStrike">
                <a:solidFill>
                  <a:srgbClr val="934c22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34c22"/>
                </a:solidFill>
                <a:latin typeface="Georgia"/>
              </a:rPr>
              <a:t>Раннее выявление, обучение и воспитание одаренных и талантливых детей составляет одну их главных проблем </a:t>
            </a:r>
            <a:r>
              <a:rPr b="1" i="1" lang="ru-RU" sz="2400" spc="-1" strike="noStrike">
                <a:solidFill>
                  <a:srgbClr val="934c22"/>
                </a:solidFill>
                <a:latin typeface="Georgia"/>
              </a:rPr>
              <a:t>совершенствования системы образования.</a:t>
            </a:r>
            <a:r>
              <a:rPr b="0" lang="ru-RU" sz="2400" spc="-1" strike="noStrike">
                <a:solidFill>
                  <a:srgbClr val="934c22"/>
                </a:solidFill>
                <a:latin typeface="Georgia"/>
              </a:rPr>
              <a:t> Бытует мнение, что одаренные дети не нуждаются в помощи взрослых, в особом внимании и руководстве. Однако в силу личностных особенностей такие дети наиболее чувствительны к оценке их деятельности, поведения и мышл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539640" y="476280"/>
            <a:ext cx="81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Вопрос одаренности не может быть рассмотрен без обозрения темы способностей, поскольку эти понятия очень тесно связаны друг с другом:     </a:t>
            </a:r>
            <a:br>
              <a:rPr sz="3200"/>
            </a:b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«…чаще всего встречается следующая классификация уровней развития способностей: способность, одаренность, талант, гениальность». </a:t>
            </a: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(Ю.Б. Гиппенрейтер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539640" y="476280"/>
            <a:ext cx="81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пособности </a:t>
            </a: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- индивидуально-психологические особенности, отличающие одного человека от др., определяющие успешность выполнения деятельности или ряда деятельностей, не сводимые к знаниям, умениям и навыкам, но обусловливающие легкость и быстроту обучения новым способам и приемам деятельности (Б. М. Теплов).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Одаренностью</a:t>
            </a: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 называют своеобразное сочетание способностей, которое обеспечивает человеку возможность успешного выполнения какой-либо деятельности. От одаренности зависит не успешное выполнение деятельности, а только возможность такого успешного выполнения. (А.Г. Маклаков)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539640" y="476280"/>
            <a:ext cx="81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Талант</a:t>
            </a: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 — система качеств, свойств личности, которые дают ей возможность достигать значительных успехов в оригинальном исполнении творческой деятельности. (Мелхорн Г.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Гениальность </a:t>
            </a: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— системная характеристика личности, которая свидетельствует о сверхоригинальности ее достижений, об очень существенном превышении ею уровня обычной, творческой и даже талантливой деятельности» (Мелхорн Г.)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арённый ребёнок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3578400" cy="37861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4286160" y="1500120"/>
            <a:ext cx="464364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даренный ребенок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дарённые дети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это дети, обладающие врождёнными высокими интеллектуальными, физическими, художественными, творческими, коммуникативными способност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285840" y="500040"/>
            <a:ext cx="86439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f425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а, чаще всего характеризующие одарённых детей</a:t>
            </a:r>
            <a:r>
              <a:rPr b="1" lang="ru-RU" sz="3200" spc="-1" strike="noStrike">
                <a:solidFill>
                  <a:srgbClr val="3f4259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285840" y="1857240"/>
            <a:ext cx="61434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ровно успевающ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бивающийся из общего темп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нный в поведении, непонят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огда тугодум, не может понять очевидн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всегда подчиняющийся большинству или официальному руковод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6643800" y="1428840"/>
            <a:ext cx="2307960" cy="3000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071720" y="557208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то в большей мере относится    к творчески одарённым.  Твор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дарённость - большое счастье и испытание для обладателей этого дара, и для учителей и род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3300" spc="-1" strike="noStrike">
                <a:solidFill>
                  <a:srgbClr val="d16349"/>
                </a:solidFill>
                <a:latin typeface="Georgia"/>
              </a:rPr>
              <a:t>Проблемы одаренных детей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301680" y="1527120"/>
            <a:ext cx="850428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мериканский психолог Б. Карне, кроме достоинств, отмечает </a:t>
            </a:r>
            <a:r>
              <a:rPr b="1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лемы одаренных детей:</a:t>
            </a: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приязнь к школ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овые интерес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формность (отрицание стандартных требован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гружение в философские пробл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соответствие между физическим, интеллектуальным и социальным развит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емление к совершенств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щущение неудовлетворенност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реалистические цел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верхчувствительнос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требность во внимании взрослых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ерпимос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зкая продолжительность сн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000840" y="4037040"/>
            <a:ext cx="28573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6:20:28Z</dcterms:created>
  <dc:creator>Admin</dc:creator>
  <dc:description/>
  <dc:language>en-US</dc:language>
  <cp:lastModifiedBy>User</cp:lastModifiedBy>
  <dcterms:modified xsi:type="dcterms:W3CDTF">2017-09-01T14:07:23Z</dcterms:modified>
  <cp:revision>245</cp:revision>
  <dc:subject/>
  <dc:title>Слайд 1</dc:title>
</cp:coreProperties>
</file>