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FCAC6-3E88-4E73-A7B8-EA9815F4DB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127C4-9DE5-428A-B6B5-5BF83BED1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EEA1C-3C52-4E9A-AD28-B4D37C083E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9103-87D4-4094-A166-C2959098E5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0E402-2C69-4089-9D1D-57DEE56AE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0AEE9-1CC9-4AD6-816A-D404180A86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44136-F117-4042-B924-1DA2DE90A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F20F2-CA6C-4208-B965-92B1A1D00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36E8-C701-4352-A312-1FB1C5558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F08E8-E944-4C1B-9890-604C6C1B2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1D53D-2AAE-405E-BF37-92081A9D6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DD7A-C0D9-40D6-B0F1-7AC1F93FFF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C1C91-A45F-4455-BD27-9F3BC5C6E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69A6E-3880-4263-9319-64721B903C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BFA1-447B-44BF-811E-7FD695853C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E8683-7B25-47E4-9AA7-51B271740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5547D-E9A1-4A13-832A-99102AD733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5B2C-47AD-4BE2-BCA8-09A0B7F4DB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CA2B9-0176-4E6C-AC4A-D0CD38626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5EE58-DFD8-470F-BD5B-255185B22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546D-9F3F-4335-A9A4-ED149C2B1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1D28-5B3B-4857-AEDF-70D3E4F7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0401-9CDF-4CAE-A03E-F63D050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6E6D-A769-40CF-95D2-51CF92E9D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116A-3CDA-4690-9EDD-9181787B6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6454-66E2-401D-B829-9A8F5E2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CD06-672A-4D31-B69A-3A34892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F89BF-A77A-412B-A318-441386E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82647-0759-4BA8-B208-F01D7B26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CE22B-17C0-4F97-A87C-3529DB8A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13DC2-3103-4A33-93BA-8AB8911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A499-553B-4902-AB0B-60CF0B1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EA2D7-70FA-4619-B246-62C54AF7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DB98-9123-4CDC-B935-24832AD8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99406-32EB-4A3B-A9F0-ACA01B8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AD69-F433-46B8-9966-191BBEF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42A99-AB0E-46FB-9DFB-18B7A49D32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E977-E5D0-4D8C-A34F-779D5D03CF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C64-37FE-46F5-ACCF-B9479A43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6C3-21A7-47B0-88C8-CF1D53C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46A-DA57-4597-B605-71AF3D7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98AA-7281-4CD3-8464-59A2473C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7BEF-8DF9-4D07-B30E-0CFDB50F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0F5F-AF01-40B1-92EA-2B157BE0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991-1D96-4471-BB94-32632E8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9866-24BA-4C41-9C44-2C9624ED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840-3F93-4727-B414-0668D2A0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8C1F-FA1E-41E8-A07D-C370F0B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80C-04C5-4C27-ACAE-192E42F7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42E-99C4-4B25-A6D2-4D5B9C929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34C8B-7328-4AB2-A584-C9E06DDD8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60611-56FC-44A2-B1F6-2570C566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D4D6D-3C45-44D3-848E-D1A13DEB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A17B-BD4E-4729-8C2A-63AD69C5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5DE56-10C9-4BCB-B57B-AE0CD3C1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6237A-2658-4A30-B2B5-24D739E4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A2DE1-B173-43E9-908E-ACE5477C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B3261-D6CE-44C5-98E9-8A87EEF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D1D24-90CC-4FD5-890D-B0B7B0F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3B9EF-7E43-4BD7-8B1A-73463030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BEA62-1527-46F3-9D6B-60EEDCBC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FAAD4-DD1A-4EC2-B3FD-FC2771E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7C2F2-8E9F-4C74-98AF-B7DF4D31B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8430-6263-430A-B614-DF128513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E373-08C4-4B52-AB81-BCB67B7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786D-6CBA-4091-9B6E-1B5AF9D3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DEB7-8153-43E6-BB4C-7962E3A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7C74-7D0A-43D5-AFF8-48656349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4160" y="-92520"/>
            <a:ext cx="760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A306E8-AB73-4519-B151-A2AFAEE573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62C2C0-5604-439E-A515-F4E4E2F597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AF40AB-F725-4170-AE1B-21BA6BCBFA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8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106298-1C58-4D37-A9FA-A9E17C984D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85840" y="274680"/>
            <a:ext cx="88581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500"/>
            </a:br>
            <a:r>
              <a:rPr b="1" i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дополнительного образования в работе с одарёнными детьм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489096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928880" y="465120"/>
            <a:ext cx="6829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 организации работы с одаренными детьм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786040" y="2714760"/>
            <a:ext cx="61149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благоприятных условий для развития одаренных детей в интересах личности, общества и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2428920" cy="4895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1420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система строи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етырех базовых идея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85840" y="1428840"/>
            <a:ext cx="84009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осознании самоценности каждого школьника как уникальной, неповторимой лич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неисчерпаемости возможностей развития каждого ребенка, в том числе его творческих способ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приоритете внутренней свободы перед внешней как свободы, необходимой для творческого саморазви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на понимании природы творческого саморазвития как интегральной характеристики "самости", изначальными компонентами которой являются самопознание, творческое самоопределение, самоорганизация, самоуправление, творческое самосовершенствование и самореализация  личности шк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4144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8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 работе с одаренными и талантливыми детьми можно выделить несколько этапов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57360"/>
            <a:ext cx="822816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ежде всего, необходимо  отыскать одарённых дет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алантливый человек талантлив во многом, поэтому ребенок должен иметь право выбора того, каким предметом заниматься углублен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разработка личностно - ориентированного подхода к обучению одаренных детей: талантливые дети всегда жаждут чего-то нового, более сложного, и если их информационный голод останется неутоленным, они быстро потеряют интерес к предмет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на следующем этапе надо развить в одаренном ребенке психологию лидера, осторожно чтобы это не привело к появлению «звездной болезни». Он должен не стеснятся показывать свои способности, не боятся выражать свои мысли, хотя бы потому, что они нестандартны и не имеют аналог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Принципы педагогической деятельности в работе с одаренными детьми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640"/>
            <a:ext cx="8228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максимального разнообразия предоставленных возможностей для развития лич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возрастания роли внеурочной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индивидуализации и дифференциации обуч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создания условий для совместной работы учащихся при минимальном участии педагог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инцип свободы выбора учащимся дополнительных образовательных услуг, помощи, наставничеств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287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едагог должен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71680" y="1785960"/>
            <a:ext cx="7929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7445520" y="5357880"/>
            <a:ext cx="1460520" cy="12445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971640" y="1444680"/>
            <a:ext cx="712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непременно талантливым, способным к экспериментальной и творческой деятель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профессионально грамотны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интеллигентным, нравственным и эрудированны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владеть современными педагогическими технология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психологом, воспитателем и умелым организатором учебно-воспитательного процесс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-иметь позитивную Я – концепцию, быть целеустремленным, настойчивым, эмоционально стаби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30168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обогащать учебные программы, т.е. обновлять и расширять содержание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стимулировать познавательные способности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работать дифференцированно, осуществлять индивидуальный подход и консультировать учащих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принимать взвешенные психолого-педагогические реш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анализировать свою учебно-воспитательную деятельность и всего коллекти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отбирать и готовить материалы для коллективных творческих д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и работе с одаренными детьми педагогу необходимо уметь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301680" y="-114480"/>
            <a:ext cx="8534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 системе дополнительного образования могут быть выделены следующие формы обучения одаренных и талантливых де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79280" y="155736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индивидуальное обучение или обучение в малых группах по программам творческого развития в определенной обла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работа по исследовательским и творческим проектам в режиме наставничества (в качестве наставника выступает, как правило, ученый, деятель науки или культуры, специалист высокого класс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каникулярные сборы, лагеря, мастер-классы, творческие лаборатор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система творческих конкурсов, фестивалей, олимпиад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Georgia"/>
              </a:rPr>
              <a:t>детские научно-практические конференции и семинар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85840" y="785880"/>
            <a:ext cx="8643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етоды работы с активом детской организации</a:t>
            </a:r>
            <a:r>
              <a:rPr b="1" lang="ru-RU" sz="4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2571840"/>
            <a:ext cx="804384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лективно творческие дела совместно с социо - партне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ы, интеллектуальные игры, слеты, дистанционные проекты, театрализованные представления, акции, форумы, сб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циологические 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агностическое обслед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ртфолио – личных дост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429680" y="4643280"/>
            <a:ext cx="1714320" cy="20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611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28760" y="1500120"/>
            <a:ext cx="85438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 интеллектуального, коммуникативного, творческого   уровня  уча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ворческая самореализация члена детской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еспечение преемственности в раб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 системы работы с нестандартными, креативны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аренными учащими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429240" y="421488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28760" y="28584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ждом человеке – солнце, только дайте ему светить.</a:t>
            </a:r>
            <a:br>
              <a:rPr sz="3000"/>
            </a:br>
            <a:r>
              <a:rPr b="1" i="1" lang="ru-RU" sz="3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ru-RU" sz="29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Сокра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42920" y="3357720"/>
            <a:ext cx="4357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285840" y="260280"/>
            <a:ext cx="85010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1484280"/>
            <a:ext cx="85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«Среди самых интересных и загадочных явлений природы детская одаренность традиционно занимает одно из ведущих мест»</a:t>
            </a:r>
            <a:br>
              <a:rPr sz="3300"/>
            </a:br>
            <a:r>
              <a:rPr b="1" lang="ru-RU" sz="3300" spc="-1" strike="noStrike">
                <a:solidFill>
                  <a:srgbClr val="7030a0"/>
                </a:solidFill>
                <a:latin typeface="Arial"/>
                <a:ea typeface="Arial"/>
              </a:rPr>
              <a:t>В.А. Аверин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84360" y="5256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“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К любому ребёнку следует относиться с надеждой и ожиданием...”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071800" y="1785960"/>
            <a:ext cx="46432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2071800" y="1744560"/>
            <a:ext cx="464328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-1191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Актуальность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r">
              <a:lnSpc>
                <a:spcPct val="12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Georgia"/>
              </a:rPr>
              <a:t>Распознав свои таланты, дети с их особыми нуждами, независимо от тех проблем и ограничений, с которыми они сталкиваются, всегда могут внести в общество свой собственный вклад. </a:t>
            </a:r>
            <a:br>
              <a:rPr sz="1700"/>
            </a:br>
            <a:r>
              <a:rPr b="1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ефани Дезибур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Проблема одаренности в настоящее время становится все более актуальной. Это, прежде всего, связано </a:t>
            </a:r>
            <a:r>
              <a:rPr b="1" i="1" lang="ru-RU" sz="2400" spc="-1" strike="noStrike">
                <a:solidFill>
                  <a:srgbClr val="934c22"/>
                </a:solidFill>
                <a:latin typeface="Georgia"/>
              </a:rPr>
              <a:t>с потребностью общества в неординарной творческой личности.</a:t>
            </a: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Раннее выявление, обучение и воспитание одаренных и талантливых детей составляет одну их главных проблем </a:t>
            </a:r>
            <a:r>
              <a:rPr b="1" i="1" lang="ru-RU" sz="2400" spc="-1" strike="noStrike">
                <a:solidFill>
                  <a:srgbClr val="934c22"/>
                </a:solidFill>
                <a:latin typeface="Georgia"/>
              </a:rPr>
              <a:t>совершенствования системы образования.</a:t>
            </a:r>
            <a:r>
              <a:rPr b="0" lang="ru-RU" sz="2400" spc="-1" strike="noStrike">
                <a:solidFill>
                  <a:srgbClr val="934c22"/>
                </a:solidFill>
                <a:latin typeface="Georgia"/>
              </a:rPr>
              <a:t> Бытует мнение, что одаренные дети не нуждаются в помощи взрослых, в особом внимании и руководстве. Однако в силу личностных особенностей такие дети наиболее чувствительны к оценке их деятельности, поведения и мышл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Вопрос одаренности не может быть рассмотрен без обозрения темы способностей, поскольку эти понятия очень тесно связаны друг с другом:     </a:t>
            </a:r>
            <a:br>
              <a:rPr sz="3200"/>
            </a:b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«…чаще всего встречается следующая классификация уровней развития способностей: способность, одаренность, талант, гениальность». 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(Ю.Б. Гиппенрейтер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пособности 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- индивидуально-психологические особенности, отличающие одного человека от др., определяющие успешность выполнения деятельности или ряда деятельностей, не сводимые к знаниям, умениям и навыкам, но обусловливающие легкость и быстроту обучения новым способам и приемам деятельности (Б. М. Теплов).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Одаренностью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называют своеобразное сочетание способностей, которое обеспечивает человеку возможность успешного выполнения какой-либо деятельности. От одаренности зависит не успешное выполнение деятельности, а только возможность такого успешного выполнения. (А.Г. Маклаков)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539640" y="476280"/>
            <a:ext cx="81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Талант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— система качеств, свойств личности, которые дают ей возможность достигать значительных успехов в оригинальном исполнении творческой деятельности. (Мелхорн Г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Гениальность </a:t>
            </a: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— системная характеристика личности, которая свидетельствует о сверхоригинальности ее достижений, об очень существенном превышении ею уровня обычной, творческой и даже талантливой деятельности» (Мелхорн Г.)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арённый ребёно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578400" cy="3786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4286160" y="1500120"/>
            <a:ext cx="464364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даренный ребенок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дарённые дети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это дети, обладающие врождёнными высокими интеллектуальными, физическими, художественными, творческими, коммуникативными способност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85840" y="500040"/>
            <a:ext cx="8643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f425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а, чаще всего характеризующие одарённых детей</a:t>
            </a:r>
            <a:r>
              <a:rPr b="1" lang="ru-RU" sz="3200" spc="-1" strike="noStrike">
                <a:solidFill>
                  <a:srgbClr val="3f4259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85840" y="1857240"/>
            <a:ext cx="6143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овно успевающ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бивающийся из общего тем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нный в поведении, непонят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огда тугодум, не может понять очевидн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всегда подчиняющийся большинству или официальному руковод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6643800" y="1428840"/>
            <a:ext cx="2307960" cy="3000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071720" y="55720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то в большей мере относится    к творчески одарённым.  Твор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дарённость - большое счастье и испытание для обладателей этого дара, и для учителей и род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3300" spc="-1" strike="noStrike">
                <a:solidFill>
                  <a:srgbClr val="d16349"/>
                </a:solidFill>
                <a:latin typeface="Georgia"/>
              </a:rPr>
              <a:t>Проблемы одаренных детей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01680" y="1527120"/>
            <a:ext cx="850428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мериканский психолог Б. Карне, кроме достоинств, отмечает </a:t>
            </a: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ы одаренных детей:</a:t>
            </a: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риязнь к школ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овые интерес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формность (отрицание стандартных требова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гружение в философские пробл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соответствие между физическим, интеллектуальным и социальным развит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емление к совершенств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щущение неудовлетворенност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еалистические цел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верхчувствительн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требность во внимании взрослы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ерпим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зкая продолжительность сн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00840" y="4037040"/>
            <a:ext cx="28573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6:20:28Z</dcterms:created>
  <dc:creator>Admin</dc:creator>
  <dc:description/>
  <dc:language>en-US</dc:language>
  <cp:lastModifiedBy>User</cp:lastModifiedBy>
  <dcterms:modified xsi:type="dcterms:W3CDTF">2017-09-01T14:07:23Z</dcterms:modified>
  <cp:revision>245</cp:revision>
  <dc:subject/>
  <dc:title>Слайд 1</dc:title>
</cp:coreProperties>
</file>