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E6D6-6D24-4BEA-86AE-998AD30E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A87E-A7F6-4E9A-B848-7602DB47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CDF6-D4C5-49ED-9535-9AD645D9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027-5D89-4753-B347-372F69C9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4016-D2F1-41AE-946F-494795AB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3DF7-DA38-407C-8514-02C52F81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73BD-AAEB-4438-8A89-6C2DF0F6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1577-0DA3-4755-9C9D-0D65958E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B0A5-D418-4A43-90AF-F9C9DCFD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03B2-6DA0-4068-BA70-35ED2A30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785B-9BF1-4C9F-99EC-070348E9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BB83-C46A-4134-BDA3-A884CBE9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F032-3D29-4FA9-9625-8458CEEB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39F4-3C9B-42DC-9B57-02561480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78B1-2FEA-40F9-837D-701CE048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DB1C-2962-4AD2-AC1A-F4A7E536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0B9A-0B24-4197-B2AC-DE85FAED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9EE7-F076-4A45-A94C-B550ED75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50EF-4419-47A6-95A8-2E63D72F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717-F6AF-44CF-A468-CE687CB3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7B4F-68B2-4B35-8439-2B3A857E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B610-C888-4560-8C2A-2E18007B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DC3B-97AC-4587-87E4-31F643AF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B6A6-5322-4833-BF0B-AF3B245B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830D-835B-4F39-8885-7340BB9ADDF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7213-2C2D-4CD2-95CD-414B7EF42CA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Русские заимствования в английском языке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III 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ериод –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XIX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век. Интерес к политической жизни Росси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3" name="Picture 5" descr="File:Arrest of a Propagandist.jpg"/>
          <p:cNvPicPr/>
          <p:nvPr/>
        </p:nvPicPr>
        <p:blipFill>
          <a:blip r:embed="rId1"/>
          <a:stretch/>
        </p:blipFill>
        <p:spPr>
          <a:xfrm>
            <a:off x="2666880" y="1447920"/>
            <a:ext cx="5943600" cy="37335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2057400" y="533340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rodnik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Народ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rubric_issue_153959"/>
          <p:cNvPicPr/>
          <p:nvPr/>
        </p:nvPicPr>
        <p:blipFill>
          <a:blip r:embed="rId1"/>
          <a:stretch/>
        </p:blipFill>
        <p:spPr>
          <a:xfrm>
            <a:off x="3429000" y="1447920"/>
            <a:ext cx="5334120" cy="49528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457200" y="304200"/>
            <a:ext cx="74674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ntelligentsia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Интеллигенция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File:Kolman decembrists.jpg"/>
          <p:cNvPicPr/>
          <p:nvPr/>
        </p:nvPicPr>
        <p:blipFill>
          <a:blip r:embed="rId1"/>
          <a:stretch/>
        </p:blipFill>
        <p:spPr>
          <a:xfrm>
            <a:off x="1447920" y="1752480"/>
            <a:ext cx="6095880" cy="41338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1522440" y="532440"/>
            <a:ext cx="638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embrist 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Декабрис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411480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IV </a:t>
            </a: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период –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советская эпоха. Новые политические силы, революция, большие достижения в области науки и культуры</a:t>
            </a:r>
            <a:r>
              <a:rPr b="0" lang="ru-RU" sz="25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Picture 5" descr="8"/>
          <p:cNvPicPr/>
          <p:nvPr/>
        </p:nvPicPr>
        <p:blipFill>
          <a:blip r:embed="rId1"/>
          <a:stretch/>
        </p:blipFill>
        <p:spPr>
          <a:xfrm>
            <a:off x="4495680" y="228600"/>
            <a:ext cx="4038840" cy="6172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537120" y="5180400"/>
            <a:ext cx="748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olshevik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ольшев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%D0%A1%D0%BF%D1%83%D1%82%D0%BD%D0%B8%D0%BA"/>
          <p:cNvPicPr/>
          <p:nvPr/>
        </p:nvPicPr>
        <p:blipFill>
          <a:blip r:embed="rId1"/>
          <a:stretch/>
        </p:blipFill>
        <p:spPr>
          <a:xfrm>
            <a:off x="838080" y="2666880"/>
            <a:ext cx="7391520" cy="35053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1754280" y="684720"/>
            <a:ext cx="566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9900"/>
                </a:solidFill>
                <a:latin typeface="Arial"/>
              </a:rPr>
              <a:t>Sputnik - </a:t>
            </a:r>
            <a:r>
              <a:rPr b="0" lang="ru-RU" sz="5400" spc="-1" strike="noStrike">
                <a:solidFill>
                  <a:srgbClr val="cc9900"/>
                </a:solidFill>
                <a:latin typeface="Arial"/>
              </a:rPr>
              <a:t>Спут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81120"/>
            <a:ext cx="510552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Kosmonavt - Космонав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6" descr="File:Piers Sellers spacewalk.jpg"/>
          <p:cNvPicPr/>
          <p:nvPr/>
        </p:nvPicPr>
        <p:blipFill>
          <a:blip r:embed="rId1"/>
          <a:stretch/>
        </p:blipFill>
        <p:spPr>
          <a:xfrm>
            <a:off x="304920" y="1600200"/>
            <a:ext cx="5254560" cy="3481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ANd9GcTaGnXyN1L0jvoznOydqQZgl4tGrOz8MJLwVrhYAi-vbP1BJngJ3Q"/>
          <p:cNvPicPr/>
          <p:nvPr/>
        </p:nvPicPr>
        <p:blipFill>
          <a:blip r:embed="rId2"/>
          <a:stretch/>
        </p:blipFill>
        <p:spPr>
          <a:xfrm>
            <a:off x="6095880" y="380880"/>
            <a:ext cx="2467080" cy="2924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1"/>
          <p:cNvSpPr/>
          <p:nvPr/>
        </p:nvSpPr>
        <p:spPr>
          <a:xfrm>
            <a:off x="1523880" y="38052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ioneer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пионе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ериод – постсоветский период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9" name="Picture 5" descr="USSR_stamp_Perestroyka1_1988_5k"/>
          <p:cNvPicPr/>
          <p:nvPr/>
        </p:nvPicPr>
        <p:blipFill>
          <a:blip r:embed="rId1"/>
          <a:stretch/>
        </p:blipFill>
        <p:spPr>
          <a:xfrm>
            <a:off x="990720" y="2057400"/>
            <a:ext cx="7553160" cy="37242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07080" y="5561640"/>
            <a:ext cx="862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erestroyka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ерестрой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astnost -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Гласност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Picture 6" descr="ANd9GcT0mEvNbW1-ZBe4JX6Df2gEhL-rdnaoLspQa_Y-hZeETIz00N02Dg"/>
          <p:cNvPicPr/>
          <p:nvPr/>
        </p:nvPicPr>
        <p:blipFill>
          <a:blip r:embed="rId1"/>
          <a:stretch/>
        </p:blipFill>
        <p:spPr>
          <a:xfrm>
            <a:off x="1752480" y="1447920"/>
            <a:ext cx="556740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кетирование показа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5% - считают данную проблему актуаль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менение характера заимствования связано со сложностью русского языка для иностранцев – 50 %, непопулярностью России на Западе  - 3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артоте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Sarafan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mga,troyka,beluga,kvass,telega,pirozhki,samovar,shuba,ztarosta,rouble,p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lligentsia,nihilist,decembrist,narodnik,isprav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khanovit,kalaschnikov,activist,komsomol,kolkhoz,sput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astnost,perestroyka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bespred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mafiy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privatizatsiy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потеза: по характеру заимствованных русских слов можно судить о характере отношений между странами и статусе русского языка в мире в тот или иной исторический пери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Заключ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характеру заимствования русских слов можно судить о характере отношений в современном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ое количество заимствованных  слов – следствие непопулярности данного языка в данный пери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Презентацию подготовила:</a:t>
            </a:r>
            <a:br>
              <a:rPr sz="4000"/>
            </a:b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ученица 11 класса «Б»</a:t>
            </a:r>
            <a:br>
              <a:rPr sz="4000"/>
            </a:b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средней школы №20</a:t>
            </a:r>
            <a:br>
              <a:rPr sz="4000"/>
            </a:b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Дягилева Анастасия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Picture 4" descr="applause"/>
          <p:cNvPicPr/>
          <p:nvPr/>
        </p:nvPicPr>
        <p:blipFill>
          <a:blip r:embed="rId1"/>
          <a:stretch/>
        </p:blipFill>
        <p:spPr>
          <a:xfrm>
            <a:off x="2895480" y="3200400"/>
            <a:ext cx="32385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работы: изучение заимствованных русских  слов в английском языке и причин их заимств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зучить литературу по данному вопросу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ыявить причины заимствования слов в определенный исторический период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ценить уровень заимствования русских слов  на современном этапе развития языка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Garamond"/>
              </a:rPr>
              <a:t>Распространение русских слов в английском языке по периодам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Picture 5" descr="samovar"/>
          <p:cNvPicPr/>
          <p:nvPr/>
        </p:nvPicPr>
        <p:blipFill>
          <a:blip r:embed="rId1"/>
          <a:stretch/>
        </p:blipFill>
        <p:spPr>
          <a:xfrm>
            <a:off x="380880" y="3200400"/>
            <a:ext cx="336240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TROYKA"/>
          <p:cNvPicPr/>
          <p:nvPr/>
        </p:nvPicPr>
        <p:blipFill>
          <a:blip r:embed="rId2"/>
          <a:stretch/>
        </p:blipFill>
        <p:spPr>
          <a:xfrm>
            <a:off x="3276720" y="1447920"/>
            <a:ext cx="551484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1676520" y="5257080"/>
            <a:ext cx="647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able-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обо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sobol_3"/>
          <p:cNvPicPr/>
          <p:nvPr/>
        </p:nvPicPr>
        <p:blipFill>
          <a:blip r:embed="rId1"/>
          <a:stretch/>
        </p:blipFill>
        <p:spPr>
          <a:xfrm>
            <a:off x="1981080" y="1295280"/>
            <a:ext cx="4638960" cy="3743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0"/>
          <p:cNvSpPr/>
          <p:nvPr/>
        </p:nvSpPr>
        <p:spPr>
          <a:xfrm>
            <a:off x="380160" y="53244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6633"/>
                </a:solidFill>
                <a:latin typeface="Arial"/>
              </a:rPr>
              <a:t> период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33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33"/>
                </a:solidFill>
                <a:latin typeface="Arial"/>
              </a:rPr>
              <a:t>древнерусский язык эпохи Киевской Рус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762120" y="380880"/>
            <a:ext cx="7178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ериод –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XVI-XVIII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ек. Рост торговых и политических отношений России и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ANd9GcRGk7TvWx_PrF4v3tPuWj6Rq4Bc48eKQHtK1vAPdnOVfdhWXO4pvA"/>
          <p:cNvPicPr/>
          <p:nvPr/>
        </p:nvPicPr>
        <p:blipFill>
          <a:blip r:embed="rId1"/>
          <a:stretch/>
        </p:blipFill>
        <p:spPr>
          <a:xfrm>
            <a:off x="762120" y="2362320"/>
            <a:ext cx="4095720" cy="3743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4846680" y="289476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sar –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цар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 первых заимствов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Наименования, связанные с государственным устройством, наименованием правящих сословий, должностных лиц: царь, воевода, боярин, мужик, казак, стрелец, крем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Обозначение меры веса, расстояния, денежных единиц: верста, аршин, пуд, руб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азвание предметов, одежды и продуктов питания, поражавших англичан как экзотизмы: шуба, квас, морс, кумыс, щи, борщ, калач, шашлык, кисель, водка, настойка, блины, оладьи, окро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ытовые слова: тройка, шуба, телега, печь, балалайка, баян, самовар, тарантас, кибитка, махо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Название природных особенностей России и некоторых животных: степь, тундра, тайга, суслик, борз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Религиозные наименования: молитва, обе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gun_47"/>
          <p:cNvPicPr/>
          <p:nvPr/>
        </p:nvPicPr>
        <p:blipFill>
          <a:blip r:embed="rId1"/>
          <a:stretch/>
        </p:blipFill>
        <p:spPr>
          <a:xfrm>
            <a:off x="1066680" y="1981080"/>
            <a:ext cx="6743880" cy="42004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1371600" y="456480"/>
            <a:ext cx="619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nut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кнут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[naut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 GAME 2009</cp:lastModifiedBy>
  <dcterms:modified xsi:type="dcterms:W3CDTF">2014-08-28T23:17:4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