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8B57-25AE-462F-8068-0B21AC2A0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F396-D926-4266-B892-B7B29072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91C7-5080-4E6E-A3C3-90F5EF8F8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D695-89A7-4230-8CB4-86B91E158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DFA0-F161-4ECE-84B7-FA6445F5C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F0E7B-F858-4A06-B1A1-DF67B299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CB5A-F24D-43D3-882E-E8FC10F2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1FAC-13FD-470E-8EB5-24219431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529E3-78E0-4C36-A782-5EEFE990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539D-A5F7-4A9E-BB73-FA689B39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E7832-C44D-4ADD-9006-55F76514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24E0-5416-4DE4-B595-2CFA93A3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97F6D-93CE-4EB5-AFE1-99DC3A3C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C7F7-60C3-48CF-91B0-1CEB2DB3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2E19-A953-4C05-B7E0-0FFCE5AD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E2C7-CFB7-4CBD-B305-DE4005A53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DA95-67AC-4217-A63D-F6782E85C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EBAB-56F0-49AF-B920-57FDC0D1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04A5-98DB-4363-BBFA-6E99F093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A354-A26A-4DF8-9590-FA41DA46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171D-C6DE-4F44-A2E1-5312B987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6268-B875-42E8-B85E-CFCADE5C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42E4-D2F4-44F3-BAA1-0C4C9E2C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D892-DFD8-426A-B235-A116F506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A617-4687-4BE1-AE11-9CA5C098C90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0B5D-BCC3-4052-804F-F898599D8B8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Русские заимствования в английском языке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III 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период – 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XIX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век. Интерес к политической жизни Росси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3" name="Picture 5" descr="File:Arrest of a Propagandist.jpg"/>
          <p:cNvPicPr/>
          <p:nvPr/>
        </p:nvPicPr>
        <p:blipFill>
          <a:blip r:embed="rId1"/>
          <a:stretch/>
        </p:blipFill>
        <p:spPr>
          <a:xfrm>
            <a:off x="2666880" y="1447920"/>
            <a:ext cx="5943600" cy="37335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2057400" y="5333400"/>
            <a:ext cx="49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rodnik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- Народ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rubric_issue_153959"/>
          <p:cNvPicPr/>
          <p:nvPr/>
        </p:nvPicPr>
        <p:blipFill>
          <a:blip r:embed="rId1"/>
          <a:stretch/>
        </p:blipFill>
        <p:spPr>
          <a:xfrm>
            <a:off x="3429000" y="1447920"/>
            <a:ext cx="5334120" cy="49528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7"/>
          <p:cNvSpPr/>
          <p:nvPr/>
        </p:nvSpPr>
        <p:spPr>
          <a:xfrm>
            <a:off x="457200" y="304200"/>
            <a:ext cx="74674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ntelligentsia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Интеллигенция</a:t>
            </a:r>
            <a:r>
              <a:rPr b="0" lang="ru-RU" sz="4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File:Kolman decembrists.jpg"/>
          <p:cNvPicPr/>
          <p:nvPr/>
        </p:nvPicPr>
        <p:blipFill>
          <a:blip r:embed="rId1"/>
          <a:stretch/>
        </p:blipFill>
        <p:spPr>
          <a:xfrm>
            <a:off x="1447920" y="1752480"/>
            <a:ext cx="6095880" cy="41338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1522440" y="532440"/>
            <a:ext cx="638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embrist -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Декабрист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1371240"/>
            <a:ext cx="4114800" cy="14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IV </a:t>
            </a:r>
            <a:r>
              <a:rPr b="0" lang="ru-RU" sz="2800" spc="-1" strike="noStrike">
                <a:solidFill>
                  <a:srgbClr val="006633"/>
                </a:solidFill>
                <a:latin typeface="Garamond"/>
              </a:rPr>
              <a:t>период –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006633"/>
                </a:solidFill>
                <a:latin typeface="Garamond"/>
              </a:rPr>
              <a:t>советская эпоха. Новые политические силы, революция, большие достижения в области науки и культуры</a:t>
            </a:r>
            <a:r>
              <a:rPr b="0" lang="ru-RU" sz="2500" spc="-1" strike="noStrike">
                <a:solidFill>
                  <a:srgbClr val="006633"/>
                </a:solidFill>
                <a:latin typeface="Garamond"/>
              </a:rPr>
              <a:t>.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0" name="Picture 5" descr="8"/>
          <p:cNvPicPr/>
          <p:nvPr/>
        </p:nvPicPr>
        <p:blipFill>
          <a:blip r:embed="rId1"/>
          <a:stretch/>
        </p:blipFill>
        <p:spPr>
          <a:xfrm>
            <a:off x="4495680" y="228600"/>
            <a:ext cx="4038840" cy="61722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6"/>
          <p:cNvSpPr/>
          <p:nvPr/>
        </p:nvSpPr>
        <p:spPr>
          <a:xfrm>
            <a:off x="537120" y="5180400"/>
            <a:ext cx="748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olshevik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Большев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%D0%A1%D0%BF%D1%83%D1%82%D0%BD%D0%B8%D0%BA"/>
          <p:cNvPicPr/>
          <p:nvPr/>
        </p:nvPicPr>
        <p:blipFill>
          <a:blip r:embed="rId1"/>
          <a:stretch/>
        </p:blipFill>
        <p:spPr>
          <a:xfrm>
            <a:off x="838080" y="2666880"/>
            <a:ext cx="7391520" cy="35053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1754280" y="684720"/>
            <a:ext cx="566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9900"/>
                </a:solidFill>
                <a:latin typeface="Arial"/>
              </a:rPr>
              <a:t>Sputnik - </a:t>
            </a:r>
            <a:r>
              <a:rPr b="0" lang="ru-RU" sz="5400" spc="-1" strike="noStrike">
                <a:solidFill>
                  <a:srgbClr val="cc9900"/>
                </a:solidFill>
                <a:latin typeface="Arial"/>
              </a:rPr>
              <a:t>Спутн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5181120"/>
            <a:ext cx="510552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Kosmonavt - Космонавт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5" name="Picture 6" descr="File:Piers Sellers spacewalk.jpg"/>
          <p:cNvPicPr/>
          <p:nvPr/>
        </p:nvPicPr>
        <p:blipFill>
          <a:blip r:embed="rId1"/>
          <a:stretch/>
        </p:blipFill>
        <p:spPr>
          <a:xfrm>
            <a:off x="304920" y="1600200"/>
            <a:ext cx="5254560" cy="3481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ANd9GcTaGnXyN1L0jvoznOydqQZgl4tGrOz8MJLwVrhYAi-vbP1BJngJ3Q"/>
          <p:cNvPicPr/>
          <p:nvPr/>
        </p:nvPicPr>
        <p:blipFill>
          <a:blip r:embed="rId2"/>
          <a:stretch/>
        </p:blipFill>
        <p:spPr>
          <a:xfrm>
            <a:off x="6095880" y="380880"/>
            <a:ext cx="2467080" cy="29242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1"/>
          <p:cNvSpPr/>
          <p:nvPr/>
        </p:nvSpPr>
        <p:spPr>
          <a:xfrm>
            <a:off x="1523880" y="38052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ioneer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пионе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ериод – постсоветский период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9" name="Picture 5" descr="USSR_stamp_Perestroyka1_1988_5k"/>
          <p:cNvPicPr/>
          <p:nvPr/>
        </p:nvPicPr>
        <p:blipFill>
          <a:blip r:embed="rId1"/>
          <a:stretch/>
        </p:blipFill>
        <p:spPr>
          <a:xfrm>
            <a:off x="990720" y="2057400"/>
            <a:ext cx="7553160" cy="37242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307080" y="5561640"/>
            <a:ext cx="862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erestroyka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ерестрой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lastnost -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Гласность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2" name="Picture 6" descr="ANd9GcT0mEvNbW1-ZBe4JX6Df2gEhL-rdnaoLspQa_Y-hZeETIz00N02Dg"/>
          <p:cNvPicPr/>
          <p:nvPr/>
        </p:nvPicPr>
        <p:blipFill>
          <a:blip r:embed="rId1"/>
          <a:stretch/>
        </p:blipFill>
        <p:spPr>
          <a:xfrm>
            <a:off x="1752480" y="1447920"/>
            <a:ext cx="556740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кетирование показал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5% - считают данную проблему актуаль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менение характера заимствования связано со сложностью русского языка для иностранцев – 50 %, непопулярностью России на Западе  - 3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                 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Картотек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Sarafan,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mga,troyka,beluga,kvass,telega,pirozhki,samovar,shuba,ztarosta,rouble,po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lligentsia,nihilist,decembrist,narodnik,ispravni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khanovit,kalaschnikov,activist,komsomol,kolkhoz,sputni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lastnost,perestroyka,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besprede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mafiy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privatizatsiy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ипотеза: по характеру заимствованных русских слов можно судить о характере отношений между странами и статусе русского языка в мире в тот или иной исторический пери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Заключени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характеру заимствования русских слов можно судить о характере отношений в современном ми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лое количество заимствованных  слов – следствие непопулярности данного языка в данный перио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Garamond"/>
              </a:rPr>
              <a:t>Презентацию подготовила:</a:t>
            </a:r>
            <a:br>
              <a:rPr sz="4000"/>
            </a:br>
            <a:r>
              <a:rPr b="1" lang="ru-RU" sz="4000" spc="-1" strike="noStrike">
                <a:solidFill>
                  <a:srgbClr val="006633"/>
                </a:solidFill>
                <a:latin typeface="Garamond"/>
              </a:rPr>
              <a:t>ученица 11 класса «Б»</a:t>
            </a:r>
            <a:br>
              <a:rPr sz="4000"/>
            </a:br>
            <a:r>
              <a:rPr b="1" lang="ru-RU" sz="4000" spc="-1" strike="noStrike">
                <a:solidFill>
                  <a:srgbClr val="006633"/>
                </a:solidFill>
                <a:latin typeface="Garamond"/>
              </a:rPr>
              <a:t>средней школы №20</a:t>
            </a:r>
            <a:br>
              <a:rPr sz="4000"/>
            </a:br>
            <a:r>
              <a:rPr b="1" lang="ru-RU" sz="4000" spc="-1" strike="noStrike">
                <a:solidFill>
                  <a:srgbClr val="006633"/>
                </a:solidFill>
                <a:latin typeface="Garamond"/>
              </a:rPr>
              <a:t>Дягилева Анастасия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9" name="Picture 4" descr="applause"/>
          <p:cNvPicPr/>
          <p:nvPr/>
        </p:nvPicPr>
        <p:blipFill>
          <a:blip r:embed="rId1"/>
          <a:stretch/>
        </p:blipFill>
        <p:spPr>
          <a:xfrm>
            <a:off x="2895480" y="3200400"/>
            <a:ext cx="323856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ь работы: изучение заимствованных русских  слов в английском языке и причин их заимств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изучить литературу по данному вопросу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ыявить причины заимствования слов в определенный исторический период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оценить уровень заимствования русских слов  на современном этапе развития языка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33"/>
                </a:solidFill>
                <a:latin typeface="Garamond"/>
              </a:rPr>
              <a:t>Распространение русских слов в английском языке по периодам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1" name="Picture 5" descr="samovar"/>
          <p:cNvPicPr/>
          <p:nvPr/>
        </p:nvPicPr>
        <p:blipFill>
          <a:blip r:embed="rId1"/>
          <a:stretch/>
        </p:blipFill>
        <p:spPr>
          <a:xfrm>
            <a:off x="380880" y="3200400"/>
            <a:ext cx="3362400" cy="3429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TROYKA"/>
          <p:cNvPicPr/>
          <p:nvPr/>
        </p:nvPicPr>
        <p:blipFill>
          <a:blip r:embed="rId2"/>
          <a:stretch/>
        </p:blipFill>
        <p:spPr>
          <a:xfrm>
            <a:off x="3276720" y="1447920"/>
            <a:ext cx="5514840" cy="26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1676520" y="5257080"/>
            <a:ext cx="6476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able-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собол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sobol_3"/>
          <p:cNvPicPr/>
          <p:nvPr/>
        </p:nvPicPr>
        <p:blipFill>
          <a:blip r:embed="rId1"/>
          <a:stretch/>
        </p:blipFill>
        <p:spPr>
          <a:xfrm>
            <a:off x="1981080" y="1295280"/>
            <a:ext cx="4638960" cy="37432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0"/>
          <p:cNvSpPr/>
          <p:nvPr/>
        </p:nvSpPr>
        <p:spPr>
          <a:xfrm>
            <a:off x="380160" y="532440"/>
            <a:ext cx="82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6633"/>
                </a:solidFill>
                <a:latin typeface="Arial"/>
              </a:rPr>
              <a:t> период</a:t>
            </a: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33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33"/>
                </a:solidFill>
                <a:latin typeface="Arial"/>
              </a:rPr>
              <a:t>древнерусский язык эпохи Киевской Рус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762120" y="380880"/>
            <a:ext cx="7178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I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период –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XVI-XVIII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век. Рост торговых и политических отношений России и Англ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ANd9GcRGk7TvWx_PrF4v3tPuWj6Rq4Bc48eKQHtK1vAPdnOVfdhWXO4pvA"/>
          <p:cNvPicPr/>
          <p:nvPr/>
        </p:nvPicPr>
        <p:blipFill>
          <a:blip r:embed="rId1"/>
          <a:stretch/>
        </p:blipFill>
        <p:spPr>
          <a:xfrm>
            <a:off x="762120" y="2362320"/>
            <a:ext cx="4095720" cy="37432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7"/>
          <p:cNvSpPr/>
          <p:nvPr/>
        </p:nvSpPr>
        <p:spPr>
          <a:xfrm>
            <a:off x="4846680" y="289476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sar –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цар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и первых заимствова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Наименования, связанные с государственным устройством, наименованием правящих сословий, должностных лиц: царь, воевода, боярин, мужик, казак, стрелец, крем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 Обозначение меры веса, расстояния, денежных единиц: верста, аршин, пуд, руб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Название предметов, одежды и продуктов питания, поражавших англичан как экзотизмы: шуба, квас, морс, кумыс, щи, борщ, калач, шашлык, кисель, водка, настойка, блины, оладьи, окрош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Бытовые слова: тройка, шуба, телега, печь, балалайка, баян, самовар, тарантас, кибитка, махор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Название природных особенностей России и некоторых животных: степь, тундра, тайга, суслик, борз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Религиозные наименования: молитва, обед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gun_47"/>
          <p:cNvPicPr/>
          <p:nvPr/>
        </p:nvPicPr>
        <p:blipFill>
          <a:blip r:embed="rId1"/>
          <a:stretch/>
        </p:blipFill>
        <p:spPr>
          <a:xfrm>
            <a:off x="1066680" y="1981080"/>
            <a:ext cx="6743880" cy="42004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0"/>
          <p:cNvSpPr/>
          <p:nvPr/>
        </p:nvSpPr>
        <p:spPr>
          <a:xfrm>
            <a:off x="1371600" y="456480"/>
            <a:ext cx="619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Knut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кнут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[naut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P GAME 2009</cp:lastModifiedBy>
  <dcterms:modified xsi:type="dcterms:W3CDTF">2014-08-28T23:17:4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