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580-0771-401E-B8CA-206D77E0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BF9-BEA9-4B2A-BBD9-BCC245B6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454A8-C165-4240-AB52-A1C4BF2E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F51D4-CD50-4A51-B52F-31CF5FDF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52A89-9552-4755-8C86-886DF2B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1530B-7A9E-4A12-BD5F-0895CC0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6A924-A206-4394-8A29-7337DB0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B2F7A-4552-4903-90E3-3479D7F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CA275-71BB-4058-A376-C1B2C196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8D1EB-8172-4E3C-9831-49CF32D4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5573A-40C8-4D97-9EF8-DBC653E3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9B7D5-F1E9-4570-BBF6-8D153AF7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0F5-4780-41C6-BA3E-0893E469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D5DA8-5253-483E-98B3-C771D36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5129D-EF23-45F0-9BE8-B4E85F4D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5A593-B8D9-4900-9FA7-6EA3181C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6B81F-D827-4669-A8A2-9FE0281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2D63-B5DB-40DA-B747-1CD9CEB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EBF17-0030-4ED7-8EA3-870901C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D7A0B-35B2-4A6F-8B56-5781ADB7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DFB28-4E0B-4403-8AF4-BB3B094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B223F-7548-4789-BC86-1845A0BE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4627B-700C-44A2-935F-2F68A680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640-5DBC-4A0D-B3C5-E3B506E3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F82B8-ABE4-4C67-B255-15FA9B3B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1A509-0CD7-454B-B9B1-C894AD3E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A2C0-677A-4AF3-8E7E-E3630901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0F865-AF0D-4495-B24F-D7772F0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46B38-A3B1-4CA4-9956-11DFFFE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309D-4B8B-4ED2-ACC7-2F2A0CA3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BC800-9F5C-4737-8401-00798B77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76CDA-FB46-48ED-AF8E-6CBA014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C86B-FB54-4D67-8B92-DD99B47B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B7FF0-57A5-4AE2-8DA0-A7412E27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923-7C6D-4619-BFA5-ECA6D7EA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ACDB6-FA03-4DD6-8F64-E35CF587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A9973-A09B-4118-923B-C4F3A764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71674-7785-406B-8259-D2B5E9C7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A1E15-B85E-45DC-A477-6755E514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19743-277F-41A9-B275-09ADBC5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55977-468C-4F99-BC7C-3F61858F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77847-BE0E-4236-91D6-46E5FDC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72F80-21F6-4BD6-9237-D314E64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57ED1-EE1F-41F7-AE29-E43C50E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32BC5-ED53-4AD1-994F-583792C4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58EF-D57D-4983-9F23-C7DC2F0E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89683-A919-498F-8105-60E6CEA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4653B-C19A-4ADA-9A00-F349AEB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4AC87-FF9F-4C6E-BB1C-5D09100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98E6E-C7ED-4227-A341-73DA5DED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F436F-1C19-4B27-A3B6-4B41B11B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6BF87-AD17-4812-BBBA-A2B63775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0669D-EEF7-4941-9BC8-53A165FF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47BAF-27B7-4AF8-8473-97D5550B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62664-5A40-469F-BC7D-B5667C0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289B4-340B-4CD3-8533-574A126B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516-6F19-4DB3-9BA9-3306DE6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D5461-4C8A-45D3-89CE-AE7469A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23094-37BB-49D3-86E5-9711398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08BA0-D653-45BD-B76C-FF12B43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396B6-7CDE-4815-AA19-A1D9587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D8776-09D8-4087-9D3A-408250E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1715C-230D-4F04-AD28-4F72907A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CFC6D-6EEC-40C3-B48F-3AF5997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29EAF-A4E2-4D5C-B028-A395F920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47FCB-2BF5-4D36-9C43-0603518F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9ABEC-8D32-44EF-A167-C9BF587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09ED-B0AB-4E04-9505-82160472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720D1-047B-423D-9882-B2F52B86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A9588-2798-4617-A757-10AC679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47A28-6F96-467B-AF99-E1CAA5C6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E6A16-3EB4-431C-A429-2729AF1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191F5-E8C4-473B-9C0F-BC9ABDEA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7C8AE-333A-44DB-B951-9AE976C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4F347-38DF-431A-8AB2-B661C3E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15A4E-19E5-47ED-ADD0-177C3514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27445-B327-41A7-A915-E508850C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EF081-14C0-4082-8F3A-5D37B856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7A40-FE1A-40CE-B74F-C8622CA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DB74E-660E-4D42-8442-C45F199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BE71A-12FF-4C45-A9AD-B27B6C33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E1EF5-4CA0-4EA4-80E4-4C31B14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E1AE0-5E18-4758-9BD9-042CF67C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FD8FD-5957-4C2E-93E9-4BF5FBE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4357E-F1D8-430B-A1AA-9AD17C9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FDE82-BE75-41FB-853E-061C7DE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57C2E-B026-4704-9E97-F474978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6DF4D-6077-4916-BD78-DDD053F4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9CB2F-CB5A-40E8-8ADD-C00C6467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4836-53DD-49CA-979D-FB9BB362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5CB10-DD01-46B5-8C5B-E9A5E94E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0F3E6-7388-45F6-BA9F-CF573BE9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E87CA-4AD0-4264-AA8C-F4FC4079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208BB-1450-452C-AA0A-B5CB9CE4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13896-A3E6-438A-8BB7-5ACFAE9C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C7212-2F77-43B5-8857-A8EE3C38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A2B07-CE9C-4120-955D-CC10235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A1114-BDDA-4520-94E4-EF8D410B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E88DA-698D-4983-8931-92E2420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C5956-50F3-4329-8462-D2B03424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EED6-0692-4367-8A2C-22B0CBC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55808-293E-40A7-AB3F-13BF5B2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47966-C7C7-42DA-8CCB-DEA866A1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E7C3D-F7AC-495A-A1B2-26C2FA77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C0794F-4512-4FFA-8CBA-62793D16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1E5CA-03EF-4A0B-AC88-C0F013D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C4178-FFCF-460B-9893-9B75B23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C7FC0-219E-4955-A43E-2BB1DE4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2FB7D-D5BB-4F3C-A4EF-432E865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2A76F-4E01-4403-9802-9450C31F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A409C-B98E-4938-AA33-8FB7197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BB7-4965-414E-827D-015B0CDB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1476-AE84-4A63-822D-F40A887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9CEDE-0940-4FD9-A33D-8308F1FB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F45E8-C295-4ABE-BA1C-5EBB637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E8F8B-519C-424D-8A18-99BB3C5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06721-DD8D-4D93-8BE5-833E2A3F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CA60F-B47F-4675-B9B5-9CD902AB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E29D-7177-4FB2-A4D0-D25BCFA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428B-DC68-4BEC-8299-54A0303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AA30-D5B2-493A-A9D0-3832F51E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9C0-BFC6-43A6-A47F-86895BA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9B3A-C463-448B-B360-F85C45EC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462C-A3A8-4EE0-9F27-5A725E6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8B99-1B96-4CD1-B4D0-EEF7C14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269B-B552-45A4-B8CA-865CFBCC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EF7C-63A4-49A1-8ED8-F128BBB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31C-D2D2-489A-9B3A-B88F8E6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265E-385D-4261-8C5D-BDD6292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773F-04A7-4B98-BF03-372E592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BEDD-B741-407C-A085-B1A5793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B012-C114-4CB0-9EAD-8FDB752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56ED-623C-49B4-ABEB-F079794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830D-EB33-413C-9B31-FD2C4858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CD51-87B8-472A-9A1F-B12B4892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A5DB-7F43-4E38-B00D-621FAA64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1AF5-C676-4A07-8378-267D9FC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AF15-0C68-4BCE-B495-F12C56A9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667-4C47-40D1-BE5D-4957DEB8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B771-61C1-4537-A2DC-A76734F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5ED5-953A-42E6-9A14-DC84F16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0D1A-4074-4276-9457-B82F97D3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0FBB-9A3D-40C7-B2E3-7E66CED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144C-932E-4926-811A-025046E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440A-69CA-423B-AA1A-A9A5F1E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2FE6-D985-488F-87FE-E1CC76DC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2979-CCD1-4518-8A7A-B99A349D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AB42-7D97-4437-9021-DD256765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14923-675F-4FE0-8330-A7BB82C0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1A8-61F9-48BB-A6EE-1216AD4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6174-1001-4735-A7E8-9758F9F5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FD9F-1071-4C36-9020-5D3553A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A796-F238-484B-A123-A41AB19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A76D-4B18-4DD5-97B2-832FF5CC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111D-14EC-465E-9FA0-1A78B53A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5589-7C56-4FB9-B46E-1834097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AD2B6-969B-4C4E-AC85-54DBDBC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4E2B-8AC8-4C5B-8912-37FAF6F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AD53-F920-4A93-B827-5E67D29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64BB-C078-40B3-92F4-60F170F7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5E7-16E8-4D00-9570-0592D3A6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587F-7444-4530-8679-5D9AF684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56F5-8BAC-4FB3-B7BD-95205C9D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71A4-94FA-4D77-989D-90687CBE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715A-91CC-49AD-A1E8-4753895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56B5-4D80-425B-B26A-DA50C65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98F6E-C5A7-4758-9E71-4F5C067A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3C54-0647-407C-9F07-36D12981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1650-D92D-46FB-9486-ED9F3DA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EB07-FAD5-40D8-865E-50D745B5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1157-74ED-4FBA-AA26-0763134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452-4948-4D0F-A5FF-BBFC70C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F309E-9BB2-4028-9991-A22E6016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7FF18-C998-44EB-91CD-101D2948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1EF7-2A52-4C0E-83BA-EE73E176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030F-853B-4D8A-B8D4-A7F3C520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81DF-054E-4484-8DF2-4D8D2437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4576D-7094-428C-8F49-62F3A19D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E64E8-3EC2-43A8-B164-90D0D6C9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E3DF-09C5-48C4-8EAD-741313C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A9E8-4229-4C4B-B568-01E489F2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BE77-C877-4915-91D3-9F7D0E6D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B48-E52D-4AB7-84FB-B0C2B5C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AA8C9-39CF-4802-B50A-E22BF00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97510-74B6-4CA9-9266-268C1E5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F7E9-A16D-4E72-9C6F-C31E70D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626B-A89C-451A-ABE9-35E2FBAF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5223-8181-4E6E-A6DB-B85E2C74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829D4-5E3C-47E8-8F9D-E5670F87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83E75-75F0-440E-9C1A-04B2C0C2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6B9A3-724E-4BD9-974A-8FCB1D1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D8485-DC27-4A78-81EE-3285B1FC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4B7F-D7DD-4A71-A33C-80AA0777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DB0-A65B-4D71-9A1F-0F4C22E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5CFB-EE9D-4BEA-B81A-E81DEB1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D5DD-1ED6-4AB5-9306-4ECAA79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47C62-F8F4-4A5A-BC13-95FCE7D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A9CC-4DFC-4D3A-860A-CACDCFD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0AB5-2E15-4E01-86E8-D44DA72B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9809-96C9-4F0A-8DC4-B2C01D46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63F4A-1FDE-47CC-9AB1-86E37B0E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98499-80AB-4638-9CA4-9F6225CF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9D367-5C42-4D8A-AC56-9879339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6263-4644-462D-8616-8A4F9295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EB9A-15BB-450A-A2E5-7F877B3630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E843-7557-4433-891C-D146B4B990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C452-D1BC-4DD7-A896-6F1286A1DA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907-D1A2-4A76-98E5-F2D82B2E9C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717-806C-4895-BF4A-4CC2ECA321E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9AE3-7845-4057-9F0C-840FA85F51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074-CD9F-40CB-8965-66B2A3F58D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59B-FA32-47ED-88EA-CAD4DDDCF4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BED4-42AE-4953-A570-465D19D856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FD6-38F0-4BE3-A01C-2188008B530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E7BD-540D-44E9-B000-11BD4B9200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CDB-2DC8-4993-9CF5-10F5922641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1FAF-B17A-4B9C-8D18-DCF2B5DCCB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C9C0-801B-44B2-BC9E-1FC7EC1B62E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FDC5-1AD9-4FAA-82FE-81F3B7CC7C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361-CD02-43A5-A696-B8F3655F16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6FA-72EA-4DE6-9743-E9B8A6626F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23640" y="1221840"/>
            <a:ext cx="639612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7b724f"/>
                </a:solidFill>
                <a:latin typeface="Calibri"/>
              </a:rPr>
              <a:t>«Внедрение стандарта профессиональной деятельности педагога- новый шаг к качеству образования»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5714640" y="5410080"/>
            <a:ext cx="357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90c04"/>
                </a:solidFill>
                <a:latin typeface="Times New Roman"/>
                <a:ea typeface="Times New Roman"/>
              </a:rPr>
              <a:t>Подготовила: старший воспитатель Мищанин М.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держание профессионального стандарта в области ВОСПИТАНИ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ладеть формами и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методами воспитательной работ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ладеть организационными формами и метод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держание профессионального стандарта в области РАЗВИТИ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Готовность принять всех дет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ПРОФЕССИОНАЛЬНЫЕ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КОМПЕТЕНЦИИ ВОСПИТАТЕЛЯ, ОТРАЖАЮЩИЕ СПЕЦИФИКУ РАБОТЫ НА ДОШКОЛЬНОМ УРОВНЕ ОБРАЗОВАНИЯ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262626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7993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</a:rPr>
              <a:t>Методы оценки выполнения требований профессионального стандарта педагог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91440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офессиональная деятельность воспитателя оценивается только комплексно. Высокая оценка включает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очетание показателей динамики развития интегративных качеств ребен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оложительное отношение к детскому саду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ысокой степени активности и вовлеченности родителей  в жизнь детского сад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14040" y="4266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3333cc"/>
                </a:solidFill>
                <a:latin typeface="Century Gothic"/>
                <a:ea typeface="Calibri"/>
              </a:rPr>
              <a:t> </a:t>
            </a:r>
            <a:r>
              <a:rPr b="1" lang="ru-RU" sz="3200" spc="-1" strike="noStrike">
                <a:solidFill>
                  <a:srgbClr val="77623d"/>
                </a:solidFill>
                <a:latin typeface="Century Gothic"/>
                <a:ea typeface="Calibri"/>
              </a:rPr>
              <a:t>Требования к образованию и обучению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876240" y="152352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  не предъявляются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06560" y="304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04228"/>
                </a:solidFill>
                <a:latin typeface="Century Gothic"/>
              </a:rPr>
              <a:t>Особые условия допуска к работ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142640" y="1523520"/>
            <a:ext cx="679932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Лишенные права заниматься педагогической деятельностью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меющие или имевшие судимост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знанные недееспособ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меющие заболева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347840" y="523440"/>
            <a:ext cx="67975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04228"/>
                </a:solidFill>
                <a:latin typeface="Calibri"/>
              </a:rPr>
              <a:t>Внедрению профессионального стандарта в ДОУ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Организация ознакомления педагогических работников учреждения с содержанием профессионального стандарта «Педагог»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организация обсуждения на педагогических, методических советах, методических объединениях, стажерских практиках ресурсных центров и др.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размещение информации на стендах в учреждении, сайте учреждения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разработка, согласование и утверждение локальных правовых актов детского сада в области формирования кадровой политики, трудовых отношений с  воспитателями, нормирования, оценки качества труда воспитателей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организация и проведение процедуры самооценки педагогами своей квалификации в соответствии с уровнями профессионального стандарта педагога в учреждении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Times New Roman"/>
              </a:rPr>
              <a:t>составление дифференцированной программы профессионального развития педагогов детского сада на основе самоанализа (самооценки)  уровня соответствия компетенций педагога содержанию трудовых функций профессионального стандарта «Педагог»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685440" y="106668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объективный измеритель квалификации педагог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 Gothic"/>
              </a:rPr>
              <a:t>СТАНДАРТ ДОЛЖЕН: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Соответствовать структуре профессиональной деятельности педаго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Регламентировать деятельность педаго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Избавить педагога от несвойственных функц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Побуждать к поиску нестандартных решен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Соответствовать международным нормам и регламента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Соотносится с требованиями профильных министерств и ведомств, от которых зависят исчисление трудового стажа,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 Gothic"/>
              </a:rPr>
              <a:t>ХАРАКТЕРИСТИКА СТАНДАРТ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в нем определяются основные требования к квалификации педагог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может дополнятся региональными требованиям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может быть дополнен внутренним стандартом образовательного учреждени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отражает структуру профессиональной деятельности педагог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62626"/>
                </a:solidFill>
                <a:latin typeface="Century Gothic"/>
              </a:rPr>
              <a:t>выдвигает требования к личностным качествам педагог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6"/>
          <p:cNvSpPr/>
          <p:nvPr/>
        </p:nvSpPr>
        <p:spPr>
          <a:xfrm>
            <a:off x="1228680" y="590400"/>
            <a:ext cx="6781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Федеральный закон № 273-ФЗ от 29.12.20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ит дошкольное образование к одному из уровней общег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тсюда возникает необходимость единого подхода к профессиональным компетенциям педагога дошкольного образования и учите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679752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3333cc"/>
                </a:solidFill>
                <a:latin typeface="Century Gothic"/>
              </a:rPr>
              <a:t>Область применения Профессионального стандарт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Формирование кадровой политик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рганизация обучения и аттестации работник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рганизация обучения и аттестации работник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аключение трудовых договор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работка должностных инструкций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Установление системы оплаты труд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76480" y="762120"/>
            <a:ext cx="67989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3333cc"/>
                </a:solidFill>
                <a:latin typeface="Century Gothic"/>
              </a:rPr>
              <a:t>Цель применения профессионального стандарт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685800" y="106668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Вид профессиональной деятельности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совокупность обобщенных трудовых функций, имеющих близкий характер, результаты и условия труд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Обобщенная трудовая функция (ОТФ)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совокупность связанных между собой трудовых функций, сложившаяся в результате разделения труда в конкретном трудовом процесс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Трудовая функция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система трудовых действий в рамках обобщенной трудовой функци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521808"/>
                </a:solidFill>
                <a:uFillTx/>
                <a:latin typeface="Century Gothic"/>
              </a:rPr>
              <a:t>Трудовое действие- </a:t>
            </a:r>
            <a:r>
              <a:rPr b="0" lang="ru-RU" sz="1800" spc="-1" strike="noStrike">
                <a:solidFill>
                  <a:srgbClr val="521808"/>
                </a:solidFill>
                <a:latin typeface="Century Gothic"/>
              </a:rPr>
              <a:t>процесс взаимодействия работника с предметом труда, при котором достигается определенная задач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держание профессионального стандарта в области ОБУЧЕНИ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Иметь высшее образование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Знать программы обучени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Times New Roman"/>
              </a:rPr>
              <a:t>Владеть ИКТ-компетенциями.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1</cp:lastModifiedBy>
  <cp:lastPrinted>2016-10-14T06:35:10Z</cp:lastPrinted>
  <dcterms:modified xsi:type="dcterms:W3CDTF">2017-09-01T03:30:08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