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6C0-2861-461B-9708-C1B59CA2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E8C-E226-4DF1-BFE8-BEC8F476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2C4A8-456E-498F-9237-D47985A2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02E27-AF32-42E8-B270-C21E6721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2BF25-6749-4D35-AEEB-3356AFB7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3AB24-0C94-4071-8625-A713BBD1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63B43-B8F3-47CD-8AAF-75A26AC9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9C10F-1182-46F5-967A-FD101866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0C1AE-C82D-4068-AB26-F123B399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A7336-068B-43EA-84E2-FA6B3F9C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F94B2-FDD2-4C0D-B525-CF20928B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FE05F-58DE-4BE7-8E5F-469EF73F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CD9-BBFA-4942-97D9-424F79B8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7460F-5B28-42BE-8AA8-8E975E0F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1FDD2-A039-47A1-AAB5-8483483A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730BA-16B7-49AB-A5CA-54710377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87C5E-1E70-498B-B2FF-AF4E3976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B9C3C-E6B6-4CAC-8562-169E074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5098A-A281-4EC7-B5F8-12DA9DC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C7EC6-7F8A-4E6C-8AFD-D2612363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EFFB7-AF13-4071-9578-9694E8D4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FD7DC-F3DD-4C61-A9CC-E4D27AC7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4418F-B96A-4CDF-92D1-87D61487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229-FF05-47BD-B757-2963D197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F89DE-9F83-40C9-BDA0-B583AA92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A4005-22F7-4C9E-B4D2-1BC43FE2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478AA-737D-4516-81DB-1C105795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0DEA5-D630-4A02-8A07-A0B0ABDB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2F620-F2DD-4524-9C52-BD01C0EC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11EB9-08F7-4BFB-BCBE-419A3801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0BEDF-9240-4462-8856-4C9CD719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4865C-9EED-4337-94AC-72FD1156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57AB0-BA68-47A8-B5B7-17D3A0A1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FD812-E15C-49A9-B240-DB0EB9C7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EDCE-EA11-4EA7-B034-43E73721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E766A-FD0A-44F6-9AC7-A2CF9556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984DC-956F-4E2D-9449-ECECB41A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4FD0C-F964-4C97-8B3F-21FB9C79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38FB5-4507-4DDA-81C0-F1C0EB9A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5C95E-8C3B-442E-86FD-1298B229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69E23-AF7E-4E36-9A26-9E3E24BC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74C41-B0F2-4B76-AB80-2C309A3F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40A0D-3665-4343-A40F-05389276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97200-314D-4D46-B6B8-E689E0A3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43AA4-B239-4F8E-BACD-534BE3D2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4A55-E092-43E8-875F-FAE03C61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9ED48-EADE-45F1-915F-267E991D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121CC-D839-427B-8EB2-BE12244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68032-1D78-4272-987F-6FFD1E5C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1EA89-DBF9-4AEF-931B-6C915648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EF24F-FFB7-45ED-B9F4-0E154C20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10B38-C0FA-44D5-99BF-5A92B89E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59B71-EFF6-423F-ACD9-072D6F86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7A09B-D784-401B-A9D0-F97CDFB7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5E68C-0E63-475E-9C83-414C1A07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102E1-D797-4C68-966A-9B4691DD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0989-5CC7-44FA-AAB1-537119D8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2D68B-176C-4127-9C7E-6936C742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AC63A-BBA8-43F8-BE08-AFA6FFAB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2D394-4352-44C5-94E8-5CCF5E3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3F9DF-88E2-4D50-89CF-A521B11A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62D7A-447C-4CAB-813B-84EB08F9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50E3F-5766-4EF8-81A4-C6E21E51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2CB5D-BC95-4263-9F96-2030BA17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29712-59E5-428A-99C9-4F22C701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FDC99-61AA-4335-A7D5-F94A9053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3D457-6763-413C-9B15-EFE34EEC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4E33-58B0-452C-B3CC-5E0584B2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40B16-EC0A-4237-A570-9BF9D0F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4FE96-334D-4D02-9897-44E2F7C1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61877-7DB7-444B-89FE-E4A8417F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3BB71-6FC5-47F9-A152-6B823D8B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8D337-0375-46FB-B3DF-86DAC413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D6F4E-8326-4C65-A781-BB06A97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BB2F1-FBF1-427C-9112-4C4E9E02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67CE4-5C28-418A-AB05-8C080AAC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1445A-55FA-4EEA-8FBC-F30BABC4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3EB90-E245-4125-B1CD-4EE5578E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B815-4DD1-4950-9908-BDF5C749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E92BF-3AC8-49CB-8FEF-1D7FF47B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10DA8-3B7C-447A-A987-BA09BF1F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1C3D5-88C8-4B60-B268-DA53DF24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3343D-4239-4BA6-833D-CE60B144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060A6-2482-4725-B0F5-E85BB5C4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8A84C-003E-4091-961D-04001054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E99A9-5FDB-4E88-8153-A516AE1E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62EEC-C228-4DA8-8455-DFE33B98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567FC-181D-4705-A950-AF739918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02AE4-67F1-4F12-BFBE-718403FB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9A4D-E899-43B1-9163-8E8EF86B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F3822-7880-4903-88F9-B98860BA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49C8B-BBC8-4671-AEE0-64F172A3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FC8E8-5A61-4041-9E7A-459502C8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CC319-49DC-47E5-BEA8-18E4C7F9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EC5D5-F498-4165-A94E-9E42314A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F15CF-C472-49FF-85F8-A1301973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C1957-33F7-4248-A9A6-4F7EB7A1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9A29C0-DECF-43A4-84CB-B2AE34D9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B1A1F-DDBC-46FF-9BEF-CC859D70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11E26-5011-42A2-B093-38B18ABF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4682-06D2-4FEE-92FA-5E9826A1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F0DB8-C9FD-412E-8E7C-F670CCE1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1577FA-22B8-4BCD-B8CF-62960DB4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50875F-B8A0-410A-BE80-A9C1C56B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19F4A-0351-45DF-A143-2A3F1FF8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899CD-E432-4262-9B5D-9DED8644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8CBDF-D4B5-426D-99D7-DFAEDDB9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1392F-148D-441A-AFF8-C192E5C8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649C2D-09DC-4E02-BDC3-18E8B15F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BF7FB-4B78-4617-B142-EF0790E2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4A8E4-6C52-457C-97EC-CFAE6BB2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613-2BCC-42CA-BF4D-A19B8E16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D4A8-6B51-40D8-BA48-C399B58B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FE52D3-7672-4CE3-8765-70657754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AD055-06B1-4FDD-AED3-F152ABC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F6E128-81C3-4BFB-88CD-06CDCCFD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E2F05-FFA1-4CF6-B65C-0F3DCE66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1C781-F7B2-48F5-B7F0-69A89688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2FA9-2A78-4046-8C4F-2F9BCB03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ED48-6467-485D-A565-534C7FD2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3361-F6C9-4D31-B219-E067F997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C7ED-8C6A-43D1-AC27-47B9F4E9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0783-0A2F-4AE7-ABB1-BED6F03C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3264-FB37-41E2-9D9D-C8E7C0D4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75F8-078B-40DD-832A-4B162762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989B-5BC0-4E9E-984F-09B9E394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3C7C-C0F7-40E9-AB37-AB0E8535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6EA-9698-4667-BCA8-3938A687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2356-790D-477E-823F-5180817D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C53B-9A80-4289-9024-1F61F421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DEC5-7AB4-4371-B60B-1F82D0A1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4485-9BC1-4373-A900-59698DD5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33072-CD6B-4EEA-A895-72DD6583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D602-5A94-40E5-9A25-F5EE08B8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A85CE-5270-40F4-95F7-3A663443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BD3A-B7AA-43F9-B55C-CD81F393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B4D29-D189-46CB-A697-E4488DEC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A4E6C-D7CC-4395-B880-D95142E7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C2F-793B-45D9-BA22-57BECFCC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40002-7B57-458D-9179-54B60514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AB9D-AF05-425F-900B-BAFDEADF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B65F8-7064-47FD-A65E-706345FC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13EE-214C-40EF-BF76-F4D969AA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41E0F-85E9-42E7-8EA1-68245CBD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673E-1199-4882-BCF4-CEC798EA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1A043-65D9-4EC4-988B-132229FE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835EB-762F-4A23-970E-914A8721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71CF-CCAE-4B5D-AD67-71ADD934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B599A-55ED-426F-976B-63011F41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379-36DF-4111-9A1D-BEAB1E0A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428CE-78AC-44F3-91DF-548CD1EF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2481E-EDA0-425D-AA3B-D6CC658D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CA585-3224-4137-9AFB-BAC2D36F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05CE5-B52D-4CB7-A807-C782A828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AA48F-9D6A-45D9-8B12-16E11A53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FA763-EEBB-4111-9F33-84AED6D9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8CFF-4685-4207-8F24-E6179CB3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E86F9-F2DA-4BB3-BDA2-D52C051F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74E25-BF22-441B-942C-5587B226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9C0C-0243-4D34-A22C-C891908C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D3E-4D9A-4E6B-A7D5-584A1297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89DEB-2479-4316-B878-F9DDA64A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6D22A-1669-4861-BCC3-DCEB8F1A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ED66-B975-426F-9806-B36D0B7B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F62B3-3783-480F-B480-CF98BE2E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DB12B-8C19-402D-8533-95ACF0D8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C58F-3A93-4AFE-9286-B01904DD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D088D-C2E5-40BF-B7CA-944E4024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2ECCA-E362-4A20-B645-ADD67BA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9237A-0E01-4604-8A33-01AA6DA8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1EB87-432C-4A36-A9A3-F6178B1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66A-94C5-4B66-8A55-8A8B2C26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BEE28-FC62-491E-945F-E2537D33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45BBE-E2D4-4EDA-A7F7-C5223B55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F992A-1129-4E2A-B957-5FE8DD4E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3C30E-2C51-4773-A39C-E1683D63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6A56E-C200-4249-AE20-01878025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939A1-4934-4F0F-862C-716B3CF3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3C291-6CD9-4135-B411-229B6B88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22338-F684-46C6-8C81-B0F715A0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78962-4279-4A83-B574-6E4FEEBC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0AAD2-CABA-4320-9D64-5FB64CD8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EF7-B9F8-4C5F-A8DB-CDBC1EB7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03E9A-CC8C-48EF-A957-F13608C4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D97AF-CF53-4FE1-8C05-5B90EFD8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4D068-54A6-4EA5-A5D2-0C28793C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1C46A-47B8-41E0-B0C4-EA1E3C18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948FD-3195-4F1A-9CDE-1EA830B1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4ECD4-7A9B-4A3D-93E0-4863CB94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127DF-2488-4B8D-B558-18DB4B43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0EDA0-9BA5-4C9E-978B-ADDA8612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C518F-5011-47F3-96F6-6B217968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8C552-49F9-49D2-BA87-D7586E4F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A79-E44F-405E-8578-32C40DBE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842C7-BD9D-4B84-95A4-255A7C86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30383-80B0-4962-A9BE-55DD6859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B36F4-E8D8-4456-9645-B1C39E3A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F1AA2-CACE-4996-9E76-B07C5F3E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888B0-DCB7-4824-B757-19649CAB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99D7E-2148-4811-A324-C9BC9241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3D4E8-1A7E-4481-B48A-21E7A019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961A8-CE13-4E63-A7E8-49C63951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8F2A1-1B96-4D9B-8684-3D76DEB6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4EA42-1E6E-4457-9DAB-7CB8EA95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69AC-0681-48B0-A49B-26C0221EFD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933D-BBC6-42FD-9D07-1511FC8C18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E37F-8F96-4774-89C7-5D3082D2DE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6D92-7384-44B0-BBCE-C9B62B00BD5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A6C6-C910-4D95-A766-4360012500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5439-089E-4B5B-8548-A37108765CA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14EE-F2CE-47DE-ACE1-8CF4044405F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478B-4E64-4DD3-BC5D-E491E09B22A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A53A-5C38-4388-A3BB-C27F6EE65CE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9ABE-23EA-4595-A223-D48C9D92693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D58C-7E25-44CD-B4A0-A8A049E795E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1F98-8983-47E6-B115-62B22C3B76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C247-4C50-4AA3-B7DC-AE6780A663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DE3B-806B-41CA-8DC7-67217FA1259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D9FD-D23B-4553-82C1-2A032492E50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7B9C-5094-4271-A02D-DB09FDF1C9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E689-983C-47EB-BADB-885C04E6857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23640" y="1221840"/>
            <a:ext cx="639612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7b724f"/>
                </a:solidFill>
                <a:latin typeface="Calibri"/>
              </a:rPr>
              <a:t>«Внедрение стандарта профессиональной деятельности педагога- новый шаг к качеству образования»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5714640" y="5410080"/>
            <a:ext cx="357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90c04"/>
                </a:solidFill>
                <a:latin typeface="Times New Roman"/>
                <a:ea typeface="Times New Roman"/>
              </a:rPr>
              <a:t>Подготовила: старший воспитатель Мищанин М.Г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Содержание профессионального стандарта в области ВОСПИТАНИЕ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ладеть формами и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методами воспитательной работ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ладеть организационными формами и метода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Уметь общаться с детьми, защищать их интересы и достоинств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оддерживать уклад, атмосферу и традиции учреждения, внося в них свой положительный вкла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Содержание профессионального стандарта в области РАЗВИТИЕ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Готовность принять всех дет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ыявлять разнообразные проблемы детей, оказывать адресную помощ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Готовность к взаимодействию с другими специалиста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меть отслеживать динамику развития ребенк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679932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ПРОФЕССИОНАЛЬНЫЕ </a:t>
            </a: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КОМПЕТЕНЦИИ ВОСПИТАТЕЛЯ, ОТРАЖАЮЩИЕ СПЕЦИФИКУ РАБОТЫ НА ДОШКОЛЬНОМ УРОВНЕ ОБРАЗОВАНИЯ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</a:rPr>
              <a:t>Педагог </a:t>
            </a:r>
            <a:r>
              <a:rPr b="1" lang="ru-RU" sz="2500" spc="-1" strike="noStrike" u="sng">
                <a:solidFill>
                  <a:srgbClr val="262626"/>
                </a:solidFill>
                <a:uFillTx/>
                <a:latin typeface="Times New Roman"/>
              </a:rPr>
              <a:t>должен</a:t>
            </a: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Знать специфику дошкольного образования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Знать общие закономерности развития детей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Уметь организовывать ведущие виды деятельности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Владеть теорией и методиками развития детей дошкольного возраста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Уметь планировать, реализовывать и анализировать образовательную работу с детьми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Владеть методами и средствами психолого-педагогического просвещения родителей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Владеть ИКТ-компетенциями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679932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</a:rPr>
              <a:t>Методы оценки выполнения требований профессионального стандарта педагога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914400" y="18273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рофессиональная деятельность воспитателя оценивается только комплексно. Высокая оценка включает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очетание показателей динамики развития интегративных качеств ребенк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оложительное отношение к детскому саду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ысокой степени активности и вовлеченности родителей  в жизнь детского сад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14040" y="4266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3333cc"/>
                </a:solidFill>
                <a:latin typeface="Century Gothic"/>
                <a:ea typeface="Calibri"/>
              </a:rPr>
              <a:t> </a:t>
            </a:r>
            <a:r>
              <a:rPr b="1" lang="ru-RU" sz="3200" spc="-1" strike="noStrike">
                <a:solidFill>
                  <a:srgbClr val="77623d"/>
                </a:solidFill>
                <a:latin typeface="Century Gothic"/>
                <a:ea typeface="Calibri"/>
              </a:rPr>
              <a:t>Требования к образованию и обучению </a:t>
            </a: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876240" y="1523520"/>
            <a:ext cx="7499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  <a:ea typeface="Calibri"/>
              </a:rPr>
              <a:t>Высшее профессиональное образование или среднее профессиональное образование по направлениям подготовки "Образование и педагогика" или в области, соответствующей преподаваемому предмету (с последующей профессиональной переподготовкой по профилю педагогической деятельности), либо высшее профессиональное образование или среднее профессиональное образование и дополнительное профессиональное образование по направлению деятельности в образовательной организа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Требования к опыту практической работы  не предъявляются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006560" y="304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04228"/>
                </a:solidFill>
                <a:latin typeface="Century Gothic"/>
              </a:rPr>
              <a:t>Особые условия допуска к работе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1142640" y="1523520"/>
            <a:ext cx="679932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Лишенные права заниматься педагогической деятельностью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меющие или имевшие судимост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знанные недееспособны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меющие заболева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347840" y="523440"/>
            <a:ext cx="679752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04228"/>
                </a:solidFill>
                <a:latin typeface="Calibri"/>
              </a:rPr>
              <a:t>Внедрению профессионального стандарта в ДОУ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Организация ознакомления педагогических работников учреждения с содержанием профессионального стандарта «Педагог»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организация обсуждения на педагогических, методических советах, методических объединениях, стажерских практиках ресурсных центров и др.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размещение информации на стендах в учреждении, сайте учреждения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разработка, согласование и утверждение локальных правовых актов детского сада в области формирования кадровой политики, трудовых отношений с  воспитателями, нормирования, оценки качества труда воспитателей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организация и проведение процедуры самооценки педагогами своей квалификации в соответствии с уровнями профессионального стандарта педагога в учреждении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составление дифференцированной программы профессионального развития педагогов детского сада на основе самоанализа (самооценки)  уровня соответствия компетенций педагога содержанию трудовых функций профессионального стандарта «Педагог»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685440" y="106668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– инструмент реализации стратегии образования в меняющемся мир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– инструмент повышения качества образования и выхода отечественного образования на международный уровен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– объективный измеритель квалификации педагог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– средство отбора педагогических кадров в учреждения образова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– основа для формирования трудового договора, фиксирующего отношения между работником и работодателем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 Gothic"/>
              </a:rPr>
              <a:t>СТАНДАРТ ДОЛЖЕН: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Соответствовать структуре профессиональной деятельности педагог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Регламентировать деятельность педагог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Избавить педагога от несвойственных функци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Побуждать к поиску нестандартных решени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Соответствовать международным нормам и регламента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Соотносится с требованиями профильных министерств и ведомств, от которых зависят исчисление трудового стажа,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 Gothic"/>
              </a:rPr>
              <a:t>ХАРАКТЕРИСТИКА СТАНДАРТ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в нем определяются основные требования к квалификации педагог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может дополнятся региональными требованиям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может быть дополнен внутренним стандартом образовательного учреждения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является уровневым, учитывающим специфику работы педагогов образовательного учреждения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отражает структуру профессиональной деятельности педагог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выдвигает требования к личностным качествам педагог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6"/>
          <p:cNvSpPr/>
          <p:nvPr/>
        </p:nvSpPr>
        <p:spPr>
          <a:xfrm>
            <a:off x="1228680" y="590400"/>
            <a:ext cx="6781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Федеральный закон № 273-ФЗ от 29.12.201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«Об образовании в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тносит дошкольное образование к одному из уровней общег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тсюда возникает необходимость единого подхода к профессиональным компетенциям педагога дошкольного образования и учите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679752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3333cc"/>
                </a:solidFill>
                <a:latin typeface="Century Gothic"/>
              </a:rPr>
              <a:t>Область применения Профессионального стандарта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Формирование кадровой политик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рганизация обучения и аттестации работник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рганизация обучения и аттестации работник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Заключение трудовых договор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азработка должностных инструкций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Установление системы оплаты труд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176480" y="762120"/>
            <a:ext cx="67989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3333cc"/>
                </a:solidFill>
                <a:latin typeface="Century Gothic"/>
              </a:rPr>
              <a:t>Цель применения профессионального стандарта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пределять необходимую квалификацию педагог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еспечить подготовку педагога для получения высоких результатов его труд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еспечить осведомленность педагога о предъявляемых к нему требования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одействовать вовлечению педагогов в решение задачи повышения качества образова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685800" y="106668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521808"/>
                </a:solidFill>
                <a:uFillTx/>
                <a:latin typeface="Century Gothic"/>
              </a:rPr>
              <a:t>Вид профессиональной деятельности- </a:t>
            </a:r>
            <a:r>
              <a:rPr b="0" lang="ru-RU" sz="1800" spc="-1" strike="noStrike">
                <a:solidFill>
                  <a:srgbClr val="521808"/>
                </a:solidFill>
                <a:latin typeface="Century Gothic"/>
              </a:rPr>
              <a:t>совокупность обобщенных трудовых функций, имеющих близкий характер, результаты и условия труд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521808"/>
                </a:solidFill>
                <a:uFillTx/>
                <a:latin typeface="Century Gothic"/>
              </a:rPr>
              <a:t>Обобщенная трудовая функция (ОТФ)- </a:t>
            </a:r>
            <a:r>
              <a:rPr b="0" lang="ru-RU" sz="1800" spc="-1" strike="noStrike">
                <a:solidFill>
                  <a:srgbClr val="521808"/>
                </a:solidFill>
                <a:latin typeface="Century Gothic"/>
              </a:rPr>
              <a:t>совокупность связанных между собой трудовых функций, сложившаяся в результате разделения труда в конкретном трудовом процесс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521808"/>
                </a:solidFill>
                <a:uFillTx/>
                <a:latin typeface="Century Gothic"/>
              </a:rPr>
              <a:t>Трудовая функция- </a:t>
            </a:r>
            <a:r>
              <a:rPr b="0" lang="ru-RU" sz="1800" spc="-1" strike="noStrike">
                <a:solidFill>
                  <a:srgbClr val="521808"/>
                </a:solidFill>
                <a:latin typeface="Century Gothic"/>
              </a:rPr>
              <a:t>система трудовых действий в рамках обобщенной трудовой функци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521808"/>
                </a:solidFill>
                <a:uFillTx/>
                <a:latin typeface="Century Gothic"/>
              </a:rPr>
              <a:t>Трудовое действие- </a:t>
            </a:r>
            <a:r>
              <a:rPr b="0" lang="ru-RU" sz="1800" spc="-1" strike="noStrike">
                <a:solidFill>
                  <a:srgbClr val="521808"/>
                </a:solidFill>
                <a:latin typeface="Century Gothic"/>
              </a:rPr>
              <a:t>процесс взаимодействия работника с предметом труда, при котором достигается определенная задач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Содержание профессионального стандарта в области ОБУЧЕНИЕ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Иметь высшее образование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Знать программы обучения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Уметь планировать и анализировать работу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Владеть формами и методами обучения – стандартными и инновационными.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Использовать специальные подходы, чтобы охватить всех детей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Уметь объективно оценивать возможности детей, используя разные формы и методы контроля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Владеть ИКТ-компетенциями.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1</cp:lastModifiedBy>
  <cp:lastPrinted>2016-10-14T06:35:10Z</cp:lastPrinted>
  <dcterms:modified xsi:type="dcterms:W3CDTF">2017-09-01T03:30:08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