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E64-9BF3-4CA8-9CC0-C705A829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BF6-ED36-41E0-BCF7-D048543C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B63-2948-4BB9-93E6-D5BE9E2F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D44-4095-4BD8-B2F6-297A0C71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BB0E-48F0-4659-9243-320557A3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C87B-80FE-460B-B816-F9524D05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5C07-D4C8-47D8-A7C7-771CDA5C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158C-8134-48A4-87D1-D91966CA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CC17-B204-4A30-BC22-13F7E04A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D0DE-67F5-46D1-B40B-AABC0D13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CB3D-1F94-4291-BD3E-A46D25B8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7B5-0289-4F86-BE14-8EE375E9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BA58-3097-494F-A3C8-49BB763C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D6F2-21A5-44CA-9E00-8FECE7FF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1094-4030-40EC-AE8F-358B7F6C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DA67-F0F0-4F13-8E08-7BB41929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B4AD-B7F8-40BC-990B-42D0B6B9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A10-3CEF-4290-9611-ECBB2FBD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935-CE3E-497D-877E-4A48B67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68C-B808-4413-9F4F-D355ED0D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590-FD11-4AEC-9A5C-7A6B8C71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992-33D2-431C-8A73-823C656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B40-DD6B-4233-ACEF-00650F7F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66F-B018-430C-AF79-0EA22279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6573-7F7A-4043-8F3C-D0E2939E94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6D6B-D098-45CD-AC73-07E9FE0E26F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1447920"/>
            <a:ext cx="7476840" cy="28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df4df"/>
                </a:solidFill>
                <a:latin typeface="Arial"/>
              </a:rPr>
              <a:t>Театрализованная деятельность, как средство формирования связной речи у дошкольников 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7477200" cy="31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df4d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df4df"/>
                </a:solidFill>
                <a:latin typeface="Arial"/>
              </a:rPr>
              <a:t>«Волшебный край!» </a:t>
            </a:r>
            <a:br>
              <a:rPr sz="4000"/>
            </a:br>
            <a:r>
              <a:rPr b="0" lang="ru-RU" sz="4000" spc="-1" strike="noStrike">
                <a:solidFill>
                  <a:srgbClr val="fdf4df"/>
                </a:solidFill>
                <a:latin typeface="Arial"/>
              </a:rPr>
              <a:t>- так когда–то назвал театр великий русский поэт А.С.Пушкин. 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df4df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витие связной, выразительной речи у детей через художественное    слово, формирование умения излагать свои мысли последователь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df4df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ь детей излагать свои мысли связно, последовательно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формировать грамматический, лексический строй реч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азвивать навыки активной, разговорной, образной реч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одолжать развивать диалогическую, монологическую речь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одолжать совершенствовать художественно – речевые исполнительские навыки детей в разных видах театрализованной деятельност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одолжать развивать выразительную, интонационную стороны реч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полнять литературный запас детей за счет инсценировки, драматизации сказок, рассказов, потешек и пословиц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оспитывать чуткость  к художественному слову, зачитывать отрывки с наиболее яркими описаниям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азвивать мелкую моторику рук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формировать умение воплощать услышанное в инсценировка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4df"/>
                </a:solidFill>
                <a:latin typeface="Arial"/>
              </a:rPr>
              <a:t>Почему так велика потребность в театре?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4460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это связано с тем, что посещение театра – всегда праздник. Ощущение праздничности, которое связано с посещением театра, способно доставить человеку ни с чем не сравнимую радость, осветить повседневную жизнь яркими впечатлениями и наполнить ее новыми чувствами и мыслям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требность в театре связана с тем, что в нем, как ни в одном другом виде искусства, с наибольшей доступностью, полнотой и яркостью люди видят отражение своей жизн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собая роль принадлежит театру в решении задач, связанных с воспитанием и развитием связной речи у дошкольник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5" descr="C:\Users\mhn\Desktop\Новая папка\IMG_0074.JPG"/>
          <p:cNvPicPr/>
          <p:nvPr/>
        </p:nvPicPr>
        <p:blipFill>
          <a:blip r:embed="rId4"/>
          <a:stretch/>
        </p:blipFill>
        <p:spPr>
          <a:xfrm>
            <a:off x="4648320" y="160020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df4df"/>
                </a:solidFill>
                <a:latin typeface="Arial"/>
              </a:rPr>
              <a:t>Затруднения детей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851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способности к эстетическому восприятию искусства художественного слова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мении вслушиваться в текст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лавливать интонаци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собенности речевых оборотов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етко, последовательно излагать мысль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амостоятельно пересказать текст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исполнении роли ребенок не владел разнообразными изобразительными средствами (мимикой, телодвижениями, жестами, выразительной по лексике и интонации речью и т. п.)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C:\Users\mhn\Desktop\фото\DCIM\101___05\IMG_0012.JPG"/>
          <p:cNvPicPr/>
          <p:nvPr/>
        </p:nvPicPr>
        <p:blipFill>
          <a:blip r:embed="rId8"/>
          <a:stretch/>
        </p:blipFill>
        <p:spPr>
          <a:xfrm>
            <a:off x="4032360" y="2362320"/>
            <a:ext cx="378936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4df"/>
                </a:solidFill>
                <a:latin typeface="Arial"/>
              </a:rPr>
              <a:t>Виды театрализованной деятельности 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1598400"/>
            <a:ext cx="682308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ногоперсонажная игра-драматизац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9" descr="G:\DCIM\108___04\IMG_1508.JPG"/>
          <p:cNvPicPr/>
          <p:nvPr/>
        </p:nvPicPr>
        <p:blipFill>
          <a:blip r:embed="rId2"/>
          <a:stretch/>
        </p:blipFill>
        <p:spPr>
          <a:xfrm>
            <a:off x="1295280" y="251460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4df"/>
                </a:solidFill>
                <a:latin typeface="Arial"/>
              </a:rPr>
              <a:t>Виды театрализованной деятельности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575640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гры драматизации с пальчика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6" descr="C:\Users\mhn\Desktop\Новая папка\IMG_0076.JPG"/>
          <p:cNvPicPr/>
          <p:nvPr/>
        </p:nvPicPr>
        <p:blipFill>
          <a:blip r:embed="rId2"/>
          <a:stretch/>
        </p:blipFill>
        <p:spPr>
          <a:xfrm>
            <a:off x="3986280" y="33526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C:\Users\mhn\Desktop\Новая папка\IMG_0077.JPG"/>
          <p:cNvPicPr/>
          <p:nvPr/>
        </p:nvPicPr>
        <p:blipFill>
          <a:blip r:embed="rId3"/>
          <a:stretch/>
        </p:blipFill>
        <p:spPr>
          <a:xfrm>
            <a:off x="457200" y="22096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C:\Users\Тат\Desktop\театрализация\IMG_1524.JPG"/>
          <p:cNvPicPr/>
          <p:nvPr/>
        </p:nvPicPr>
        <p:blipFill>
          <a:blip r:embed="rId1"/>
          <a:stretch/>
        </p:blipFill>
        <p:spPr>
          <a:xfrm>
            <a:off x="152280" y="9144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C:\Users\Тат\Desktop\театрализация\IMG_1525.JPG"/>
          <p:cNvPicPr/>
          <p:nvPr/>
        </p:nvPicPr>
        <p:blipFill>
          <a:blip r:embed="rId2"/>
          <a:stretch/>
        </p:blipFill>
        <p:spPr>
          <a:xfrm>
            <a:off x="4029120" y="87948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C:\Users\Тат\Desktop\театрализация\IMG_1526.JPG"/>
          <p:cNvPicPr/>
          <p:nvPr/>
        </p:nvPicPr>
        <p:blipFill>
          <a:blip r:embed="rId3"/>
          <a:stretch/>
        </p:blipFill>
        <p:spPr>
          <a:xfrm>
            <a:off x="1836720" y="3733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5"/>
          <p:cNvSpPr/>
          <p:nvPr/>
        </p:nvSpPr>
        <p:spPr>
          <a:xfrm>
            <a:off x="304920" y="152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4df"/>
                </a:solidFill>
                <a:latin typeface="Arial"/>
              </a:rPr>
              <a:t>Предметно - развивающая сред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C:\Users\mhn\Desktop\Новая папка\IMG_0079.JPG"/>
          <p:cNvPicPr/>
          <p:nvPr/>
        </p:nvPicPr>
        <p:blipFill>
          <a:blip r:embed="rId1"/>
          <a:stretch/>
        </p:blipFill>
        <p:spPr>
          <a:xfrm>
            <a:off x="228600" y="609480"/>
            <a:ext cx="3556080" cy="2667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Users\Тат\Desktop\театрализация\IMG_1523.JPG"/>
          <p:cNvPicPr/>
          <p:nvPr/>
        </p:nvPicPr>
        <p:blipFill>
          <a:blip r:embed="rId2"/>
          <a:stretch/>
        </p:blipFill>
        <p:spPr>
          <a:xfrm>
            <a:off x="4013280" y="609480"/>
            <a:ext cx="3556080" cy="2667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Users\Тат\Desktop\театрализация\IMG_1527.JPG"/>
          <p:cNvPicPr/>
          <p:nvPr/>
        </p:nvPicPr>
        <p:blipFill>
          <a:blip r:embed="rId3"/>
          <a:stretch/>
        </p:blipFill>
        <p:spPr>
          <a:xfrm>
            <a:off x="1523880" y="3352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05:36:10Z</dcterms:created>
  <dc:creator>Назиля</dc:creator>
  <dc:description/>
  <dc:language>en-US</dc:language>
  <cp:lastModifiedBy>Татьяна</cp:lastModifiedBy>
  <dcterms:modified xsi:type="dcterms:W3CDTF">2013-05-20T07:41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