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EC8-A678-48DC-B855-D519E354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98C-DD5F-4357-8F43-3F62B5EA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6D9-209D-4C55-9682-37182D0E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553-EA40-483A-A367-E6E7576B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45E4-1308-4A4C-870F-56814096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9C89-930B-4414-8507-55B463A1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775B-57BC-4292-B6D8-A79897D3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3693-E10F-4229-BC17-E1194E6B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6B25-3197-4177-95DE-91531122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47A2-79DA-471E-B92F-6BC74BF3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B962-7D62-4BA9-AE2D-3725084D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8463-2F0A-4E39-AA40-3FD1656D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3B7B-883B-4E84-90D6-4BAE4399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DDE0-C051-44D5-9D33-716D050F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6B59-8D26-4B2D-9C54-00A06E25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2586-45C2-4C53-ADFD-D09BCB99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1F65-EFCC-4901-A13E-F44BFB13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74588-AD0C-4462-BFC3-F8C2E9A5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283B3-19EF-45BF-AC37-47742ABC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FEBEF-7EAF-4EC1-A36A-A3224B2B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B5941-C4EF-49CF-B1CD-EC534D4D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8141A-97BA-4171-AC52-B64393A0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D6D-1028-4B14-BA86-547255C1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B9046-C513-4193-9A42-F4996F3B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F7E7C-4238-4F26-AFDD-E0C0E3AB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7738F-05ED-4234-B9C6-B4740228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FBEF7-D5C1-4082-913F-66D9D4C9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3BBE7-A06F-41C3-950F-7D93AC28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A656C-C0FA-40AF-B087-C173970C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C89B4-9BD4-4985-BA79-DE640E33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18CC-5510-4D34-B1BD-AA4B1044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C2BEA-159B-4BE1-ACB3-5EF0B9B4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55349-218D-4A12-A4A4-47E349B5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8DB-C7D9-427A-8594-BB402063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6EE1A-9AE2-4691-8302-6296FD52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12CB6-8F23-457E-B572-8A0B5232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6EA71-AE81-47DD-84CF-9B6A10B9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14C2F-EA27-431E-A392-4E4C3017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75A15-2488-4237-B880-ADC7923F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D1DEE-746F-4DFC-AC86-45086390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5D96A-FA47-4B02-8A9B-1BC9912A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5156F-764E-4934-A10C-3A1B4A43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2C128-F885-4FFD-B70E-8BE88632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6AB-068A-4F77-9530-AE6DF95A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C59-FFCE-48E5-A785-0BBD6DB9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B68F-E8DB-46C1-B9E2-5486ED7B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BE1-1906-4842-AF98-9D5FB2AC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6B05-DED0-4031-A45B-608C1E44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94B0-B9DE-48FD-80F1-B6A8A3B8F61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1A45-E00D-4C6B-A466-FF82D24BFD8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A5FC-A2AB-4D04-BBD7-9B504C8C786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4F86-2B22-4790-81FC-8DD91C201D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33200" y="1255680"/>
            <a:ext cx="88646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полнила Асташкина А. 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is the tree?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our is i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1"/>
          <p:cNvPicPr/>
          <p:nvPr/>
        </p:nvPicPr>
        <p:blipFill>
          <a:blip r:embed="rId1"/>
          <a:stretch/>
        </p:blipFill>
        <p:spPr>
          <a:xfrm>
            <a:off x="5562720" y="1600200"/>
            <a:ext cx="1628640" cy="1847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70576851_1297519560_05020081231161256"/>
          <p:cNvPicPr/>
          <p:nvPr/>
        </p:nvPicPr>
        <p:blipFill>
          <a:blip r:embed="rId2"/>
          <a:stretch/>
        </p:blipFill>
        <p:spPr>
          <a:xfrm>
            <a:off x="5257800" y="3809880"/>
            <a:ext cx="2266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w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is it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is the bear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78709"/>
          <p:cNvPicPr/>
          <p:nvPr/>
        </p:nvPicPr>
        <p:blipFill>
          <a:blip r:embed="rId1"/>
          <a:stretch/>
        </p:blipFill>
        <p:spPr>
          <a:xfrm>
            <a:off x="5181480" y="19051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9653_fit512"/>
          <p:cNvPicPr/>
          <p:nvPr/>
        </p:nvPicPr>
        <p:blipFill>
          <a:blip r:embed="rId2"/>
          <a:stretch/>
        </p:blipFill>
        <p:spPr>
          <a:xfrm>
            <a:off x="5181480" y="373392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 this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colours are the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2" descr="0149889"/>
          <p:cNvPicPr/>
          <p:nvPr/>
        </p:nvPicPr>
        <p:blipFill>
          <a:blip r:embed="rId1"/>
          <a:stretch/>
        </p:blipFill>
        <p:spPr>
          <a:xfrm>
            <a:off x="4724280" y="16765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1318193575_602878-c28568_www"/>
          <p:cNvPicPr/>
          <p:nvPr/>
        </p:nvPicPr>
        <p:blipFill>
          <a:blip r:embed="rId2"/>
          <a:stretch/>
        </p:blipFill>
        <p:spPr>
          <a:xfrm>
            <a:off x="4800600" y="3809880"/>
            <a:ext cx="1800360" cy="1428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ups-of-porcelains-5"/>
          <p:cNvPicPr/>
          <p:nvPr/>
        </p:nvPicPr>
        <p:blipFill>
          <a:blip r:embed="rId3"/>
          <a:stretch/>
        </p:blipFill>
        <p:spPr>
          <a:xfrm>
            <a:off x="6934320" y="3962520"/>
            <a:ext cx="16858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colour is the pi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2" descr="article140323"/>
          <p:cNvPicPr/>
          <p:nvPr/>
        </p:nvPicPr>
        <p:blipFill>
          <a:blip r:embed="rId1"/>
          <a:stretch/>
        </p:blipFill>
        <p:spPr>
          <a:xfrm>
            <a:off x="5029200" y="2209680"/>
            <a:ext cx="19432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(am, is, are) you from 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old (am, is,are) sh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m, is, are) you a pupil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you (like, likes)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m, is, are) he happ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colour is i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b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gre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purp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whi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http://www.proseeds.by/wp-content/uploads/2014/04/Eggplant.jpg"/>
          <p:cNvPicPr/>
          <p:nvPr/>
        </p:nvPicPr>
        <p:blipFill>
          <a:blip r:embed="rId1"/>
          <a:stretch/>
        </p:blipFill>
        <p:spPr>
          <a:xfrm>
            <a:off x="4648320" y="1981080"/>
            <a:ext cx="32432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’s thi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is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a red ba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a yellow ca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a white mou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a brown hor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http://www.rockswallpaperhd.com/wp-content/uploads/2015/01/Elegant-Horse-image-free-download.jpg"/>
          <p:cNvPicPr/>
          <p:nvPr/>
        </p:nvPicPr>
        <p:blipFill>
          <a:blip r:embed="rId1"/>
          <a:stretch/>
        </p:blipFill>
        <p:spPr>
          <a:xfrm>
            <a:off x="3962520" y="1066680"/>
            <a:ext cx="4343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colours are the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are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green and r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grey and b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white and bla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dark brown and pin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https://fs00.infourok.ru/images/doc/89/106179/hello_html_m27f0fdf0.jpg"/>
          <p:cNvPicPr/>
          <p:nvPr/>
        </p:nvPicPr>
        <p:blipFill>
          <a:blip r:embed="rId1"/>
          <a:stretch/>
        </p:blipFill>
        <p:spPr>
          <a:xfrm>
            <a:off x="4952880" y="2362320"/>
            <a:ext cx="3541680" cy="1838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s://fs00.infourok.ru/images/doc/89/106179/hello_html_m27f0fdf0.jpg"/>
          <p:cNvPicPr/>
          <p:nvPr/>
        </p:nvPicPr>
        <p:blipFill>
          <a:blip r:embed="rId2"/>
          <a:stretch/>
        </p:blipFill>
        <p:spPr>
          <a:xfrm>
            <a:off x="5105520" y="2514600"/>
            <a:ext cx="35416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thes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se are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blue pen and red penc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yellow chick and pink pi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brown dog and grey c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green fro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://giftspro.ru/goods-files/gifts_ru/main/default/954/l4123.41_8_tiff_1000x1000.jpg"/>
          <p:cNvPicPr/>
          <p:nvPr/>
        </p:nvPicPr>
        <p:blipFill>
          <a:blip r:embed="rId1"/>
          <a:stretch/>
        </p:blipFill>
        <p:spPr>
          <a:xfrm>
            <a:off x="6019920" y="15238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http://www.freeimageslive.co.uk/files/images009/red-pencil.jpg"/>
          <p:cNvPicPr/>
          <p:nvPr/>
        </p:nvPicPr>
        <p:blipFill>
          <a:blip r:embed="rId2"/>
          <a:stretch/>
        </p:blipFill>
        <p:spPr>
          <a:xfrm>
            <a:off x="6095880" y="4343400"/>
            <a:ext cx="2293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бразец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hn is young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is stro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y is … . She is …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41457139_dPPNGV5cdzRARZWISHEg4_6uiLzq9ovMB1GKGJxFicU"/>
          <p:cNvPicPr/>
          <p:nvPr/>
        </p:nvPicPr>
        <p:blipFill>
          <a:blip r:embed="rId1"/>
          <a:stretch/>
        </p:blipFill>
        <p:spPr>
          <a:xfrm>
            <a:off x="6324480" y="11430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957082355"/>
          <p:cNvPicPr/>
          <p:nvPr/>
        </p:nvPicPr>
        <p:blipFill>
          <a:blip r:embed="rId2"/>
          <a:stretch/>
        </p:blipFill>
        <p:spPr>
          <a:xfrm>
            <a:off x="6095880" y="3962520"/>
            <a:ext cx="261000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бразец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he bag is old. It is brow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hat is … . It is …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119598324_2"/>
          <p:cNvPicPr/>
          <p:nvPr/>
        </p:nvPicPr>
        <p:blipFill>
          <a:blip r:embed="rId1"/>
          <a:stretch/>
        </p:blipFill>
        <p:spPr>
          <a:xfrm>
            <a:off x="6553080" y="1523880"/>
            <a:ext cx="2000520" cy="1562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1501-0337_m1_1425538335"/>
          <p:cNvPicPr/>
          <p:nvPr/>
        </p:nvPicPr>
        <p:blipFill>
          <a:blip r:embed="rId2"/>
          <a:stretch/>
        </p:blipFill>
        <p:spPr>
          <a:xfrm>
            <a:off x="6629400" y="3657600"/>
            <a:ext cx="19717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62120" y="1066680"/>
          <a:ext cx="7839000" cy="5386680"/>
        </p:xfrm>
        <a:graphic>
          <a:graphicData uri="http://schemas.openxmlformats.org/drawingml/2006/table">
            <a:tbl>
              <a:tblPr/>
              <a:tblGrid>
                <a:gridCol w="712800"/>
                <a:gridCol w="711000"/>
                <a:gridCol w="712800"/>
                <a:gridCol w="711360"/>
                <a:gridCol w="712800"/>
                <a:gridCol w="714240"/>
                <a:gridCol w="712800"/>
                <a:gridCol w="712800"/>
                <a:gridCol w="712800"/>
                <a:gridCol w="712800"/>
                <a:gridCol w="712800"/>
              </a:tblGrid>
              <a:tr h="59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</a:tr>
              <a:tr h="59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</a:tr>
              <a:tr h="59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</a:tr>
              <a:tr h="59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</a:tr>
              <a:tr h="59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43634"/>
                      </a:solidFill>
                    </a:lnL>
                    <a:lnR w="5760">
                      <a:solidFill>
                        <a:srgbClr val="943634"/>
                      </a:solidFill>
                    </a:lnR>
                    <a:lnT w="5760">
                      <a:solidFill>
                        <a:srgbClr val="943634"/>
                      </a:solidFill>
                    </a:lnT>
                    <a:lnB w="5760">
                      <a:solidFill>
                        <a:srgbClr val="943634"/>
                      </a:solidFill>
                    </a:lnB>
                    <a:solidFill>
                      <a:srgbClr val="94363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ros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… are they? They are yellow and whi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ap is …gre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11" descr="634467__yellow-pear_p"/>
          <p:cNvPicPr/>
          <p:nvPr/>
        </p:nvPicPr>
        <p:blipFill>
          <a:blip r:embed="rId1"/>
          <a:stretch/>
        </p:blipFill>
        <p:spPr>
          <a:xfrm>
            <a:off x="4724280" y="2895480"/>
            <a:ext cx="1685880" cy="1266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forumgazel-fincanpng+%2834%29"/>
          <p:cNvPicPr/>
          <p:nvPr/>
        </p:nvPicPr>
        <p:blipFill>
          <a:blip r:embed="rId2"/>
          <a:stretch/>
        </p:blipFill>
        <p:spPr>
          <a:xfrm>
            <a:off x="6324480" y="2971800"/>
            <a:ext cx="1600200" cy="1133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p_010_112441"/>
          <p:cNvPicPr/>
          <p:nvPr/>
        </p:nvPicPr>
        <p:blipFill>
          <a:blip r:embed="rId3"/>
          <a:stretch/>
        </p:blipFill>
        <p:spPr>
          <a:xfrm>
            <a:off x="4800600" y="4495680"/>
            <a:ext cx="180036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1T06:45:30Z</dcterms:created>
  <dc:creator>Болычева А.И.</dc:creator>
  <dc:description/>
  <dc:language>en-US</dc:language>
  <cp:lastModifiedBy>Светлана</cp:lastModifiedBy>
  <dcterms:modified xsi:type="dcterms:W3CDTF">2017-09-02T17:29:25Z</dcterms:modified>
  <cp:revision>35</cp:revision>
  <dc:subject/>
  <dc:title>Слайд 1</dc:title>
</cp:coreProperties>
</file>