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C98-4CDF-4B0D-ACB7-EEDFAC21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7DC-7B72-41BA-92A5-E056C115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A26-7CBB-40F2-A0AD-7C5F8EDD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CFD-D3F9-4D26-8E8E-8EA5FC2F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8E2-77D9-4961-8AF6-F3109EA4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3E7-AEC1-498E-8F7D-73AB7A8B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210-9EDD-4F67-9886-A78B21E7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220-05C8-43FE-B804-DFCB7E30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334-CFF8-40DA-B4E1-917303AA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245-ED33-46B7-9BB4-4A80D6B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172-473C-46CE-BB2C-71316682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C6F-2AF0-4497-987E-DD523FCA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ell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6617-9ED2-4D70-B6DA-1AC058B471CC}" type="slidenum">
              <a:rPr b="0" lang="ru-RU" sz="1200" spc="-1" strike="noStrike">
                <a:solidFill>
                  <a:srgbClr val="898989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3716280"/>
            <a:ext cx="7848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Алфавит"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835280" y="765000"/>
            <a:ext cx="5545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а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45720" y="421488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есная новогодняя красавиц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143680" y="55008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  </a:t>
            </a: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ел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73" name="Picture 5" descr="http://content.foto.mail.ru/bk/220511/1566/s-1585.jpg"/>
          <p:cNvPicPr/>
          <p:nvPr/>
        </p:nvPicPr>
        <p:blipFill>
          <a:blip r:embed="rId1"/>
          <a:stretch/>
        </p:blipFill>
        <p:spPr>
          <a:xfrm>
            <a:off x="3214800" y="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50840" y="4286160"/>
            <a:ext cx="73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      </a:t>
            </a: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тица, встающая раньше всех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5000760" y="542916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жаворонок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78" name="Picture 7" descr="http://content.foto.mail.ru/bk/220511/1566/s-1588.jpg"/>
          <p:cNvPicPr/>
          <p:nvPr/>
        </p:nvPicPr>
        <p:blipFill>
          <a:blip r:embed="rId1"/>
          <a:stretch/>
        </p:blipFill>
        <p:spPr>
          <a:xfrm>
            <a:off x="3214800" y="142920"/>
            <a:ext cx="3301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1000080" y="43578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писание предмета или явления, которое нужно отгадат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714920" y="55008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81" name="Picture 5" descr="http://content.foto.mail.ru/bk/220511/1566/s-1591.jpg"/>
          <p:cNvPicPr/>
          <p:nvPr/>
        </p:nvPicPr>
        <p:blipFill>
          <a:blip r:embed="rId1"/>
          <a:stretch/>
        </p:blipFill>
        <p:spPr>
          <a:xfrm>
            <a:off x="3357720" y="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369000" y="4286160"/>
            <a:ext cx="74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Место, где река берет свое начало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071960" y="5214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Исток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84" name="Picture 5" descr="http://content.foto.mail.ru/bk/220511/1566/s-1594.jpg"/>
          <p:cNvPicPr/>
          <p:nvPr/>
        </p:nvPicPr>
        <p:blipFill>
          <a:blip r:embed="rId1"/>
          <a:stretch/>
        </p:blipFill>
        <p:spPr>
          <a:xfrm>
            <a:off x="3500280" y="0"/>
            <a:ext cx="27147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61440" y="4286160"/>
            <a:ext cx="78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Кинорежиссер фильмов «Кавказская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ленница»,  «Бриллиантовая рука»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357800" y="57862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Гайдай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91" name="Picture 9" descr="http://content.foto.mail.ru/bk/220511/1566/s-1597.jpg"/>
          <p:cNvPicPr/>
          <p:nvPr/>
        </p:nvPicPr>
        <p:blipFill>
          <a:blip r:embed="rId1"/>
          <a:stretch/>
        </p:blipFill>
        <p:spPr>
          <a:xfrm>
            <a:off x="3429000" y="0"/>
            <a:ext cx="2428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428760" y="3786120"/>
            <a:ext cx="848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истема счисления больших промежутков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времени, основанная на периодичност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вижения небесных тел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786200" y="550080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календар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94" name="Picture 5" descr="http://content.foto.mail.ru/bk/220511/1566/s-1600.jpg"/>
          <p:cNvPicPr/>
          <p:nvPr/>
        </p:nvPicPr>
        <p:blipFill>
          <a:blip r:embed="rId1"/>
          <a:stretch/>
        </p:blipFill>
        <p:spPr>
          <a:xfrm>
            <a:off x="3286080" y="6480"/>
            <a:ext cx="2635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4000" y="162864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50920" y="1557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9" name="TextBox 50"/>
          <p:cNvSpPr/>
          <p:nvPr/>
        </p:nvSpPr>
        <p:spPr>
          <a:xfrm>
            <a:off x="762840" y="4214880"/>
            <a:ext cx="618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бласть, переходная между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есом и степью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0" name="TextBox 51"/>
          <p:cNvSpPr/>
          <p:nvPr/>
        </p:nvSpPr>
        <p:spPr>
          <a:xfrm>
            <a:off x="5701320" y="5429160"/>
            <a:ext cx="23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лесостеп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01" name="Picture 9" descr="http://content.foto.mail.ru/bk/220511/1566/s-1603.jpg"/>
          <p:cNvPicPr/>
          <p:nvPr/>
        </p:nvPicPr>
        <p:blipFill>
          <a:blip r:embed="rId1"/>
          <a:stretch/>
        </p:blipFill>
        <p:spPr>
          <a:xfrm>
            <a:off x="3286080" y="0"/>
            <a:ext cx="2362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8"/>
          <p:cNvSpPr/>
          <p:nvPr/>
        </p:nvSpPr>
        <p:spPr>
          <a:xfrm>
            <a:off x="1071720" y="4429080"/>
            <a:ext cx="724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риспособление для размола зерн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4857840" y="52862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мельниц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04" name="Picture 5" descr="http://content.foto.mail.ru/bk/220511/1566/s-1606.jpg"/>
          <p:cNvPicPr/>
          <p:nvPr/>
        </p:nvPicPr>
        <p:blipFill>
          <a:blip r:embed="rId1"/>
          <a:stretch/>
        </p:blipFill>
        <p:spPr>
          <a:xfrm>
            <a:off x="3071880" y="214200"/>
            <a:ext cx="32796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776520" y="4357800"/>
            <a:ext cx="67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Условное обозначение в музык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000840" y="557208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нот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07" name="Picture 5" descr="http://content.foto.mail.ru/bk/220511/1566/s-1609.jpg"/>
          <p:cNvPicPr/>
          <p:nvPr/>
        </p:nvPicPr>
        <p:blipFill>
          <a:blip r:embed="rId1"/>
          <a:stretch/>
        </p:blipFill>
        <p:spPr>
          <a:xfrm>
            <a:off x="3238560" y="0"/>
            <a:ext cx="2778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529560" y="435780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Райский уголок в пустын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929120" y="550080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оазис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0" name="Picture 5" descr="http://content.foto.mail.ru/bk/220511/1566/s-1612.jpg"/>
          <p:cNvPicPr/>
          <p:nvPr/>
        </p:nvPicPr>
        <p:blipFill>
          <a:blip r:embed="rId1"/>
          <a:stretch/>
        </p:blipFill>
        <p:spPr>
          <a:xfrm>
            <a:off x="2857680" y="0"/>
            <a:ext cx="36432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частливая случайность выпадает лишь на долю подготовленных умов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                          Луи Паст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68"/>
          <p:cNvSpPr/>
          <p:nvPr/>
        </p:nvSpPr>
        <p:spPr>
          <a:xfrm>
            <a:off x="245520" y="4357800"/>
            <a:ext cx="62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ъемная с лысины шевелюр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12" name="TextBox 169"/>
          <p:cNvSpPr/>
          <p:nvPr/>
        </p:nvSpPr>
        <p:spPr>
          <a:xfrm>
            <a:off x="5863320" y="564372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парик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3" name="Picture 5" descr="http://content.foto.mail.ru/bk/220511/1566/s-1615.jpg"/>
          <p:cNvPicPr/>
          <p:nvPr/>
        </p:nvPicPr>
        <p:blipFill>
          <a:blip r:embed="rId1"/>
          <a:stretch/>
        </p:blipFill>
        <p:spPr>
          <a:xfrm>
            <a:off x="3286080" y="0"/>
            <a:ext cx="25002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000080" y="4071960"/>
            <a:ext cx="618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сновная сельскохозяйственная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культура в Кита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760" y="535788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рис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6" name="Picture 5" descr="http://content.foto.mail.ru/bk/220511/1566/s-1618.jpg"/>
          <p:cNvPicPr/>
          <p:nvPr/>
        </p:nvPicPr>
        <p:blipFill>
          <a:blip r:embed="rId1"/>
          <a:stretch/>
        </p:blipFill>
        <p:spPr>
          <a:xfrm>
            <a:off x="3359160" y="0"/>
            <a:ext cx="2712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441720" y="435780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снова торта «Птичье молоко»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857840" y="5429160"/>
            <a:ext cx="19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суфл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9" name="Picture 5" descr="http://content.foto.mail.ru/bk/220511/1566/s-1621.jpg"/>
          <p:cNvPicPr/>
          <p:nvPr/>
        </p:nvPicPr>
        <p:blipFill>
          <a:blip r:embed="rId1"/>
          <a:stretch/>
        </p:blipFill>
        <p:spPr>
          <a:xfrm>
            <a:off x="3000240" y="0"/>
            <a:ext cx="32227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177840" y="4286160"/>
            <a:ext cx="73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Женская обувь на высоком каблук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000760" y="52862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туфл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22" name="Picture 5" descr="http://content.foto.mail.ru/bk/220511/1566/s-1624.jpg"/>
          <p:cNvPicPr/>
          <p:nvPr/>
        </p:nvPicPr>
        <p:blipFill>
          <a:blip r:embed="rId1"/>
          <a:stretch/>
        </p:blipFill>
        <p:spPr>
          <a:xfrm>
            <a:off x="3357720" y="0"/>
            <a:ext cx="25574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649080" y="4286160"/>
            <a:ext cx="39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«Поцелуй» комар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286240" y="535788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укус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25" name="Picture 5" descr="http://content.foto.mail.ru/bk/220511/1566/s-1627.jpg"/>
          <p:cNvPicPr/>
          <p:nvPr/>
        </p:nvPicPr>
        <p:blipFill>
          <a:blip r:embed="rId1"/>
          <a:stretch/>
        </p:blipFill>
        <p:spPr>
          <a:xfrm>
            <a:off x="3254400" y="0"/>
            <a:ext cx="27464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284040" y="4214880"/>
            <a:ext cx="89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Номер, демонстрирующий необъяснимые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эффекты, «чудеса»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286240" y="54291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фокус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28" name="Picture 5" descr="http://content.foto.mail.ru/bk/220511/1566/s-1630.jpg"/>
          <p:cNvPicPr/>
          <p:nvPr/>
        </p:nvPicPr>
        <p:blipFill>
          <a:blip r:embed="rId1"/>
          <a:stretch/>
        </p:blipFill>
        <p:spPr>
          <a:xfrm>
            <a:off x="2857680" y="0"/>
            <a:ext cx="3288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247680" y="4429080"/>
            <a:ext cx="863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Высоко квалифицированный специалис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ИК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214960" y="550080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хакер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1" name="Picture 5" descr="http://content.foto.mail.ru/bk/220511/1566/s-1633.jpg"/>
          <p:cNvPicPr/>
          <p:nvPr/>
        </p:nvPicPr>
        <p:blipFill>
          <a:blip r:embed="rId1"/>
          <a:stretch/>
        </p:blipFill>
        <p:spPr>
          <a:xfrm>
            <a:off x="3500280" y="0"/>
            <a:ext cx="2714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1501920" y="428616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етеныш куриц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286240" y="5429160"/>
            <a:ext cx="21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цыпленок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4" name="Picture 5" descr="http://content.foto.mail.ru/bk/220511/1566/s-1636.jpg"/>
          <p:cNvPicPr/>
          <p:nvPr/>
        </p:nvPicPr>
        <p:blipFill>
          <a:blip r:embed="rId1"/>
          <a:stretch/>
        </p:blipFill>
        <p:spPr>
          <a:xfrm>
            <a:off x="3214800" y="0"/>
            <a:ext cx="28810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642960" y="400068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Город, в котором произошла катастрофа из-за утечки радиоактивных материалов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072040" y="535788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Чернобыл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7" name="Picture 5" descr="http://content.foto.mail.ru/bk/220511/1566/s-1639.jpg"/>
          <p:cNvPicPr/>
          <p:nvPr/>
        </p:nvPicPr>
        <p:blipFill>
          <a:blip r:embed="rId1"/>
          <a:stretch/>
        </p:blipFill>
        <p:spPr>
          <a:xfrm>
            <a:off x="3143160" y="0"/>
            <a:ext cx="2675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429120" y="4643280"/>
            <a:ext cx="64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Головной убор мотоциклист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500720" y="5572080"/>
            <a:ext cx="21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шле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0" name="Picture 5" descr="http://content.foto.mail.ru/bk/220511/1566/s-1642.jpg"/>
          <p:cNvPicPr/>
          <p:nvPr/>
        </p:nvPicPr>
        <p:blipFill>
          <a:blip r:embed="rId1"/>
          <a:stretch/>
        </p:blipFill>
        <p:spPr>
          <a:xfrm>
            <a:off x="3182760" y="30240"/>
            <a:ext cx="26751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иг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1285920"/>
            <a:ext cx="828036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грающий отвечает на 33 вопроса. Ответом на каждый вопрос является слово начинающееся на  букву алфавита по порядку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ответы дается определенное время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ждый угаданный ответ игрок получает один балл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быстроту ответов начисляются дополнительные баллы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гру оценивает жюри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1071720" y="4143240"/>
            <a:ext cx="754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Национальное первое блюдо (русское)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000760" y="52862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щ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3" name="Picture 5" descr="http://content.foto.mail.ru/bk/220511/1566/s-1645.jpg"/>
          <p:cNvPicPr/>
          <p:nvPr/>
        </p:nvPicPr>
        <p:blipFill>
          <a:blip r:embed="rId1"/>
          <a:stretch/>
        </p:blipFill>
        <p:spPr>
          <a:xfrm>
            <a:off x="3000240" y="0"/>
            <a:ext cx="2928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12040" y="4214880"/>
            <a:ext cx="57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Цветок с мужским имене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214960" y="571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Василек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6" name="Picture 5" descr="http://content.foto.mail.ru/bk/220511/1566/s-1648.jpg"/>
          <p:cNvPicPr/>
          <p:nvPr/>
        </p:nvPicPr>
        <p:blipFill>
          <a:blip r:embed="rId1"/>
          <a:stretch/>
        </p:blipFill>
        <p:spPr>
          <a:xfrm>
            <a:off x="3357720" y="0"/>
            <a:ext cx="2714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571680" y="400068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трессовый гормон, чью концентрацию в крови повышает уличный шу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572080" y="571500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адреналин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9" name="Picture 5" descr="http://content.foto.mail.ru/bk/220511/1566/s-1651.jpg"/>
          <p:cNvPicPr/>
          <p:nvPr/>
        </p:nvPicPr>
        <p:blipFill>
          <a:blip r:embed="rId1"/>
          <a:stretch/>
        </p:blipFill>
        <p:spPr>
          <a:xfrm>
            <a:off x="3000240" y="0"/>
            <a:ext cx="32864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785880" y="3857760"/>
            <a:ext cx="61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Искусство резьбы на цветных и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рагоценных камнях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072040" y="5857920"/>
            <a:ext cx="31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глипти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52" name="Picture 5" descr="http://content.foto.mail.ru/bk/220511/1566/s-1654.jpg"/>
          <p:cNvPicPr/>
          <p:nvPr/>
        </p:nvPicPr>
        <p:blipFill>
          <a:blip r:embed="rId1"/>
          <a:stretch/>
        </p:blipFill>
        <p:spPr>
          <a:xfrm>
            <a:off x="3143160" y="0"/>
            <a:ext cx="25005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714240" y="407196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оход группы человек по достопримечательностям какого-либо город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5214960" y="550080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55" name="Picture 5" descr="http://content.foto.mail.ru/bk/220511/1566/s-1657.jpg"/>
          <p:cNvPicPr/>
          <p:nvPr/>
        </p:nvPicPr>
        <p:blipFill>
          <a:blip r:embed="rId1"/>
          <a:stretch/>
        </p:blipFill>
        <p:spPr>
          <a:xfrm>
            <a:off x="3286080" y="0"/>
            <a:ext cx="2752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2"/>
          <p:cNvSpPr/>
          <p:nvPr/>
        </p:nvSpPr>
        <p:spPr>
          <a:xfrm>
            <a:off x="1143000" y="450072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амый младший член команды на корабл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5572080" y="5554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юнг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58" name="Picture 5" descr="http://content.foto.mail.ru/bk/220511/1566/s-1660.jpg"/>
          <p:cNvPicPr/>
          <p:nvPr/>
        </p:nvPicPr>
        <p:blipFill>
          <a:blip r:embed="rId1"/>
          <a:stretch/>
        </p:blipFill>
        <p:spPr>
          <a:xfrm>
            <a:off x="2857680" y="0"/>
            <a:ext cx="3603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2"/>
          <p:cNvSpPr/>
          <p:nvPr/>
        </p:nvSpPr>
        <p:spPr>
          <a:xfrm>
            <a:off x="428760" y="3857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ревний  бог солнца, бог весны, бог весеннего солнца, бог плодороди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715000" y="550080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Ярило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61" name="Picture 5" descr="http://content.foto.mail.ru/bk/220511/1566/s-1663.jpg"/>
          <p:cNvPicPr/>
          <p:nvPr/>
        </p:nvPicPr>
        <p:blipFill>
          <a:blip r:embed="rId1"/>
          <a:stretch/>
        </p:blipFill>
        <p:spPr>
          <a:xfrm>
            <a:off x="3143160" y="-15840"/>
            <a:ext cx="27129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11"/>
          <p:cNvSpPr txBox="1"/>
          <p:nvPr/>
        </p:nvSpPr>
        <p:spPr>
          <a:xfrm>
            <a:off x="971640" y="981000"/>
            <a:ext cx="237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07932" dir="81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07932" dir="81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900000" y="4076640"/>
            <a:ext cx="266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43040" y="5285880"/>
            <a:ext cx="54864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91960" y="4572000"/>
            <a:ext cx="74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роизведение в котором писател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писывает свою жизн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857840" y="571500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автобиографи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51" name="Picture 8" descr="http://content.foto.mail.ru/bk/220511/1566/s-1567.jpg"/>
          <p:cNvPicPr/>
          <p:nvPr/>
        </p:nvPicPr>
        <p:blipFill>
          <a:blip r:embed="rId1"/>
          <a:stretch/>
        </p:blipFill>
        <p:spPr>
          <a:xfrm>
            <a:off x="3286080" y="0"/>
            <a:ext cx="30006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6"/>
          <p:cNvSpPr/>
          <p:nvPr/>
        </p:nvSpPr>
        <p:spPr>
          <a:xfrm>
            <a:off x="357120" y="5143680"/>
            <a:ext cx="828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504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3" name="Rectangle 42"/>
          <p:cNvSpPr/>
          <p:nvPr/>
        </p:nvSpPr>
        <p:spPr>
          <a:xfrm>
            <a:off x="857160" y="4500720"/>
            <a:ext cx="755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4" name="Rectangle 44"/>
          <p:cNvSpPr/>
          <p:nvPr/>
        </p:nvSpPr>
        <p:spPr>
          <a:xfrm>
            <a:off x="1000080" y="4572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02040" y="4429080"/>
            <a:ext cx="833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Вид спорта, кулачный бой, по особы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равилам, между двумя спортсменам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214960" y="56437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бокс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57" name="Picture 8" descr="http://content.foto.mail.ru/bk/220511/1566/s-1570.jpg"/>
          <p:cNvPicPr/>
          <p:nvPr/>
        </p:nvPicPr>
        <p:blipFill>
          <a:blip r:embed="rId1"/>
          <a:stretch/>
        </p:blipFill>
        <p:spPr>
          <a:xfrm>
            <a:off x="3286080" y="0"/>
            <a:ext cx="26179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95280" y="1844640"/>
            <a:ext cx="81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09680" y="4286160"/>
            <a:ext cx="761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Животное, обитающее в пустыне,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шутливо названное «Ходячая гора»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357880" y="5357880"/>
            <a:ext cx="25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верблюд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1" name="Picture 6" descr="http://content.foto.mail.ru/bk/220511/1566/s-1573.jpg"/>
          <p:cNvPicPr/>
          <p:nvPr/>
        </p:nvPicPr>
        <p:blipFill>
          <a:blip r:embed="rId1"/>
          <a:stretch/>
        </p:blipFill>
        <p:spPr>
          <a:xfrm>
            <a:off x="3286080" y="0"/>
            <a:ext cx="29606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247680" y="4214880"/>
            <a:ext cx="63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ечебное средство от кашл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929120" y="51436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горчичник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4" name="Picture 5" descr="http://content.foto.mail.ru/bk/220511/1566/s-1576.jpg"/>
          <p:cNvPicPr/>
          <p:nvPr/>
        </p:nvPicPr>
        <p:blipFill>
          <a:blip r:embed="rId1"/>
          <a:stretch/>
        </p:blipFill>
        <p:spPr>
          <a:xfrm>
            <a:off x="2857680" y="0"/>
            <a:ext cx="28936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194040" y="4214880"/>
            <a:ext cx="44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Разговор двух людей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214880" y="5357880"/>
            <a:ext cx="29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диалог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7" name="Picture 5" descr="http://content.foto.mail.ru/bk/220511/1566/s-1579.jpg"/>
          <p:cNvPicPr/>
          <p:nvPr/>
        </p:nvPicPr>
        <p:blipFill>
          <a:blip r:embed="rId1"/>
          <a:stretch/>
        </p:blipFill>
        <p:spPr>
          <a:xfrm>
            <a:off x="3000240" y="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857160" y="4143240"/>
            <a:ext cx="805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Уральский город, который примет матч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чемпионата мира по футболу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4857840" y="5429160"/>
            <a:ext cx="29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Екатеринбург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70" name="Picture 5" descr="http://content.foto.mail.ru/bk/220511/1566/s-1582.jpg"/>
          <p:cNvPicPr/>
          <p:nvPr/>
        </p:nvPicPr>
        <p:blipFill>
          <a:blip r:embed="rId1"/>
          <a:stretch/>
        </p:blipFill>
        <p:spPr>
          <a:xfrm>
            <a:off x="3214800" y="0"/>
            <a:ext cx="27144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4:20:06Z</dcterms:created>
  <dc:creator>Любовь</dc:creator>
  <dc:description/>
  <dc:language>en-US</dc:language>
  <cp:lastModifiedBy>DOM</cp:lastModifiedBy>
  <dcterms:modified xsi:type="dcterms:W3CDTF">2013-10-07T14:34:19Z</dcterms:modified>
  <cp:revision>170</cp:revision>
  <dc:subject/>
  <dc:title>Слайд 1</dc:title>
</cp:coreProperties>
</file>