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FB8-F287-4464-AEEE-C1BEA80B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714-E941-48CD-B71F-CFBA8F35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48A-FE3E-4B51-97C5-A98C64C1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F26-F937-4E98-86BF-87981A02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28F-AE88-4132-8D81-43081787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FA7-2619-4532-8F2E-46FE8AAD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5BE-FE13-476A-8D4E-EA2F42C3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BD0-8E8B-4BBE-BA6B-F35469C0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373-7D4D-4B7B-A1E4-C9EE6CB4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595-8811-4E3D-8D24-6B5D250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F6C-0DDD-46A9-ADC9-96D82D40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F46-5F72-425E-99F0-05D01689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ell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459F-2B8E-476B-9B70-20F84C82A9CD}" type="slidenum">
              <a:rPr b="0" lang="ru-RU" sz="1200" spc="-1" strike="noStrike">
                <a:solidFill>
                  <a:srgbClr val="898989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3716280"/>
            <a:ext cx="7848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Алфавит"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835280" y="765000"/>
            <a:ext cx="5545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гра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79200" y="421488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севдоним популярной певиц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143680" y="550080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  </a:t>
            </a: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Елк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73" name="Picture 5" descr="http://content.foto.mail.ru/bk/220511/1566/s-1585.jpg"/>
          <p:cNvPicPr/>
          <p:nvPr/>
        </p:nvPicPr>
        <p:blipFill>
          <a:blip r:embed="rId1"/>
          <a:stretch/>
        </p:blipFill>
        <p:spPr>
          <a:xfrm>
            <a:off x="3357720" y="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9720" y="428616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      </a:t>
            </a: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Движение рукой, сопровождающее реч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5000760" y="54291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жест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78" name="Picture 7" descr="http://content.foto.mail.ru/bk/220511/1566/s-1588.jpg"/>
          <p:cNvPicPr/>
          <p:nvPr/>
        </p:nvPicPr>
        <p:blipFill>
          <a:blip r:embed="rId1"/>
          <a:stretch/>
        </p:blipFill>
        <p:spPr>
          <a:xfrm>
            <a:off x="3000240" y="0"/>
            <a:ext cx="35229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1000080" y="43578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толица Хорвати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714920" y="55008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Загреб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81" name="Picture 5" descr="http://content.foto.mail.ru/bk/220511/1566/s-1591.jpg"/>
          <p:cNvPicPr/>
          <p:nvPr/>
        </p:nvPicPr>
        <p:blipFill>
          <a:blip r:embed="rId1"/>
          <a:stretch/>
        </p:blipFill>
        <p:spPr>
          <a:xfrm>
            <a:off x="3143160" y="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531000" y="4286160"/>
            <a:ext cx="44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Забава, развлечение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429080" y="521496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84" name="Picture 5" descr="http://content.foto.mail.ru/bk/220511/1566/s-1594.jpg"/>
          <p:cNvPicPr/>
          <p:nvPr/>
        </p:nvPicPr>
        <p:blipFill>
          <a:blip r:embed="rId1"/>
          <a:stretch/>
        </p:blipFill>
        <p:spPr>
          <a:xfrm>
            <a:off x="3071880" y="0"/>
            <a:ext cx="3076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260280" y="4286160"/>
            <a:ext cx="870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Лыжная гонка со стрельбой по мишеням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4357800" y="578628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биатлон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91" name="Picture 9" descr="http://content.foto.mail.ru/bk/220511/1566/s-1597.jpg"/>
          <p:cNvPicPr/>
          <p:nvPr/>
        </p:nvPicPr>
        <p:blipFill>
          <a:blip r:embed="rId1"/>
          <a:stretch/>
        </p:blipFill>
        <p:spPr>
          <a:xfrm>
            <a:off x="3357720" y="34920"/>
            <a:ext cx="27003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646920" y="4214880"/>
            <a:ext cx="63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Чертеж земной поверхност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786200" y="550080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карт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94" name="Picture 5" descr="http://content.foto.mail.ru/bk/220511/1566/s-1600.jpg"/>
          <p:cNvPicPr/>
          <p:nvPr/>
        </p:nvPicPr>
        <p:blipFill>
          <a:blip r:embed="rId1"/>
          <a:stretch/>
        </p:blipFill>
        <p:spPr>
          <a:xfrm>
            <a:off x="3214800" y="0"/>
            <a:ext cx="2857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4000" y="162864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50920" y="1557360"/>
            <a:ext cx="8353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9" name="TextBox 50"/>
          <p:cNvSpPr/>
          <p:nvPr/>
        </p:nvSpPr>
        <p:spPr>
          <a:xfrm>
            <a:off x="730440" y="42148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Массы снега, низвергающиеся с гор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0" name="TextBox 51"/>
          <p:cNvSpPr/>
          <p:nvPr/>
        </p:nvSpPr>
        <p:spPr>
          <a:xfrm>
            <a:off x="5757480" y="54291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лавин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01" name="Picture 9" descr="http://content.foto.mail.ru/bk/220511/1566/s-1603.jpg"/>
          <p:cNvPicPr/>
          <p:nvPr/>
        </p:nvPicPr>
        <p:blipFill>
          <a:blip r:embed="rId1"/>
          <a:stretch/>
        </p:blipFill>
        <p:spPr>
          <a:xfrm>
            <a:off x="3357720" y="0"/>
            <a:ext cx="2643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8"/>
          <p:cNvSpPr/>
          <p:nvPr/>
        </p:nvSpPr>
        <p:spPr>
          <a:xfrm>
            <a:off x="642960" y="4071960"/>
            <a:ext cx="788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ланета солнечной системы,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дноименная с известным шоколадом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4857840" y="52862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Марс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04" name="Picture 5" descr="http://content.foto.mail.ru/bk/220511/1566/s-1606.jpg"/>
          <p:cNvPicPr/>
          <p:nvPr/>
        </p:nvPicPr>
        <p:blipFill>
          <a:blip r:embed="rId1"/>
          <a:stretch/>
        </p:blipFill>
        <p:spPr>
          <a:xfrm>
            <a:off x="3071880" y="0"/>
            <a:ext cx="3475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1011600" y="4357800"/>
            <a:ext cx="43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Жилище животного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000840" y="55720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нор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07" name="Picture 5" descr="http://content.foto.mail.ru/bk/220511/1566/s-1609.jpg"/>
          <p:cNvPicPr/>
          <p:nvPr/>
        </p:nvPicPr>
        <p:blipFill>
          <a:blip r:embed="rId1"/>
          <a:stretch/>
        </p:blipFill>
        <p:spPr>
          <a:xfrm>
            <a:off x="3214800" y="0"/>
            <a:ext cx="3174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500400" y="4357800"/>
            <a:ext cx="589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Часть суши, со всех сторон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круженная водой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929120" y="585792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остров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0" name="Picture 5" descr="http://content.foto.mail.ru/bk/220511/1566/s-1612.jpg"/>
          <p:cNvPicPr/>
          <p:nvPr/>
        </p:nvPicPr>
        <p:blipFill>
          <a:blip r:embed="rId1"/>
          <a:stretch/>
        </p:blipFill>
        <p:spPr>
          <a:xfrm>
            <a:off x="3214800" y="0"/>
            <a:ext cx="34858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Счастливая случайность выпадает лишь на долю подготовленных умов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                            Луи Паст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68"/>
          <p:cNvSpPr/>
          <p:nvPr/>
        </p:nvSpPr>
        <p:spPr>
          <a:xfrm>
            <a:off x="191160" y="4357800"/>
            <a:ext cx="54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Точка, место назначения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12" name="TextBox 169"/>
          <p:cNvSpPr/>
          <p:nvPr/>
        </p:nvSpPr>
        <p:spPr>
          <a:xfrm>
            <a:off x="5072040" y="564372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пункт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3" name="Picture 5" descr="http://content.foto.mail.ru/bk/220511/1566/s-1615.jpg"/>
          <p:cNvPicPr/>
          <p:nvPr/>
        </p:nvPicPr>
        <p:blipFill>
          <a:blip r:embed="rId1"/>
          <a:stretch/>
        </p:blipFill>
        <p:spPr>
          <a:xfrm>
            <a:off x="3348000" y="0"/>
            <a:ext cx="2712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1000080" y="4000680"/>
            <a:ext cx="489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Летательный аппарат с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реактивным двигателем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000760" y="535788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ракет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6" name="Picture 5" descr="http://content.foto.mail.ru/bk/220511/1566/s-1618.jpg"/>
          <p:cNvPicPr/>
          <p:nvPr/>
        </p:nvPicPr>
        <p:blipFill>
          <a:blip r:embed="rId1"/>
          <a:stretch/>
        </p:blipFill>
        <p:spPr>
          <a:xfrm>
            <a:off x="3000240" y="0"/>
            <a:ext cx="30718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505080" y="435780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Зимняя повозк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857840" y="5429160"/>
            <a:ext cx="19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сан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19" name="Picture 5" descr="http://content.foto.mail.ru/bk/220511/1566/s-1621.jpg"/>
          <p:cNvPicPr/>
          <p:nvPr/>
        </p:nvPicPr>
        <p:blipFill>
          <a:blip r:embed="rId1"/>
          <a:stretch/>
        </p:blipFill>
        <p:spPr>
          <a:xfrm>
            <a:off x="3143160" y="0"/>
            <a:ext cx="32306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433800" y="4286160"/>
            <a:ext cx="40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Лестница на судне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000760" y="55720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трап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22" name="Picture 5" descr="http://content.foto.mail.ru/bk/220511/1566/s-1624.jpg"/>
          <p:cNvPicPr/>
          <p:nvPr/>
        </p:nvPicPr>
        <p:blipFill>
          <a:blip r:embed="rId1"/>
          <a:stretch/>
        </p:blipFill>
        <p:spPr>
          <a:xfrm>
            <a:off x="3429000" y="0"/>
            <a:ext cx="25002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58720" y="4286160"/>
            <a:ext cx="50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рудие для ловли рыб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857840" y="535788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удочк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25" name="Picture 5" descr="http://content.foto.mail.ru/bk/220511/1566/s-1627.jpg"/>
          <p:cNvPicPr/>
          <p:nvPr/>
        </p:nvPicPr>
        <p:blipFill>
          <a:blip r:embed="rId1"/>
          <a:stretch/>
        </p:blipFill>
        <p:spPr>
          <a:xfrm>
            <a:off x="3314880" y="0"/>
            <a:ext cx="28288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453240" y="42148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оединение каких-либо судов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857840" y="54291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флотилия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28" name="Picture 5" descr="http://content.foto.mail.ru/bk/220511/1566/s-1630.jpg"/>
          <p:cNvPicPr/>
          <p:nvPr/>
        </p:nvPicPr>
        <p:blipFill>
          <a:blip r:embed="rId1"/>
          <a:stretch/>
        </p:blipFill>
        <p:spPr>
          <a:xfrm>
            <a:off x="2914560" y="0"/>
            <a:ext cx="34020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128520" y="4429080"/>
            <a:ext cx="89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Говорят, что этот продукт всему голов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214960" y="550080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хлеб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31" name="Picture 5" descr="http://content.foto.mail.ru/bk/220511/1566/s-1633.jpg"/>
          <p:cNvPicPr/>
          <p:nvPr/>
        </p:nvPicPr>
        <p:blipFill>
          <a:blip r:embed="rId1"/>
          <a:stretch/>
        </p:blipFill>
        <p:spPr>
          <a:xfrm>
            <a:off x="3286080" y="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1415880" y="428616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Лимон, апельсин, мандарин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286240" y="54291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цитрус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34" name="Picture 5" descr="http://content.foto.mail.ru/bk/220511/1566/s-1636.jpg"/>
          <p:cNvPicPr/>
          <p:nvPr/>
        </p:nvPicPr>
        <p:blipFill>
          <a:blip r:embed="rId1"/>
          <a:stretch/>
        </p:blipFill>
        <p:spPr>
          <a:xfrm>
            <a:off x="3357720" y="0"/>
            <a:ext cx="31003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642960" y="442908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Пирожок с мясом из восточной кухн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072040" y="535788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чебурек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37" name="Picture 5" descr="http://content.foto.mail.ru/bk/220511/1566/s-1639.jpg"/>
          <p:cNvPicPr/>
          <p:nvPr/>
        </p:nvPicPr>
        <p:blipFill>
          <a:blip r:embed="rId1"/>
          <a:stretch/>
        </p:blipFill>
        <p:spPr>
          <a:xfrm>
            <a:off x="3143160" y="0"/>
            <a:ext cx="30006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448920" y="4643280"/>
            <a:ext cx="50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Разновидность загадк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429160" y="557208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шарад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0" name="Picture 5" descr="http://content.foto.mail.ru/bk/220511/1566/s-1642.jpg"/>
          <p:cNvPicPr/>
          <p:nvPr/>
        </p:nvPicPr>
        <p:blipFill>
          <a:blip r:embed="rId1"/>
          <a:stretch/>
        </p:blipFill>
        <p:spPr>
          <a:xfrm>
            <a:off x="3094200" y="0"/>
            <a:ext cx="30603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иг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1285920"/>
            <a:ext cx="828036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грающий отвечает на 33 вопроса. Ответом на каждый вопрос является слово начинающееся на  букву алфавита по порядку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ответы дается определенное время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каждый угаданный ответ игрок получает один балл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быстроту ответов начисляются дополнительные баллы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гру оценивает жюри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1071720" y="4143240"/>
            <a:ext cx="754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Емеля – дурачок поймал эту рыбу из проруб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000760" y="528624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щук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3" name="Picture 5" descr="http://content.foto.mail.ru/bk/220511/1566/s-1645.jpg"/>
          <p:cNvPicPr/>
          <p:nvPr/>
        </p:nvPicPr>
        <p:blipFill>
          <a:blip r:embed="rId1"/>
          <a:stretch/>
        </p:blipFill>
        <p:spPr>
          <a:xfrm>
            <a:off x="2928960" y="0"/>
            <a:ext cx="34434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32200" y="4214880"/>
            <a:ext cx="62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Время, свободное от работ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214960" y="571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отдых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6" name="Picture 5" descr="http://content.foto.mail.ru/bk/220511/1566/s-1648.jpg"/>
          <p:cNvPicPr/>
          <p:nvPr/>
        </p:nvPicPr>
        <p:blipFill>
          <a:blip r:embed="rId1"/>
          <a:stretch/>
        </p:blipFill>
        <p:spPr>
          <a:xfrm>
            <a:off x="3357720" y="0"/>
            <a:ext cx="300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571680" y="4000680"/>
            <a:ext cx="59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Участник коррид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4929120" y="571500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тореадор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49" name="Picture 5" descr="http://content.foto.mail.ru/bk/220511/1566/s-1651.jpg"/>
          <p:cNvPicPr/>
          <p:nvPr/>
        </p:nvPicPr>
        <p:blipFill>
          <a:blip r:embed="rId1"/>
          <a:stretch/>
        </p:blipFill>
        <p:spPr>
          <a:xfrm>
            <a:off x="3143160" y="142920"/>
            <a:ext cx="3214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2"/>
          <p:cNvSpPr/>
          <p:nvPr/>
        </p:nvSpPr>
        <p:spPr>
          <a:xfrm>
            <a:off x="546840" y="4357800"/>
            <a:ext cx="455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ьный вопрос: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Морское судно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000760" y="5572080"/>
            <a:ext cx="31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корабл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52" name="Picture 5" descr="http://content.foto.mail.ru/bk/220511/1566/s-1654.jpg"/>
          <p:cNvPicPr/>
          <p:nvPr/>
        </p:nvPicPr>
        <p:blipFill>
          <a:blip r:embed="rId1"/>
          <a:stretch/>
        </p:blipFill>
        <p:spPr>
          <a:xfrm>
            <a:off x="3000240" y="-23760"/>
            <a:ext cx="24289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1357200" y="4071960"/>
            <a:ext cx="69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Одна из стран Балти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5214960" y="550080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Эстония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55" name="Picture 5" descr="http://content.foto.mail.ru/bk/220511/1566/s-1657.jpg"/>
          <p:cNvPicPr/>
          <p:nvPr/>
        </p:nvPicPr>
        <p:blipFill>
          <a:blip r:embed="rId1"/>
          <a:stretch/>
        </p:blipFill>
        <p:spPr>
          <a:xfrm>
            <a:off x="3429000" y="0"/>
            <a:ext cx="2643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2"/>
          <p:cNvSpPr/>
          <p:nvPr/>
        </p:nvSpPr>
        <p:spPr>
          <a:xfrm>
            <a:off x="1143000" y="450072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пециалист по правоведению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5572080" y="5554800"/>
            <a:ext cx="157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юрист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58" name="Picture 5" descr="http://content.foto.mail.ru/bk/220511/1566/s-1660.jpg"/>
          <p:cNvPicPr/>
          <p:nvPr/>
        </p:nvPicPr>
        <p:blipFill>
          <a:blip r:embed="rId1"/>
          <a:stretch/>
        </p:blipFill>
        <p:spPr>
          <a:xfrm>
            <a:off x="2857680" y="0"/>
            <a:ext cx="38559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2"/>
          <p:cNvSpPr/>
          <p:nvPr/>
        </p:nvSpPr>
        <p:spPr>
          <a:xfrm>
            <a:off x="977040" y="4500720"/>
            <a:ext cx="67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Ювелирно - поделочный камен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715000" y="550080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янтарь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61" name="Picture 5" descr="http://content.foto.mail.ru/bk/220511/1566/s-1663.jpg"/>
          <p:cNvPicPr/>
          <p:nvPr/>
        </p:nvPicPr>
        <p:blipFill>
          <a:blip r:embed="rId1"/>
          <a:stretch/>
        </p:blipFill>
        <p:spPr>
          <a:xfrm>
            <a:off x="3214800" y="0"/>
            <a:ext cx="292896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11"/>
          <p:cNvSpPr txBox="1"/>
          <p:nvPr/>
        </p:nvSpPr>
        <p:spPr>
          <a:xfrm>
            <a:off x="971640" y="981000"/>
            <a:ext cx="237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07932" dir="81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07932" dir="81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900000" y="4076640"/>
            <a:ext cx="266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43040" y="5285880"/>
            <a:ext cx="54864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88080" y="4572000"/>
            <a:ext cx="697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Утверждение, принимаемое без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доказательств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4816800" y="5715000"/>
            <a:ext cx="18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аксиом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51" name="Picture 8" descr="http://content.foto.mail.ru/bk/220511/1566/s-1567.jpg"/>
          <p:cNvPicPr/>
          <p:nvPr/>
        </p:nvPicPr>
        <p:blipFill>
          <a:blip r:embed="rId1"/>
          <a:stretch/>
        </p:blipFill>
        <p:spPr>
          <a:xfrm>
            <a:off x="3214800" y="0"/>
            <a:ext cx="28969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6"/>
          <p:cNvSpPr/>
          <p:nvPr/>
        </p:nvSpPr>
        <p:spPr>
          <a:xfrm>
            <a:off x="357120" y="5143680"/>
            <a:ext cx="828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504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3" name="Rectangle 42"/>
          <p:cNvSpPr/>
          <p:nvPr/>
        </p:nvSpPr>
        <p:spPr>
          <a:xfrm>
            <a:off x="857160" y="4500720"/>
            <a:ext cx="755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4" name="Rectangle 44"/>
          <p:cNvSpPr/>
          <p:nvPr/>
        </p:nvSpPr>
        <p:spPr>
          <a:xfrm>
            <a:off x="1000080" y="4572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38480" y="442908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Разговор, обмен мнениям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214960" y="564372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бесед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57" name="Picture 8" descr="http://content.foto.mail.ru/bk/220511/1566/s-1570.jpg"/>
          <p:cNvPicPr/>
          <p:nvPr/>
        </p:nvPicPr>
        <p:blipFill>
          <a:blip r:embed="rId1"/>
          <a:stretch/>
        </p:blipFill>
        <p:spPr>
          <a:xfrm>
            <a:off x="3000240" y="0"/>
            <a:ext cx="283212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95280" y="1844640"/>
            <a:ext cx="8137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46840" y="4286160"/>
            <a:ext cx="58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Денежная единица стран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357880" y="5357880"/>
            <a:ext cx="25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валют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61" name="Picture 6" descr="http://content.foto.mail.ru/bk/220511/1566/s-1573.jpg"/>
          <p:cNvPicPr/>
          <p:nvPr/>
        </p:nvPicPr>
        <p:blipFill>
          <a:blip r:embed="rId1"/>
          <a:stretch/>
        </p:blipFill>
        <p:spPr>
          <a:xfrm>
            <a:off x="3201840" y="-14400"/>
            <a:ext cx="301320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290160" y="4214880"/>
            <a:ext cx="81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трунный  музыкальный инструмент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214960" y="514368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гитара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64" name="Picture 5" descr="http://content.foto.mail.ru/bk/220511/1566/s-1576.jpg"/>
          <p:cNvPicPr/>
          <p:nvPr/>
        </p:nvPicPr>
        <p:blipFill>
          <a:blip r:embed="rId1"/>
          <a:stretch/>
        </p:blipFill>
        <p:spPr>
          <a:xfrm>
            <a:off x="3214800" y="0"/>
            <a:ext cx="31431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109800" y="4214880"/>
            <a:ext cx="837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Ужасный, опасный отряд позвоночных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животных, доминировавший на Земле 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в мезозойскую эру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072040" y="57150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динозавры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67" name="Picture 5" descr="http://content.foto.mail.ru/bk/220511/1566/s-1579.jpg"/>
          <p:cNvPicPr/>
          <p:nvPr/>
        </p:nvPicPr>
        <p:blipFill>
          <a:blip r:embed="rId1"/>
          <a:stretch/>
        </p:blipFill>
        <p:spPr>
          <a:xfrm>
            <a:off x="3214800" y="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680400" y="457200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ell MT"/>
              </a:rPr>
              <a:t>Столица Армении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4929120" y="54291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ell MT"/>
              </a:rPr>
              <a:t>Ереван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70" name="Picture 5" descr="http://content.foto.mail.ru/bk/220511/1566/s-1582.jpg"/>
          <p:cNvPicPr/>
          <p:nvPr/>
        </p:nvPicPr>
        <p:blipFill>
          <a:blip r:embed="rId1"/>
          <a:stretch/>
        </p:blipFill>
        <p:spPr>
          <a:xfrm>
            <a:off x="3500280" y="0"/>
            <a:ext cx="30006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4:20:06Z</dcterms:created>
  <dc:creator>Любовь</dc:creator>
  <dc:description/>
  <dc:language>en-US</dc:language>
  <cp:lastModifiedBy>DOM</cp:lastModifiedBy>
  <dcterms:modified xsi:type="dcterms:W3CDTF">2013-10-07T14:45:29Z</dcterms:modified>
  <cp:revision>149</cp:revision>
  <dc:subject/>
  <dc:title>Слайд 1</dc:title>
</cp:coreProperties>
</file>