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030-6109-458A-863A-22F7270E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F3D-991D-4D7A-A766-DA9F6D9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7A5-EFE0-491C-ACDF-F8C8A07E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DFB-FA86-4C39-8FAC-4CD9FD20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D3A-DF8E-4C0A-88F5-4DC68E25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4D0-F70D-44A6-8135-2368B04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B5D-22A2-48BE-BA17-0E6CF030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7B3-E836-4C32-ACEB-4B5353D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FE3-F06B-4E07-9999-AF210E7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5E8-BF8C-415D-8EE7-E8F9BAF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E13-2181-4F88-A5E2-EAF8331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877-D551-44B0-9581-05219DC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ell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609-66D8-49B1-B644-729C89270C67}" type="slidenum">
              <a:rPr b="0" lang="ru-RU" sz="1200" spc="-1" strike="noStrike">
                <a:solidFill>
                  <a:srgbClr val="898989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716280"/>
            <a:ext cx="784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Алфавит"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765000"/>
            <a:ext cx="554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79200" y="42148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севдоним популярной певиц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143680" y="55008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л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3" name="Picture 5" descr="http://content.foto.mail.ru/bk/220511/1566/s-1585.jpg"/>
          <p:cNvPicPr/>
          <p:nvPr/>
        </p:nvPicPr>
        <p:blipFill>
          <a:blip r:embed="rId1"/>
          <a:stretch/>
        </p:blipFill>
        <p:spPr>
          <a:xfrm>
            <a:off x="3357720" y="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720" y="428616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вижение рукой, сопровождающее реч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000760" y="5429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жес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8" name="Picture 7" descr="http://content.foto.mail.ru/bk/220511/1566/s-1588.jpg"/>
          <p:cNvPicPr/>
          <p:nvPr/>
        </p:nvPicPr>
        <p:blipFill>
          <a:blip r:embed="rId1"/>
          <a:stretch/>
        </p:blipFill>
        <p:spPr>
          <a:xfrm>
            <a:off x="3000240" y="0"/>
            <a:ext cx="35229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1000080" y="43578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олица Хорват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14920" y="55008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Загреб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1" name="Picture 5" descr="http://content.foto.mail.ru/bk/220511/1566/s-1591.jpg"/>
          <p:cNvPicPr/>
          <p:nvPr/>
        </p:nvPicPr>
        <p:blipFill>
          <a:blip r:embed="rId1"/>
          <a:stretch/>
        </p:blipFill>
        <p:spPr>
          <a:xfrm>
            <a:off x="3143160" y="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1000" y="4286160"/>
            <a:ext cx="44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Забава, развлечени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429080" y="521496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4" name="Picture 5" descr="http://content.foto.mail.ru/bk/220511/1566/s-1594.jpg"/>
          <p:cNvPicPr/>
          <p:nvPr/>
        </p:nvPicPr>
        <p:blipFill>
          <a:blip r:embed="rId1"/>
          <a:stretch/>
        </p:blipFill>
        <p:spPr>
          <a:xfrm>
            <a:off x="3071880" y="0"/>
            <a:ext cx="3076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60280" y="4286160"/>
            <a:ext cx="87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ыжная гонка со стрельбой по мишеня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357800" y="578628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биатло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1" name="Picture 9" descr="http://content.foto.mail.ru/bk/220511/1566/s-1597.jpg"/>
          <p:cNvPicPr/>
          <p:nvPr/>
        </p:nvPicPr>
        <p:blipFill>
          <a:blip r:embed="rId1"/>
          <a:stretch/>
        </p:blipFill>
        <p:spPr>
          <a:xfrm>
            <a:off x="3357720" y="34920"/>
            <a:ext cx="2700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646920" y="421488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Чертеж земной поверхност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786200" y="55008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кар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4" name="Picture 5" descr="http://content.foto.mail.ru/bk/220511/1566/s-1600.jpg"/>
          <p:cNvPicPr/>
          <p:nvPr/>
        </p:nvPicPr>
        <p:blipFill>
          <a:blip r:embed="rId1"/>
          <a:stretch/>
        </p:blipFill>
        <p:spPr>
          <a:xfrm>
            <a:off x="3214800" y="0"/>
            <a:ext cx="2857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092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9" name="TextBox 50"/>
          <p:cNvSpPr/>
          <p:nvPr/>
        </p:nvSpPr>
        <p:spPr>
          <a:xfrm>
            <a:off x="730440" y="42148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Массы снега, низвергающиеся с г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0" name="TextBox 51"/>
          <p:cNvSpPr/>
          <p:nvPr/>
        </p:nvSpPr>
        <p:spPr>
          <a:xfrm>
            <a:off x="5757480" y="5429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лавин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1" name="Picture 9" descr="http://content.foto.mail.ru/bk/220511/1566/s-1603.jpg"/>
          <p:cNvPicPr/>
          <p:nvPr/>
        </p:nvPicPr>
        <p:blipFill>
          <a:blip r:embed="rId1"/>
          <a:stretch/>
        </p:blipFill>
        <p:spPr>
          <a:xfrm>
            <a:off x="3357720" y="0"/>
            <a:ext cx="26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8"/>
          <p:cNvSpPr/>
          <p:nvPr/>
        </p:nvSpPr>
        <p:spPr>
          <a:xfrm>
            <a:off x="642960" y="4071960"/>
            <a:ext cx="78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ланета солнечной системы,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дноименная с известным шоколадо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4857840" y="52862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Мар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4" name="Picture 5" descr="http://content.foto.mail.ru/bk/220511/1566/s-1606.jpg"/>
          <p:cNvPicPr/>
          <p:nvPr/>
        </p:nvPicPr>
        <p:blipFill>
          <a:blip r:embed="rId1"/>
          <a:stretch/>
        </p:blipFill>
        <p:spPr>
          <a:xfrm>
            <a:off x="3071880" y="0"/>
            <a:ext cx="3475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1011600" y="435780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илище животног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000840" y="5572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но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7" name="Picture 5" descr="http://content.foto.mail.ru/bk/220511/1566/s-1609.jpg"/>
          <p:cNvPicPr/>
          <p:nvPr/>
        </p:nvPicPr>
        <p:blipFill>
          <a:blip r:embed="rId1"/>
          <a:stretch/>
        </p:blipFill>
        <p:spPr>
          <a:xfrm>
            <a:off x="3214800" y="0"/>
            <a:ext cx="3174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00400" y="4357800"/>
            <a:ext cx="58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Часть суши, со всех сторо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круженная водой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929120" y="5857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остр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0" name="Picture 5" descr="http://content.foto.mail.ru/bk/220511/1566/s-1612.jpg"/>
          <p:cNvPicPr/>
          <p:nvPr/>
        </p:nvPicPr>
        <p:blipFill>
          <a:blip r:embed="rId1"/>
          <a:stretch/>
        </p:blipFill>
        <p:spPr>
          <a:xfrm>
            <a:off x="3214800" y="0"/>
            <a:ext cx="3485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частливая случайность выпадает лишь на долю подготовленных умов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            Луи Паст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68"/>
          <p:cNvSpPr/>
          <p:nvPr/>
        </p:nvSpPr>
        <p:spPr>
          <a:xfrm>
            <a:off x="191160" y="435780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Точка, место назначен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2" name="TextBox 169"/>
          <p:cNvSpPr/>
          <p:nvPr/>
        </p:nvSpPr>
        <p:spPr>
          <a:xfrm>
            <a:off x="5072040" y="56437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пунк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3" name="Picture 5" descr="http://content.foto.mail.ru/bk/220511/1566/s-1615.jpg"/>
          <p:cNvPicPr/>
          <p:nvPr/>
        </p:nvPicPr>
        <p:blipFill>
          <a:blip r:embed="rId1"/>
          <a:stretch/>
        </p:blipFill>
        <p:spPr>
          <a:xfrm>
            <a:off x="3348000" y="0"/>
            <a:ext cx="2712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000080" y="400068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тательный аппарат с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еактивным двигателе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53578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раке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6" name="Picture 5" descr="http://content.foto.mail.ru/bk/220511/1566/s-1618.jpg"/>
          <p:cNvPicPr/>
          <p:nvPr/>
        </p:nvPicPr>
        <p:blipFill>
          <a:blip r:embed="rId1"/>
          <a:stretch/>
        </p:blipFill>
        <p:spPr>
          <a:xfrm>
            <a:off x="3000240" y="0"/>
            <a:ext cx="30718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505080" y="435780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Зимняя повоз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857840" y="542916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сан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9" name="Picture 5" descr="http://content.foto.mail.ru/bk/220511/1566/s-1621.jpg"/>
          <p:cNvPicPr/>
          <p:nvPr/>
        </p:nvPicPr>
        <p:blipFill>
          <a:blip r:embed="rId1"/>
          <a:stretch/>
        </p:blipFill>
        <p:spPr>
          <a:xfrm>
            <a:off x="3143160" y="0"/>
            <a:ext cx="3230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433800" y="4286160"/>
            <a:ext cx="40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стница на судн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000760" y="5572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трап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2" name="Picture 5" descr="http://content.foto.mail.ru/bk/220511/1566/s-1624.jpg"/>
          <p:cNvPicPr/>
          <p:nvPr/>
        </p:nvPicPr>
        <p:blipFill>
          <a:blip r:embed="rId1"/>
          <a:stretch/>
        </p:blipFill>
        <p:spPr>
          <a:xfrm>
            <a:off x="3429000" y="0"/>
            <a:ext cx="2500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58720" y="428616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рудие для ловли рыб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857840" y="53578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удоч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5" name="Picture 5" descr="http://content.foto.mail.ru/bk/220511/1566/s-1627.jpg"/>
          <p:cNvPicPr/>
          <p:nvPr/>
        </p:nvPicPr>
        <p:blipFill>
          <a:blip r:embed="rId1"/>
          <a:stretch/>
        </p:blipFill>
        <p:spPr>
          <a:xfrm>
            <a:off x="3314880" y="0"/>
            <a:ext cx="28288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453240" y="42148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оединение каких-либо суд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857840" y="54291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флотил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8" name="Picture 5" descr="http://content.foto.mail.ru/bk/220511/1566/s-1630.jpg"/>
          <p:cNvPicPr/>
          <p:nvPr/>
        </p:nvPicPr>
        <p:blipFill>
          <a:blip r:embed="rId1"/>
          <a:stretch/>
        </p:blipFill>
        <p:spPr>
          <a:xfrm>
            <a:off x="2914560" y="0"/>
            <a:ext cx="3402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128520" y="4429080"/>
            <a:ext cx="89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Говорят, что этот продукт всему голов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214960" y="55008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1" name="Picture 5" descr="http://content.foto.mail.ru/bk/220511/1566/s-1633.jpg"/>
          <p:cNvPicPr/>
          <p:nvPr/>
        </p:nvPicPr>
        <p:blipFill>
          <a:blip r:embed="rId1"/>
          <a:stretch/>
        </p:blipFill>
        <p:spPr>
          <a:xfrm>
            <a:off x="3286080" y="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415880" y="428616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имон, апельсин, мандари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86240" y="5429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цитру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4" name="Picture 5" descr="http://content.foto.mail.ru/bk/220511/1566/s-1636.jpg"/>
          <p:cNvPicPr/>
          <p:nvPr/>
        </p:nvPicPr>
        <p:blipFill>
          <a:blip r:embed="rId1"/>
          <a:stretch/>
        </p:blipFill>
        <p:spPr>
          <a:xfrm>
            <a:off x="3357720" y="0"/>
            <a:ext cx="31003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642960" y="44290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ирожок с мясом из восточной кухн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072040" y="53578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чебуре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7" name="Picture 5" descr="http://content.foto.mail.ru/bk/220511/1566/s-1639.jpg"/>
          <p:cNvPicPr/>
          <p:nvPr/>
        </p:nvPicPr>
        <p:blipFill>
          <a:blip r:embed="rId1"/>
          <a:stretch/>
        </p:blipFill>
        <p:spPr>
          <a:xfrm>
            <a:off x="3143160" y="0"/>
            <a:ext cx="30006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448920" y="46432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зновидность загадк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29160" y="5572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шарад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0" name="Picture 5" descr="http://content.foto.mail.ru/bk/220511/1566/s-1642.jpg"/>
          <p:cNvPicPr/>
          <p:nvPr/>
        </p:nvPicPr>
        <p:blipFill>
          <a:blip r:embed="rId1"/>
          <a:stretch/>
        </p:blipFill>
        <p:spPr>
          <a:xfrm>
            <a:off x="3094200" y="0"/>
            <a:ext cx="306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1285920"/>
            <a:ext cx="82803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ающий отвечает на 33 вопроса. Ответом на каждый вопрос является слово начинающееся на  букву алфавита по порядку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ответы дается определенное время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ждый угаданный ответ игрок получает один балл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быстроту ответов начисляются дополнительные баллы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у оценивает жюри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071720" y="4143240"/>
            <a:ext cx="75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Емеля – дурачок поймал эту рыбу из проруб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000760" y="52862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3" name="Picture 5" descr="http://content.foto.mail.ru/bk/220511/1566/s-1645.jpg"/>
          <p:cNvPicPr/>
          <p:nvPr/>
        </p:nvPicPr>
        <p:blipFill>
          <a:blip r:embed="rId1"/>
          <a:stretch/>
        </p:blipFill>
        <p:spPr>
          <a:xfrm>
            <a:off x="2928960" y="0"/>
            <a:ext cx="3443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32200" y="421488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ремя, свободное от работ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214960" y="571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отдых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6" name="Picture 5" descr="http://content.foto.mail.ru/bk/220511/1566/s-1648.jpg"/>
          <p:cNvPicPr/>
          <p:nvPr/>
        </p:nvPicPr>
        <p:blipFill>
          <a:blip r:embed="rId1"/>
          <a:stretch/>
        </p:blipFill>
        <p:spPr>
          <a:xfrm>
            <a:off x="3357720" y="0"/>
            <a:ext cx="300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571680" y="40006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частник коррид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929120" y="571500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тореад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9" name="Picture 5" descr="http://content.foto.mail.ru/bk/220511/1566/s-1651.jpg"/>
          <p:cNvPicPr/>
          <p:nvPr/>
        </p:nvPicPr>
        <p:blipFill>
          <a:blip r:embed="rId1"/>
          <a:stretch/>
        </p:blipFill>
        <p:spPr>
          <a:xfrm>
            <a:off x="3143160" y="142920"/>
            <a:ext cx="3214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546840" y="4357800"/>
            <a:ext cx="455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Морское судн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000760" y="5572080"/>
            <a:ext cx="31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корабл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2" name="Picture 5" descr="http://content.foto.mail.ru/bk/220511/1566/s-1654.jpg"/>
          <p:cNvPicPr/>
          <p:nvPr/>
        </p:nvPicPr>
        <p:blipFill>
          <a:blip r:embed="rId1"/>
          <a:stretch/>
        </p:blipFill>
        <p:spPr>
          <a:xfrm>
            <a:off x="3000240" y="-23760"/>
            <a:ext cx="24289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357200" y="4071960"/>
            <a:ext cx="69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дна из стран Балт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214960" y="55008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Эстон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5" name="Picture 5" descr="http://content.foto.mail.ru/bk/220511/1566/s-1657.jpg"/>
          <p:cNvPicPr/>
          <p:nvPr/>
        </p:nvPicPr>
        <p:blipFill>
          <a:blip r:embed="rId1"/>
          <a:stretch/>
        </p:blipFill>
        <p:spPr>
          <a:xfrm>
            <a:off x="3429000" y="0"/>
            <a:ext cx="2643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1143000" y="45007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ист по правоведению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5572080" y="5554800"/>
            <a:ext cx="15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юрис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8" name="Picture 5" descr="http://content.foto.mail.ru/bk/220511/1566/s-1660.jpg"/>
          <p:cNvPicPr/>
          <p:nvPr/>
        </p:nvPicPr>
        <p:blipFill>
          <a:blip r:embed="rId1"/>
          <a:stretch/>
        </p:blipFill>
        <p:spPr>
          <a:xfrm>
            <a:off x="2857680" y="0"/>
            <a:ext cx="3855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977040" y="4500720"/>
            <a:ext cx="67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Ювелирно - поделочный камен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715000" y="55008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янтар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61" name="Picture 5" descr="http://content.foto.mail.ru/bk/220511/1566/s-1663.jpg"/>
          <p:cNvPicPr/>
          <p:nvPr/>
        </p:nvPicPr>
        <p:blipFill>
          <a:blip r:embed="rId1"/>
          <a:stretch/>
        </p:blipFill>
        <p:spPr>
          <a:xfrm>
            <a:off x="3214800" y="0"/>
            <a:ext cx="29289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971640" y="981000"/>
            <a:ext cx="237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07932" dir="81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07932" dir="81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900000" y="4076640"/>
            <a:ext cx="266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43040" y="5285880"/>
            <a:ext cx="5486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88080" y="4572000"/>
            <a:ext cx="697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тверждение, принимаемое без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оказательств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16800" y="571500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аксиом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1" name="Picture 8" descr="http://content.foto.mail.ru/bk/220511/1566/s-1567.jpg"/>
          <p:cNvPicPr/>
          <p:nvPr/>
        </p:nvPicPr>
        <p:blipFill>
          <a:blip r:embed="rId1"/>
          <a:stretch/>
        </p:blipFill>
        <p:spPr>
          <a:xfrm>
            <a:off x="3214800" y="0"/>
            <a:ext cx="28969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6"/>
          <p:cNvSpPr/>
          <p:nvPr/>
        </p:nvSpPr>
        <p:spPr>
          <a:xfrm>
            <a:off x="357120" y="5143680"/>
            <a:ext cx="828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857160" y="4500720"/>
            <a:ext cx="75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1000080" y="4572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8480" y="442908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зговор, обмен мнениям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214960" y="5643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7" name="Picture 8" descr="http://content.foto.mail.ru/bk/220511/1566/s-1570.jpg"/>
          <p:cNvPicPr/>
          <p:nvPr/>
        </p:nvPicPr>
        <p:blipFill>
          <a:blip r:embed="rId1"/>
          <a:stretch/>
        </p:blipFill>
        <p:spPr>
          <a:xfrm>
            <a:off x="3000240" y="0"/>
            <a:ext cx="2832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95280" y="1844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46840" y="42861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енежная единица стран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357880" y="535788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валю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1" name="Picture 6" descr="http://content.foto.mail.ru/bk/220511/1566/s-1573.jpg"/>
          <p:cNvPicPr/>
          <p:nvPr/>
        </p:nvPicPr>
        <p:blipFill>
          <a:blip r:embed="rId1"/>
          <a:stretch/>
        </p:blipFill>
        <p:spPr>
          <a:xfrm>
            <a:off x="3201840" y="-14400"/>
            <a:ext cx="30132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290160" y="4214880"/>
            <a:ext cx="81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рунный  музыкальный инструмен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214960" y="514368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гита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4" name="Picture 5" descr="http://content.foto.mail.ru/bk/220511/1566/s-1576.jpg"/>
          <p:cNvPicPr/>
          <p:nvPr/>
        </p:nvPicPr>
        <p:blipFill>
          <a:blip r:embed="rId1"/>
          <a:stretch/>
        </p:blipFill>
        <p:spPr>
          <a:xfrm>
            <a:off x="3214800" y="0"/>
            <a:ext cx="31431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09800" y="4214880"/>
            <a:ext cx="837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жасный, опасный отряд позвоночных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ивотных, доминировавший на Земле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 мезозойскую эру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072040" y="57150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динозавр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7" name="Picture 5" descr="http://content.foto.mail.ru/bk/220511/1566/s-1579.jpg"/>
          <p:cNvPicPr/>
          <p:nvPr/>
        </p:nvPicPr>
        <p:blipFill>
          <a:blip r:embed="rId1"/>
          <a:stretch/>
        </p:blipFill>
        <p:spPr>
          <a:xfrm>
            <a:off x="321480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680400" y="457200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олица Армен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929120" y="5429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рева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0" name="Picture 5" descr="http://content.foto.mail.ru/bk/220511/1566/s-1582.jpg"/>
          <p:cNvPicPr/>
          <p:nvPr/>
        </p:nvPicPr>
        <p:blipFill>
          <a:blip r:embed="rId1"/>
          <a:stretch/>
        </p:blipFill>
        <p:spPr>
          <a:xfrm>
            <a:off x="3500280" y="0"/>
            <a:ext cx="30006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20:06Z</dcterms:created>
  <dc:creator>Любовь</dc:creator>
  <dc:description/>
  <dc:language>en-US</dc:language>
  <cp:lastModifiedBy>DOM</cp:lastModifiedBy>
  <dcterms:modified xsi:type="dcterms:W3CDTF">2013-10-07T14:45:29Z</dcterms:modified>
  <cp:revision>149</cp:revision>
  <dc:subject/>
  <dc:title>Слайд 1</dc:title>
</cp:coreProperties>
</file>