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applause.wav" ContentType="audio/x-wav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402-854B-4689-82B1-B6970977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9E0-8683-45D7-B400-BBDF9E75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67664-B337-4454-9743-FE8AC43B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253B5-F8D7-4FD7-BFE6-4C20A7C9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E1B8F-9CEF-461B-8D2E-B60128A7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FC172-A73F-41EC-9F5F-79141675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FDCE3-47A2-4313-B7CA-C5111230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55929-C6F9-49E6-BCFF-EAB50115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CC284-3602-4F3C-9CD7-D24AA9DD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A340D-FE1B-4D6E-9AF4-45DFEE21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E7E93-C60A-45C3-B581-80ABA428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9AEA4-89A7-4CFD-8CE5-1DA447F8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72D-7B88-479E-B7AF-D065C409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79036-26A6-43C7-B0B2-1AD64065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C2554-6A2A-456B-8D58-3439B61F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7750E-6DE9-44A6-87EC-7C1A9235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1C0E7-BDFB-4664-A468-82A94424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D4083-CE7C-4EAF-B686-EAD41D77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CF5CE-EB64-4275-A8C6-067744FB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DF92E-AC74-4122-B958-AB7681A0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C9F82-20C0-45E2-9B64-724EAFE4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D1DB2-270E-4CEE-A486-4E006040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3CF25-1C7D-4D25-9D47-99FB9A6F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69E-B2F1-476D-B1ED-BAD444B2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CAE79-8896-4EC9-AC54-6A99114E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CD828-0DF7-48C1-83E6-C348E488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95EE0-7C78-4133-87EB-3048C92B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3BD47-D391-47A1-A3C1-60656797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4FD80-2B8A-450C-B81D-B5D30F69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C19AB-D980-4220-AB1B-4CB9EBC0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83986-71C2-4E02-B766-BB665E09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91A8A-E0F7-486D-B101-54D2E0A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34269-2C4F-4838-8541-FA833EE2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9B7F2-774E-4F8A-9CD4-5DAECDC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DCAC-9F7F-4634-A254-EA211504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D3E1B-C4EC-43D2-B0AE-735F6C2A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83FFF-BF48-4797-B4C4-55288E7B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4D82A-FF64-4F7A-93DF-2C7FB22A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B2AD4-DC96-4C76-B298-F46CD82C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CA840-C341-43E6-8FE8-8FA88243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85262-0C40-405D-B64B-2AE0DEF9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57DFA-1D94-4757-B46A-4665DB00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5C3CF-3818-4D6D-9978-4792EB21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276EA-B458-48E1-85D0-515C66EE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58BA9-F8AA-4EDE-BBA4-45C84454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CC43-02AA-4660-8420-A1BC3635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93647-7724-4DD6-B69E-98263B5C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33765-8AE8-4355-8DD6-4D897FA3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D123F-2442-4BF7-8C52-E394EBD3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CC663-2756-4D69-982F-09886E5C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A8F0F-9F36-4EF7-8E72-6C184565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5E244-182F-4E45-9ABC-B2B60C86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82180-6016-4AA9-AC63-1EC2344A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35D7B-EAE7-4665-9E7E-4C5285CC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42D02-EEDD-4F73-AEB9-31BB90CA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7F0B0-74DE-48FD-A29B-0AFA533E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D34C-66A5-4AD9-9A2E-A8630FE2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13183-4807-4233-B042-890B6578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69F4F-6B71-435E-AC30-6902BA61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654F6-5652-438F-A587-7FD02038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C959B-C0DA-48B7-AD7E-D9D5150A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1A7D9-054F-43B0-8535-907D1FE7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0A448-09B9-4BA7-A6DE-BC9F733C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C3CE3-445A-48AB-A209-125F6930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5A63-FCB1-4A01-9EE0-0895C21E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A4C7-721D-4827-93D6-BBE7E5F7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58CE-3BF0-4D6F-B18A-87729637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E45A-85C8-4691-A157-873C3BE1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304-5CB0-4C7D-9213-C90DBE2C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A257-7CAB-431A-BB37-B2DDD6B8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1FFF-D24A-4A25-A5E3-7F22F4AD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A159-6920-42CD-B2CB-80D5D7EB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713C-44AD-46CA-91BB-4E5F1798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2217-0910-48AA-BC7A-18A45DEA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7C32-530F-4172-955E-FC7DDCDF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C4D20-6982-4D0B-9D01-48C3D9C4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5DAB-210F-4EFD-A83A-85A42076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A26D9-B675-4CB8-85B8-C8E86C79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35AF-9740-44B5-AA69-0FFEB473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68A-815B-4849-B260-B3E7AB29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E8E1-F7F6-4A2E-B75E-215DCBD2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C60DC-9DA9-4D4A-BB7C-399353A5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3308-E5BA-4A5B-A0E9-BACD88E5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D963-04B0-4029-BD97-9D492EEA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ECBC7-9DD9-431E-99E0-39195396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50E1-19A3-4609-82B5-A3A88465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E43B6-0636-472F-8BAA-24E11341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3DB5-4002-452C-AA03-31ADDB60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A7525-02CF-432A-BCC2-4B49CCB8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B47C8-4A29-4A56-9D16-5451FCE2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A3A-C9BE-475F-ADAF-A0250D1D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4E4E1-18DD-40DB-80AC-17DFFB26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669A5-222C-45B7-8CF9-7BBB5D20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EA99-6D41-4905-B100-E79C8B79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FFED9-DA09-4AE5-A44E-80DAD9E3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D88BA-FB3F-4BBC-9684-1A7CD13F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88EDD-69AD-44E0-ABD1-B4DABBD3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F4BD-4A2E-4BD7-B08E-D39A3B92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9EA09-690F-4DA5-B45B-AF2C25F3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1B488-181E-4934-8648-4EEA8C29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64EA8-C59E-4D01-BF78-4CD9A78B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88B-5596-4A13-98CA-A41DC00C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4C932-A130-46F4-A0E8-C79B7D2C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ACF75-97EA-4AC7-848A-731D92D9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7985D-7DEE-43C5-8CC7-9FC89D14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18CC0-DF36-4593-9851-DC8410A1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E7CD1-2A2A-475A-8B96-9C65F888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E93C8-94FC-4108-BBB5-ECF04A14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BFB4E-DB45-4A13-8CBE-B5D551DC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904A1-9136-4700-944D-64DEEC68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3DF2B-CD37-44A5-8CDA-32F30FCD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A2582-781C-41C4-B672-507A9BE2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32E-8FD3-46E6-A11A-E9905890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84D90-0058-45A5-8FDD-A0EFA39A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A1412-264B-4163-9F0E-6D3E5913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93B34-955C-4BD7-B885-64A529A5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A891F-B432-4C2D-BFF0-4AF36B3D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04FB1-2569-4E07-BF9A-619A2AED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59B11-AC17-4F0F-B2FD-C680D87A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3BA29-9E97-491C-93F8-6DD9F150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AED97-7898-409C-8EC4-206C1105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D4C97-2B36-4DD5-B0C9-D1923EAB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01EA1-901D-4754-81B9-B761EFBB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7FA-93BF-4EBA-97B7-B32944B9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9E545-5D90-450D-9F0E-1757ECC4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20ACF-EFAF-46FC-B2F5-198A30CD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71FB2-7B77-4366-9028-A2D1B497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DF955-6DD7-4538-952C-E0A0DAA2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B6E5F-E86B-4A0A-B497-DA5F3CCB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35294-8BD0-4622-990C-76E26223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FBEA6-C17A-40C1-BED8-D211A16D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6A5FA-B9A2-4816-B18E-6F50ECDA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C6562-79A0-4AE9-953B-37809EDE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57819-AA4D-49E4-8AE8-5ED79C24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C8A-BBEB-4029-A2B8-492B5B24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ADCD5-E51C-4791-BD08-6037139D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66E8E-E863-4940-BF6A-381AC50C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F0FCE-612B-4F00-9844-3595BCDA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22257-1E26-4DB9-9EEE-C5295FE7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01AC2-04EA-4171-89A8-30356C7F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8A866-FE4C-4964-9CD2-BF294306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CDA33-6554-430E-9FC9-49264835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CBBAC-2DC9-47C8-B76C-02196AEB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5F530-0FF4-4E74-A9C8-71AD1A9B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D7F73-D53E-4686-9519-D28BE32E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9D7-CB72-4996-90FF-AF2D990F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D8D0B-CC32-48A9-BA9E-5176576F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D6319-D6B4-4C1D-ADD0-01FB9E56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628AE-93A5-435E-809F-84613CC2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E85B5-EA79-4D4E-96A4-8E7BBB4D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923BC-EE83-4F83-AA64-DBB28188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025C7-D164-4A79-B405-305AE1F1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1115A-648E-49C7-BCF4-FA3E48E9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F43F8-223F-49E0-926F-6010F7E1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671AC-B281-4E09-BF7D-93396C92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620A0-EA2F-4374-A863-E92DCB3B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4E5D-8C68-4972-8A32-36B26350B7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9393-5B07-44EB-B105-743435F248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7C5E-3BAE-4722-B571-C3F7DCBDAE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6EAC-1876-4A89-B4EC-9DD1BD02CB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4D56-0AD5-4D2B-B2D6-A9D73EBBC5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91F7-8362-4EF0-870D-6C50D1C145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746C-1098-4AFB-A8B9-0D00190839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388C-10F5-4005-BE74-D58C856939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7556-28D0-42CB-BE73-F179DF0583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F8E3-5698-415F-9CC7-E7C03A5C07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8D68-D44B-4655-9A4E-74B2F607C1A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AE6B-CD46-48A3-A493-373FA62360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4E6D-FB4F-4AB1-862C-9807CA3629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ПРОЕКТ </a:t>
            </a:r>
            <a:br>
              <a:rPr sz="6000"/>
            </a:b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«Игрушка «Киндер сюрприз»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214200" y="6000840"/>
          <a:ext cx="10764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6000840"/>
                    <a:ext cx="1076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5" name="Рисунок 3" descr=""/>
          <p:cNvPicPr/>
          <p:nvPr/>
        </p:nvPicPr>
        <p:blipFill>
          <a:blip r:embed="rId3"/>
          <a:stretch/>
        </p:blipFill>
        <p:spPr>
          <a:xfrm>
            <a:off x="7072200" y="571680"/>
            <a:ext cx="1078200" cy="1428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готовка к выставке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индер игруше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5" name="Picture 4" descr="C:\Documents and Settings\Администратор\Рабочий стол\SAM_0305.JPG"/>
          <p:cNvPicPr/>
          <p:nvPr/>
        </p:nvPicPr>
        <p:blipFill>
          <a:blip r:embed="rId1"/>
          <a:stretch/>
        </p:blipFill>
        <p:spPr>
          <a:xfrm>
            <a:off x="457200" y="2000160"/>
            <a:ext cx="4038480" cy="33624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C:\Documents and Settings\Администратор\Рабочий стол\SAM_0303.JPG"/>
          <p:cNvPicPr/>
          <p:nvPr/>
        </p:nvPicPr>
        <p:blipFill>
          <a:blip r:embed="rId2"/>
          <a:stretch/>
        </p:blipFill>
        <p:spPr>
          <a:xfrm>
            <a:off x="4648320" y="2000160"/>
            <a:ext cx="4038480" cy="3362400"/>
          </a:xfrm>
          <a:prstGeom prst="rect">
            <a:avLst/>
          </a:prstGeom>
          <a:ln w="0">
            <a:noFill/>
          </a:ln>
        </p:spPr>
      </p:pic>
    </p:spTree>
  </p:cSld>
  <p:transition advTm="1000"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азучивание новой подвижной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гры «Заводные игрушки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8" name="Picture 5" descr="C:\Documents and Settings\Администратор\Рабочий стол\Новая папка\PIC_0355.JPG"/>
          <p:cNvPicPr/>
          <p:nvPr/>
        </p:nvPicPr>
        <p:blipFill>
          <a:blip r:embed="rId1"/>
          <a:stretch/>
        </p:blipFill>
        <p:spPr>
          <a:xfrm>
            <a:off x="1357200" y="15717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C:\Documents and Settings\Администратор\Рабочий стол\Новая папка\PIC_0356.JPG"/>
          <p:cNvPicPr/>
          <p:nvPr/>
        </p:nvPicPr>
        <p:blipFill>
          <a:blip r:embed="rId2"/>
          <a:stretch/>
        </p:blipFill>
        <p:spPr>
          <a:xfrm>
            <a:off x="5357880" y="164304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C:\Documents and Settings\Администратор\Рабочий стол\Новая папка\PIC_0359.JPG"/>
          <p:cNvPicPr/>
          <p:nvPr/>
        </p:nvPicPr>
        <p:blipFill>
          <a:blip r:embed="rId3"/>
          <a:stretch/>
        </p:blipFill>
        <p:spPr>
          <a:xfrm>
            <a:off x="4500720" y="392904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C:\Documents and Settings\Администратор\Рабочий стол\Новая папка\PIC_0358.JPG"/>
          <p:cNvPicPr/>
          <p:nvPr/>
        </p:nvPicPr>
        <p:blipFill>
          <a:blip r:embed="rId4"/>
          <a:stretch/>
        </p:blipFill>
        <p:spPr>
          <a:xfrm>
            <a:off x="571680" y="392904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Беседа с детьми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Мой любимый киндер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03" name="Picture 5" descr="C:\Documents and Settings\Администратор\Рабочий стол\Новая папка\PIC_0328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C:\Documents and Settings\Администратор\Рабочий стол\SAM_0299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C:\Documents and Settings\Администратор\Рабочий стол\SAM_0300.JPG"/>
          <p:cNvPicPr/>
          <p:nvPr/>
        </p:nvPicPr>
        <p:blipFill>
          <a:blip r:embed="rId3"/>
          <a:stretch/>
        </p:blipFill>
        <p:spPr>
          <a:xfrm>
            <a:off x="3000240" y="392904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ыставка-презентация игруше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07" name="Picture 6" descr="C:\Documents and Settings\Администратор\Рабочий стол\Новая папка\PIC_0326.JPG"/>
          <p:cNvPicPr/>
          <p:nvPr/>
        </p:nvPicPr>
        <p:blipFill>
          <a:blip r:embed="rId1"/>
          <a:stretch/>
        </p:blipFill>
        <p:spPr>
          <a:xfrm>
            <a:off x="1574640" y="1500120"/>
            <a:ext cx="5994720" cy="4929120"/>
          </a:xfrm>
          <a:prstGeom prst="rect">
            <a:avLst/>
          </a:prstGeom>
          <a:ln w="0">
            <a:noFill/>
          </a:ln>
        </p:spPr>
      </p:pic>
    </p:spTree>
  </p:cSld>
  <p:transition advTm="6000">
    <p:strips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ЛЬБОМ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 ИЗ ИСТОРИИ КИНДЕР СЮРПРИЗ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99680" y="1928520"/>
            <a:ext cx="4186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Фигурки живот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з серии «Tierfiguren» (197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4960" indent="-21924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ерия «Tierfiguren» стала продаваться в шоколадных яйцах «Kinder Surprise» в 1975 году. Набор, так же как и «Hundefiguren» был одним из первых, появившимся внутри нашей любимой слад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звание серии в России – «Животные» или «Звери».  Вы видите 21 игрушку, но, возможно, некоторые из них относятся к другим сериям – как-то уж слишком нелогично среди зайцев и лисичек смотрится улитка или, например, лягушка.  К тому же, возможно, здесь могут встретится не только оригинальные фигурки, но и их вариан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1" name="Рисунок 11" descr="C:\Documents and Settings\Администратор\Мои документы\киндер1.jpg"/>
          <p:cNvPicPr/>
          <p:nvPr/>
        </p:nvPicPr>
        <p:blipFill>
          <a:blip r:embed="rId1"/>
          <a:stretch/>
        </p:blipFill>
        <p:spPr>
          <a:xfrm>
            <a:off x="428760" y="2643120"/>
            <a:ext cx="4071960" cy="21002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ahoma"/>
              </a:rPr>
              <a:t>Астерикс и римляне из серии «Asterix und die Romer» (2000)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торой сюжет из жизни мультипликационных героев Астерикса и Обеликса был запечатлен в серии фигурок из киндер сюрприза, вышедшей в 2000 году в Германии, - «Астерикс и римляне» («Asterix und die Romer»). Своим внешним видом игрушки полностью и в мельчайших деталях копируют персонажей мульт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ерез три года, в 2003, такой же комплект появился во Франции. Назывался он проще – «Asterix». Кроме того, набор выходил в «Kinder Joy» в 2004 (2005?). Набор носил название, как и предыдущий, - «Asterix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любом из вариантов серий по 10 фигурок.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Содержимое 27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4281480" cy="36432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ВинКС Клуб-2 из серии «WinX Club» (2008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помните, в 2006 году в Италии уже выходила серия фигурок «WinX Club». Она представляла собой комплект симпатичных куколок. А в 2008 году собиратели Киндер Сюрпризов из Италии снова увидели этих замечательных персонажей. Причем теперь и без того красивые фигурки стали еще лучше: ярче, детальней, и теперь они «в движении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российских каталогах серия называется – «ВинКС Клуб-2». Несмотря на внешнее различие, персонажи сохранили первоначально данные им име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коллекции 2008 года 6 игруш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7" name="Содержимое 4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4214880" cy="25718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Звон колокольчиков из новогодней серии «Die Kling-Glockchen Bande» (2010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чередной новогодней серией, выпущенной в 2010 году, стала «Die Kling-Glockchen Bande («Звон колокольчиков»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наборе 7 персонажей. У каждого из них за спиной по мешку (видимо с подарками для мальчиков и девочек, которые хорошо себя вели в прошедшем году ) и тот самый колокольчик. У оленя из упряжки Санта Клауса (здесь он называется Рождественский Дед) колокольчиков целых два, и разместили их с выдумк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х, да! На картинке сверху не видно, но у каждой игрушки есть специальный шнурочек, чтобы ее можно было повесить на елк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0" name="Содержимое 9" descr=""/>
          <p:cNvPicPr/>
          <p:nvPr/>
        </p:nvPicPr>
        <p:blipFill>
          <a:blip r:embed="rId1"/>
          <a:stretch/>
        </p:blipFill>
        <p:spPr>
          <a:xfrm>
            <a:off x="285840" y="2214720"/>
            <a:ext cx="4209840" cy="30096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вместная творческая деятельность. Рисование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Мой любимый киндер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2" name="Picture 8" descr="C:\Documents and Settings\Администратор\Рабочий стол\PIC_0362.JPG"/>
          <p:cNvPicPr/>
          <p:nvPr/>
        </p:nvPicPr>
        <p:blipFill>
          <a:blip r:embed="rId1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" descr="C:\Documents and Settings\Администратор\Рабочий стол\SAM_0307.JPG"/>
          <p:cNvPicPr/>
          <p:nvPr/>
        </p:nvPicPr>
        <p:blipFill>
          <a:blip r:embed="rId2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пользованные ресур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13840" y="1600200"/>
            <a:ext cx="847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. Д. Пашкевич «Таинства педагогического проектирования в ДОУ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. К. Силевко «Современные педагогические образовательные технологии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. В. Жукова «Проектировочная деятельность в образовательном процесс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 – ресур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ойчук Т.В., Бабкина Е. 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Авторы проекта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WordArt 4"/>
          <p:cNvSpPr txBox="1"/>
          <p:nvPr/>
        </p:nvSpPr>
        <p:spPr>
          <a:xfrm>
            <a:off x="900000" y="260280"/>
            <a:ext cx="741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 </a:t>
            </a:r>
            <a:endParaRPr b="0" lang="en-US" sz="1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WordArt 5"/>
          <p:cNvSpPr txBox="1"/>
          <p:nvPr/>
        </p:nvSpPr>
        <p:spPr>
          <a:xfrm>
            <a:off x="755640" y="2492280"/>
            <a:ext cx="7416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свидания!</a:t>
            </a:r>
            <a:endParaRPr b="0" lang="en-US" sz="1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zoom dir="in"/>
    <p:sndAc>
      <p:stSnd>
        <p:snd r:embed="rId5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Тип проекта: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Творческий, фронтальный,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краткосрочный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6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АКТУАЛЬНОСТЬ РАЗРАБОТКИ  И РЕАЛИЗАЦИИ ПЕДАГОГИЧЕСКОГО ПРОЕКТА: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цессе игровой деятельности ребенок познает мир, учится общаться и договариваться, ценить и любить прекрасное, становится смелее и выносливее. Огромное место в этом виде деятельности занимает игрушка. При помощи нее ребенок самовыражается, получает возможности для реализации своих потребностей, может проявить себя как организатор или подчиненный.                                                                                                                 В современном мире развлечений немаловажное место занимает забавная сладость – киндер сюрприз. Ведь что может быть большей радостью для ребенка, чем, зажав в руке заветное шоколадное яйцо, трясти его, прислушиваясь к звуку: « Что же там внутри?». А потом, поедая молочный шоколад, собирать из нескольких частей, как конструктор, игрушку. Или, если игрушка цельная и коллекционная, воображать, как соберешь всю коллекцию и украсишь ею самую заметную полочку в доме, расставив фигурки так же, как их расположили создатели на вкладыше. А, если такая игрушка уже была, то прикидывать, с кем же можно удачно поменяться. Или оформить театральный уголок  «Киндер сюрприза» в групповой комнате детского сада, а упаковку использовать для разного вида экспериментальной деятельности и для развития мелкой моторики ру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ть условия для эмоционально – познавательного развития воспитанников через совместную творческую  деятельность детей и  взросл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ть единую команду детей и взрослых по реализации проекта, развивать игровые, познавательные, сенсорные, речевые способности, учитывая индивидуальные и возрастные особенности ребенка; овладевать образно – игровыми и имитационными движениями; формировать у ребенка эмоционально – эстетическое и бережное отношение к игрушк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полагаемые результат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тавка-презент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бом «Из истории киндер сюрприза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тоархи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ртуальный архи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тавка рисун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ЛАН РАБОТЫ ПО РЕАЛИЗАЦИИ ПРОЕК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476360" y="129708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428760" y="1214280"/>
          <a:ext cx="8429400" cy="5357880"/>
        </p:xfrm>
        <a:graphic>
          <a:graphicData uri="http://schemas.openxmlformats.org/drawingml/2006/table">
            <a:tbl>
              <a:tblPr/>
              <a:tblGrid>
                <a:gridCol w="474480"/>
                <a:gridCol w="2805120"/>
                <a:gridCol w="3460680"/>
                <a:gridCol w="1689120"/>
              </a:tblGrid>
              <a:tr h="2430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Эта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част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анятие познавательного цикла для детей и родителей «Из истории киндер сюрприз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сширять и обогащать представления участников проекта о киндер - игрушке; развивать эмоциональное взаимодействие с воспитанниками и их семь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родители,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дготовка к выставке киндер игрушек (сбор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собствовать возникновению интереса и желания у детей и взрослых участвовать в оформлении выстав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р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зучивание новой подвижной игр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Заводные игруш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звать у детей желание изобразить какую-либо игрушку при помощи движений, эмо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еседа с детьми «Мой любимый киндер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звать  у каждого ребенка желание поделиться своими эмоциями и впечатлениями со взрослыми и сверстник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ставка – презентация игруш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звать у детей чувство гордости за совместную деятельность с родителями и воспитател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родители,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пуск альбома «Из истории киндер сюрприз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собствовать возникновению у воспитанников устойчивого интереса к игрушкам, расширение кругоз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вместная творческая деятельность детей и родителей (рисование любимой киндер игрушк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собствовать развитию умения передавать задуманные образы в рисунке; способствовать освоению детьми различных приемов рис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, р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8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нятие познавательного цикла для детей и родителей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Из истории киндер сюрприз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*   « Киндер Сюрприз» - он же «Шоколадное яйцо», он же «яйцо с сюрпризом» - кондитерское изделие, состоящее из двух слоев шоколада, в форме яйца. Внутри находится пластиковый контейнер, который, в свою очередь, содержит небольшую игрушку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щий вес яйца приблизительно 35 грамм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 Сюрпризы» из шоколадного яйца радуют нас с 1972 (1974?) года. Их изобретателем был швейцарец Генри Ро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мая первая партия была продана за ЧАС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 30 лет существования Киндер Сюрприза было продано 30 млрд. шоколадных яиц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феврале 2007 года на аукционе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Bay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ция из 90000 киндер игрушек была продана за 30000 евро. (Так и хочется спросить: «А вам слабо?» Не собрать, так хоть купить…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Picture 13" descr="C:\Documents and Settings\Администратор\Рабочий стол\Новая папка\PIC_0335.JPG"/>
          <p:cNvPicPr/>
          <p:nvPr/>
        </p:nvPicPr>
        <p:blipFill>
          <a:blip r:embed="rId1"/>
          <a:stretch/>
        </p:blipFill>
        <p:spPr>
          <a:xfrm>
            <a:off x="214200" y="1785960"/>
            <a:ext cx="3500640" cy="26431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4" descr="C:\Documents and Settings\Администратор\Рабочий стол\Новая папка\PIC_0339.JPG"/>
          <p:cNvPicPr/>
          <p:nvPr/>
        </p:nvPicPr>
        <p:blipFill>
          <a:blip r:embed="rId2"/>
          <a:stretch/>
        </p:blipFill>
        <p:spPr>
          <a:xfrm>
            <a:off x="1785960" y="4214880"/>
            <a:ext cx="2857320" cy="2643120"/>
          </a:xfrm>
          <a:prstGeom prst="rect">
            <a:avLst/>
          </a:prstGeom>
          <a:ln w="0">
            <a:noFill/>
          </a:ln>
        </p:spPr>
      </p:pic>
    </p:spTree>
  </p:cSld>
  <p:transition advTm="14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7-01-10T12:15:37Z</dcterms:modified>
  <cp:revision>43</cp:revision>
  <dc:subject/>
  <dc:title>PowerPoint Presentation</dc:title>
</cp:coreProperties>
</file>