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277-6C13-4A7A-B9D8-03E570FF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0D3-32BD-4609-9B8B-CCA9078B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E78-1D8C-49CD-B739-61C945C3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127-BF43-44E5-B4D9-61697BEA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556-D994-4FC6-94FA-4637CE9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C05-C63E-416E-B889-C724838E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9DE-3B95-4BAD-A3EC-937A9435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991-7BA5-4D52-B004-B0CD7E8C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39D-84D9-4096-93DC-98A7B7CB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5D5-AE4D-4E81-B9AB-CE158806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770-8E25-4DAC-BAE8-49767DC0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FE1-7DB4-40D6-A195-10AFE4EC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B07C-364C-4236-8942-9F30FF61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119700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Их именами названы наши улиц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3429000"/>
            <a:ext cx="8209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лица Челюскин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бота выполн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5 классом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нишева Ю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7451640" cy="4984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ый значимый объект этой улицы – здание Автоматической Телефонной Станции, которая обслуживает более 20000 телефонных но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лица Челюскинцев названа в честь людей, совершивших подвиг в Арктике в 1934 году и ставших первыми героями Советского Сою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тот год во льдах Чукотского моря потерпел бедствие пароход «Челюскин». Затёртый льдами он был раздавлен и затонул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7280" y="2595600"/>
            <a:ext cx="6769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кипаж успел выгрузиться на лёд и ждал помощи. Два месяца люди жили на льдине, в суровых условиях арктического климат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561672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057560"/>
            <a:ext cx="3708360" cy="2800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 это время был сооружен палаточный лагерь, построен аэродром, так как попасть на большую землю можно было только по воздух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и по запросу лагерь челюскинцев"/>
          <p:cNvPicPr/>
          <p:nvPr/>
        </p:nvPicPr>
        <p:blipFill>
          <a:blip r:embed="rId3"/>
          <a:stretch/>
        </p:blipFill>
        <p:spPr>
          <a:xfrm>
            <a:off x="4140360" y="3213000"/>
            <a:ext cx="4716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лёты в то время были несовершенны, но советским полярным лётчикам удалось совершить чудо - почти за месяц они вывезли на землю всех челюскинцев, среди которых были женщины и де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и по запросу лагерь челюскинцев"/>
          <p:cNvPicPr/>
          <p:nvPr/>
        </p:nvPicPr>
        <p:blipFill>
          <a:blip r:embed="rId2"/>
          <a:stretch/>
        </p:blipFill>
        <p:spPr>
          <a:xfrm>
            <a:off x="4886280" y="3835440"/>
            <a:ext cx="4257720" cy="3022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и по запросу лагерь челюскинцев"/>
          <p:cNvPicPr/>
          <p:nvPr/>
        </p:nvPicPr>
        <p:blipFill>
          <a:blip r:embed="rId3"/>
          <a:stretch/>
        </p:blipFill>
        <p:spPr>
          <a:xfrm>
            <a:off x="250920" y="3141720"/>
            <a:ext cx="428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ециальным экспрессом челюскинцев доставили из Владивостока в Москву. В столице героев ждал настоящий триумф - от Белорусского вокзала украшенные цветами машины двинулись в людском потоке по Тверской. На Красной площади состоялись митинг и парад войск. Затем был приём в Кремл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и по запросу встреча челюскинцев"/>
          <p:cNvPicPr/>
          <p:nvPr/>
        </p:nvPicPr>
        <p:blipFill>
          <a:blip r:embed="rId2"/>
          <a:stretch/>
        </p:blipFill>
        <p:spPr>
          <a:xfrm>
            <a:off x="250920" y="3068640"/>
            <a:ext cx="4465440" cy="351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Картинки по запросу встреча челюскинцев на красной площади"/>
          <p:cNvPicPr/>
          <p:nvPr/>
        </p:nvPicPr>
        <p:blipFill>
          <a:blip r:embed="rId3"/>
          <a:stretch/>
        </p:blipFill>
        <p:spPr>
          <a:xfrm>
            <a:off x="5003640" y="3141720"/>
            <a:ext cx="3816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яженност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лицы 1,5 к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на начинаетс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 Площади Пушкин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проходи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 улицы Вор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лица начала застраиваться в советское время. На улице Челюскинцев в основном расположены частные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14760" y="2781360"/>
            <a:ext cx="4629240" cy="321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4284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4:28:02Z</dcterms:created>
  <dc:creator>ЮЛЯ</dc:creator>
  <dc:description/>
  <dc:language>en-US</dc:language>
  <cp:lastModifiedBy>ЮЛЯ</cp:lastModifiedBy>
  <dcterms:modified xsi:type="dcterms:W3CDTF">2017-02-15T07:56:03Z</dcterms:modified>
  <cp:revision>5</cp:revision>
  <dc:subject/>
  <dc:title>Слайд 1</dc:title>
</cp:coreProperties>
</file>