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9D4-921E-405A-95E6-8C1099A7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A3A-1289-40BF-9AD3-906D272A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730-89DF-4DEE-949F-A103435E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2F21-147F-4AA1-B1C4-732739C4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CDB-1A06-4A4A-85C1-F6BB1677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B72-9C54-4682-8E02-98585BFB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443-945D-4104-B838-59F4795F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B7A-9148-4F95-8525-37700DB1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015-CADA-47AF-AE09-6A169A9B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6C4-F042-47FA-804E-1EF44443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619-DFA6-4170-B434-B17EED45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57D-0793-4982-9CAE-6F7AE43E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5F03-EADF-448F-9AE9-AC1AD1A18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119700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«Их именами названы наши улиц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3429000"/>
            <a:ext cx="8209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лица Челюскин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бота выполн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5 классом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уковод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енишева Ю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7451640" cy="4984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ый значимый объект этой улицы – здание Автоматической Телефонной Станции, которая обслуживает более 20000 телефонных но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лица Челюскинцев названа в честь людей, совершивших подвиг в Арктике в 1934 году и ставших первыми героями Советского Сою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7417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тот год во льдах Чукотского моря потерпел бедствие пароход «Челюскин». Затёртый льдами он был раздавлен и затонул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87280" y="2595600"/>
            <a:ext cx="67694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кипаж успел выгрузиться на лёд и ждал помощи. Два месяца люди жили на льдине, в суровых условиях арктического климат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19280" y="2349360"/>
            <a:ext cx="561672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4057560"/>
            <a:ext cx="3708360" cy="2800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 это время был сооружен палаточный лагерь, построен аэродром, так как попасть на большую землю можно было только по воздух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артинки по запросу лагерь челюскинцев"/>
          <p:cNvPicPr/>
          <p:nvPr/>
        </p:nvPicPr>
        <p:blipFill>
          <a:blip r:embed="rId3"/>
          <a:stretch/>
        </p:blipFill>
        <p:spPr>
          <a:xfrm>
            <a:off x="4140360" y="3213000"/>
            <a:ext cx="4716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лёты в то время были несовершенны, но советским полярным лётчикам удалось совершить чудо - почти за месяц они вывезли на землю всех челюскинцев, среди которых были женщины и дет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Картинки по запросу лагерь челюскинцев"/>
          <p:cNvPicPr/>
          <p:nvPr/>
        </p:nvPicPr>
        <p:blipFill>
          <a:blip r:embed="rId2"/>
          <a:stretch/>
        </p:blipFill>
        <p:spPr>
          <a:xfrm>
            <a:off x="4886280" y="3835440"/>
            <a:ext cx="4257720" cy="3022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и по запросу лагерь челюскинцев"/>
          <p:cNvPicPr/>
          <p:nvPr/>
        </p:nvPicPr>
        <p:blipFill>
          <a:blip r:embed="rId3"/>
          <a:stretch/>
        </p:blipFill>
        <p:spPr>
          <a:xfrm>
            <a:off x="250920" y="3141720"/>
            <a:ext cx="428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ециальным экспрессом челюскинцев доставили из Владивостока в Москву. В столице героев ждал настоящий триумф - от Белорусского вокзала украшенные цветами машины двинулись в людском потоке по Тверской. На Красной площади состоялись митинг и парад войск. Затем был приём в Кремл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ртинки по запросу встреча челюскинцев"/>
          <p:cNvPicPr/>
          <p:nvPr/>
        </p:nvPicPr>
        <p:blipFill>
          <a:blip r:embed="rId2"/>
          <a:stretch/>
        </p:blipFill>
        <p:spPr>
          <a:xfrm>
            <a:off x="250920" y="3068640"/>
            <a:ext cx="4465440" cy="3513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Картинки по запросу встреча челюскинцев на красной площади"/>
          <p:cNvPicPr/>
          <p:nvPr/>
        </p:nvPicPr>
        <p:blipFill>
          <a:blip r:embed="rId3"/>
          <a:stretch/>
        </p:blipFill>
        <p:spPr>
          <a:xfrm>
            <a:off x="5003640" y="3141720"/>
            <a:ext cx="3816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яженность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лицы 1,5 км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на начинаетс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т Площади Пушкин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проходи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о улицы Воро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лица начала застраиваться в советское время. На улице Челюскинцев в основном расположены частные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14760" y="2781360"/>
            <a:ext cx="4629240" cy="3217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1916280"/>
            <a:ext cx="428472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4:28:02Z</dcterms:created>
  <dc:creator>ЮЛЯ</dc:creator>
  <dc:description/>
  <dc:language>en-US</dc:language>
  <cp:lastModifiedBy>ЮЛЯ</cp:lastModifiedBy>
  <dcterms:modified xsi:type="dcterms:W3CDTF">2017-02-15T07:56:03Z</dcterms:modified>
  <cp:revision>5</cp:revision>
  <dc:subject/>
  <dc:title>Слайд 1</dc:title>
</cp:coreProperties>
</file>