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5.jpeg" ContentType="image/jpeg"/>
  <Override PartName="/ppt/media/image50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20.jpeg" ContentType="image/jpeg"/>
  <Override PartName="/ppt/media/image51.png" ContentType="image/pn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E482-BAED-4694-9A90-BF3589B963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3D96-60DF-47A4-BDCF-588DABB8D6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A3C-4804-4A21-BEFE-F8812A4C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78F-0DB1-4BD4-B8E1-BF623C6D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7EC-18B7-47B6-A7CA-90818A70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4E9-277A-44A3-B04E-13407428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060-A5DE-4979-AE78-830FAA17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7DC-6F28-4FC6-98FA-38DE11B5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CF5-6212-4521-8C13-79FCCFD0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3CB-F749-4548-AE47-1AA4C66B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263-517A-4013-AD0B-6113CFB0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1EA-6F43-42F4-AF53-AF4CE5F0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9B9-65E3-41B7-ADD5-108C4AB7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C20-B773-4B38-9993-B4B82E59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0955-696E-44C3-AAE5-BB6B1BD27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7"/>
          <p:cNvSpPr/>
          <p:nvPr/>
        </p:nvSpPr>
        <p:spPr>
          <a:xfrm>
            <a:off x="4500720" y="1714680"/>
            <a:ext cx="428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ВИЗИТНАЯ КАРТОЧКА учителя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Ищенко Ирины Ивано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C:\Users\Admin\Desktop\мама2рргшеап.jpg"/>
          <p:cNvPicPr/>
          <p:nvPr/>
        </p:nvPicPr>
        <p:blipFill>
          <a:blip r:embed="rId1"/>
          <a:stretch/>
        </p:blipFill>
        <p:spPr>
          <a:xfrm>
            <a:off x="1500120" y="1571760"/>
            <a:ext cx="2357640" cy="29289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9"/>
          <p:cNvSpPr/>
          <p:nvPr/>
        </p:nvSpPr>
        <p:spPr>
          <a:xfrm>
            <a:off x="1143000" y="714240"/>
            <a:ext cx="571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Муниципальное бюджетное общеобразовательное учреждение средняя общеобразовательная школа №13 ст. Дмитрие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928800" y="285840"/>
            <a:ext cx="75722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Я  - классный руковод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714240" y="928800"/>
            <a:ext cx="72154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В воспитательной работе считаю главным: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нимание ребёнка </a:t>
            </a:r>
            <a:br>
              <a:rPr sz="2000"/>
            </a:b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(проникновение в его внутренний мир)</a:t>
            </a:r>
            <a:br>
              <a:rPr sz="1800"/>
            </a:b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ризнание ребёнка</a:t>
            </a:r>
            <a:br>
              <a:rPr sz="2000"/>
            </a:b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(право быть самим собой)</a:t>
            </a:r>
            <a:br>
              <a:rPr sz="1800"/>
            </a:b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ринятие ребёнка </a:t>
            </a:r>
            <a:br>
              <a:rPr sz="2000"/>
            </a:b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           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(положительное к нему отношение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Admin\Desktop\DA958239-237D-4EA1-B3B3-38E88CBF1AC3.jpg"/>
          <p:cNvPicPr/>
          <p:nvPr/>
        </p:nvPicPr>
        <p:blipFill>
          <a:blip r:embed="rId1"/>
          <a:stretch/>
        </p:blipFill>
        <p:spPr>
          <a:xfrm>
            <a:off x="4071960" y="3214800"/>
            <a:ext cx="49291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2"/>
          <p:cNvSpPr/>
          <p:nvPr/>
        </p:nvSpPr>
        <p:spPr>
          <a:xfrm>
            <a:off x="1714680" y="785880"/>
            <a:ext cx="183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500040" y="14292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усть в нашем доме кричат только от радости, а                   морщины будут следами улы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C:\Users\Admin\Desktop\Ира\SNV80113.JPG"/>
          <p:cNvPicPr/>
          <p:nvPr/>
        </p:nvPicPr>
        <p:blipFill>
          <a:blip r:embed="rId1"/>
          <a:stretch/>
        </p:blipFill>
        <p:spPr>
          <a:xfrm>
            <a:off x="6286680" y="857160"/>
            <a:ext cx="2214360" cy="314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Admin\Desktop\Ира\SNV80117.JPG"/>
          <p:cNvPicPr/>
          <p:nvPr/>
        </p:nvPicPr>
        <p:blipFill>
          <a:blip r:embed="rId2"/>
          <a:stretch/>
        </p:blipFill>
        <p:spPr>
          <a:xfrm>
            <a:off x="214200" y="1143000"/>
            <a:ext cx="3000600" cy="285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Admin\Desktop\DSCN1542.JPG"/>
          <p:cNvPicPr/>
          <p:nvPr/>
        </p:nvPicPr>
        <p:blipFill>
          <a:blip r:embed="rId3"/>
          <a:stretch/>
        </p:blipFill>
        <p:spPr>
          <a:xfrm>
            <a:off x="3357720" y="3214800"/>
            <a:ext cx="2857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im8-tub-ru.yandex.net/i?id=463174202-71-72&amp;n=21"/>
          <p:cNvPicPr/>
          <p:nvPr/>
        </p:nvPicPr>
        <p:blipFill>
          <a:blip r:embed="rId1"/>
          <a:stretch/>
        </p:blipFill>
        <p:spPr>
          <a:xfrm>
            <a:off x="285840" y="0"/>
            <a:ext cx="1214280" cy="16794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571680" y="0"/>
            <a:ext cx="70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Внеуроч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C:\Users\Admin\Desktop\Ира\DSCN2070.JPG"/>
          <p:cNvPicPr/>
          <p:nvPr/>
        </p:nvPicPr>
        <p:blipFill>
          <a:blip r:embed="rId2"/>
          <a:stretch/>
        </p:blipFill>
        <p:spPr>
          <a:xfrm>
            <a:off x="6143760" y="571680"/>
            <a:ext cx="2286000" cy="3214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Users\Admin\Desktop\SNV80047.JPG"/>
          <p:cNvPicPr/>
          <p:nvPr/>
        </p:nvPicPr>
        <p:blipFill>
          <a:blip r:embed="rId3"/>
          <a:stretch/>
        </p:blipFill>
        <p:spPr>
          <a:xfrm>
            <a:off x="3000240" y="571680"/>
            <a:ext cx="2643480" cy="3214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Users\Admin\Desktop\Ира\SNV80056.JPG"/>
          <p:cNvPicPr/>
          <p:nvPr/>
        </p:nvPicPr>
        <p:blipFill>
          <a:blip r:embed="rId4"/>
          <a:stretch/>
        </p:blipFill>
        <p:spPr>
          <a:xfrm>
            <a:off x="318960" y="2643120"/>
            <a:ext cx="2357640" cy="3286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C:\Users\Admin\Desktop\Ира\SNV80057.JPG"/>
          <p:cNvPicPr/>
          <p:nvPr/>
        </p:nvPicPr>
        <p:blipFill>
          <a:blip r:embed="rId5"/>
          <a:stretch/>
        </p:blipFill>
        <p:spPr>
          <a:xfrm>
            <a:off x="4214880" y="3929040"/>
            <a:ext cx="2500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3"/>
          <p:cNvSpPr/>
          <p:nvPr/>
        </p:nvSpPr>
        <p:spPr>
          <a:xfrm>
            <a:off x="1000080" y="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Моя жизненная оп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500040" y="500040"/>
            <a:ext cx="842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  <a:ea typeface="Times New Roman"/>
              </a:rPr>
              <a:t>Я счастлива, что у меня такая большая и дружная семья. Я благодарна судьбе, что у меня есть муж Владимир и две замечательных дочери Элеонора и Юлия (одной 14 лет, а другой 22 год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Users\Admin\Desktop\RSCN1233.JPG"/>
          <p:cNvPicPr/>
          <p:nvPr/>
        </p:nvPicPr>
        <p:blipFill>
          <a:blip r:embed="rId1"/>
          <a:stretch/>
        </p:blipFill>
        <p:spPr>
          <a:xfrm>
            <a:off x="2643120" y="1500120"/>
            <a:ext cx="2357640" cy="2500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\Desktop\D08C4562-EE36-4804-91DF-C9A5190C54BD.jpg"/>
          <p:cNvPicPr/>
          <p:nvPr/>
        </p:nvPicPr>
        <p:blipFill>
          <a:blip r:embed="rId2"/>
          <a:stretch/>
        </p:blipFill>
        <p:spPr>
          <a:xfrm>
            <a:off x="142920" y="1857240"/>
            <a:ext cx="2000160" cy="3143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Users\Admin\Desktop\RSCN0222.JPG"/>
          <p:cNvPicPr/>
          <p:nvPr/>
        </p:nvPicPr>
        <p:blipFill>
          <a:blip r:embed="rId3"/>
          <a:stretch/>
        </p:blipFill>
        <p:spPr>
          <a:xfrm>
            <a:off x="6500880" y="1643040"/>
            <a:ext cx="2357280" cy="2954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:\Users\Admin\Desktop\мама и я 3.jpg"/>
          <p:cNvPicPr/>
          <p:nvPr/>
        </p:nvPicPr>
        <p:blipFill>
          <a:blip r:embed="rId4"/>
          <a:stretch/>
        </p:blipFill>
        <p:spPr>
          <a:xfrm>
            <a:off x="4786200" y="3786120"/>
            <a:ext cx="1643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3"/>
          <p:cNvSpPr txBox="1"/>
          <p:nvPr/>
        </p:nvSpPr>
        <p:spPr>
          <a:xfrm>
            <a:off x="4071960" y="928800"/>
            <a:ext cx="369720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000080" y="4000680"/>
            <a:ext cx="18432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28760" y="2142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Мои  увлечени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D:\Лаго-Наки\DSCN0948.JPG"/>
          <p:cNvPicPr/>
          <p:nvPr/>
        </p:nvPicPr>
        <p:blipFill>
          <a:blip r:embed="rId1"/>
          <a:stretch/>
        </p:blipFill>
        <p:spPr>
          <a:xfrm>
            <a:off x="7500960" y="714240"/>
            <a:ext cx="1000080" cy="2428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D:\Лаго-Наки\DSCN0974.JPG"/>
          <p:cNvPicPr/>
          <p:nvPr/>
        </p:nvPicPr>
        <p:blipFill>
          <a:blip r:embed="rId2"/>
          <a:stretch/>
        </p:blipFill>
        <p:spPr>
          <a:xfrm>
            <a:off x="5715000" y="785880"/>
            <a:ext cx="1357200" cy="2428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0"/>
          <p:cNvSpPr/>
          <p:nvPr/>
        </p:nvSpPr>
        <p:spPr>
          <a:xfrm>
            <a:off x="5857920" y="28584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Лаго - 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C:\Users\Admin\Desktop\DSCN1734.JPG"/>
          <p:cNvPicPr/>
          <p:nvPr/>
        </p:nvPicPr>
        <p:blipFill>
          <a:blip r:embed="rId3"/>
          <a:stretch/>
        </p:blipFill>
        <p:spPr>
          <a:xfrm>
            <a:off x="0" y="1071720"/>
            <a:ext cx="1571760" cy="214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C:\Users\Admin\Desktop\DSCN1759.JPG"/>
          <p:cNvPicPr/>
          <p:nvPr/>
        </p:nvPicPr>
        <p:blipFill>
          <a:blip r:embed="rId4"/>
          <a:stretch/>
        </p:blipFill>
        <p:spPr>
          <a:xfrm>
            <a:off x="3500280" y="928800"/>
            <a:ext cx="1714680" cy="2071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Users\Admin\Desktop\DSCN1785.JPG"/>
          <p:cNvPicPr/>
          <p:nvPr/>
        </p:nvPicPr>
        <p:blipFill>
          <a:blip r:embed="rId5"/>
          <a:stretch/>
        </p:blipFill>
        <p:spPr>
          <a:xfrm>
            <a:off x="1643040" y="2214720"/>
            <a:ext cx="1785960" cy="2286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1500120" y="714240"/>
            <a:ext cx="2000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Домб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3929040" y="35719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еатр «Премьера» г. Красно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C:\Users\Admin\Desktop\DSCN1534.JPG"/>
          <p:cNvPicPr/>
          <p:nvPr/>
        </p:nvPicPr>
        <p:blipFill>
          <a:blip r:embed="rId6"/>
          <a:stretch/>
        </p:blipFill>
        <p:spPr>
          <a:xfrm>
            <a:off x="4071960" y="4071960"/>
            <a:ext cx="2000160" cy="278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C:\Users\Admin\Desktop\DSCN1543.JPG"/>
          <p:cNvPicPr/>
          <p:nvPr/>
        </p:nvPicPr>
        <p:blipFill>
          <a:blip r:embed="rId7"/>
          <a:stretch/>
        </p:blipFill>
        <p:spPr>
          <a:xfrm>
            <a:off x="6500880" y="4143240"/>
            <a:ext cx="1785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3" descr=""/>
          <p:cNvPicPr/>
          <p:nvPr/>
        </p:nvPicPr>
        <p:blipFill>
          <a:blip r:embed="rId1"/>
          <a:stretch/>
        </p:blipFill>
        <p:spPr>
          <a:xfrm>
            <a:off x="712800" y="-396720"/>
            <a:ext cx="8229600" cy="17618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2286000" y="78588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- любовь к ребё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- личное счаст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- профессион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- успешность выпуск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- взаимопонимание между учителем, учениками и их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- креативность и признание колл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428760" y="378612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Счастлив тот учитель,  который нашел пу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к сердцу ребенка!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Счастлив тот ученик,  которому открыто сердце учителя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Прямоугольник 2" descr=""/>
          <p:cNvPicPr/>
          <p:nvPr/>
        </p:nvPicPr>
        <p:blipFill>
          <a:blip r:embed="rId1"/>
          <a:stretch/>
        </p:blipFill>
        <p:spPr>
          <a:xfrm>
            <a:off x="285840" y="590400"/>
            <a:ext cx="968040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" descr="C:\Users\Царёва\Pictures\профессор.gif"/>
          <p:cNvPicPr/>
          <p:nvPr/>
        </p:nvPicPr>
        <p:blipFill>
          <a:blip r:embed="rId1"/>
          <a:stretch/>
        </p:blipFill>
        <p:spPr>
          <a:xfrm>
            <a:off x="7215120" y="3357720"/>
            <a:ext cx="1357560" cy="16398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3003120" y="12859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571680" y="20001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1357200" y="928800"/>
            <a:ext cx="6143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a"/>
                </a:solidFill>
                <a:latin typeface="Times New Roman"/>
              </a:rPr>
              <a:t>«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Счастлив тот учитель,  который нашел путь к сердцу ребенка!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Счастлив тот ученик,  которому открыто сердце учителя! </a:t>
            </a:r>
            <a:r>
              <a:rPr b="1" i="1" lang="ru-RU" sz="3200" spc="-1" strike="noStrike">
                <a:solidFill>
                  <a:srgbClr val="00339a"/>
                </a:solidFill>
                <a:latin typeface="Monotype Corsiva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57120" y="642960"/>
            <a:ext cx="8286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3517920" y="42876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Личные дан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500120" y="1278000"/>
            <a:ext cx="63579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та рождения: 17.11.1970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рождения: Ставрополь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горный район п. Ю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е: высшее, АГПИ, 1996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цециальность: педагогика и методика начально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алификация: учитель началь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ой стаж: 2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ческий стаж: 2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егория: пер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работы: Муниципальное бюджетное общеобразовательное учреждение средняя общеобразовательная школа №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. Дмитриевс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2"/>
          <p:cNvSpPr/>
          <p:nvPr/>
        </p:nvSpPr>
        <p:spPr>
          <a:xfrm>
            <a:off x="1285920" y="785880"/>
            <a:ext cx="65008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Моё педагогическое кре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едагог – миссия навеки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Зажигать искру в человеке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Пробуждать мысль в умах пытливых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Зажигать свет в глазах счастли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im8-tub-ru.yandex.net/i?id=463174202-71-72&amp;n=21"/>
          <p:cNvPicPr/>
          <p:nvPr/>
        </p:nvPicPr>
        <p:blipFill>
          <a:blip r:embed="rId1"/>
          <a:stretch/>
        </p:blipFill>
        <p:spPr>
          <a:xfrm>
            <a:off x="7500960" y="214200"/>
            <a:ext cx="1643040" cy="20368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2286000" y="2759040"/>
            <a:ext cx="457200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ё жизненное кре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тноситься к людям так, как бы  ты хотел, чтобы относились к т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нимаю активную жизненную позицию. Принимаю участие в фестивалях и конкурсах </a:t>
            </a: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:\Users\Admin\Desktop\дипломы, Ищенко\дипломы 1 сентября.jpg"/>
          <p:cNvPicPr/>
          <p:nvPr/>
        </p:nvPicPr>
        <p:blipFill>
          <a:blip r:embed="rId1"/>
          <a:stretch/>
        </p:blipFill>
        <p:spPr>
          <a:xfrm rot="20446200">
            <a:off x="469440" y="802800"/>
            <a:ext cx="1808280" cy="2367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Admin\Desktop\дипломы, Ищенко\дипломы 1 сентября2.jpg"/>
          <p:cNvPicPr/>
          <p:nvPr/>
        </p:nvPicPr>
        <p:blipFill>
          <a:blip r:embed="rId2"/>
          <a:stretch/>
        </p:blipFill>
        <p:spPr>
          <a:xfrm rot="1251600">
            <a:off x="6492600" y="846000"/>
            <a:ext cx="1593720" cy="247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Admin\Desktop\дипломы, Ищенко\дипломы 1 сентября3.jpg"/>
          <p:cNvPicPr/>
          <p:nvPr/>
        </p:nvPicPr>
        <p:blipFill>
          <a:blip r:embed="rId3"/>
          <a:stretch/>
        </p:blipFill>
        <p:spPr>
          <a:xfrm>
            <a:off x="2857680" y="92880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Admin\Desktop\дипломы, Ищенко\дипломы 1 сентября4.jpg"/>
          <p:cNvPicPr/>
          <p:nvPr/>
        </p:nvPicPr>
        <p:blipFill>
          <a:blip r:embed="rId4"/>
          <a:stretch/>
        </p:blipFill>
        <p:spPr>
          <a:xfrm>
            <a:off x="714240" y="3286080"/>
            <a:ext cx="1935360" cy="264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Admin\Desktop\дипломы, Ищенко\дипломы 1 сентября6.jpg"/>
          <p:cNvPicPr/>
          <p:nvPr/>
        </p:nvPicPr>
        <p:blipFill>
          <a:blip r:embed="rId5"/>
          <a:stretch/>
        </p:blipFill>
        <p:spPr>
          <a:xfrm>
            <a:off x="2786040" y="3071880"/>
            <a:ext cx="185724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Users\Admin\Desktop\дипломы, Ищенко\дипломы 1 сентября5.jpg"/>
          <p:cNvPicPr/>
          <p:nvPr/>
        </p:nvPicPr>
        <p:blipFill>
          <a:blip r:embed="rId6"/>
          <a:stretch/>
        </p:blipFill>
        <p:spPr>
          <a:xfrm>
            <a:off x="6357960" y="3357720"/>
            <a:ext cx="200016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Admin\Desktop\k-770556-img.jpg"/>
          <p:cNvPicPr/>
          <p:nvPr/>
        </p:nvPicPr>
        <p:blipFill>
          <a:blip r:embed="rId7"/>
          <a:stretch/>
        </p:blipFill>
        <p:spPr>
          <a:xfrm>
            <a:off x="4572000" y="1214280"/>
            <a:ext cx="17114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Работаю над темой</a:t>
            </a:r>
            <a:r>
              <a:rPr b="0" lang="ru-RU" sz="4400" spc="-1" strike="noStrike">
                <a:solidFill>
                  <a:srgbClr val="6633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295280" y="1706400"/>
            <a:ext cx="655344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libri"/>
              </a:rPr>
              <a:t>«Вся гордость учителя в учениках, в росте посеянных им семян»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libri"/>
              </a:rPr>
              <a:t>                      </a:t>
            </a:r>
            <a:r>
              <a:rPr b="0" i="1" lang="ru-RU" sz="6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Д.И.Менделеев</a:t>
            </a: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Users\Admin\Desktop\грамоты Фактор роста\770555-770556-img (2).jpg"/>
          <p:cNvPicPr/>
          <p:nvPr/>
        </p:nvPicPr>
        <p:blipFill>
          <a:blip r:embed="rId1"/>
          <a:stretch/>
        </p:blipFill>
        <p:spPr>
          <a:xfrm rot="20776800">
            <a:off x="285840" y="285480"/>
            <a:ext cx="1425600" cy="2786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Admin\Desktop\грамоты Фактор роста\770555-770557-img (2).jpg"/>
          <p:cNvPicPr/>
          <p:nvPr/>
        </p:nvPicPr>
        <p:blipFill>
          <a:blip r:embed="rId2"/>
          <a:stretch/>
        </p:blipFill>
        <p:spPr>
          <a:xfrm rot="1026600">
            <a:off x="7429680" y="357120"/>
            <a:ext cx="1285560" cy="2928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Users\Admin\Desktop\грамоты Фактор роста\770555-770558-img (1).jpg"/>
          <p:cNvPicPr/>
          <p:nvPr/>
        </p:nvPicPr>
        <p:blipFill>
          <a:blip r:embed="rId3"/>
          <a:stretch/>
        </p:blipFill>
        <p:spPr>
          <a:xfrm>
            <a:off x="2928960" y="1071720"/>
            <a:ext cx="1211400" cy="300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Users\Admin\Desktop\грамоты Фактор роста\770555-770559-img (1).jpg"/>
          <p:cNvPicPr/>
          <p:nvPr/>
        </p:nvPicPr>
        <p:blipFill>
          <a:blip r:embed="rId4"/>
          <a:stretch/>
        </p:blipFill>
        <p:spPr>
          <a:xfrm>
            <a:off x="5286240" y="1071720"/>
            <a:ext cx="1285920" cy="3071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C:\Users\Admin\Desktop\грамоты Фактор роста\770555-770561-img (1).jpg"/>
          <p:cNvPicPr/>
          <p:nvPr/>
        </p:nvPicPr>
        <p:blipFill>
          <a:blip r:embed="rId5"/>
          <a:stretch/>
        </p:blipFill>
        <p:spPr>
          <a:xfrm>
            <a:off x="3929040" y="4071960"/>
            <a:ext cx="1357200" cy="2786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C:\Users\Admin\Desktop\грамоты Фактор роста\770555-770563-img.jpg"/>
          <p:cNvPicPr/>
          <p:nvPr/>
        </p:nvPicPr>
        <p:blipFill>
          <a:blip r:embed="rId6"/>
          <a:stretch/>
        </p:blipFill>
        <p:spPr>
          <a:xfrm>
            <a:off x="214200" y="4071960"/>
            <a:ext cx="13543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C:\Users\Admin\Desktop\грамоты Фактор роста\770555-770563-img.jpg"/>
          <p:cNvPicPr/>
          <p:nvPr/>
        </p:nvPicPr>
        <p:blipFill>
          <a:blip r:embed="rId7"/>
          <a:stretch/>
        </p:blipFill>
        <p:spPr>
          <a:xfrm>
            <a:off x="7715160" y="3929040"/>
            <a:ext cx="1428840" cy="2928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C:\Users\Admin\Desktop\грамоты Фактор роста\770555-770566-img.jpg"/>
          <p:cNvPicPr/>
          <p:nvPr/>
        </p:nvPicPr>
        <p:blipFill>
          <a:blip r:embed="rId8"/>
          <a:stretch/>
        </p:blipFill>
        <p:spPr>
          <a:xfrm rot="21120600">
            <a:off x="2039400" y="4223880"/>
            <a:ext cx="1354320" cy="2714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C:\Users\Admin\Desktop\грамоты Фактор роста\770555-770567-img.jpg"/>
          <p:cNvPicPr/>
          <p:nvPr/>
        </p:nvPicPr>
        <p:blipFill>
          <a:blip r:embed="rId9"/>
          <a:stretch/>
        </p:blipFill>
        <p:spPr>
          <a:xfrm rot="600600">
            <a:off x="6157440" y="4235400"/>
            <a:ext cx="1297080" cy="27385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0"/>
          <p:cNvSpPr/>
          <p:nvPr/>
        </p:nvSpPr>
        <p:spPr>
          <a:xfrm>
            <a:off x="1500120" y="214200"/>
            <a:ext cx="62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Всероссийский блиц-турнир                      «Второклассники в  стране Знани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1" descr="C:\Users\Admin\Desktop\грамоты\Изображение\Изображение 020.jpg"/>
          <p:cNvPicPr/>
          <p:nvPr/>
        </p:nvPicPr>
        <p:blipFill>
          <a:blip r:embed="rId1"/>
          <a:stretch/>
        </p:blipFill>
        <p:spPr>
          <a:xfrm>
            <a:off x="285840" y="142920"/>
            <a:ext cx="1571400" cy="3071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C:\Users\Admin\Desktop\грамоты\Изображение\Изображение 021.jpg"/>
          <p:cNvPicPr/>
          <p:nvPr/>
        </p:nvPicPr>
        <p:blipFill>
          <a:blip r:embed="rId2"/>
          <a:stretch/>
        </p:blipFill>
        <p:spPr>
          <a:xfrm>
            <a:off x="7500960" y="214200"/>
            <a:ext cx="1457280" cy="3071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3" descr="C:\Users\Admin\Desktop\грамоты\Изображение\Изображение 009.jpg"/>
          <p:cNvPicPr/>
          <p:nvPr/>
        </p:nvPicPr>
        <p:blipFill>
          <a:blip r:embed="rId3"/>
          <a:stretch/>
        </p:blipFill>
        <p:spPr>
          <a:xfrm rot="20937600">
            <a:off x="2357280" y="129960"/>
            <a:ext cx="1671840" cy="3144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C:\Users\Admin\Desktop\грамоты\Изображение\Изображение 016.jpg"/>
          <p:cNvPicPr/>
          <p:nvPr/>
        </p:nvPicPr>
        <p:blipFill>
          <a:blip r:embed="rId4"/>
          <a:stretch/>
        </p:blipFill>
        <p:spPr>
          <a:xfrm rot="11453400">
            <a:off x="6188040" y="374040"/>
            <a:ext cx="1214640" cy="285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C:\Users\Admin\Desktop\грамоты\Изображение\Изображение 015.jpg"/>
          <p:cNvPicPr/>
          <p:nvPr/>
        </p:nvPicPr>
        <p:blipFill>
          <a:blip r:embed="rId5"/>
          <a:stretch/>
        </p:blipFill>
        <p:spPr>
          <a:xfrm>
            <a:off x="4286160" y="142920"/>
            <a:ext cx="1643040" cy="335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C:\Users\Admin\Desktop\грамоты\Изображение\Изображение 002.jpg"/>
          <p:cNvPicPr/>
          <p:nvPr/>
        </p:nvPicPr>
        <p:blipFill>
          <a:blip r:embed="rId6"/>
          <a:stretch/>
        </p:blipFill>
        <p:spPr>
          <a:xfrm>
            <a:off x="3071880" y="4000680"/>
            <a:ext cx="1528560" cy="285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7" descr="C:\Users\Admin\Desktop\грамоты\Изображение\Изображение 010.jpg"/>
          <p:cNvPicPr/>
          <p:nvPr/>
        </p:nvPicPr>
        <p:blipFill>
          <a:blip r:embed="rId7"/>
          <a:stretch/>
        </p:blipFill>
        <p:spPr>
          <a:xfrm>
            <a:off x="5072040" y="4000680"/>
            <a:ext cx="1457280" cy="285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C:\Users\Admin\Desktop\грамоты\Изображение\Изображение 017.jpg"/>
          <p:cNvPicPr/>
          <p:nvPr/>
        </p:nvPicPr>
        <p:blipFill>
          <a:blip r:embed="rId8"/>
          <a:stretch/>
        </p:blipFill>
        <p:spPr>
          <a:xfrm rot="20715000">
            <a:off x="699840" y="3746520"/>
            <a:ext cx="1814400" cy="292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9" descr="C:\Users\Admin\Desktop\грамоты\Изображение\Изображение 007.jpg"/>
          <p:cNvPicPr/>
          <p:nvPr/>
        </p:nvPicPr>
        <p:blipFill>
          <a:blip r:embed="rId9"/>
          <a:stretch/>
        </p:blipFill>
        <p:spPr>
          <a:xfrm rot="11439000">
            <a:off x="7122240" y="3757680"/>
            <a:ext cx="13575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2:31:12Z</dcterms:created>
  <dc:creator>Царёва</dc:creator>
  <dc:description/>
  <dc:language>en-US</dc:language>
  <cp:lastModifiedBy>Пользователь</cp:lastModifiedBy>
  <dcterms:modified xsi:type="dcterms:W3CDTF">2017-09-02T07:53:22Z</dcterms:modified>
  <cp:revision>72</cp:revision>
  <dc:subject/>
  <dc:title>Слайд 1</dc:title>
</cp:coreProperties>
</file>