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5.jpeg" ContentType="image/jpeg"/>
  <Override PartName="/ppt/media/image50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C90-72FC-4EC2-B7BC-D40A23B289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305-E0B7-474A-912B-A98C8A9E4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20D-EB76-430B-BFAB-CE7E3C4A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FF4-C16D-4EE8-8851-1CE3F0D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532-6BBD-4022-8C6A-E3614A3E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12B-0FCE-42E1-A4E4-D6A4AC48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03D-264F-444B-89B2-CDE9063C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95D-CD46-4942-83EA-9D14439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3E3-0432-4B11-BE81-E1ED35FC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799-572A-4D89-A263-0CE24CD2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F72-FD84-4537-A9B7-808BD2D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3F2-8176-482E-9C45-4F3CF55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B73-5EA4-45B6-9365-CC7EDFB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DD3-43EB-4126-A5A7-AEF24E0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F61-4979-4090-A32D-822F89C98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4500720" y="171468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ИЗИТНАЯ КАРТОЧКА учителя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Ищенко Ирины Иван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Admin\Desktop\мама2рргшеап.jpg"/>
          <p:cNvPicPr/>
          <p:nvPr/>
        </p:nvPicPr>
        <p:blipFill>
          <a:blip r:embed="rId1"/>
          <a:stretch/>
        </p:blipFill>
        <p:spPr>
          <a:xfrm>
            <a:off x="1500120" y="1571760"/>
            <a:ext cx="2357640" cy="2928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1143000" y="71424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13 ст. Дмитрие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928800" y="285840"/>
            <a:ext cx="7572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Я  - класс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714240" y="928800"/>
            <a:ext cx="7215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 воспитательной работе считаю главным: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нимание ребёнка 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роникновение в его внутренний мир)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изнание ребёнка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раво быть самим собой)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инятие ребёнка 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оложительное к нему отношение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Admin\Desktop\DA958239-237D-4EA1-B3B3-38E88CBF1AC3.jpg"/>
          <p:cNvPicPr/>
          <p:nvPr/>
        </p:nvPicPr>
        <p:blipFill>
          <a:blip r:embed="rId1"/>
          <a:stretch/>
        </p:blipFill>
        <p:spPr>
          <a:xfrm>
            <a:off x="4071960" y="3214800"/>
            <a:ext cx="4929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1714680" y="78588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усть в нашем доме кричат только от радости, а                   морщины будут следами улы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Admin\Desktop\Ира\SNV80113.JPG"/>
          <p:cNvPicPr/>
          <p:nvPr/>
        </p:nvPicPr>
        <p:blipFill>
          <a:blip r:embed="rId1"/>
          <a:stretch/>
        </p:blipFill>
        <p:spPr>
          <a:xfrm>
            <a:off x="6286680" y="857160"/>
            <a:ext cx="2214360" cy="314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Admin\Desktop\Ира\SNV80117.JPG"/>
          <p:cNvPicPr/>
          <p:nvPr/>
        </p:nvPicPr>
        <p:blipFill>
          <a:blip r:embed="rId2"/>
          <a:stretch/>
        </p:blipFill>
        <p:spPr>
          <a:xfrm>
            <a:off x="214200" y="1143000"/>
            <a:ext cx="300060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Admin\Desktop\DSCN1542.JPG"/>
          <p:cNvPicPr/>
          <p:nvPr/>
        </p:nvPicPr>
        <p:blipFill>
          <a:blip r:embed="rId3"/>
          <a:stretch/>
        </p:blipFill>
        <p:spPr>
          <a:xfrm>
            <a:off x="3357720" y="3214800"/>
            <a:ext cx="2857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im8-tub-ru.yandex.net/i?id=463174202-71-72&amp;n=21"/>
          <p:cNvPicPr/>
          <p:nvPr/>
        </p:nvPicPr>
        <p:blipFill>
          <a:blip r:embed="rId1"/>
          <a:stretch/>
        </p:blipFill>
        <p:spPr>
          <a:xfrm>
            <a:off x="285840" y="0"/>
            <a:ext cx="1214280" cy="1679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71680" y="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Users\Admin\Desktop\Ира\DSCN2070.JPG"/>
          <p:cNvPicPr/>
          <p:nvPr/>
        </p:nvPicPr>
        <p:blipFill>
          <a:blip r:embed="rId2"/>
          <a:stretch/>
        </p:blipFill>
        <p:spPr>
          <a:xfrm>
            <a:off x="6143760" y="571680"/>
            <a:ext cx="2286000" cy="32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Admin\Desktop\SNV80047.JPG"/>
          <p:cNvPicPr/>
          <p:nvPr/>
        </p:nvPicPr>
        <p:blipFill>
          <a:blip r:embed="rId3"/>
          <a:stretch/>
        </p:blipFill>
        <p:spPr>
          <a:xfrm>
            <a:off x="3000240" y="571680"/>
            <a:ext cx="2643480" cy="321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Admin\Desktop\Ира\SNV80056.JPG"/>
          <p:cNvPicPr/>
          <p:nvPr/>
        </p:nvPicPr>
        <p:blipFill>
          <a:blip r:embed="rId4"/>
          <a:stretch/>
        </p:blipFill>
        <p:spPr>
          <a:xfrm>
            <a:off x="318960" y="264312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Admin\Desktop\Ира\SNV80057.JPG"/>
          <p:cNvPicPr/>
          <p:nvPr/>
        </p:nvPicPr>
        <p:blipFill>
          <a:blip r:embed="rId5"/>
          <a:stretch/>
        </p:blipFill>
        <p:spPr>
          <a:xfrm>
            <a:off x="4214880" y="3929040"/>
            <a:ext cx="2500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1000080" y="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оя жизненная о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00040" y="50004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Я счастлива, что у меня такая большая и дружная семья. Я благодарна судьбе, что у меня есть муж Владимир и две замечательных дочери Элеонора и Юлия (одной 14 лет, а другой 22 го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Admin\Desktop\RSCN1233.JPG"/>
          <p:cNvPicPr/>
          <p:nvPr/>
        </p:nvPicPr>
        <p:blipFill>
          <a:blip r:embed="rId1"/>
          <a:stretch/>
        </p:blipFill>
        <p:spPr>
          <a:xfrm>
            <a:off x="2643120" y="1500120"/>
            <a:ext cx="2357640" cy="250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\Desktop\D08C4562-EE36-4804-91DF-C9A5190C54BD.jpg"/>
          <p:cNvPicPr/>
          <p:nvPr/>
        </p:nvPicPr>
        <p:blipFill>
          <a:blip r:embed="rId2"/>
          <a:stretch/>
        </p:blipFill>
        <p:spPr>
          <a:xfrm>
            <a:off x="142920" y="1857240"/>
            <a:ext cx="2000160" cy="3143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Admin\Desktop\RSCN0222.JPG"/>
          <p:cNvPicPr/>
          <p:nvPr/>
        </p:nvPicPr>
        <p:blipFill>
          <a:blip r:embed="rId3"/>
          <a:stretch/>
        </p:blipFill>
        <p:spPr>
          <a:xfrm>
            <a:off x="6500880" y="1643040"/>
            <a:ext cx="2357280" cy="295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Admin\Desktop\мама и я 3.jpg"/>
          <p:cNvPicPr/>
          <p:nvPr/>
        </p:nvPicPr>
        <p:blipFill>
          <a:blip r:embed="rId4"/>
          <a:stretch/>
        </p:blipFill>
        <p:spPr>
          <a:xfrm>
            <a:off x="4786200" y="3786120"/>
            <a:ext cx="164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4071960" y="928800"/>
            <a:ext cx="3697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00080" y="4000680"/>
            <a:ext cx="1843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2876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Мои  увлечен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:\Лаго-Наки\DSCN0948.JPG"/>
          <p:cNvPicPr/>
          <p:nvPr/>
        </p:nvPicPr>
        <p:blipFill>
          <a:blip r:embed="rId1"/>
          <a:stretch/>
        </p:blipFill>
        <p:spPr>
          <a:xfrm>
            <a:off x="7500960" y="714240"/>
            <a:ext cx="1000080" cy="242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D:\Лаго-Наки\DSCN0974.JPG"/>
          <p:cNvPicPr/>
          <p:nvPr/>
        </p:nvPicPr>
        <p:blipFill>
          <a:blip r:embed="rId2"/>
          <a:stretch/>
        </p:blipFill>
        <p:spPr>
          <a:xfrm>
            <a:off x="5715000" y="785880"/>
            <a:ext cx="135720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5857920" y="2858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аго - 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Users\Admin\Desktop\DSCN1734.JPG"/>
          <p:cNvPicPr/>
          <p:nvPr/>
        </p:nvPicPr>
        <p:blipFill>
          <a:blip r:embed="rId3"/>
          <a:stretch/>
        </p:blipFill>
        <p:spPr>
          <a:xfrm>
            <a:off x="0" y="10717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Users\Admin\Desktop\DSCN1759.JPG"/>
          <p:cNvPicPr/>
          <p:nvPr/>
        </p:nvPicPr>
        <p:blipFill>
          <a:blip r:embed="rId4"/>
          <a:stretch/>
        </p:blipFill>
        <p:spPr>
          <a:xfrm>
            <a:off x="3500280" y="928800"/>
            <a:ext cx="1714680" cy="207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Admin\Desktop\DSCN1785.JPG"/>
          <p:cNvPicPr/>
          <p:nvPr/>
        </p:nvPicPr>
        <p:blipFill>
          <a:blip r:embed="rId5"/>
          <a:stretch/>
        </p:blipFill>
        <p:spPr>
          <a:xfrm>
            <a:off x="1643040" y="2214720"/>
            <a:ext cx="178596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1500120" y="714240"/>
            <a:ext cx="200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б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929040" y="35719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атр «Премьера»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C:\Users\Admin\Desktop\DSCN1534.JPG"/>
          <p:cNvPicPr/>
          <p:nvPr/>
        </p:nvPicPr>
        <p:blipFill>
          <a:blip r:embed="rId6"/>
          <a:stretch/>
        </p:blipFill>
        <p:spPr>
          <a:xfrm>
            <a:off x="4071960" y="4071960"/>
            <a:ext cx="2000160" cy="278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Users\Admin\Desktop\DSCN1543.JPG"/>
          <p:cNvPicPr/>
          <p:nvPr/>
        </p:nvPicPr>
        <p:blipFill>
          <a:blip r:embed="rId7"/>
          <a:stretch/>
        </p:blipFill>
        <p:spPr>
          <a:xfrm>
            <a:off x="6500880" y="4143240"/>
            <a:ext cx="1785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712800" y="-396720"/>
            <a:ext cx="8229600" cy="1761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28600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любовь к реб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личное 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профессион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успешность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взаимопонимание между учителем, учениками и их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креативность и признание кол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428760" y="378612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частлив тот учитель,  который нашел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к сердцу ребенка!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частлив тот ученик,  которому открыто сердце учител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590400"/>
            <a:ext cx="96804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C:\Users\Царёва\Pictures\профессор.gif"/>
          <p:cNvPicPr/>
          <p:nvPr/>
        </p:nvPicPr>
        <p:blipFill>
          <a:blip r:embed="rId1"/>
          <a:stretch/>
        </p:blipFill>
        <p:spPr>
          <a:xfrm>
            <a:off x="7215120" y="3357720"/>
            <a:ext cx="135756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03120" y="1285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357200" y="928800"/>
            <a:ext cx="6143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a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частлив тот учитель,  который нашел путь к сердцу ребенка!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частлив тот ученик,  которому открыто сердце учителя! </a:t>
            </a:r>
            <a:r>
              <a:rPr b="1" i="1" lang="ru-RU" sz="3200" spc="-1" strike="noStrike">
                <a:solidFill>
                  <a:srgbClr val="00339a"/>
                </a:solidFill>
                <a:latin typeface="Monotype Corsiva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642960"/>
            <a:ext cx="8286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517920" y="4287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Лич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500120" y="1278000"/>
            <a:ext cx="6357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 рождения: 17.11.1970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: Ставрополь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горный район п. Ю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: высшее, АГПИ, 199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циальность: педагогика и методика нача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лификация: учитель началь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стаж: 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й стаж: 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я: пер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аботы: Муниципальное бюджетное общеобразовательное учреждение средняя общеобразовательная школа №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. Дмитриев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1285920" y="785880"/>
            <a:ext cx="6500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Моё педагогическое кре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дагог – миссия навеки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Зажигать искру в человеке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Пробуждать мысль в умах пытливых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Зажигать свет в глазах счастл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8-tub-ru.yandex.net/i?id=463174202-71-72&amp;n=21"/>
          <p:cNvPicPr/>
          <p:nvPr/>
        </p:nvPicPr>
        <p:blipFill>
          <a:blip r:embed="rId1"/>
          <a:stretch/>
        </p:blipFill>
        <p:spPr>
          <a:xfrm>
            <a:off x="7500960" y="214200"/>
            <a:ext cx="1643040" cy="20368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286000" y="2759040"/>
            <a:ext cx="45720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ё жизненное кре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тноситься к людям так, как бы  ты хотел, чтобы относились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нимаю активную жизненную позицию. Принимаю участие в фестивалях и конкурсах 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Admin\Desktop\дипломы, Ищенко\дипломы 1 сентября.jpg"/>
          <p:cNvPicPr/>
          <p:nvPr/>
        </p:nvPicPr>
        <p:blipFill>
          <a:blip r:embed="rId1"/>
          <a:stretch/>
        </p:blipFill>
        <p:spPr>
          <a:xfrm rot="20446200">
            <a:off x="469440" y="802800"/>
            <a:ext cx="1808280" cy="236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\Desktop\дипломы, Ищенко\дипломы 1 сентября2.jpg"/>
          <p:cNvPicPr/>
          <p:nvPr/>
        </p:nvPicPr>
        <p:blipFill>
          <a:blip r:embed="rId2"/>
          <a:stretch/>
        </p:blipFill>
        <p:spPr>
          <a:xfrm rot="1251600">
            <a:off x="6492600" y="846000"/>
            <a:ext cx="1593720" cy="247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\Desktop\дипломы, Ищенко\дипломы 1 сентября3.jpg"/>
          <p:cNvPicPr/>
          <p:nvPr/>
        </p:nvPicPr>
        <p:blipFill>
          <a:blip r:embed="rId3"/>
          <a:stretch/>
        </p:blipFill>
        <p:spPr>
          <a:xfrm>
            <a:off x="2857680" y="9288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Admin\Desktop\дипломы, Ищенко\дипломы 1 сентября4.jpg"/>
          <p:cNvPicPr/>
          <p:nvPr/>
        </p:nvPicPr>
        <p:blipFill>
          <a:blip r:embed="rId4"/>
          <a:stretch/>
        </p:blipFill>
        <p:spPr>
          <a:xfrm>
            <a:off x="714240" y="3286080"/>
            <a:ext cx="193536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Admin\Desktop\дипломы, Ищенко\дипломы 1 сентября6.jpg"/>
          <p:cNvPicPr/>
          <p:nvPr/>
        </p:nvPicPr>
        <p:blipFill>
          <a:blip r:embed="rId5"/>
          <a:stretch/>
        </p:blipFill>
        <p:spPr>
          <a:xfrm>
            <a:off x="2786040" y="3071880"/>
            <a:ext cx="185724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\Desktop\дипломы, Ищенко\дипломы 1 сентября5.jpg"/>
          <p:cNvPicPr/>
          <p:nvPr/>
        </p:nvPicPr>
        <p:blipFill>
          <a:blip r:embed="rId6"/>
          <a:stretch/>
        </p:blipFill>
        <p:spPr>
          <a:xfrm>
            <a:off x="6357960" y="335772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Admin\Desktop\k-770556-img.jpg"/>
          <p:cNvPicPr/>
          <p:nvPr/>
        </p:nvPicPr>
        <p:blipFill>
          <a:blip r:embed="rId7"/>
          <a:stretch/>
        </p:blipFill>
        <p:spPr>
          <a:xfrm>
            <a:off x="4572000" y="1214280"/>
            <a:ext cx="17114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Работаю над темой</a:t>
            </a:r>
            <a:r>
              <a:rPr b="0" lang="ru-RU" sz="4400" spc="-1" strike="noStrike">
                <a:solidFill>
                  <a:srgbClr val="6633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1706400"/>
            <a:ext cx="65534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«Вся гордость учителя в учениках, в росте посеянных им семян»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0" i="1" lang="ru-RU" sz="6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Д.И.Менделеев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Users\Admin\Desktop\грамоты Фактор роста\770555-770556-img (2).jpg"/>
          <p:cNvPicPr/>
          <p:nvPr/>
        </p:nvPicPr>
        <p:blipFill>
          <a:blip r:embed="rId1"/>
          <a:stretch/>
        </p:blipFill>
        <p:spPr>
          <a:xfrm rot="20776800">
            <a:off x="285840" y="285480"/>
            <a:ext cx="142560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Admin\Desktop\грамоты Фактор роста\770555-770557-img (2).jpg"/>
          <p:cNvPicPr/>
          <p:nvPr/>
        </p:nvPicPr>
        <p:blipFill>
          <a:blip r:embed="rId2"/>
          <a:stretch/>
        </p:blipFill>
        <p:spPr>
          <a:xfrm rot="1026600">
            <a:off x="7429680" y="357120"/>
            <a:ext cx="1285560" cy="29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Admin\Desktop\грамоты Фактор роста\770555-770558-img (1).jpg"/>
          <p:cNvPicPr/>
          <p:nvPr/>
        </p:nvPicPr>
        <p:blipFill>
          <a:blip r:embed="rId3"/>
          <a:stretch/>
        </p:blipFill>
        <p:spPr>
          <a:xfrm>
            <a:off x="2928960" y="1071720"/>
            <a:ext cx="121140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\Desktop\грамоты Фактор роста\770555-770559-img (1).jpg"/>
          <p:cNvPicPr/>
          <p:nvPr/>
        </p:nvPicPr>
        <p:blipFill>
          <a:blip r:embed="rId4"/>
          <a:stretch/>
        </p:blipFill>
        <p:spPr>
          <a:xfrm>
            <a:off x="5286240" y="1071720"/>
            <a:ext cx="1285920" cy="307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Admin\Desktop\грамоты Фактор роста\770555-770561-img (1).jpg"/>
          <p:cNvPicPr/>
          <p:nvPr/>
        </p:nvPicPr>
        <p:blipFill>
          <a:blip r:embed="rId5"/>
          <a:stretch/>
        </p:blipFill>
        <p:spPr>
          <a:xfrm>
            <a:off x="3929040" y="4071960"/>
            <a:ext cx="135720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Admin\Desktop\грамоты Фактор роста\770555-770563-img.jpg"/>
          <p:cNvPicPr/>
          <p:nvPr/>
        </p:nvPicPr>
        <p:blipFill>
          <a:blip r:embed="rId6"/>
          <a:stretch/>
        </p:blipFill>
        <p:spPr>
          <a:xfrm>
            <a:off x="214200" y="4071960"/>
            <a:ext cx="13543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Admin\Desktop\грамоты Фактор роста\770555-770563-img.jpg"/>
          <p:cNvPicPr/>
          <p:nvPr/>
        </p:nvPicPr>
        <p:blipFill>
          <a:blip r:embed="rId7"/>
          <a:stretch/>
        </p:blipFill>
        <p:spPr>
          <a:xfrm>
            <a:off x="7715160" y="3929040"/>
            <a:ext cx="142884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Admin\Desktop\грамоты Фактор роста\770555-770566-img.jpg"/>
          <p:cNvPicPr/>
          <p:nvPr/>
        </p:nvPicPr>
        <p:blipFill>
          <a:blip r:embed="rId8"/>
          <a:stretch/>
        </p:blipFill>
        <p:spPr>
          <a:xfrm rot="21120600">
            <a:off x="2039400" y="4223880"/>
            <a:ext cx="1354320" cy="271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Admin\Desktop\грамоты Фактор роста\770555-770567-img.jpg"/>
          <p:cNvPicPr/>
          <p:nvPr/>
        </p:nvPicPr>
        <p:blipFill>
          <a:blip r:embed="rId9"/>
          <a:stretch/>
        </p:blipFill>
        <p:spPr>
          <a:xfrm rot="600600">
            <a:off x="6157440" y="4235400"/>
            <a:ext cx="1297080" cy="2738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1500120" y="21420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сероссийский блиц-турнир                      «Второклассники в  стране Зна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1" descr="C:\Users\Admin\Desktop\грамоты\Изображение\Изображение 020.jpg"/>
          <p:cNvPicPr/>
          <p:nvPr/>
        </p:nvPicPr>
        <p:blipFill>
          <a:blip r:embed="rId1"/>
          <a:stretch/>
        </p:blipFill>
        <p:spPr>
          <a:xfrm>
            <a:off x="285840" y="142920"/>
            <a:ext cx="157140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C:\Users\Admin\Desktop\грамоты\Изображение\Изображение 021.jpg"/>
          <p:cNvPicPr/>
          <p:nvPr/>
        </p:nvPicPr>
        <p:blipFill>
          <a:blip r:embed="rId2"/>
          <a:stretch/>
        </p:blipFill>
        <p:spPr>
          <a:xfrm>
            <a:off x="7500960" y="214200"/>
            <a:ext cx="1457280" cy="30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C:\Users\Admin\Desktop\грамоты\Изображение\Изображение 009.jpg"/>
          <p:cNvPicPr/>
          <p:nvPr/>
        </p:nvPicPr>
        <p:blipFill>
          <a:blip r:embed="rId3"/>
          <a:stretch/>
        </p:blipFill>
        <p:spPr>
          <a:xfrm rot="20937600">
            <a:off x="2357280" y="129960"/>
            <a:ext cx="1671840" cy="314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C:\Users\Admin\Desktop\грамоты\Изображение\Изображение 016.jpg"/>
          <p:cNvPicPr/>
          <p:nvPr/>
        </p:nvPicPr>
        <p:blipFill>
          <a:blip r:embed="rId4"/>
          <a:stretch/>
        </p:blipFill>
        <p:spPr>
          <a:xfrm rot="11453400">
            <a:off x="6188040" y="374040"/>
            <a:ext cx="1214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C:\Users\Admin\Desktop\грамоты\Изображение\Изображение 015.jpg"/>
          <p:cNvPicPr/>
          <p:nvPr/>
        </p:nvPicPr>
        <p:blipFill>
          <a:blip r:embed="rId5"/>
          <a:stretch/>
        </p:blipFill>
        <p:spPr>
          <a:xfrm>
            <a:off x="4286160" y="142920"/>
            <a:ext cx="1643040" cy="335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C:\Users\Admin\Desktop\грамоты\Изображение\Изображение 002.jpg"/>
          <p:cNvPicPr/>
          <p:nvPr/>
        </p:nvPicPr>
        <p:blipFill>
          <a:blip r:embed="rId6"/>
          <a:stretch/>
        </p:blipFill>
        <p:spPr>
          <a:xfrm>
            <a:off x="3071880" y="4000680"/>
            <a:ext cx="152856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C:\Users\Admin\Desktop\грамоты\Изображение\Изображение 010.jpg"/>
          <p:cNvPicPr/>
          <p:nvPr/>
        </p:nvPicPr>
        <p:blipFill>
          <a:blip r:embed="rId7"/>
          <a:stretch/>
        </p:blipFill>
        <p:spPr>
          <a:xfrm>
            <a:off x="5072040" y="4000680"/>
            <a:ext cx="14572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C:\Users\Admin\Desktop\грамоты\Изображение\Изображение 017.jpg"/>
          <p:cNvPicPr/>
          <p:nvPr/>
        </p:nvPicPr>
        <p:blipFill>
          <a:blip r:embed="rId8"/>
          <a:stretch/>
        </p:blipFill>
        <p:spPr>
          <a:xfrm rot="20715000">
            <a:off x="699840" y="3746520"/>
            <a:ext cx="181440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C:\Users\Admin\Desktop\грамоты\Изображение\Изображение 007.jpg"/>
          <p:cNvPicPr/>
          <p:nvPr/>
        </p:nvPicPr>
        <p:blipFill>
          <a:blip r:embed="rId9"/>
          <a:stretch/>
        </p:blipFill>
        <p:spPr>
          <a:xfrm rot="11439000">
            <a:off x="7122240" y="3757680"/>
            <a:ext cx="13575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31:12Z</dcterms:created>
  <dc:creator>Царёва</dc:creator>
  <dc:description/>
  <dc:language>en-US</dc:language>
  <cp:lastModifiedBy>Пользователь</cp:lastModifiedBy>
  <dcterms:modified xsi:type="dcterms:W3CDTF">2017-09-02T07:53:22Z</dcterms:modified>
  <cp:revision>72</cp:revision>
  <dc:subject/>
  <dc:title>Слайд 1</dc:title>
</cp:coreProperties>
</file>