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10E5-498E-46CA-95A8-D30210EA6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D262-732B-4E10-BADB-48A5BDE7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D5E2-B57F-4D0B-A583-3BA15FB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B4FA-750E-4B0B-8A94-9E4A818A4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CC725-BA84-4EE7-8C15-7E9472380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5F2C7-7DAD-4BC4-BF1D-3F225F51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E4275-1571-4AEA-A911-3ABDEFBC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B1934-301D-4BCF-9AC3-B070DB05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AF64C-56B6-43FB-848A-7B3B7289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7538-D16A-4B9C-B339-B67810D8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F20A1-E2F7-46AE-8CD1-B9BD8275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807B-055D-4610-BD74-C65DE0B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9073A-92D3-4FDE-A33C-464D2AC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6404-2724-408C-909B-BA5E5BF5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FA27A-A1DD-4789-A984-C1480DA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AEB43-5059-4CAF-B32D-53A9B9C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01C2-5394-4A67-9DF7-CE6EB9C99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916C-7537-4842-8B60-F3518E2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98BF-7ABA-425E-BB39-4FCAFE3C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6A45-3184-4919-8C3B-D9FB8F95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1636-EC8B-4698-A208-0FBB3914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9D08-1A50-401F-9D5D-310DABAE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038B-DDB1-42C5-92CB-0E1A863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E1A1-770B-48A0-B4D6-D2919AB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63853C-20CE-40B2-A425-0B9D24B6BC6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AutoShape 10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88960" y="-141480"/>
            <a:ext cx="2990520" cy="2855520"/>
            <a:chOff x="6888960" y="-141480"/>
            <a:chExt cx="2990520" cy="28555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88960" y="-141480"/>
              <a:ext cx="2990520" cy="2855520"/>
              <a:chOff x="6888960" y="-141480"/>
              <a:chExt cx="2990520" cy="285552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88960" y="-141480"/>
                <a:ext cx="2990520" cy="2855520"/>
                <a:chOff x="6888960" y="-141480"/>
                <a:chExt cx="2990520" cy="285552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3480" y="-21240"/>
                  <a:ext cx="34992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8840" y="642600"/>
                  <a:ext cx="61740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506360" y="408960"/>
                  <a:ext cx="1161360" cy="162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2120" y="70920"/>
                  <a:ext cx="1744200" cy="2430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82600" y="1865520"/>
                  <a:ext cx="38628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89720" y="1657800"/>
                  <a:ext cx="413640" cy="25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3360" y="303480"/>
                  <a:ext cx="414000" cy="264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8280" y="127080"/>
                  <a:ext cx="408960" cy="24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AutoShape 3"/>
            <p:cNvSpPr/>
            <p:nvPr/>
          </p:nvSpPr>
          <p:spPr>
            <a:xfrm>
              <a:off x="281160" y="281160"/>
              <a:ext cx="3570120" cy="16128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263520" y="414360"/>
              <a:ext cx="356076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752400" y="546120"/>
              <a:ext cx="2360520" cy="1457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AutoShape 7"/>
              <p:cNvSpPr/>
              <p:nvPr/>
            </p:nvSpPr>
            <p:spPr>
              <a:xfrm>
                <a:off x="3182760" y="1482840"/>
                <a:ext cx="33516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8"/>
              <p:cNvSpPr/>
              <p:nvPr/>
            </p:nvSpPr>
            <p:spPr>
              <a:xfrm>
                <a:off x="195120" y="235080"/>
                <a:ext cx="3786480" cy="171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"/>
              <p:cNvSpPr/>
              <p:nvPr/>
            </p:nvSpPr>
            <p:spPr>
              <a:xfrm>
                <a:off x="514440" y="250920"/>
                <a:ext cx="2674800" cy="9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10"/>
              <p:cNvSpPr/>
              <p:nvPr/>
            </p:nvSpPr>
            <p:spPr>
              <a:xfrm>
                <a:off x="649440" y="398520"/>
                <a:ext cx="358560" cy="64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>
                <a:off x="1343160" y="851040"/>
                <a:ext cx="1095120" cy="57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2"/>
          <p:cNvGrpSpPr/>
          <p:nvPr/>
        </p:nvGrpSpPr>
        <p:grpSpPr>
          <a:xfrm>
            <a:off x="7701480" y="4236120"/>
            <a:ext cx="1161720" cy="1324080"/>
            <a:chOff x="7701480" y="4236120"/>
            <a:chExt cx="1161720" cy="1324080"/>
          </a:xfrm>
        </p:grpSpPr>
        <p:sp>
          <p:nvSpPr>
            <p:cNvPr id="99" name="AutoShape 13"/>
            <p:cNvSpPr/>
            <p:nvPr/>
          </p:nvSpPr>
          <p:spPr>
            <a:xfrm rot="7320000">
              <a:off x="7791480" y="4659840"/>
              <a:ext cx="996840" cy="461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rot="7320000">
              <a:off x="7770600" y="4640040"/>
              <a:ext cx="993960" cy="4572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7320000">
              <a:off x="7935840" y="4627080"/>
              <a:ext cx="658800" cy="417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Group 16"/>
            <p:cNvGrpSpPr/>
            <p:nvPr/>
          </p:nvGrpSpPr>
          <p:grpSpPr>
            <a:xfrm>
              <a:off x="7701480" y="4236120"/>
              <a:ext cx="1161720" cy="1324080"/>
              <a:chOff x="7701480" y="4236120"/>
              <a:chExt cx="1161720" cy="1324080"/>
            </a:xfrm>
          </p:grpSpPr>
          <p:sp>
            <p:nvSpPr>
              <p:cNvPr id="103" name="AutoShape 17"/>
              <p:cNvSpPr/>
              <p:nvPr/>
            </p:nvSpPr>
            <p:spPr>
              <a:xfrm rot="7320000">
                <a:off x="7808400" y="5071680"/>
                <a:ext cx="10080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8"/>
              <p:cNvSpPr/>
              <p:nvPr/>
            </p:nvSpPr>
            <p:spPr>
              <a:xfrm rot="7320000">
                <a:off x="7703640" y="4574520"/>
                <a:ext cx="1157040" cy="64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 rot="7320000">
                <a:off x="8034120" y="4712400"/>
                <a:ext cx="818640" cy="36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rot="7320000">
                <a:off x="8598960" y="4510440"/>
                <a:ext cx="107280" cy="24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 rot="7320000">
                <a:off x="8142480" y="4728960"/>
                <a:ext cx="333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AutoShape 22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56CBED-38F1-4556-8471-7DFC270EA4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395280" y="1104840"/>
            <a:ext cx="7242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й путь, ведущий к знаниям-это деятельность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нард   Шо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320760"/>
            <a:ext cx="72421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пользование цифровой лаборатории на уроках физ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345600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143160" y="2786040"/>
            <a:ext cx="331308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6118200" y="4000680"/>
            <a:ext cx="302580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500040" y="357120"/>
            <a:ext cx="724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411280" y="2428920"/>
            <a:ext cx="34578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428840" y="3071880"/>
            <a:ext cx="5643360" cy="342900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sp>
        <p:nvSpPr>
          <p:cNvPr id="154" name="Rectangle 2"/>
          <p:cNvSpPr/>
          <p:nvPr/>
        </p:nvSpPr>
        <p:spPr>
          <a:xfrm>
            <a:off x="468360" y="9828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Методическая разработка демонстрационного эксперимен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по предмету физ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«Количество теплоты и теплоемкост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Автор: Фролова   Татьян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МБОУ СОШ №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357120" y="285840"/>
            <a:ext cx="698976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ель данной разработки:  показать возможности применения «Цифровой лаборатории» в учебном процесс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казать возможность измерения удельной теплоемкости веще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222960" y="5357880"/>
            <a:ext cx="292104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7020000" y="2637000"/>
            <a:ext cx="17859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500280" y="4071960"/>
            <a:ext cx="1636920" cy="25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571680" y="839880"/>
            <a:ext cx="738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нную разработку можно использова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 объяснении нового материала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время проведения лабораторной работы, для проведения занятия во внеурочное врем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320760"/>
            <a:ext cx="724212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став цифровой лаборатор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3816360" cy="273528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4857840" y="2643120"/>
            <a:ext cx="3600360" cy="273528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sp>
        <p:nvSpPr>
          <p:cNvPr id="164" name="Text Box 4"/>
          <p:cNvSpPr/>
          <p:nvPr/>
        </p:nvSpPr>
        <p:spPr>
          <a:xfrm>
            <a:off x="714240" y="1500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ьный интерфей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929120" y="1500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датчики по физи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642960" y="21276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е обеспече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8760" y="1143000"/>
            <a:ext cx="795312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 и мультимедийный про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тивы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рки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спи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чик температуры 0- 100°C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ы металлические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овки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зур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ая в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Различие теплоемкости воды и спир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32000" y="1700280"/>
            <a:ext cx="70498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 два цилиндра в кипятке, один цилиндр опускают при помощи ложечки для плавления в пробирку с водой, а второй  в пробирку со спиртом при комнатной температу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пускания цилиндров в пробирки требуется, придерживая пробирку за верхнюю часть, быстро вставить датчик, укрепить корпус датчика на стальном листе и начать перемешивать жидкость в пробирке за счет вращения пробирки вокруг датч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685800" y="150840"/>
            <a:ext cx="6870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работ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2571840" y="1500120"/>
            <a:ext cx="3000240" cy="26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5429160" y="3714840"/>
            <a:ext cx="2928960" cy="2855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144360" y="3143160"/>
            <a:ext cx="27133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44360" y="500040"/>
            <a:ext cx="314172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3786120" y="1782720"/>
            <a:ext cx="5143680" cy="393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0:19:55Z</dcterms:created>
  <dc:creator>Учитель</dc:creator>
  <dc:description/>
  <dc:language>en-US</dc:language>
  <cp:lastModifiedBy>Windows_7</cp:lastModifiedBy>
  <dcterms:modified xsi:type="dcterms:W3CDTF">2017-08-31T20:18:24Z</dcterms:modified>
  <cp:revision>20</cp:revision>
  <dc:subject/>
  <dc:title>Единственный путь, ведущий к знаниям-это деятельность.                                        Бернард   Шоу.</dc:title>
</cp:coreProperties>
</file>