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7.png" ContentType="image/png"/>
  <Override PartName="/ppt/media/image24.png" ContentType="image/png"/>
  <Override PartName="/ppt/media/image21.png" ContentType="image/png"/>
  <Override PartName="/ppt/media/image4.jpeg" ContentType="image/jpeg"/>
  <Override PartName="/ppt/media/image22.gif" ContentType="image/gif"/>
  <Override PartName="/ppt/media/image7.png" ContentType="image/png"/>
  <Override PartName="/ppt/media/image1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gif" ContentType="image/gif"/>
  <Override PartName="/ppt/media/image9.png" ContentType="image/png"/>
  <Override PartName="/ppt/media/image34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jpeg" ContentType="image/jpeg"/>
  <Override PartName="/ppt/media/image23.gif" ContentType="image/gif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ECE8-6EC0-4E93-8354-1864974DF9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DFD2-56B5-4D7D-97AD-C6A54527E4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14D4-63FD-46D6-9D8C-38D14B50CB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80E-3522-4E40-8629-9414639C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680-1274-488E-9A11-2DD09293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30B-90F1-4FAA-B566-B7484D23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8F0-6546-4062-92A8-74E629AD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21FD-90ED-4384-875B-7EDA4745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DD34-E2AF-4696-8CC5-DACB86CE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1434-7B09-463E-AE08-BE75B6BD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0A5B-1274-4A4B-816E-F577C4CE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0719-E433-4E24-9D27-49CC544E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9686-4F80-45F2-8FA6-6B3C54A9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F181-D207-47AE-BA8D-62BD1A2E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AAF-64E5-48AB-868C-72EADF27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0E4F-1B43-415B-80B4-8A4B4C04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3077-BF79-4388-9EFC-B6242BC8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0A68-9CA2-43C4-BD08-60E53506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9D9B-90D6-4405-8A3E-36B190D5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841C-1B6C-44A2-8F61-22FF0A7F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160A3-C561-48C2-B867-63DE5162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94B2F-2AD8-4CAC-A932-13642EB9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1C979-9268-4847-BBF5-0F6AFEC1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0CB14-071D-45E3-9E31-4B9FF043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96903-2C8E-4448-A139-CCAE14AE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168-E3F8-4A98-9C44-E9C6877C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3725F-710B-4689-BA20-9796354A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F0DDB-8951-4590-B951-3A0CE5D8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2489F-2C6A-4794-A0AC-5D59DA0A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1B69A-492B-4DC4-A70E-93BB1C50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F587A-40C5-4EEE-AFBC-84AE9010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9142B-92CC-4451-A5C9-E38041FC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5A593-BC16-4E4F-9FBF-5D5B81C9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1B322-D8CD-4B63-858B-7F514AB5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8BE70-D733-4704-9757-D6F7FBBF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60817-D77B-4224-8690-7CB0DCB9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B27-9814-43C6-B073-2C382042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77E88-FD1D-4444-9230-87B3F7CB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37E8F-1CC3-43A7-AC98-8A007DA8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2B5D9-D291-4D64-99B4-0DECE915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BA5C1-8EE8-480E-8330-43F9349F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B9C21-FC44-4272-A8A4-D52559B2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0CFF2-2D59-4EB7-8AA7-72B2CC81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D247D-47AA-443D-83F1-3930F22C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CEB02-2766-4017-B084-C9E63BAE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E294A-4C44-46D2-97CD-6A8DEF99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FA7-190C-4387-A93F-9F9CACE2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456-380B-4164-95DD-6F9D6845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9CD-2DAC-4046-8D3F-F084069B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146-2DA2-47C3-B393-F00C90AD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578-D5D3-482D-A8EF-EED290E1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1F11-4B57-4A73-909A-551ED88C5448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Красноперова Окса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57D2-5E85-465D-92FD-A3E32B2B7AE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9CC7-2C01-401E-A175-C5462F0E2554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Красноперова Окса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FD76-3B60-4F80-8618-3EC081940F7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7B0C-2FBE-4801-8027-ED20FE9F28A1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Красноперова Окса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D52A-FC98-4FF3-B957-875424CBCA4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358E-3B55-474F-B6B4-0E039BC447F5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Красноперова Окса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ABE1-AC38-407D-861C-F65133FE9ED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D:%5CInternet_ver%5Cchem2%5Cvagner.htm" TargetMode="External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714840" y="3499920"/>
            <a:ext cx="4744800" cy="3071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ок  химии в 10 класс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 хими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БОУ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«Староишлинская средняя общеобразовательная школа» Дрожжановского муниципального района Р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лиуллов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.А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Picture 8" descr="j0205403"/>
          <p:cNvPicPr/>
          <p:nvPr/>
        </p:nvPicPr>
        <p:blipFill>
          <a:blip r:embed="rId1"/>
          <a:stretch/>
        </p:blipFill>
        <p:spPr>
          <a:xfrm>
            <a:off x="214200" y="5214960"/>
            <a:ext cx="1692360" cy="1463760"/>
          </a:xfrm>
          <a:prstGeom prst="rect">
            <a:avLst/>
          </a:prstGeom>
          <a:ln w="0">
            <a:noFill/>
          </a:ln>
        </p:spPr>
      </p:pic>
      <p:pic>
        <p:nvPicPr>
          <p:cNvPr id="204" name="Заголовок 4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зовите вещест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"/>
          <p:cNvSpPr/>
          <p:nvPr/>
        </p:nvSpPr>
        <p:spPr>
          <a:xfrm>
            <a:off x="0" y="216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 (1320 байт)"/>
          <p:cNvPicPr/>
          <p:nvPr/>
        </p:nvPicPr>
        <p:blipFill>
          <a:blip r:embed="rId1"/>
          <a:stretch/>
        </p:blipFill>
        <p:spPr>
          <a:xfrm>
            <a:off x="5143680" y="1928880"/>
            <a:ext cx="3500280" cy="1549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 (1104 байт)"/>
          <p:cNvPicPr/>
          <p:nvPr/>
        </p:nvPicPr>
        <p:blipFill>
          <a:blip r:embed="rId2"/>
          <a:stretch/>
        </p:blipFill>
        <p:spPr>
          <a:xfrm>
            <a:off x="500040" y="1857240"/>
            <a:ext cx="2928960" cy="16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5000760" y="3648240"/>
          <a:ext cx="3666960" cy="731520"/>
        </p:xfrm>
        <a:graphic>
          <a:graphicData uri="http://schemas.openxmlformats.org/drawingml/2006/table">
            <a:tbl>
              <a:tblPr/>
              <a:tblGrid>
                <a:gridCol w="3666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,4-диметилгексен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500040" y="3571920"/>
          <a:ext cx="3357720" cy="792000"/>
        </p:xfrm>
        <a:graphic>
          <a:graphicData uri="http://schemas.openxmlformats.org/drawingml/2006/table">
            <a:tbl>
              <a:tblPr/>
              <a:tblGrid>
                <a:gridCol w="3357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- метилпроп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sp>
        <p:nvSpPr>
          <p:cNvPr id="267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труктурная изомерия алкен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1. Изомерия углеродного скелета (начиная с С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onstantia"/>
              </a:rPr>
              <a:t>8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2. Изомерия положения двойной связи (начиная с С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onstantia"/>
              </a:rPr>
              <a:t>8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1725 байт"/>
          <p:cNvPicPr/>
          <p:nvPr/>
        </p:nvPicPr>
        <p:blipFill>
          <a:blip r:embed="rId1"/>
          <a:stretch/>
        </p:blipFill>
        <p:spPr>
          <a:xfrm>
            <a:off x="1571760" y="3071880"/>
            <a:ext cx="4957560" cy="928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1596 байт"/>
          <p:cNvPicPr/>
          <p:nvPr/>
        </p:nvPicPr>
        <p:blipFill>
          <a:blip r:embed="rId2"/>
          <a:stretch/>
        </p:blipFill>
        <p:spPr>
          <a:xfrm>
            <a:off x="2143080" y="5286240"/>
            <a:ext cx="5403960" cy="500040"/>
          </a:xfrm>
          <a:prstGeom prst="rect">
            <a:avLst/>
          </a:prstGeom>
          <a:ln w="0">
            <a:noFill/>
          </a:ln>
        </p:spPr>
      </p:pic>
      <p:sp>
        <p:nvSpPr>
          <p:cNvPr id="273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072B-4E68-4008-A53D-186B259226AE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0040" y="385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мените на модели молекулы этилена 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ва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атома водорода на 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ва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атомы хлора  у каждого атома углерода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ространственная изомерия алкен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ращение атомов вокруг двойной связи невозможно без ее разрыва. Это обусловлено особенностями строения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связ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 становится возможной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цис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ранс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изомер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Цис-транс изомеры (43858 байт)"/>
          <p:cNvPicPr/>
          <p:nvPr/>
        </p:nvPicPr>
        <p:blipFill>
          <a:blip r:embed="rId1"/>
          <a:stretch/>
        </p:blipFill>
        <p:spPr>
          <a:xfrm>
            <a:off x="2428920" y="3857760"/>
            <a:ext cx="4572000" cy="2057400"/>
          </a:xfrm>
          <a:prstGeom prst="rect">
            <a:avLst/>
          </a:prstGeom>
          <a:ln w="0">
            <a:noFill/>
          </a:ln>
        </p:spPr>
      </p:pic>
      <p:sp>
        <p:nvSpPr>
          <p:cNvPr id="281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680F-722C-4612-8B85-530CC88A56CD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изические свойства алкен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номерно изменяются в гомологическом ряду: от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до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8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газ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10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жидкост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18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36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твердые вещест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лкены практически нерастворимы в воде, но хорошо растворяются в органических растворител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изкультминутка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Красноперова Окса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57"/>
          <p:cNvPicPr/>
          <p:nvPr/>
        </p:nvPicPr>
        <p:blipFill>
          <a:blip r:embed="rId1"/>
          <a:stretch/>
        </p:blipFill>
        <p:spPr>
          <a:xfrm>
            <a:off x="2428920" y="2786040"/>
            <a:ext cx="4491000" cy="1714680"/>
          </a:xfrm>
          <a:prstGeom prst="rect">
            <a:avLst/>
          </a:prstGeom>
          <a:ln w="0">
            <a:noFill/>
          </a:ln>
        </p:spPr>
      </p:pic>
      <p:sp>
        <p:nvSpPr>
          <p:cNvPr id="28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3BB7-BEBA-4A59-B753-25DE355BA503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Химические свойства алкен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71680" y="14284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яются строением и свойствами двойной связи С=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Реакция присоедин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Реакции алкенов (5418 байт)"/>
          <p:cNvPicPr/>
          <p:nvPr/>
        </p:nvPicPr>
        <p:blipFill>
          <a:blip r:embed="rId1"/>
          <a:stretch/>
        </p:blipFill>
        <p:spPr>
          <a:xfrm>
            <a:off x="1571760" y="2928960"/>
            <a:ext cx="5429160" cy="3335400"/>
          </a:xfrm>
          <a:prstGeom prst="rect">
            <a:avLst/>
          </a:prstGeom>
          <a:ln w="0">
            <a:noFill/>
          </a:ln>
        </p:spPr>
      </p:pic>
      <p:sp>
        <p:nvSpPr>
          <p:cNvPr id="294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авило Марковнико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химик-органик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акциях присоединения полярных молекул к несимметричным алкенам водород присоединяется к более гидрогенизированному атому углерода при двойной связи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Марковников (6945 байт)"/>
          <p:cNvPicPr/>
          <p:nvPr/>
        </p:nvPicPr>
        <p:blipFill>
          <a:blip r:embed="rId1"/>
          <a:stretch/>
        </p:blipFill>
        <p:spPr>
          <a:xfrm>
            <a:off x="7072200" y="0"/>
            <a:ext cx="1857600" cy="2263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D:\Internet_ver\chem2\pic\u4413_2.gif"/>
          <p:cNvPicPr/>
          <p:nvPr/>
        </p:nvPicPr>
        <p:blipFill>
          <a:blip r:embed="rId2"/>
          <a:stretch/>
        </p:blipFill>
        <p:spPr>
          <a:xfrm>
            <a:off x="714240" y="4929120"/>
            <a:ext cx="7315200" cy="928800"/>
          </a:xfrm>
          <a:prstGeom prst="rect">
            <a:avLst/>
          </a:prstGeom>
          <a:ln w="0">
            <a:noFill/>
          </a:ln>
        </p:spPr>
      </p:pic>
      <p:sp>
        <p:nvSpPr>
          <p:cNvPr id="300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3BD5-9022-44FE-8DE9-5531112D03E5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71680" y="999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Реакция полимериз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(1343 байт)"/>
          <p:cNvPicPr/>
          <p:nvPr/>
        </p:nvPicPr>
        <p:blipFill>
          <a:blip r:embed="rId1"/>
          <a:stretch/>
        </p:blipFill>
        <p:spPr>
          <a:xfrm>
            <a:off x="1428840" y="1714680"/>
            <a:ext cx="5357880" cy="2690640"/>
          </a:xfrm>
          <a:prstGeom prst="rect">
            <a:avLst/>
          </a:prstGeom>
          <a:ln w="0">
            <a:noFill/>
          </a:ln>
        </p:spPr>
      </p:pic>
      <p:sp>
        <p:nvSpPr>
          <p:cNvPr id="304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акция окисл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ягкое окисление алкенов водным раствором перманганата калия приводит к образованию двухатомных спиртов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еакция 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Вагн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ое уравнение реакц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2520" y="67320"/>
            <a:ext cx="42480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(1929 байт)"/>
          <p:cNvPicPr/>
          <p:nvPr/>
        </p:nvPicPr>
        <p:blipFill>
          <a:blip r:embed="rId2"/>
          <a:stretch/>
        </p:blipFill>
        <p:spPr>
          <a:xfrm>
            <a:off x="1285920" y="3357720"/>
            <a:ext cx="5929200" cy="8348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(1592 байт)"/>
          <p:cNvPicPr/>
          <p:nvPr/>
        </p:nvPicPr>
        <p:blipFill>
          <a:blip r:embed="rId3"/>
          <a:stretch/>
        </p:blipFill>
        <p:spPr>
          <a:xfrm>
            <a:off x="268200" y="5214960"/>
            <a:ext cx="8875800" cy="376200"/>
          </a:xfrm>
          <a:prstGeom prst="rect">
            <a:avLst/>
          </a:prstGeom>
          <a:ln w="0">
            <a:noFill/>
          </a:ln>
        </p:spPr>
      </p:pic>
      <p:sp>
        <p:nvSpPr>
          <p:cNvPr id="311" name="Дата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13840" y="928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Цель урока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857480" y="85680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Задачи урока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:</a:t>
            </a: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85840" y="1571760"/>
            <a:ext cx="4039920" cy="3844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Расширить и углубить знания об этиленовых углеводородах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00720" y="1428480"/>
            <a:ext cx="4327200" cy="5072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оказать различия между классами алканов и алкенов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ыяснить пространственное строение этиленовых углеводородов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развивать умение объяснять взаимосвязь строения и свойств веществ, пространственное мышлени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оспитывать бережное отношение к своему здоровь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Алиуллова Рамзия Адизян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Дата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лучение алкен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трелка вниз 4"/>
          <p:cNvSpPr/>
          <p:nvPr/>
        </p:nvSpPr>
        <p:spPr>
          <a:xfrm rot="2227800">
            <a:off x="2857320" y="1649160"/>
            <a:ext cx="377640" cy="107136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трелка вниз 5"/>
          <p:cNvSpPr/>
          <p:nvPr/>
        </p:nvSpPr>
        <p:spPr>
          <a:xfrm rot="18850800">
            <a:off x="5041800" y="1615680"/>
            <a:ext cx="379440" cy="10717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Прямоугольник 6" descr=""/>
          <p:cNvPicPr/>
          <p:nvPr/>
        </p:nvPicPr>
        <p:blipFill>
          <a:blip r:embed="rId1"/>
          <a:stretch/>
        </p:blipFill>
        <p:spPr>
          <a:xfrm>
            <a:off x="285840" y="2889360"/>
            <a:ext cx="3981240" cy="93348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7" descr=""/>
          <p:cNvPicPr/>
          <p:nvPr/>
        </p:nvPicPr>
        <p:blipFill>
          <a:blip r:embed="rId2"/>
          <a:stretch/>
        </p:blipFill>
        <p:spPr>
          <a:xfrm>
            <a:off x="4718160" y="2852640"/>
            <a:ext cx="3524040" cy="933480"/>
          </a:xfrm>
          <a:prstGeom prst="rect">
            <a:avLst/>
          </a:prstGeom>
          <a:ln w="0">
            <a:noFill/>
          </a:ln>
        </p:spPr>
      </p:pic>
      <p:cxnSp>
        <p:nvCxnSpPr>
          <p:cNvPr id="318" name="Прямая со стрелкой 9"/>
          <p:cNvCxnSpPr/>
          <p:nvPr/>
        </p:nvCxnSpPr>
        <p:spPr>
          <a:xfrm flipH="1">
            <a:off x="999360" y="3500280"/>
            <a:ext cx="715320" cy="572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19" name="Прямая со стрелкой 11"/>
          <p:cNvCxnSpPr/>
          <p:nvPr/>
        </p:nvCxnSpPr>
        <p:spPr>
          <a:xfrm>
            <a:off x="2927880" y="3500280"/>
            <a:ext cx="572040" cy="572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20" name="Прямая со стрелкой 13"/>
          <p:cNvCxnSpPr/>
          <p:nvPr/>
        </p:nvCxnSpPr>
        <p:spPr>
          <a:xfrm>
            <a:off x="6428160" y="3500280"/>
            <a:ext cx="429480" cy="643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321" name="Прямоугольник 17" descr=""/>
          <p:cNvPicPr/>
          <p:nvPr/>
        </p:nvPicPr>
        <p:blipFill>
          <a:blip r:embed="rId3"/>
          <a:stretch/>
        </p:blipFill>
        <p:spPr>
          <a:xfrm>
            <a:off x="165240" y="4145040"/>
            <a:ext cx="1998360" cy="119520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оугольник 18" descr=""/>
          <p:cNvPicPr/>
          <p:nvPr/>
        </p:nvPicPr>
        <p:blipFill>
          <a:blip r:embed="rId4"/>
          <a:stretch/>
        </p:blipFill>
        <p:spPr>
          <a:xfrm>
            <a:off x="2481120" y="4237200"/>
            <a:ext cx="2968920" cy="99360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19" descr=""/>
          <p:cNvPicPr/>
          <p:nvPr/>
        </p:nvPicPr>
        <p:blipFill>
          <a:blip r:embed="rId5"/>
          <a:stretch/>
        </p:blipFill>
        <p:spPr>
          <a:xfrm>
            <a:off x="5877000" y="4071960"/>
            <a:ext cx="2949480" cy="1195200"/>
          </a:xfrm>
          <a:prstGeom prst="rect">
            <a:avLst/>
          </a:prstGeom>
          <a:ln w="0">
            <a:noFill/>
          </a:ln>
        </p:spPr>
      </p:pic>
      <p:sp>
        <p:nvSpPr>
          <p:cNvPr id="324" name="Дата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войства и применение полиэтиле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5"/>
          <p:cNvSpPr/>
          <p:nvPr/>
        </p:nvSpPr>
        <p:spPr>
          <a:xfrm>
            <a:off x="142920" y="2214720"/>
            <a:ext cx="2286000" cy="12142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рубы водоснаб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7"/>
          <p:cNvSpPr/>
          <p:nvPr/>
        </p:nvSpPr>
        <p:spPr>
          <a:xfrm>
            <a:off x="6715080" y="2143080"/>
            <a:ext cx="2214720" cy="12146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бложки для тетра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8"/>
          <p:cNvSpPr/>
          <p:nvPr/>
        </p:nvSpPr>
        <p:spPr>
          <a:xfrm>
            <a:off x="214200" y="3857760"/>
            <a:ext cx="2214720" cy="12142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ленки для пар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9"/>
          <p:cNvSpPr/>
          <p:nvPr/>
        </p:nvSpPr>
        <p:spPr>
          <a:xfrm>
            <a:off x="6643800" y="3643200"/>
            <a:ext cx="2286000" cy="12146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nstantia"/>
              </a:rPr>
              <a:t>Медицинские шприц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10"/>
          <p:cNvSpPr/>
          <p:nvPr/>
        </p:nvSpPr>
        <p:spPr>
          <a:xfrm>
            <a:off x="6786720" y="5214960"/>
            <a:ext cx="2214360" cy="12142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золяция пров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11"/>
          <p:cNvSpPr/>
          <p:nvPr/>
        </p:nvSpPr>
        <p:spPr>
          <a:xfrm>
            <a:off x="214200" y="5357880"/>
            <a:ext cx="2214720" cy="12142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паковочная пл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кругленный прямоугольник 12"/>
          <p:cNvSpPr/>
          <p:nvPr/>
        </p:nvSpPr>
        <p:spPr>
          <a:xfrm>
            <a:off x="3071880" y="2214720"/>
            <a:ext cx="3071880" cy="7142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онкие пленки прозрач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13"/>
          <p:cNvSpPr/>
          <p:nvPr/>
        </p:nvSpPr>
        <p:spPr>
          <a:xfrm>
            <a:off x="3071880" y="3214800"/>
            <a:ext cx="3071880" cy="7142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изкая газо- и водопрониц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14"/>
          <p:cNvSpPr/>
          <p:nvPr/>
        </p:nvSpPr>
        <p:spPr>
          <a:xfrm>
            <a:off x="3071880" y="4429080"/>
            <a:ext cx="3071880" cy="7146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пускает ультрафиолетовые лу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15"/>
          <p:cNvSpPr/>
          <p:nvPr/>
        </p:nvSpPr>
        <p:spPr>
          <a:xfrm>
            <a:off x="3143160" y="5572080"/>
            <a:ext cx="3071880" cy="7146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проводит электрический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6"/>
          <p:cNvSpPr/>
          <p:nvPr/>
        </p:nvSpPr>
        <p:spPr>
          <a:xfrm>
            <a:off x="2928960" y="17859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Свойства полиэт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Дата 2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B187-B228-4C5C-BDEC-AA73A3A39137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1. Лепим молекулу этана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2. Записываем формулу на доске ( в тетрадях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Алиуллова Рамзия Адизян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j0205403"/>
          <p:cNvPicPr/>
          <p:nvPr/>
        </p:nvPicPr>
        <p:blipFill>
          <a:blip r:embed="rId1"/>
          <a:stretch/>
        </p:blipFill>
        <p:spPr>
          <a:xfrm>
            <a:off x="214200" y="6215040"/>
            <a:ext cx="536760" cy="46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Молекула этана  (6651 байт)"/>
          <p:cNvPicPr/>
          <p:nvPr/>
        </p:nvPicPr>
        <p:blipFill>
          <a:blip r:embed="rId2"/>
          <a:stretch/>
        </p:blipFill>
        <p:spPr>
          <a:xfrm>
            <a:off x="4286160" y="1785960"/>
            <a:ext cx="4057920" cy="2898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Конформации этана (49158 байт)"/>
          <p:cNvPicPr/>
          <p:nvPr/>
        </p:nvPicPr>
        <p:blipFill>
          <a:blip r:embed="rId3"/>
          <a:stretch/>
        </p:blipFill>
        <p:spPr>
          <a:xfrm>
            <a:off x="1143000" y="2071800"/>
            <a:ext cx="2714760" cy="2092320"/>
          </a:xfrm>
          <a:prstGeom prst="rect">
            <a:avLst/>
          </a:prstGeom>
          <a:ln w="0">
            <a:noFill/>
          </a:ln>
        </p:spPr>
      </p:pic>
      <p:sp>
        <p:nvSpPr>
          <p:cNvPr id="216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лекула  этилен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0" y="50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Модели этилена (8339 байт)"/>
          <p:cNvPicPr/>
          <p:nvPr/>
        </p:nvPicPr>
        <p:blipFill>
          <a:blip r:embed="rId1"/>
          <a:srcRect l="27405" t="0" r="36647" b="25672"/>
          <a:stretch/>
        </p:blipFill>
        <p:spPr>
          <a:xfrm>
            <a:off x="3071880" y="2143080"/>
            <a:ext cx="3643200" cy="1908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D:\Internet_ver\chem2\pic\u253_2.gif"/>
          <p:cNvPicPr/>
          <p:nvPr/>
        </p:nvPicPr>
        <p:blipFill>
          <a:blip r:embed="rId2"/>
          <a:stretch/>
        </p:blipFill>
        <p:spPr>
          <a:xfrm>
            <a:off x="1357200" y="4857840"/>
            <a:ext cx="691668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Заголовок 1"/>
          <p:cNvSpPr/>
          <p:nvPr/>
        </p:nvSpPr>
        <p:spPr>
          <a:xfrm>
            <a:off x="50004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акция дегидрирован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1214280" y="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собенности класса  этиленовых углеводо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Дата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равнит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42960" y="1500120"/>
          <a:ext cx="8001000" cy="31082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pic>
        <p:nvPicPr>
          <p:cNvPr id="228" name="Picture 2" descr="Молекула этана  (6651 байт)"/>
          <p:cNvPicPr/>
          <p:nvPr/>
        </p:nvPicPr>
        <p:blipFill>
          <a:blip r:embed="rId1"/>
          <a:stretch/>
        </p:blipFill>
        <p:spPr>
          <a:xfrm>
            <a:off x="1357200" y="2786040"/>
            <a:ext cx="2500560" cy="1785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Модели этилена (8339 байт)"/>
          <p:cNvPicPr/>
          <p:nvPr/>
        </p:nvPicPr>
        <p:blipFill>
          <a:blip r:embed="rId2"/>
          <a:srcRect l="27405" t="0" r="36647" b="25672"/>
          <a:stretch/>
        </p:blipFill>
        <p:spPr>
          <a:xfrm>
            <a:off x="4857840" y="2857680"/>
            <a:ext cx="3214440" cy="16840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0"/>
          <p:cNvSpPr/>
          <p:nvPr/>
        </p:nvSpPr>
        <p:spPr>
          <a:xfrm>
            <a:off x="428760" y="5357880"/>
            <a:ext cx="84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личество атомов углерода                Общая формула соединения класс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личество атомов водорода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авая фигурная скобка 11"/>
          <p:cNvSpPr/>
          <p:nvPr/>
        </p:nvSpPr>
        <p:spPr>
          <a:xfrm>
            <a:off x="4214880" y="5214960"/>
            <a:ext cx="285840" cy="92880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928800"/>
              <a:gd name="textAreaBottom" fmla="*/ 921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16200" y="10800"/>
                  <a:pt x="21600" y="10800"/>
                </a:cubicBezTo>
                <a:cubicBezTo>
                  <a:pt x="162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3880" y="1397160"/>
          <a:ext cx="2762280" cy="914400"/>
        </p:xfrm>
        <a:graphic>
          <a:graphicData uri="http://schemas.openxmlformats.org/drawingml/2006/table">
            <a:tbl>
              <a:tblPr/>
              <a:tblGrid>
                <a:gridCol w="2762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n H2n+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5143680" y="1397160"/>
          <a:ext cx="2476440" cy="853920"/>
        </p:xfrm>
        <a:graphic>
          <a:graphicData uri="http://schemas.openxmlformats.org/drawingml/2006/table">
            <a:tbl>
              <a:tblPr/>
              <a:tblGrid>
                <a:gridCol w="2476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n H2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sp>
        <p:nvSpPr>
          <p:cNvPr id="234" name="Дата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Алкены (этиленовые углеводороды) - непредельные углеводороды, содержащие в молекуле , кроме одинарных связей, одну двойную  углерод – углеродную связь. 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Прямоугольник 5" descr=""/>
          <p:cNvPicPr/>
          <p:nvPr/>
        </p:nvPicPr>
        <p:blipFill>
          <a:blip r:embed="rId1"/>
          <a:stretch/>
        </p:blipFill>
        <p:spPr>
          <a:xfrm>
            <a:off x="4870440" y="3602160"/>
            <a:ext cx="4017960" cy="180504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6" descr=""/>
          <p:cNvPicPr/>
          <p:nvPr/>
        </p:nvPicPr>
        <p:blipFill>
          <a:blip r:embed="rId2"/>
          <a:stretch/>
        </p:blipFill>
        <p:spPr>
          <a:xfrm>
            <a:off x="438120" y="3602160"/>
            <a:ext cx="4060800" cy="1805040"/>
          </a:xfrm>
          <a:prstGeom prst="rect">
            <a:avLst/>
          </a:prstGeom>
          <a:ln w="0">
            <a:noFill/>
          </a:ln>
        </p:spPr>
      </p:pic>
      <p:sp>
        <p:nvSpPr>
          <p:cNvPr id="239" name="Половина рамки 7"/>
          <p:cNvSpPr/>
          <p:nvPr/>
        </p:nvSpPr>
        <p:spPr>
          <a:xfrm rot="2710200">
            <a:off x="2520720" y="3521160"/>
            <a:ext cx="785880" cy="785520"/>
          </a:xfrm>
          <a:custGeom>
            <a:avLst/>
            <a:gdLst/>
            <a:ahLst/>
            <a:rect l="l" t="t" r="r" b="b"/>
            <a:pathLst>
              <a:path w="785813" h="785813">
                <a:moveTo>
                  <a:pt x="0" y="0"/>
                </a:moveTo>
                <a:lnTo>
                  <a:pt x="785813" y="0"/>
                </a:lnTo>
                <a:lnTo>
                  <a:pt x="523878" y="261935"/>
                </a:lnTo>
                <a:lnTo>
                  <a:pt x="261935" y="261935"/>
                </a:lnTo>
                <a:lnTo>
                  <a:pt x="261935" y="523878"/>
                </a:lnTo>
                <a:lnTo>
                  <a:pt x="0" y="785813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оловина рамки 8"/>
          <p:cNvSpPr/>
          <p:nvPr/>
        </p:nvSpPr>
        <p:spPr>
          <a:xfrm rot="2710200">
            <a:off x="6942960" y="3535920"/>
            <a:ext cx="615960" cy="696960"/>
          </a:xfrm>
          <a:custGeom>
            <a:avLst/>
            <a:gdLst/>
            <a:ahLst/>
            <a:rect l="l" t="t" r="r" b="b"/>
            <a:pathLst>
              <a:path w="615950" h="696913">
                <a:moveTo>
                  <a:pt x="0" y="0"/>
                </a:moveTo>
                <a:lnTo>
                  <a:pt x="615950" y="0"/>
                </a:lnTo>
                <a:lnTo>
                  <a:pt x="434488" y="205315"/>
                </a:lnTo>
                <a:lnTo>
                  <a:pt x="205315" y="205315"/>
                </a:lnTo>
                <a:lnTo>
                  <a:pt x="205315" y="464611"/>
                </a:lnTo>
                <a:lnTo>
                  <a:pt x="0" y="696913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Calibri"/>
              </a:rPr>
              <a:t>Задание на закрепление общей формулы</a:t>
            </a:r>
            <a:r>
              <a:rPr b="1" lang="en-US" sz="3600" spc="-1" strike="noStrike">
                <a:solidFill>
                  <a:srgbClr val="cc00cc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1342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ие из приведенных углеводородов относятся  к алкенам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8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2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WordArt 4"/>
          <p:cNvSpPr txBox="1"/>
          <p:nvPr/>
        </p:nvSpPr>
        <p:spPr>
          <a:xfrm rot="18563400">
            <a:off x="2723040" y="3942360"/>
            <a:ext cx="3290760" cy="102204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143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р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143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4A8E-7BF8-43FD-AEBE-E7E64A2E7E1B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6 L 0.68212 0.0838 E">
                                      <p:cBhvr>
                                        <p:cTn id="22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33333E-006 L 0.63594 -0.04814 E">
                                      <p:cBhvr>
                                        <p:cTn id="26" dur="2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22222E-006 L 0.54896 -0.00371 E">
                                      <p:cBhvr>
                                        <p:cTn id="30" dur="2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111E-006 L 0.61944 -0.0294 E">
                                      <p:cBhvr>
                                        <p:cTn id="34" dur="2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странственное строение этиле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ойная связь является сочетанием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и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связей следует учитывать их неравноценнос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σ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Связи находятся в одной плоскости под углом 120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Алиуллова Рамзия Адизян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-3566520" y="-366840"/>
            <a:ext cx="1627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вязи, образуемые s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гибридными орбиталями, находятся в одной плоскости под углом 120°. Поэтому молекула этилена имеет плоское строение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Строение этилена (13043 байт)"/>
          <p:cNvPicPr/>
          <p:nvPr/>
        </p:nvPicPr>
        <p:blipFill>
          <a:blip r:embed="rId1"/>
          <a:stretch/>
        </p:blipFill>
        <p:spPr>
          <a:xfrm>
            <a:off x="1000080" y="3500280"/>
            <a:ext cx="4857840" cy="2552760"/>
          </a:xfrm>
          <a:prstGeom prst="rect">
            <a:avLst/>
          </a:prstGeom>
          <a:ln w="0">
            <a:noFill/>
          </a:ln>
        </p:spPr>
      </p:pic>
      <p:sp>
        <p:nvSpPr>
          <p:cNvPr id="251" name="Правая фигурная скобка 6"/>
          <p:cNvSpPr/>
          <p:nvPr/>
        </p:nvSpPr>
        <p:spPr>
          <a:xfrm>
            <a:off x="5786280" y="3357720"/>
            <a:ext cx="500400" cy="2857320"/>
          </a:xfrm>
          <a:custGeom>
            <a:avLst/>
            <a:gdLst>
              <a:gd name="textAreaLeft" fmla="*/ 0 w 500400"/>
              <a:gd name="textAreaRight" fmla="*/ 180720 w 500400"/>
              <a:gd name="textAreaTop" fmla="*/ 12960 h 2857320"/>
              <a:gd name="textAreaBottom" fmla="*/ 2844360 h 28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8"/>
                  <a:pt x="10800" y="315"/>
                </a:cubicBezTo>
                <a:lnTo>
                  <a:pt x="10800" y="10485"/>
                </a:lnTo>
                <a:cubicBezTo>
                  <a:pt x="10800" y="10643"/>
                  <a:pt x="16200" y="10800"/>
                  <a:pt x="21600" y="10800"/>
                </a:cubicBezTo>
                <a:cubicBezTo>
                  <a:pt x="16200" y="10800"/>
                  <a:pt x="10800" y="10958"/>
                  <a:pt x="10800" y="11115"/>
                </a:cubicBezTo>
                <a:lnTo>
                  <a:pt x="10800" y="21285"/>
                </a:lnTo>
                <a:cubicBezTo>
                  <a:pt x="10800" y="21443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6143760" y="3714840"/>
            <a:ext cx="2786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Форма молекулы плоскос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Дата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менклатура  алкен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систематической номенклатуре названия алкенов производят от названий соответствующих алканов (с тем же числом атомов углерода) путем замены суффикса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–ан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на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–ен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Прямоугольник 4" descr=""/>
          <p:cNvPicPr/>
          <p:nvPr/>
        </p:nvPicPr>
        <p:blipFill>
          <a:blip r:embed="rId1"/>
          <a:stretch/>
        </p:blipFill>
        <p:spPr>
          <a:xfrm>
            <a:off x="7143840" y="5742000"/>
            <a:ext cx="2274840" cy="1811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" descr="D:\chem2\Graph\u211.gif"/>
          <p:cNvPicPr/>
          <p:nvPr/>
        </p:nvPicPr>
        <p:blipFill>
          <a:blip r:embed="rId2"/>
          <a:srcRect l="0" t="13162" r="55435" b="0"/>
          <a:stretch/>
        </p:blipFill>
        <p:spPr>
          <a:xfrm>
            <a:off x="5429160" y="3429000"/>
            <a:ext cx="1643040" cy="2828880"/>
          </a:xfrm>
          <a:prstGeom prst="rect">
            <a:avLst/>
          </a:prstGeom>
          <a:ln w="0">
            <a:noFill/>
          </a:ln>
        </p:spPr>
      </p:pic>
      <p:sp>
        <p:nvSpPr>
          <p:cNvPr id="259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1T15:54:57Z</dcterms:created>
  <dc:creator>user</dc:creator>
  <dc:description/>
  <dc:language>en-US</dc:language>
  <cp:lastModifiedBy>Риназ</cp:lastModifiedBy>
  <dcterms:modified xsi:type="dcterms:W3CDTF">2014-10-12T16:47:19Z</dcterms:modified>
  <cp:revision>40</cp:revision>
  <dc:subject/>
  <dc:title>Непредельные углеводороды</dc:title>
</cp:coreProperties>
</file>