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24.png" ContentType="image/png"/>
  <Override PartName="/ppt/media/image21.png" ContentType="image/png"/>
  <Override PartName="/ppt/media/image4.jpeg" ContentType="image/jpeg"/>
  <Override PartName="/ppt/media/image22.gif" ContentType="image/gif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9.png" ContentType="image/png"/>
  <Override PartName="/ppt/media/image34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23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1E0-3B83-4065-A3C7-F140910C2F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14AC-62B9-4AB1-876D-8BC233950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586-BA11-4B67-A53B-1B08CFD5D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B78-8E9F-4ED8-97F8-E5106D54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20B-1693-43E9-BC4F-C420C0F8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8B6-1003-4074-9663-24FE1385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81B-4CEF-492F-996B-F761196E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E4E3-83B1-4EC4-8FAE-EDC48282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0ABA-35F7-43C2-B4E0-61D6E103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B1C-169A-431F-9F48-DBCE1BF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4B16-7328-41C2-AFA1-9783403E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0137-13C9-4380-BFC0-C340E86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DC90-04C5-42EB-B53C-56FB1FC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4952-E338-45E0-A000-9955F7E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4BF-4B03-4890-AF8B-ED49EC6B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750D-95C2-4D71-AAE0-39B0E62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32D9-6403-4DAE-8858-BAD50C91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E3C-E450-4177-BAE6-4FA1861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5FBF-9A81-46F4-92E0-9BBB89DA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44E4-6162-4714-8CAB-59986915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F3A0-816E-4535-AD3C-B0E6944E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5166-E1C4-45A1-8572-F5BADED5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F31A-FA64-4947-85E0-42EA72DE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141D9-C06C-439B-B282-B1BA76F0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8A95-3A92-4240-B21C-775894E3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D63-3002-4131-8B02-910C150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BA14-D518-4260-8C02-126C715C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9EC1-76AB-4381-9126-A1202285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AB85-0380-4A63-BC2C-373F4DB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131D-3799-48D4-B3FE-2F59C52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ABF5-1C01-4420-A4AF-24669B9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C16C-992F-4A7B-9697-FEAB6868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3E20-588F-4BF7-BE13-88E80E90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F0FB-557B-4C97-9FEC-A09E36AA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A133-47E4-4358-8F01-0EAC984B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490F-A555-47C6-B432-FBCD7195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815-4A3E-45BB-8704-970D6520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7946-EE3D-4053-85B3-DC14F2B2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AFBF-3C37-4ECB-B477-E18F8C85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8703-0747-4386-8025-697D6F09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FD1B-8580-4AF5-BC09-D0B81A2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2C028-DA18-46EB-B253-CFAB1CA9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CA93-8DC2-4451-AEF2-82BBC80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B84B8-F273-4B2B-ABD2-08E4DFA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BCFEC-ED97-42C8-9CBD-84A35438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8517-399E-4E81-9442-8B8C9AB2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782-5766-4C2F-AF1C-47DB7ED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5D1-E9DB-4F57-8B0C-86E11D1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9A9-815A-4680-AFE8-66A6B045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E4A-80A4-436C-BEE4-59478E30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FD2-F9B5-47B9-BD40-A78F5F63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002C-BFED-4D9A-B5D3-BA72F6F65D7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7C5-6B40-4CB7-95B0-44448777D4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5B6-BDA9-47C4-BEB5-5F2B02288E8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AFE0-81D3-4C46-8A6A-E6D5F0F17C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DFAD-0849-46E0-9B16-D73C0F27288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FA9-8255-4223-B16B-398F3FF8C8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2A9D-FB53-42B6-B3E2-DF1BF0199DC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EBB3-18CF-437F-88EA-390A22E8233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D:%5CInternet_ver%5Cchem2%5Cvagner.htm" TargetMode="External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714840" y="3499920"/>
            <a:ext cx="4744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 химии в 10 класс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хим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Староишлинская средняя общеобразовательная школа» Дрожжановского муниципального района Р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иуллов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.А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8" descr="j0205403"/>
          <p:cNvPicPr/>
          <p:nvPr/>
        </p:nvPicPr>
        <p:blipFill>
          <a:blip r:embed="rId1"/>
          <a:stretch/>
        </p:blipFill>
        <p:spPr>
          <a:xfrm>
            <a:off x="214200" y="5214960"/>
            <a:ext cx="1692360" cy="146376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4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зовите вещ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0" y="21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 (1320 байт)"/>
          <p:cNvPicPr/>
          <p:nvPr/>
        </p:nvPicPr>
        <p:blipFill>
          <a:blip r:embed="rId1"/>
          <a:stretch/>
        </p:blipFill>
        <p:spPr>
          <a:xfrm>
            <a:off x="5143680" y="1928880"/>
            <a:ext cx="3500280" cy="1549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 (1104 байт)"/>
          <p:cNvPicPr/>
          <p:nvPr/>
        </p:nvPicPr>
        <p:blipFill>
          <a:blip r:embed="rId2"/>
          <a:stretch/>
        </p:blipFill>
        <p:spPr>
          <a:xfrm>
            <a:off x="500040" y="1857240"/>
            <a:ext cx="292896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5000760" y="3648240"/>
          <a:ext cx="3666960" cy="731520"/>
        </p:xfrm>
        <a:graphic>
          <a:graphicData uri="http://schemas.openxmlformats.org/drawingml/2006/table">
            <a:tbl>
              <a:tblPr/>
              <a:tblGrid>
                <a:gridCol w="3666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,4-диметилгексен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00040" y="3571920"/>
          <a:ext cx="3357720" cy="792000"/>
        </p:xfrm>
        <a:graphic>
          <a:graphicData uri="http://schemas.openxmlformats.org/drawingml/2006/table">
            <a:tbl>
              <a:tblPr/>
              <a:tblGrid>
                <a:gridCol w="335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- метилпроп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26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руктурная изомерия алке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1. Изомерия углеродного скелета (начиная с С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8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2. Изомерия положения двойной связи (начиная с С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8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1725 байт"/>
          <p:cNvPicPr/>
          <p:nvPr/>
        </p:nvPicPr>
        <p:blipFill>
          <a:blip r:embed="rId1"/>
          <a:stretch/>
        </p:blipFill>
        <p:spPr>
          <a:xfrm>
            <a:off x="1571760" y="3071880"/>
            <a:ext cx="4957560" cy="928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1596 байт"/>
          <p:cNvPicPr/>
          <p:nvPr/>
        </p:nvPicPr>
        <p:blipFill>
          <a:blip r:embed="rId2"/>
          <a:stretch/>
        </p:blipFill>
        <p:spPr>
          <a:xfrm>
            <a:off x="2143080" y="5286240"/>
            <a:ext cx="5403960" cy="500040"/>
          </a:xfrm>
          <a:prstGeom prst="rect">
            <a:avLst/>
          </a:prstGeom>
          <a:ln w="0">
            <a:noFill/>
          </a:ln>
        </p:spPr>
      </p:pic>
      <p:sp>
        <p:nvSpPr>
          <p:cNvPr id="27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7549-BB88-437D-84D5-875074E8DF5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385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мените на модели молекулы этилена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в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атома водорода на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в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атомы хлора  у каждого атома углерода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остранственная изомерия алке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ращение атомов вокруг двойной связи невозможно без ее разрыва. Это обусловлено особенностями строения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вяз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становится возможной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ци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ран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зомер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Цис-транс изомеры (43858 байт)"/>
          <p:cNvPicPr/>
          <p:nvPr/>
        </p:nvPicPr>
        <p:blipFill>
          <a:blip r:embed="rId1"/>
          <a:stretch/>
        </p:blipFill>
        <p:spPr>
          <a:xfrm>
            <a:off x="2428920" y="3857760"/>
            <a:ext cx="4572000" cy="2057400"/>
          </a:xfrm>
          <a:prstGeom prst="rect">
            <a:avLst/>
          </a:prstGeom>
          <a:ln w="0">
            <a:noFill/>
          </a:ln>
        </p:spPr>
      </p:pic>
      <p:sp>
        <p:nvSpPr>
          <p:cNvPr id="281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3B06-C37B-4832-99A7-D3EA9A99504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ические свойства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омерно изменяются в гомологическом ряду: от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о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газ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1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жидкост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1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36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твердые вещ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кены практически нерастворимы в воде, но хорошо растворяются в органических растворител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минутк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Красноперова Окса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57"/>
          <p:cNvPicPr/>
          <p:nvPr/>
        </p:nvPicPr>
        <p:blipFill>
          <a:blip r:embed="rId1"/>
          <a:stretch/>
        </p:blipFill>
        <p:spPr>
          <a:xfrm>
            <a:off x="2428920" y="2786040"/>
            <a:ext cx="4491000" cy="1714680"/>
          </a:xfrm>
          <a:prstGeom prst="rect">
            <a:avLst/>
          </a:prstGeom>
          <a:ln w="0">
            <a:noFill/>
          </a:ln>
        </p:spPr>
      </p:pic>
      <p:sp>
        <p:nvSpPr>
          <p:cNvPr id="28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3B18-8C38-4EFF-BDD5-60160F26501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Химические свойства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168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яются строением и свойствами двойной связи С=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Реакция присоедин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Реакции алкенов (5418 байт)"/>
          <p:cNvPicPr/>
          <p:nvPr/>
        </p:nvPicPr>
        <p:blipFill>
          <a:blip r:embed="rId1"/>
          <a:stretch/>
        </p:blipFill>
        <p:spPr>
          <a:xfrm>
            <a:off x="1571760" y="2928960"/>
            <a:ext cx="5429160" cy="3335400"/>
          </a:xfrm>
          <a:prstGeom prst="rect">
            <a:avLst/>
          </a:prstGeom>
          <a:ln w="0">
            <a:noFill/>
          </a:ln>
        </p:spPr>
      </p:pic>
      <p:sp>
        <p:nvSpPr>
          <p:cNvPr id="294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о Марковник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химик-органик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кциях присоединения полярных молекул к несимметричным алкенам водород присоединяется к более гидрогенизированному атому углерода при двойной связи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Марковников (6945 байт)"/>
          <p:cNvPicPr/>
          <p:nvPr/>
        </p:nvPicPr>
        <p:blipFill>
          <a:blip r:embed="rId1"/>
          <a:stretch/>
        </p:blipFill>
        <p:spPr>
          <a:xfrm>
            <a:off x="7072200" y="0"/>
            <a:ext cx="1857600" cy="2263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D:\Internet_ver\chem2\pic\u4413_2.gif"/>
          <p:cNvPicPr/>
          <p:nvPr/>
        </p:nvPicPr>
        <p:blipFill>
          <a:blip r:embed="rId2"/>
          <a:stretch/>
        </p:blipFill>
        <p:spPr>
          <a:xfrm>
            <a:off x="714240" y="4929120"/>
            <a:ext cx="7315200" cy="928800"/>
          </a:xfrm>
          <a:prstGeom prst="rect">
            <a:avLst/>
          </a:prstGeom>
          <a:ln w="0">
            <a:noFill/>
          </a:ln>
        </p:spPr>
      </p:pic>
      <p:sp>
        <p:nvSpPr>
          <p:cNvPr id="300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9D1D-511A-41B6-A85E-D1E335654E5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71680" y="999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Реакция полимериз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(1343 байт)"/>
          <p:cNvPicPr/>
          <p:nvPr/>
        </p:nvPicPr>
        <p:blipFill>
          <a:blip r:embed="rId1"/>
          <a:stretch/>
        </p:blipFill>
        <p:spPr>
          <a:xfrm>
            <a:off x="1428840" y="1714680"/>
            <a:ext cx="5357880" cy="2690640"/>
          </a:xfrm>
          <a:prstGeom prst="rect">
            <a:avLst/>
          </a:prstGeom>
          <a:ln w="0">
            <a:noFill/>
          </a:ln>
        </p:spPr>
      </p:pic>
      <p:sp>
        <p:nvSpPr>
          <p:cNvPr id="30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акция окисл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гкое окисление алкенов водным раствором перманганата калия приводит к образованию двухатомных спиртов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акция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Вагн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е уравнение реакц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520" y="67320"/>
            <a:ext cx="4248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(1929 байт)"/>
          <p:cNvPicPr/>
          <p:nvPr/>
        </p:nvPicPr>
        <p:blipFill>
          <a:blip r:embed="rId2"/>
          <a:stretch/>
        </p:blipFill>
        <p:spPr>
          <a:xfrm>
            <a:off x="1285920" y="3357720"/>
            <a:ext cx="5929200" cy="834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(1592 байт)"/>
          <p:cNvPicPr/>
          <p:nvPr/>
        </p:nvPicPr>
        <p:blipFill>
          <a:blip r:embed="rId3"/>
          <a:stretch/>
        </p:blipFill>
        <p:spPr>
          <a:xfrm>
            <a:off x="268200" y="5214960"/>
            <a:ext cx="8875800" cy="376200"/>
          </a:xfrm>
          <a:prstGeom prst="rect">
            <a:avLst/>
          </a:prstGeom>
          <a:ln w="0">
            <a:noFill/>
          </a:ln>
        </p:spPr>
      </p:pic>
      <p:sp>
        <p:nvSpPr>
          <p:cNvPr id="311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13840" y="928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Цель урока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7480" y="85680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дачи урока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: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85840" y="1571760"/>
            <a:ext cx="4039920" cy="3844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Расширить и углубить знания об этиленовых углеводород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00720" y="1428480"/>
            <a:ext cx="4327200" cy="5072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казать различия между классами алканов и алкенов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ыяснить пространственное строение этиленовых углеводородов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азвивать умение объяснять взаимосвязь строения и свойств веществ, пространственное мышлени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оспитывать бережное отношение к своему здоровью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лиуллова Рамзия Адизя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лучение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трелка вниз 4"/>
          <p:cNvSpPr/>
          <p:nvPr/>
        </p:nvSpPr>
        <p:spPr>
          <a:xfrm rot="2227800">
            <a:off x="2857320" y="1649160"/>
            <a:ext cx="377640" cy="10713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вниз 5"/>
          <p:cNvSpPr/>
          <p:nvPr/>
        </p:nvSpPr>
        <p:spPr>
          <a:xfrm rot="18850800">
            <a:off x="5041800" y="1615680"/>
            <a:ext cx="379440" cy="10717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Прямоугольник 6" descr=""/>
          <p:cNvPicPr/>
          <p:nvPr/>
        </p:nvPicPr>
        <p:blipFill>
          <a:blip r:embed="rId1"/>
          <a:stretch/>
        </p:blipFill>
        <p:spPr>
          <a:xfrm>
            <a:off x="285840" y="2889360"/>
            <a:ext cx="3981240" cy="93348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7" descr=""/>
          <p:cNvPicPr/>
          <p:nvPr/>
        </p:nvPicPr>
        <p:blipFill>
          <a:blip r:embed="rId2"/>
          <a:stretch/>
        </p:blipFill>
        <p:spPr>
          <a:xfrm>
            <a:off x="4718160" y="2852640"/>
            <a:ext cx="3524040" cy="933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9"/>
          <p:cNvCxnSpPr/>
          <p:nvPr/>
        </p:nvCxnSpPr>
        <p:spPr>
          <a:xfrm flipH="1">
            <a:off x="999360" y="3500280"/>
            <a:ext cx="71532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19" name="Прямая со стрелкой 11"/>
          <p:cNvCxnSpPr/>
          <p:nvPr/>
        </p:nvCxnSpPr>
        <p:spPr>
          <a:xfrm>
            <a:off x="2927880" y="3500280"/>
            <a:ext cx="57204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20" name="Прямая со стрелкой 13"/>
          <p:cNvCxnSpPr/>
          <p:nvPr/>
        </p:nvCxnSpPr>
        <p:spPr>
          <a:xfrm>
            <a:off x="6428160" y="3500280"/>
            <a:ext cx="429480" cy="64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21" name="Прямоугольник 17" descr=""/>
          <p:cNvPicPr/>
          <p:nvPr/>
        </p:nvPicPr>
        <p:blipFill>
          <a:blip r:embed="rId3"/>
          <a:stretch/>
        </p:blipFill>
        <p:spPr>
          <a:xfrm>
            <a:off x="165240" y="4145040"/>
            <a:ext cx="1998360" cy="119520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18" descr=""/>
          <p:cNvPicPr/>
          <p:nvPr/>
        </p:nvPicPr>
        <p:blipFill>
          <a:blip r:embed="rId4"/>
          <a:stretch/>
        </p:blipFill>
        <p:spPr>
          <a:xfrm>
            <a:off x="2481120" y="4237200"/>
            <a:ext cx="2968920" cy="99360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9" descr=""/>
          <p:cNvPicPr/>
          <p:nvPr/>
        </p:nvPicPr>
        <p:blipFill>
          <a:blip r:embed="rId5"/>
          <a:stretch/>
        </p:blipFill>
        <p:spPr>
          <a:xfrm>
            <a:off x="5877000" y="4071960"/>
            <a:ext cx="2949480" cy="1195200"/>
          </a:xfrm>
          <a:prstGeom prst="rect">
            <a:avLst/>
          </a:prstGeom>
          <a:ln w="0">
            <a:noFill/>
          </a:ln>
        </p:spPr>
      </p:pic>
      <p:sp>
        <p:nvSpPr>
          <p:cNvPr id="324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войства и применение полиэтиле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5"/>
          <p:cNvSpPr/>
          <p:nvPr/>
        </p:nvSpPr>
        <p:spPr>
          <a:xfrm>
            <a:off x="142920" y="2214720"/>
            <a:ext cx="228600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рубы водоснаб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7"/>
          <p:cNvSpPr/>
          <p:nvPr/>
        </p:nvSpPr>
        <p:spPr>
          <a:xfrm>
            <a:off x="6715080" y="2143080"/>
            <a:ext cx="2214720" cy="1214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ложки для тетр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8"/>
          <p:cNvSpPr/>
          <p:nvPr/>
        </p:nvSpPr>
        <p:spPr>
          <a:xfrm>
            <a:off x="214200" y="3857760"/>
            <a:ext cx="221472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ленки для пар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9"/>
          <p:cNvSpPr/>
          <p:nvPr/>
        </p:nvSpPr>
        <p:spPr>
          <a:xfrm>
            <a:off x="6643800" y="3643200"/>
            <a:ext cx="2286000" cy="1214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Медицинские шприц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0"/>
          <p:cNvSpPr/>
          <p:nvPr/>
        </p:nvSpPr>
        <p:spPr>
          <a:xfrm>
            <a:off x="6786720" y="5214960"/>
            <a:ext cx="221436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оляция про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11"/>
          <p:cNvSpPr/>
          <p:nvPr/>
        </p:nvSpPr>
        <p:spPr>
          <a:xfrm>
            <a:off x="214200" y="5357880"/>
            <a:ext cx="2214720" cy="121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паковочная п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12"/>
          <p:cNvSpPr/>
          <p:nvPr/>
        </p:nvSpPr>
        <p:spPr>
          <a:xfrm>
            <a:off x="3071880" y="2214720"/>
            <a:ext cx="3071880" cy="71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нкие пленки прозрач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13"/>
          <p:cNvSpPr/>
          <p:nvPr/>
        </p:nvSpPr>
        <p:spPr>
          <a:xfrm>
            <a:off x="3071880" y="3214800"/>
            <a:ext cx="3071880" cy="71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изкая газо- и водопрониц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3071880" y="4429080"/>
            <a:ext cx="3071880" cy="714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пускает ультрафиолетовые л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15"/>
          <p:cNvSpPr/>
          <p:nvPr/>
        </p:nvSpPr>
        <p:spPr>
          <a:xfrm>
            <a:off x="3143160" y="5572080"/>
            <a:ext cx="3071880" cy="7146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проводи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6"/>
          <p:cNvSpPr/>
          <p:nvPr/>
        </p:nvSpPr>
        <p:spPr>
          <a:xfrm>
            <a:off x="2928960" y="17859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Свойства полиэ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Дата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7CC4-1AEF-4CEB-9B50-36C23477BE11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. Лепим молекулу этана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2. Записываем формулу на доске ( в тетрадях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лиуллова Рамзия Адизя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j0205403"/>
          <p:cNvPicPr/>
          <p:nvPr/>
        </p:nvPicPr>
        <p:blipFill>
          <a:blip r:embed="rId1"/>
          <a:stretch/>
        </p:blipFill>
        <p:spPr>
          <a:xfrm>
            <a:off x="214200" y="6215040"/>
            <a:ext cx="536760" cy="46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Молекула этана  (6651 байт)"/>
          <p:cNvPicPr/>
          <p:nvPr/>
        </p:nvPicPr>
        <p:blipFill>
          <a:blip r:embed="rId2"/>
          <a:stretch/>
        </p:blipFill>
        <p:spPr>
          <a:xfrm>
            <a:off x="4286160" y="1785960"/>
            <a:ext cx="4057920" cy="289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Конформации этана (49158 байт)"/>
          <p:cNvPicPr/>
          <p:nvPr/>
        </p:nvPicPr>
        <p:blipFill>
          <a:blip r:embed="rId3"/>
          <a:stretch/>
        </p:blipFill>
        <p:spPr>
          <a:xfrm>
            <a:off x="1143000" y="2071800"/>
            <a:ext cx="2714760" cy="2092320"/>
          </a:xfrm>
          <a:prstGeom prst="rect">
            <a:avLst/>
          </a:prstGeom>
          <a:ln w="0">
            <a:noFill/>
          </a:ln>
        </p:spPr>
      </p:pic>
      <p:sp>
        <p:nvSpPr>
          <p:cNvPr id="216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лекула  этилен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5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Модели этилена (8339 байт)"/>
          <p:cNvPicPr/>
          <p:nvPr/>
        </p:nvPicPr>
        <p:blipFill>
          <a:blip r:embed="rId1"/>
          <a:srcRect l="27405" t="0" r="36647" b="25672"/>
          <a:stretch/>
        </p:blipFill>
        <p:spPr>
          <a:xfrm>
            <a:off x="3071880" y="2143080"/>
            <a:ext cx="3643200" cy="1908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D:\Internet_ver\chem2\pic\u253_2.gif"/>
          <p:cNvPicPr/>
          <p:nvPr/>
        </p:nvPicPr>
        <p:blipFill>
          <a:blip r:embed="rId2"/>
          <a:stretch/>
        </p:blipFill>
        <p:spPr>
          <a:xfrm>
            <a:off x="1357200" y="4857840"/>
            <a:ext cx="691668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1"/>
          <p:cNvSpPr/>
          <p:nvPr/>
        </p:nvSpPr>
        <p:spPr>
          <a:xfrm>
            <a:off x="50004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акция дегидрирова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1214280" y="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собенности класса  этиленовых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Дата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авнит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42960" y="1500120"/>
          <a:ext cx="8001000" cy="3108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pic>
        <p:nvPicPr>
          <p:cNvPr id="228" name="Picture 2" descr="Молекула этана  (6651 байт)"/>
          <p:cNvPicPr/>
          <p:nvPr/>
        </p:nvPicPr>
        <p:blipFill>
          <a:blip r:embed="rId1"/>
          <a:stretch/>
        </p:blipFill>
        <p:spPr>
          <a:xfrm>
            <a:off x="1357200" y="278604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Модели этилена (8339 байт)"/>
          <p:cNvPicPr/>
          <p:nvPr/>
        </p:nvPicPr>
        <p:blipFill>
          <a:blip r:embed="rId2"/>
          <a:srcRect l="27405" t="0" r="36647" b="25672"/>
          <a:stretch/>
        </p:blipFill>
        <p:spPr>
          <a:xfrm>
            <a:off x="4857840" y="2857680"/>
            <a:ext cx="3214440" cy="1684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0"/>
          <p:cNvSpPr/>
          <p:nvPr/>
        </p:nvSpPr>
        <p:spPr>
          <a:xfrm>
            <a:off x="428760" y="535788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чество атомов углерода                Общая формула соединения клас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чество атомов водорода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авая фигурная скобка 11"/>
          <p:cNvSpPr/>
          <p:nvPr/>
        </p:nvSpPr>
        <p:spPr>
          <a:xfrm>
            <a:off x="4214880" y="5214960"/>
            <a:ext cx="285840" cy="9288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1397160"/>
          <a:ext cx="2762280" cy="914400"/>
        </p:xfrm>
        <a:graphic>
          <a:graphicData uri="http://schemas.openxmlformats.org/drawingml/2006/table">
            <a:tbl>
              <a:tblPr/>
              <a:tblGrid>
                <a:gridCol w="2762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n H2n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143680" y="1397160"/>
          <a:ext cx="2476440" cy="85392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n H2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234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Алкены (этиленовые углеводороды) - непредельные углеводороды, содержащие в молекуле , кроме одинарных связей, одну двойную  углерод – углеродную связь. 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5" descr=""/>
          <p:cNvPicPr/>
          <p:nvPr/>
        </p:nvPicPr>
        <p:blipFill>
          <a:blip r:embed="rId1"/>
          <a:stretch/>
        </p:blipFill>
        <p:spPr>
          <a:xfrm>
            <a:off x="4870440" y="3602160"/>
            <a:ext cx="4017960" cy="18050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6" descr=""/>
          <p:cNvPicPr/>
          <p:nvPr/>
        </p:nvPicPr>
        <p:blipFill>
          <a:blip r:embed="rId2"/>
          <a:stretch/>
        </p:blipFill>
        <p:spPr>
          <a:xfrm>
            <a:off x="438120" y="3602160"/>
            <a:ext cx="4060800" cy="1805040"/>
          </a:xfrm>
          <a:prstGeom prst="rect">
            <a:avLst/>
          </a:prstGeom>
          <a:ln w="0">
            <a:noFill/>
          </a:ln>
        </p:spPr>
      </p:pic>
      <p:sp>
        <p:nvSpPr>
          <p:cNvPr id="239" name="Половина рамки 7"/>
          <p:cNvSpPr/>
          <p:nvPr/>
        </p:nvSpPr>
        <p:spPr>
          <a:xfrm rot="2710200">
            <a:off x="2520720" y="3521160"/>
            <a:ext cx="785880" cy="785520"/>
          </a:xfrm>
          <a:custGeom>
            <a:avLst/>
            <a:gdLst/>
            <a:ahLst/>
            <a:rect l="l" t="t" r="r" b="b"/>
            <a:pathLst>
              <a:path w="785813" h="785813">
                <a:moveTo>
                  <a:pt x="0" y="0"/>
                </a:moveTo>
                <a:lnTo>
                  <a:pt x="785813" y="0"/>
                </a:lnTo>
                <a:lnTo>
                  <a:pt x="523878" y="261935"/>
                </a:lnTo>
                <a:lnTo>
                  <a:pt x="261935" y="261935"/>
                </a:lnTo>
                <a:lnTo>
                  <a:pt x="261935" y="523878"/>
                </a:lnTo>
                <a:lnTo>
                  <a:pt x="0" y="78581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овина рамки 8"/>
          <p:cNvSpPr/>
          <p:nvPr/>
        </p:nvSpPr>
        <p:spPr>
          <a:xfrm rot="2710200">
            <a:off x="6942960" y="3535920"/>
            <a:ext cx="615960" cy="696960"/>
          </a:xfrm>
          <a:custGeom>
            <a:avLst/>
            <a:gdLst/>
            <a:ahLst/>
            <a:rect l="l" t="t" r="r" b="b"/>
            <a:pathLst>
              <a:path w="615950" h="696913">
                <a:moveTo>
                  <a:pt x="0" y="0"/>
                </a:moveTo>
                <a:lnTo>
                  <a:pt x="615950" y="0"/>
                </a:lnTo>
                <a:lnTo>
                  <a:pt x="434488" y="205315"/>
                </a:lnTo>
                <a:lnTo>
                  <a:pt x="205315" y="205315"/>
                </a:lnTo>
                <a:lnTo>
                  <a:pt x="205315" y="464611"/>
                </a:lnTo>
                <a:lnTo>
                  <a:pt x="0" y="69691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Calibri"/>
              </a:rPr>
              <a:t>Задание на закрепление общей формулы</a:t>
            </a:r>
            <a:r>
              <a:rPr b="1" lang="en-US" sz="3600" spc="-1" strike="noStrike">
                <a:solidFill>
                  <a:srgbClr val="cc00cc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42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из приведенных углеводородов относятся  к алкена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WordArt 4"/>
          <p:cNvSpPr txBox="1"/>
          <p:nvPr/>
        </p:nvSpPr>
        <p:spPr>
          <a:xfrm rot="18563400">
            <a:off x="2723040" y="3942360"/>
            <a:ext cx="3290760" cy="10220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4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р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4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AE3-7AF4-473A-8E6A-A3C7451C9A1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6 L 0.68212 0.0838 E">
                                      <p:cBhvr>
                                        <p:cTn id="2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63594 -0.04814 E">
                                      <p:cBhvr>
                                        <p:cTn id="26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0.54896 -0.00371 E">
                                      <p:cBhvr>
                                        <p:cTn id="30" dur="2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0.61944 -0.0294 E">
                                      <p:cBhvr>
                                        <p:cTn id="34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странственное строение этиле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йная связь является сочетанием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и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вязей следует учитывать их неравноценнос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Связи находятся в одной плоскости под углом 120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Алиуллова Рамзия Адизя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-3566520" y="-366840"/>
            <a:ext cx="162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вязи, образуемые s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ибридными орбиталями, находятся в одной плоскости под углом 120°. Поэтому молекула этилена имеет плоское строени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Строение этилена (13043 байт)"/>
          <p:cNvPicPr/>
          <p:nvPr/>
        </p:nvPicPr>
        <p:blipFill>
          <a:blip r:embed="rId1"/>
          <a:stretch/>
        </p:blipFill>
        <p:spPr>
          <a:xfrm>
            <a:off x="1000080" y="3500280"/>
            <a:ext cx="4857840" cy="2552760"/>
          </a:xfrm>
          <a:prstGeom prst="rect">
            <a:avLst/>
          </a:prstGeom>
          <a:ln w="0">
            <a:noFill/>
          </a:ln>
        </p:spPr>
      </p:pic>
      <p:sp>
        <p:nvSpPr>
          <p:cNvPr id="251" name="Правая фигурная скобка 6"/>
          <p:cNvSpPr/>
          <p:nvPr/>
        </p:nvSpPr>
        <p:spPr>
          <a:xfrm>
            <a:off x="5786280" y="3357720"/>
            <a:ext cx="500400" cy="2857320"/>
          </a:xfrm>
          <a:custGeom>
            <a:avLst/>
            <a:gdLst>
              <a:gd name="textAreaLeft" fmla="*/ 0 w 500400"/>
              <a:gd name="textAreaRight" fmla="*/ 180720 w 500400"/>
              <a:gd name="textAreaTop" fmla="*/ 12960 h 2857320"/>
              <a:gd name="textAreaBottom" fmla="*/ 2844360 h 28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16200" y="10800"/>
                  <a:pt x="21600" y="10800"/>
                </a:cubicBezTo>
                <a:cubicBezTo>
                  <a:pt x="162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143760" y="3714840"/>
            <a:ext cx="27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Форма молекулы плоско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Дата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менклатура  алке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систематической номенклатуре названия алкенов производят от названий соответствующих алканов (с тем же числом атомов углерода) путем замены суффикс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–а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н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–ен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Прямоугольник 4" descr=""/>
          <p:cNvPicPr/>
          <p:nvPr/>
        </p:nvPicPr>
        <p:blipFill>
          <a:blip r:embed="rId1"/>
          <a:stretch/>
        </p:blipFill>
        <p:spPr>
          <a:xfrm>
            <a:off x="7143840" y="5742000"/>
            <a:ext cx="2274840" cy="1811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D:\chem2\Graph\u211.gif"/>
          <p:cNvPicPr/>
          <p:nvPr/>
        </p:nvPicPr>
        <p:blipFill>
          <a:blip r:embed="rId2"/>
          <a:srcRect l="0" t="13162" r="55435" b="0"/>
          <a:stretch/>
        </p:blipFill>
        <p:spPr>
          <a:xfrm>
            <a:off x="5429160" y="3429000"/>
            <a:ext cx="1643040" cy="2828880"/>
          </a:xfrm>
          <a:prstGeom prst="rect">
            <a:avLst/>
          </a:prstGeom>
          <a:ln w="0">
            <a:noFill/>
          </a:ln>
        </p:spPr>
      </p:pic>
      <p:sp>
        <p:nvSpPr>
          <p:cNvPr id="259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15:54:57Z</dcterms:created>
  <dc:creator>user</dc:creator>
  <dc:description/>
  <dc:language>en-US</dc:language>
  <cp:lastModifiedBy>Риназ</cp:lastModifiedBy>
  <dcterms:modified xsi:type="dcterms:W3CDTF">2014-10-12T16:47:19Z</dcterms:modified>
  <cp:revision>40</cp:revision>
  <dc:subject/>
  <dc:title>Непредельные углеводороды</dc:title>
</cp:coreProperties>
</file>