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950-0C18-4191-AF6E-285C30A8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7ED-C4B9-4FF6-A8AD-296ABC8E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41C-3404-499F-883C-3F147CAD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18C-7A9B-487D-AF6B-BAE4B482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A28-94E5-4197-91ED-64B4BB5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703-B0FD-43E8-AC73-3359501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DBA-136F-4D84-B031-50175AAE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C0F-FF80-4BC0-BDF2-5870AE94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357-CD26-43C9-B2BB-9C4C69C5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AF1-0D64-4843-A323-AE63669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F3B-ECEF-4AF5-85A9-84CC243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44D-564E-4547-B69C-F8D8047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3D4-5A04-47DE-82CA-9CE6E710D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.kubik-tut.ru/Lenta-bukv-i-zvukov-dlya-nachalnoj-shkol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Что такое фонетика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Фонетика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– раздел науки о языке, изучающий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звуки речи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звуковое строение языка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(слоги, звукосочетания, закономерности соединения звуков в речевую цепочку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Что такое словообразова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ловообразование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- это раздел науки о языке, который изучает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строение слов и способы их образования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420840"/>
            <a:ext cx="94680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38080" y="12427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колько в русском языке гласных звуков? Букв гласных зву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На какие группы делятся согласные зву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Что такое транскрипция слова? Как выполнять фонетический разбор сло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Что изучает «Словообразование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Какая часть слова изменяет его фор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С помощью каких частей слова образуются новые сло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Без какой части слово не может существова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1371600" y="423720"/>
            <a:ext cx="91994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 Light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.kubik-tut.ru/Lenta-bukv-i-zvukov-dlya-nachalnoj-shko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7592760" cy="5608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062160" y="1509840"/>
            <a:ext cx="16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АС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563920" y="22590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886200" y="2259000"/>
            <a:ext cx="11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З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054840" y="14828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ГЛАС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886200" y="3030480"/>
            <a:ext cx="11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ЁР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5416560" y="3030480"/>
            <a:ext cx="10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ЯГ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87760" y="4078440"/>
            <a:ext cx="10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3774960" y="40892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284800" y="459108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7054920" y="4089240"/>
            <a:ext cx="11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8431200" y="45514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6058080" y="4089240"/>
            <a:ext cx="10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354560" y="45910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7429680" y="4619520"/>
            <a:ext cx="10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6729480" y="3054240"/>
            <a:ext cx="12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ВОН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244000" y="30765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У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5" descr=""/>
          <p:cNvPicPr/>
          <p:nvPr/>
        </p:nvPicPr>
        <p:blipFill>
          <a:blip r:embed="rId1"/>
          <a:stretch/>
        </p:blipFill>
        <p:spPr>
          <a:xfrm>
            <a:off x="552600" y="1027080"/>
            <a:ext cx="11086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2022480" y="365040"/>
            <a:ext cx="789768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531720" y="628560"/>
            <a:ext cx="109252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rcRect l="3928" t="0" r="0" b="0"/>
          <a:stretch/>
        </p:blipFill>
        <p:spPr>
          <a:xfrm>
            <a:off x="941400" y="577800"/>
            <a:ext cx="9990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150920" y="365040"/>
            <a:ext cx="91425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838080" y="631800"/>
            <a:ext cx="9517320" cy="4356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271440" y="460440"/>
            <a:ext cx="116492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1017720" y="566640"/>
            <a:ext cx="9726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3T17:20:49Z</dcterms:created>
  <dc:creator>Пользователь Windows</dc:creator>
  <dc:description/>
  <dc:language>en-US</dc:language>
  <cp:lastModifiedBy>Пользователь Windows</cp:lastModifiedBy>
  <dcterms:modified xsi:type="dcterms:W3CDTF">2017-09-03T18:47:51Z</dcterms:modified>
  <cp:revision>8</cp:revision>
  <dc:subject/>
  <dc:title>Презентация PowerPoint</dc:title>
</cp:coreProperties>
</file>