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B41B3-C2D2-48DB-9839-7748EE6C8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36B81-0274-4D5D-87DC-B26AAA841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F863F-5D8A-4D16-8BC4-3F9E579CE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3A060-5A1D-460C-ACB2-271F10A5A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FF1A9-F9E4-44D1-BCEC-32EC03AA4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F1537-6790-41C1-8D8D-5AC60D9E9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229AB-FA9E-4FED-9217-0E7D4AD0E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E622C-F3EA-494A-AEC7-EB58E6D2A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07632-800A-408B-9161-BFA9978CA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5A905-E69B-4723-B698-5BEAE5EA7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2020A-CB61-47CD-AFE8-7EAA0D7BD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0EA3D-D7D6-47E9-83D9-785763DD3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98F94-4D2F-428A-B2C2-DCA99860B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C7AF3-025C-4EAF-A454-7607940E8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F084C-6CC4-4880-B10C-0060D39CE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B7926-C542-41B9-85CF-2F01E0576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ECC8A-9152-4CEE-8319-840DAC50E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797C7-1476-4C7A-87E9-21130B090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A4BA7-A9FB-4007-A956-D48E3D32A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172E6-5691-4770-86C7-77315E9AC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8F122-5589-4CB4-BE79-75EED0455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06800-46F0-4AE1-9C96-77C6EB1A8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111D9-2D58-4FEE-B569-2FD677D39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765E3-12FB-48F5-8BAD-7D1EC771B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7B7E-670A-4483-95EA-3448153BA4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EC6B-1BD8-47F3-8504-C54E409D4D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Грамматические нормы русского языка</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i="1" lang="ru-RU" sz="3200" spc="-1" strike="noStrike">
                <a:solidFill>
                  <a:srgbClr val="000000"/>
                </a:solidFill>
                <a:latin typeface="Arial"/>
              </a:rPr>
              <a:t>Просклоняйте: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98 человек, полторы страницы, оба урока, обе стран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обирательные числительны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Двое (студенты, студентки),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но два профессора, генерала, ассистента); трое детей, щенков, ножниц, перчато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7"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рочитайте, помня о склонении числительных.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2006 году, в 45% случаев, из 1636 примеров, к 859 студентам, о 5947 задачах, расплатился 889 рублями, разместили на 832 страницах, не хватает 234 страниц, помогли 249 ветеранам, засажено более 2890 гектаров земли, зарегистрировано около 97 случаев, доволен 194 студентами, жизнь сосны измеряется 350 и даже 600 годами, стоимость процессора от 300 до 500 долларо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Образуйте форму повелительного наклонения от глаголов:</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ечь, ехать, стереть, класть, положить, вынуть, выйти, высыпать, видеть, слышать, хотеть, мочь, гнит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Образуйте форму 1 лица ед.числа от глаголов:</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бедить, убедить, затмить, дерзить, очутиться, пылесосить, висет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Образуйте форму 3 лица ед.числа настоящего времени: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олыхать, махать, плакать, полоскать, плескать, сыпать, щипать, дремать, двигать, капат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6.Объясните, в чем заключаются ошибки в следующих предложениях?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На птичьем дворе петух доминирует над курами. 2. Вчера мы стали свидетелями крайне неприятного инцидента: на наших глазах были разбиты две бутылки пива. 3. Бабушка инкриминировала внуку исчезновение банки варенья. На что внук ответил, что на подобные инсинуации он не собирается обращать внимание. 4. Мама наложила вето на решение отца купить сыну компьютер. 5. Учитель ратифицировал решение класса пойти всем вместе в театр.6. Только с санкции директора школы можно провести праздничную дискотеку. 7. По тротуару прохаживаются тинейджеры. 8. На перемене подрались два первоклассника, на что директор заметил: «Подобные эксцессы возникают в последнее время слишком часто», 9. Эти проблемы обсуждались лишь в школьных кулуарах. 10. Сегодня в нашем классе состоялась презентация нового ученика. 11. Теперь ему надо натурализоваться в нашем классе. 12. На уроках физкультуры мы выстраиваемся в строго определенную иерархию.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Орфоэпия.</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збалованный</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кс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мперский</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нстинк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сключи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сстар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счерпа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6" name="PlaceHolder 2"/>
          <p:cNvSpPr>
            <a:spLocks noGrp="1"/>
          </p:cNvSpPr>
          <p:nvPr>
            <p:ph/>
          </p:nvPr>
        </p:nvSpPr>
        <p:spPr>
          <a:xfrm>
            <a:off x="609480" y="1341000"/>
            <a:ext cx="792504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еспечение</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легчить</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одрить</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ободрённый</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одрена</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должит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злобить</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клеить</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пломбировать</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пошлят</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птовый</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домиться, осведомишься</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ключённый</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купори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Орфоэпия.</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збалОванный</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кс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мпЕрский</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стИнк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ключИ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стар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чЕрпа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0" name="PlaceHolder 2"/>
          <p:cNvSpPr>
            <a:spLocks noGrp="1"/>
          </p:cNvSpPr>
          <p:nvPr>
            <p:ph/>
          </p:nvPr>
        </p:nvSpPr>
        <p:spPr>
          <a:xfrm>
            <a:off x="609480" y="1341000"/>
            <a:ext cx="7925040" cy="504036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беспЕчение                   облегчИть</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бодрИть                        ободрЁнный</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бодренА                        одолжИт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злОбить                         оклЕить</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ломбировАть             опОшля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тОвый                        откУпорил</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свЕдомиться,          освЕдомишьс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тключЁнны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Лексические нормы</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лова мужского рода:</a:t>
            </a:r>
            <a:br>
              <a:rPr sz="2400"/>
            </a:br>
            <a:r>
              <a:rPr b="0" lang="ru-RU" sz="2400" spc="-1" strike="noStrike">
                <a:solidFill>
                  <a:srgbClr val="000000"/>
                </a:solidFill>
                <a:latin typeface="Arial"/>
              </a:rPr>
              <a:t>Рельс, толь, тюль, шампунь, эполет, рюш, багет, шимпанзе, фламинго, хинди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лова женского рода:</a:t>
            </a:r>
            <a:br>
              <a:rPr sz="2400"/>
            </a:br>
            <a:r>
              <a:rPr b="0" lang="ru-RU" sz="2400" spc="-1" strike="noStrike">
                <a:solidFill>
                  <a:srgbClr val="000000"/>
                </a:solidFill>
                <a:latin typeface="Arial"/>
              </a:rPr>
              <a:t>Босоножка, клавиша, манжета, мозоль, сандалия, туфля, авеню, салями, кольраби, колибри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лова среднего рода:</a:t>
            </a:r>
            <a:br>
              <a:rPr sz="2400"/>
            </a:br>
            <a:r>
              <a:rPr b="0" lang="ru-RU" sz="2400" spc="-1" strike="noStrike">
                <a:solidFill>
                  <a:srgbClr val="000000"/>
                </a:solidFill>
                <a:latin typeface="Arial"/>
              </a:rPr>
              <a:t>Алоэ, мочало, повидло, щупальце, бра, кашне, резюме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лова общего рода</a:t>
            </a:r>
            <a:r>
              <a:rPr b="0" lang="ru-RU" sz="2400" spc="-1" strike="noStrike">
                <a:solidFill>
                  <a:srgbClr val="000000"/>
                </a:solidFill>
                <a:latin typeface="Arial"/>
              </a:rPr>
              <a:t>:</a:t>
            </a:r>
            <a:br>
              <a:rPr sz="2400"/>
            </a:br>
            <a:r>
              <a:rPr b="0" lang="ru-RU" sz="2400" spc="-1" strike="noStrike">
                <a:solidFill>
                  <a:srgbClr val="000000"/>
                </a:solidFill>
                <a:latin typeface="Arial"/>
              </a:rPr>
              <a:t>Неряха, сирота, протеже, коллега, крупье, хипп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Исключите четвертое, учитывая морфологические свойства и формы слов.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осок, чулок, георгин, помидор.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юль, бюллетень, рояль, мозоль.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Цех, лист, пропуск, пояс.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аня, пустыня, простыня, кухня.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нструктор, ректор, доктор, тенор.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Образование множественного числа:</a:t>
            </a:r>
            <a:br>
              <a:rPr sz="2000"/>
            </a:br>
            <a:r>
              <a:rPr b="0" lang="en-US" sz="2000" spc="-1" strike="noStrike">
                <a:solidFill>
                  <a:srgbClr val="000000"/>
                </a:solidFill>
                <a:latin typeface="Arial"/>
              </a:rPr>
              <a:t>Бухгалтеры, инженеры, конструкторы, офицеры, почерки, торты, порты, договоры, склады, трюфели, простыни, свитеры, джемперы, возрасты, выборы, авторы, аптекари, лекторы, гербы, ректоры, прожекторы, редакторы, секторы.</a:t>
            </a:r>
            <a:br>
              <a:rPr sz="2000"/>
            </a:br>
            <a:r>
              <a:rPr b="0" lang="en-US" sz="2000" spc="-1" strike="noStrike">
                <a:solidFill>
                  <a:srgbClr val="000000"/>
                </a:solidFill>
                <a:latin typeface="Arial"/>
              </a:rPr>
              <a:t>Директора, купола, ордера, повара, профессора, штабеля, шулера, доктора, мастера, паспорта, сорта.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Родительный падеж:</a:t>
            </a:r>
            <a:br>
              <a:rPr sz="2000"/>
            </a:br>
            <a:r>
              <a:rPr b="0" lang="en-US" sz="2000" spc="-1" strike="noStrike">
                <a:solidFill>
                  <a:srgbClr val="000000"/>
                </a:solidFill>
                <a:latin typeface="Arial"/>
              </a:rPr>
              <a:t>Пара ботинок, валенок, туфель, сапог, чулок (но носков), купить 1 кг . мандаринов, помидоров, апельсинов (но яблок, макарон), 5 консервов; нет мест, болот, войск, плеч, дел, блюдец, полотенец, грузин, армян, гусар, партизан, солдат, ножниц, серёг, кочерёг, свадеб, нянь, басен, рельсов, граблей (и грабель), лохмотьев, простыней; много оладий, вафель, брызг, гектаров, килограммов, мечтаний, будней, свечей, распрей, цаплей, доньев, поленьев; удаление гланд.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Исправьте речевую ошибку: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то самый добрейший человек из всех, кого я знаю.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то ещё более худший вариант решения проблемы.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ать велела дочери налить себе воды.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оясь грозы, старушка спрятала голову под подушку и держала её там до тех пор, пока она не кончилас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2:55:55Z</dcterms:created>
  <dc:creator>Admin</dc:creator>
  <dc:description/>
  <dc:language>en-US</dc:language>
  <cp:lastModifiedBy>Admin</cp:lastModifiedBy>
  <dcterms:modified xsi:type="dcterms:W3CDTF">2010-04-19T15:35:03Z</dcterms:modified>
  <cp:revision>2</cp:revision>
  <dc:subject/>
  <dc:title>Грамматические нормы русского языка</dc:title>
</cp:coreProperties>
</file>