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D0C48F-3652-4C6A-BA14-BF520935A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140B1-3F17-4AB7-BF2D-23C0E2924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11699-870C-47F1-9DE7-3B478459B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747B7C-0C35-4BA7-89FC-A53A570D8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CA138F-0932-41BB-839B-EBC09BA586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8D7CE-D7B5-4CCE-9D3E-5E1081AAF3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F65EE3-C872-4B50-BC9F-A4924577A1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8314BB-15B3-4CA6-9293-F920F3F44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322A05-09DF-4A93-BFF8-33AA764E66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5D034A-0145-4CA7-8D9F-39D622C4E0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215C9-6704-483E-9CFE-D46194A68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09718-FFFF-44CB-AD77-812061EFB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E9969-7EB9-43F1-B57A-1C4A3FF26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79FA3-D6AE-4ADE-B564-7CD026EF5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4BDE0-08EC-4A14-A3F6-2ED998D6CD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380DC2-E914-4609-A2EF-E454A4AABD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869C84-5659-476F-AC05-DE8956F34C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32836-9547-468E-ADD5-90D4ECAB6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B5D3B-C91A-4EF6-A38A-5F5F4C0C1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71718-B140-427B-A922-CE244A751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E89D8-CFF2-47AE-9554-ED5AB24BF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E7C2D-B416-4416-8B5A-9A69F0139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7B2C9-6837-454C-BEFE-D2C1A7D0E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B273D-112D-440A-929B-FDD165763A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BC2B4-F60F-4D09-9B8D-EBE9937502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C486E-1AC2-47EC-ADC4-563C5C258F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Грамматические нормы русского языка</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r>
              <a:rPr b="1" i="1" lang="ru-RU" sz="3200" spc="-1" strike="noStrike">
                <a:solidFill>
                  <a:srgbClr val="000000"/>
                </a:solidFill>
                <a:latin typeface="Arial"/>
              </a:rPr>
              <a:t>Просклоняйте: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498 человек, полторы страницы, оба урока, обе стран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Собирательные числительные: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Двое (студенты, студентки),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но два профессора, генерала, ассистента); трое детей, щенков, ножниц, перчато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2">
                                            <p:txEl>
                                              <p:pRg st="2" end="2"/>
                                            </p:txEl>
                                          </p:spTgt>
                                        </p:tgtEl>
                                        <p:attrNameLst>
                                          <p:attrName>style.visibility</p:attrName>
                                        </p:attrNameLst>
                                      </p:cBhvr>
                                      <p:to>
                                        <p:strVal val="visible"/>
                                      </p:to>
                                    </p:set>
                                    <p:animEffect filter="wipe(down)" transition="in">
                                      <p:cBhvr additive="repl">
                                        <p:cTn id="7"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Прочитайте, помня о склонении числительных.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 2006 году, в 45% случаев, из 1636 примеров, к 859 студентам, о 5947 задачах, расплатился 889 рублями, разместили на 832 страницах, не хватает 234 страниц, помогли 249 ветеранам, засажено более 2890 гектаров земли, зарегистрировано около 97 случаев, доволен 194 студентами, жизнь сосны измеряется 350 и даже 600 годами, стоимость процессора от 300 до 500 долларов.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Образуйте форму повелительного наклонения от глаголов:</a:t>
            </a:r>
            <a:r>
              <a:rPr b="0" lang="en-US" sz="3800" spc="-1" strike="noStrike">
                <a:solidFill>
                  <a:srgbClr val="ffffff"/>
                </a:solidFill>
                <a:latin typeface="Arial"/>
              </a:rPr>
              <a:t> </a:t>
            </a:r>
            <a:endParaRPr b="0" lang="en-US" sz="3800" spc="-1" strike="noStrike">
              <a:solidFill>
                <a:srgbClr val="ffffff"/>
              </a:solidFill>
              <a:latin typeface="Arial"/>
            </a:endParaRPr>
          </a:p>
        </p:txBody>
      </p:sp>
      <p:sp>
        <p:nvSpPr>
          <p:cNvPr id="11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Лечь, ехать, стереть, класть, положить, вынуть, выйти, высыпать, видеть, слышать, хотеть, мочь, гнить.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Arial"/>
              </a:rPr>
              <a:t>Образуйте форму 1 лица ед.числа от глаголов:</a:t>
            </a:r>
            <a:r>
              <a:rPr b="0" lang="en-US" sz="3800" spc="-1" strike="noStrike">
                <a:solidFill>
                  <a:srgbClr val="ffffff"/>
                </a:solidFill>
                <a:latin typeface="Arial"/>
              </a:rPr>
              <a:t> </a:t>
            </a:r>
            <a:endParaRPr b="0" lang="en-US" sz="3800" spc="-1" strike="noStrike">
              <a:solidFill>
                <a:srgbClr val="ffffff"/>
              </a:solidFill>
              <a:latin typeface="Arial"/>
            </a:endParaRPr>
          </a:p>
        </p:txBody>
      </p:sp>
      <p:sp>
        <p:nvSpPr>
          <p:cNvPr id="11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бедить, убедить, затмить, дерзить, очутиться, пылесосить, висеть.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Образуйте форму 3 лица ед.числа настоящего времени: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Колыхать, махать, плакать, полоскать, плескать, сыпать, щипать, дремать, двигать, капать.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6.Объясните, в чем заключаются ошибки в следующих предложениях?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На птичьем дворе петух доминирует над курами. 2. Вчера мы стали свидетелями крайне неприятного инцидента: на наших глазах были разбиты две бутылки пива. 3. Бабушка инкриминировала внуку исчезновение банки варенья. На что внук ответил, что на подобные инсинуации он не собирается обращать внимание. 4. Мама наложила вето на решение отца купить сыну компьютер. 5. Учитель ратифицировал решение класса пойти всем вместе в театр.6. Только с санкции директора школы можно провести праздничную дискотеку. 7. По тротуару прохаживаются тинейджеры. 8. На перемене подрались два первоклассника, на что директор заметил: «Подобные эксцессы возникают в последнее время слишком часто», 9. Эти проблемы обсуждались лишь в школьных кулуарах. 10. Сегодня в нашем классе состоялась презентация нового ученика. 11. Теперь ему надо натурализоваться в нашем классе. 12. На уроках физкультуры мы выстраиваемся в строго определенную иерархию.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Орфоэпия.</a:t>
            </a:r>
            <a:endParaRPr b="0" lang="en-US" sz="4200" spc="-1" strike="noStrike">
              <a:solidFill>
                <a:srgbClr val="ffffff"/>
              </a:solidFill>
              <a:latin typeface="Arial"/>
            </a:endParaRPr>
          </a:p>
        </p:txBody>
      </p:sp>
      <p:sp>
        <p:nvSpPr>
          <p:cNvPr id="9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избалованный</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иксы</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имперский</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инстинкт</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исключит</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исстари</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исчерпат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6" name="PlaceHolder 2"/>
          <p:cNvSpPr>
            <a:spLocks noGrp="1"/>
          </p:cNvSpPr>
          <p:nvPr>
            <p:ph/>
          </p:nvPr>
        </p:nvSpPr>
        <p:spPr>
          <a:xfrm>
            <a:off x="609480" y="1341000"/>
            <a:ext cx="792504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беспечение</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блегчить</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бодрить</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ободрённый</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бодрена</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должит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злобить</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клеить</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пломбировать</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пошлят</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птовый</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домиться, осведомишься</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тключённый</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ткупори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Орфоэпия.</a:t>
            </a:r>
            <a:endParaRPr b="0" lang="en-US" sz="42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збалОванный</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ксы</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мпЕрский</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нстИнкт</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сключИт</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сстари</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счЕрпат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0" name="PlaceHolder 2"/>
          <p:cNvSpPr>
            <a:spLocks noGrp="1"/>
          </p:cNvSpPr>
          <p:nvPr>
            <p:ph/>
          </p:nvPr>
        </p:nvSpPr>
        <p:spPr>
          <a:xfrm>
            <a:off x="609480" y="1341000"/>
            <a:ext cx="7925040" cy="504036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беспЕчение                   облегчИть</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бодрИть                        ободрЁнный</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бодренА                        одолжИт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злОбить                         оклЕить</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пломбировАть             опОшлят</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птОвый                        откУпорил</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свЕдомиться,          освЕдомишьс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тключЁнны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Лексические нормы</a:t>
            </a:r>
            <a:endParaRPr b="0" lang="en-US" sz="42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Слова мужского рода:</a:t>
            </a:r>
            <a:br>
              <a:rPr sz="2400"/>
            </a:br>
            <a:r>
              <a:rPr b="0" lang="ru-RU" sz="2400" spc="-1" strike="noStrike">
                <a:solidFill>
                  <a:srgbClr val="000000"/>
                </a:solidFill>
                <a:latin typeface="Arial"/>
              </a:rPr>
              <a:t>Рельс, толь, тюль, шампунь, эполет, рюш, багет, шимпанзе, фламинго, хинди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Слова женского рода:</a:t>
            </a:r>
            <a:br>
              <a:rPr sz="2400"/>
            </a:br>
            <a:r>
              <a:rPr b="0" lang="ru-RU" sz="2400" spc="-1" strike="noStrike">
                <a:solidFill>
                  <a:srgbClr val="000000"/>
                </a:solidFill>
                <a:latin typeface="Arial"/>
              </a:rPr>
              <a:t>Босоножка, клавиша, манжета, мозоль, сандалия, туфля, авеню, салями, кольраби, колибри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Слова среднего рода:</a:t>
            </a:r>
            <a:br>
              <a:rPr sz="2400"/>
            </a:br>
            <a:r>
              <a:rPr b="0" lang="ru-RU" sz="2400" spc="-1" strike="noStrike">
                <a:solidFill>
                  <a:srgbClr val="000000"/>
                </a:solidFill>
                <a:latin typeface="Arial"/>
              </a:rPr>
              <a:t>Алоэ, мочало, повидло, щупальце, бра, кашне, резюме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Слова общего рода</a:t>
            </a:r>
            <a:r>
              <a:rPr b="0" lang="ru-RU" sz="2400" spc="-1" strike="noStrike">
                <a:solidFill>
                  <a:srgbClr val="000000"/>
                </a:solidFill>
                <a:latin typeface="Arial"/>
              </a:rPr>
              <a:t>:</a:t>
            </a:r>
            <a:br>
              <a:rPr sz="2400"/>
            </a:br>
            <a:r>
              <a:rPr b="0" lang="ru-RU" sz="2400" spc="-1" strike="noStrike">
                <a:solidFill>
                  <a:srgbClr val="000000"/>
                </a:solidFill>
                <a:latin typeface="Arial"/>
              </a:rPr>
              <a:t>Неряха, сирота, протеже, коллега, крупье, хипп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2. Исключите четвертое, учитывая морфологические свойства и формы слов.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осок, чулок, георгин, помидор.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юль, бюллетень, рояль, мозоль.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Цех, лист, пропуск, пояс.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Баня, пустыня, простыня, кухня.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Инструктор, ректор, доктор, тенор.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Образование множественного числа:</a:t>
            </a:r>
            <a:br>
              <a:rPr sz="2000"/>
            </a:br>
            <a:r>
              <a:rPr b="0" lang="en-US" sz="2000" spc="-1" strike="noStrike">
                <a:solidFill>
                  <a:srgbClr val="000000"/>
                </a:solidFill>
                <a:latin typeface="Arial"/>
              </a:rPr>
              <a:t>Бухгалтеры, инженеры, конструкторы, офицеры, почерки, торты, порты, договоры, склады, трюфели, простыни, свитеры, джемперы, возрасты, выборы, авторы, аптекари, лекторы, гербы, ректоры, прожекторы, редакторы, секторы.</a:t>
            </a:r>
            <a:br>
              <a:rPr sz="2000"/>
            </a:br>
            <a:r>
              <a:rPr b="0" lang="en-US" sz="2000" spc="-1" strike="noStrike">
                <a:solidFill>
                  <a:srgbClr val="000000"/>
                </a:solidFill>
                <a:latin typeface="Arial"/>
              </a:rPr>
              <a:t>Директора, купола, ордера, повара, профессора, штабеля, шулера, доктора, мастера, паспорта, сорта.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Родительный падеж:</a:t>
            </a:r>
            <a:br>
              <a:rPr sz="2000"/>
            </a:br>
            <a:r>
              <a:rPr b="0" lang="en-US" sz="2000" spc="-1" strike="noStrike">
                <a:solidFill>
                  <a:srgbClr val="000000"/>
                </a:solidFill>
                <a:latin typeface="Arial"/>
              </a:rPr>
              <a:t>Пара ботинок, валенок, туфель, сапог, чулок (но носков), купить 1 кг . мандаринов, помидоров, апельсинов (но яблок, макарон), 5 консервов; нет мест, болот, войск, плеч, дел, блюдец, полотенец, грузин, армян, гусар, партизан, солдат, ножниц, серёг, кочерёг, свадеб, нянь, басен, рельсов, граблей (и грабель), лохмотьев, простыней; много оладий, вафель, брызг, гектаров, килограммов, мечтаний, будней, свечей, распрей, цаплей, доньев, поленьев; удаление гланд.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3. Исправьте речевую ошибку: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Это самый добрейший человек из всех, кого я знаю.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Это ещё более худший вариант решения проблемы.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ать велела дочери налить себе воды.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Боясь грозы, старушка спрятала голову под подушку и держала её там до тех пор, пока она не кончилась.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12:55:55Z</dcterms:created>
  <dc:creator>Admin</dc:creator>
  <dc:description/>
  <dc:language>en-US</dc:language>
  <cp:lastModifiedBy>Admin</cp:lastModifiedBy>
  <dcterms:modified xsi:type="dcterms:W3CDTF">2010-04-19T15:35:03Z</dcterms:modified>
  <cp:revision>2</cp:revision>
  <dc:subject/>
  <dc:title>Грамматические нормы русского языка</dc:title>
</cp:coreProperties>
</file>