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406-8F31-4DD1-86BB-F8B33808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C9D-8572-4931-89E0-940FD36A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598-A3A4-4235-8456-A0DC53DB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5B0-F3F9-4288-AF29-F72BD9CF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15F8-80DC-4293-9B07-74EE960D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AC72-19B5-4B3D-99AE-0FD18DD5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A2F9-4298-4F44-AC0B-B0CEF435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9BED-342D-4DC7-990C-40B63180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F809-8F34-4B83-A73B-60B37A58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2CD0-8E34-4547-90F3-7898831C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EF62-41EB-4236-BACF-06B884FD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C0F-8899-447C-B0F2-AC29A93D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6FD3-554C-4BB6-9414-62D7A38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4B00-DF34-447F-9E70-769158D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DF96-5168-44DB-A83B-57CFB96F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F1C6-C22F-4C6D-AD29-4313B9E3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56B3-8D24-493C-A074-B62633F1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8D3-86A6-464E-9E97-ACE8E644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B48-ED5F-49C5-9B3B-5959F68E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FE6-746A-431A-8109-34967871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722-ACB4-4E9C-9ADC-CDF4EB07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C92-C153-4389-AF35-53D500F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432-75CD-41FB-9AF2-5EB6A772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CE9-23AC-4F56-9AEA-A0D5F8D4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37D0-C9F8-46F1-B6F3-5535DEEDB8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AB08-18F8-4CCA-8014-C83A91D092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нтрольно – обобщающий урок по теме «Кислородсодержащие органические соединения»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214800" y="585792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ан учителем химии МБОУ « Староишлинская средняя общеобразовательная школа» Дрожжановского муниципального района РТ Алиулловой Р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ффективность любого определяется не тем, что дает детям учитель, а тем, что они взяли в процессе обуч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ить и систематизировать 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хся п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слородсодержащим органическим соединениям, в том числе и на основе генетической связи между классами эти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ть задания достаточной сложности, составленных из тренировочных вариантов ЕГЭ 2008 по хи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урока.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тивно – практиче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 урок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пповая, индивидуаль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д ур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онный мо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изученного матер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Работа учащихся по карточкам в группах                (по 4 чел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ндивидуальная работа учащихся по 2 вариантам (задания составлены из трени-ровочных вариантов ЕГЭ 2008 по хими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чка №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Дайте определение спиртам. Напишите общую формулу предельных одноатомных спир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Какие способы получения альдегидов существуют? Напишите соответствующие уравнения реак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Перечислите области применения важнейших природных представителей карбоновых кисл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чка №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Перечистите способы получения фенола. Напишите соответствующие уравнения реакц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Запишите уравнения реакций, с помощью которых можно осуществите цепочку превращений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Н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С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ОН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ОО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\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Расскажите о физических свойствах спиртов, альдегидов и карбоновых кисл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чка№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Назовите признаки классификации спиртов и приведите приме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Назовите способы получения карбоновых кислот. Напишите соответствующие уравнения реак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Охарактеризуйте: а) химические свойства альдегидов; б) качественные реакции на альдегидную групп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чка№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Назовите признаки классификации альдегидов и приведите приме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Запишите уравнения реакций, с помощью которых можно осуществите цепочку превращений: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Н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О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\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 Охарактеризуйте: а) химические свойства карбоновых кислот, обусловленные наличием карбоксильной группы; б) реакцию этерификации как способ получения сложных эфиров карбоновых кисл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I вариант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II вариа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щество, формула которого,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азотной кислотой , и с гидроксид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(II) будет взаимодействов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фен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2) 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 – СН – 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этан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4) метилацета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сусная кислота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взаимодействует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СuO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2) Cu(OH)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названи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Na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4) Na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2,3-диметилпентанол-5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равьиный альдегид реагирует с каждым 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1,1-диметилбутанол-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двух веществ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4,4-диметилбутанол-1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 С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2) Br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 FeCI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3,4-диметилпентанол-1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Cu(OH)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О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4) СО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 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результате реакции альдегида с водород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4*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анол -1 взаимодействует с веществам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уетс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итрат серебра    4) глиц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спирт                                      2) простой эфир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оксид меди(II)       5) оксид серебра(NH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р-р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ложный эфир                       4) кислот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бромоводород      6) гидроксид меди(I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действие карбоновой кислоты и спирта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5*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Предельную одноосновную карбонову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сится к реакция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кислоту массой 11г растворили в воде. Дл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присоединения           2) этерификации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нейтрализации полученного раствора пот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гидролиза                    4) нейтрализации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бовалось 25 мл раствра гидроксида нат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4*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альдегид взаимодействует с веществами: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молярная концентрация которого 5 моль/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бенз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гидроксид меди(II)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Определите формулу кисл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водоро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метан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зо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п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:                                         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5*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йтрализацию 7,6 г смеси муравьи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уксусной кислот израсходовано 35 м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%-ного раствора гидроксида калия(ρ=1,20 г/мл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читайте массу уксусной кислоты и е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ссовую долю в исходной смеси кислот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. Комментарии выступлений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. Оценки за уро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. Мнения учащихся об ур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ите фразу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Сегодня на урок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Теперь я знаю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Мне на уроке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 вариан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*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*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н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Решение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3) Определить количе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НСООН+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=7,6 г  1) Написать уравне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вещества кислот в смес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КОН)=35 м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реакций взаимодейств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НСООН)+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=0,15 м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КОН)=20%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кислот с КОН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4) Определить массу уксус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КОН)=1,20 г/м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НСООН+КОН=НСООК+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ислоты в исходной смеси и рассчита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+КОН=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К+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ассовую дол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 - ?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2) Рассчитать массу раствор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/60 + (7,6 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) /46=0,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 - ?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КОН, массу и количество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=3 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ещества КОН в этом растворе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)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 в смеси кисло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р-ра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=35*1,2=42 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=3:7,6=0,395 или 39,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КОН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=42*0,2=8,4 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твет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3 г, 39,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=8,4*56=о,15 м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024"/>
          <p:cNvSpPr/>
          <p:nvPr/>
        </p:nvSpPr>
        <p:spPr>
          <a:xfrm>
            <a:off x="2484360" y="220500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025"/>
          <p:cNvSpPr/>
          <p:nvPr/>
        </p:nvSpPr>
        <p:spPr>
          <a:xfrm>
            <a:off x="0" y="3357720"/>
            <a:ext cx="24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 вариа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*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*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н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Решение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х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=11 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1) Составить уравнение реакции и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Н)=25 м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рассчитать количество вещества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Н)=5 моль/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карбоновой кислоты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х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Н +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O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формулу кислоты - ?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х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+ 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(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х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Н)=(14х+46) г/м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2) Рассчитать количество веществ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идроксида натр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аОН)=5*0,025=0,125 м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3) Установить формулу кисло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11/(14х+46)=0,125/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х=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формула 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твет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3213000"/>
            <a:ext cx="19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979640" y="2133720"/>
            <a:ext cx="0" cy="38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5:08:37Z</dcterms:created>
  <dc:creator>1</dc:creator>
  <dc:description/>
  <dc:language>en-US</dc:language>
  <cp:lastModifiedBy>Риназ</cp:lastModifiedBy>
  <dcterms:modified xsi:type="dcterms:W3CDTF">2014-10-12T16:44:51Z</dcterms:modified>
  <cp:revision>13</cp:revision>
  <dc:subject/>
  <dc:title>Контрольно – обобщающий урок по теме «Кислородсодержащие органические соединения» </dc:title>
</cp:coreProperties>
</file>