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456-EABE-43D2-915E-C79993F6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2A2-8F60-4D90-AAE7-4D373BB3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FC1-9EAF-4498-94CA-5FF211C2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0A4-8B10-48A4-AEFF-1E476C5F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D766-268F-43DC-A86F-B9351E0B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3700-B579-4A2B-8ABA-FAE139D1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0097-FFA6-416D-801E-E7A5538F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91A5-61A6-4F1B-B5F2-092B64CE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702B-E937-495A-9F01-9F8E8B11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4A46-76F4-4AE9-B019-58934584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A573-28A2-4636-A3FA-FDE000E2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388-906A-4799-BF61-4884A1E1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1A3B-8BB1-48C7-B3F5-2765D2D8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B156-58FA-4ECB-9F6C-74C03586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468B-9127-4D3B-ADFF-7EFD3E6D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6C5E-3330-44FF-B54A-F7DED2A5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076C-0A28-484F-9994-93B6C6A7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3E4-E2F4-4D5B-9233-12E228D1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981-CAA3-4701-90D0-AE0E8F64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61A-A3AA-4CDA-85AC-B83C77FF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C24-DA76-4BE9-A3AA-0FA62B72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967-CDB5-49D5-B83F-A9315890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6B3-8F86-4A70-9FEA-2B2CB44E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37B-0D35-4B28-A863-1738BC89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58E5-AC57-4B2F-855C-E6952319C9A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480D-E110-4D46-9A65-F48824364B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Контрольно – обобщающий урок по теме «Кислородсодержащие органические соединения»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214800" y="5857920"/>
            <a:ext cx="557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ан учителем химии МБОУ « Староишлинская средняя общеобразовательная школа» Дрожжановского муниципального района РТ Алиулловой Р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Эффективность любого определяется не тем, что дает детям учитель, а тем, что они взяли в процессе обуче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 уро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ить и систематизировать 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хся п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слородсодержащим органическим соединениям, в том числе и на основе генетической связи между классами эти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ть задания достаточной сложности, составленных из тренировочных вариантов ЕГЭ 2008 по хим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урока.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руктивно – практиче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 урока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упповая, индивидуаль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д уро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онный мом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ение изученного матери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Работа учащихся по карточкам в группах                (по 4 чел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ндивидуальная работа учащихся по 2 вариантам (задания составлены из трени-ровочных вариантов ЕГЭ 2008 по хими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точка №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Дайте определение спиртам. Напишите общую формулу предельных одноатомных спир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Какие способы получения альдегидов существуют? Напишите соответствующие уравнения реак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Перечислите области применения важнейших природных представителей карбоновых кисл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точка №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Перечистите способы получения фенола. Напишите соответствующие уравнения реакц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Запишите уравнения реакций, с помощью которых можно осуществите цепочку превращений: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/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Н →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– С →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ОН →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СОО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\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Расскажите о физических свойствах спиртов, альдегидов и карбоновых кисл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точка№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Назовите признаки классификации спиртов и приведите пример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Назовите способы получения карбоновых кислот. Напишите соответствующие уравнения реак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Охарактеризуйте: а) химические свойства альдегидов; б) качественные реакции на альдегидную групп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точка№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Назовите признаки классификации альдегидов и приведите пример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Запишите уравнения реакций, с помощью которых можно осуществите цепочку превращений: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/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→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С →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Н →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О –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\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 Охарактеризуйте: а) химические свойства карбоновых кислот, обусловленные наличием карбоксильной группы; б) реакцию этерификации как способ получения сложных эфиров карбоновых кисл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I вариант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II вариа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щество, формула которого,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с азотной кислотой , и с гидроксидо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(II) будет взаимодействова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\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фенол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2) глицер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 – СН – СН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этанол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4) метилацета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сусная кислота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взаимодействует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СuO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2) Cu(OH)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названи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Na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4) Na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2,3-диметилпентанол-5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равьиный альдегид реагирует с каждым 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1,1-диметилбутанол-4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двух веществ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4,4-диметилбутанол-1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Н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 С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2) Br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 FeCI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3,4-диметилпентанол-1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Cu(OH)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О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4) СО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 Н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 результате реакции альдегида с водородом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4*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панол -1 взаимодействует с веществам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уетс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нитрат серебра    4) глиц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спирт                                      2) простой эфир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оксид меди(II)       5) оксид серебра(NH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р-р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сложный эфир                       4) кислот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бромоводород      6) гидроксид меди(I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действие карбоновой кислоты и спирта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5*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Предельную одноосновную карбоновую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носится к реакциям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кислоту массой 11г растворили в воде. Дл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присоединения           2) этерификации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нейтрализации полученного раствора потр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гидролиза                    4) нейтрализации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бовалось 25 мл раствра гидроксида нат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4*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цетальдегид взаимодействует с веществами: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молярная концентрация которого 5 моль/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бензол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гидроксид меди(II)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Определите формулу кисло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водород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метан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азот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проп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:                                         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5*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нейтрализацию 7,6 г смеси муравьи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уксусной кислот израсходовано 35 м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%-ного раствора гидроксида калия(ρ=1,20 г/мл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читайте массу уксусной кислоты и е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ссовую долю в исходной смеси кислот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Заклю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. Комментарии выступлений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. Оценки за уро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3. Мнения учащихся об уро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олжите фразу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Сегодня на урок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Теперь я знаю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Мне на уроке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I вариан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*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*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н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Решение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3) Определить количе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НСООН+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Н)=7,6 г  1) Написать уравне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вещества кислот в смес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КОН)=35 м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реакций взаимодейств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НСООН)+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Н)=0,15 мо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КОН)=20%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кислот с КОН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4) Определить массу уксус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КОН)=1,20 г/м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НСООН+КОН=НСООК+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кислоты в исходной смеси и рассчита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Н+КОН=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К+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ассовую долю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Н) - ?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2) Рассчитать массу раствора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/60 + (7,6 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) /46=0,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Н) - ?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КОН, массу и количество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=3 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ещества КОН в этом растворе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) 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Н в смеси кисло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р-ра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=35*1,2=42 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С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Н)=3:7,6=0,395 или 39,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КОН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=42*0,2=8,4 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твет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3 г, 39,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=8,4*56=о,15 мо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024"/>
          <p:cNvSpPr/>
          <p:nvPr/>
        </p:nvSpPr>
        <p:spPr>
          <a:xfrm>
            <a:off x="2484360" y="2205000"/>
            <a:ext cx="0" cy="25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025"/>
          <p:cNvSpPr/>
          <p:nvPr/>
        </p:nvSpPr>
        <p:spPr>
          <a:xfrm>
            <a:off x="0" y="3357720"/>
            <a:ext cx="24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I вариан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*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3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*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н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Решение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С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х+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ОН)=11 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1) Составить уравнение реакции и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Н)=25 м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рассчитать количество вещества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Н)=5 моль/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карбоновой кислоты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х+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– СООН +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aO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формулу кислоты - ?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С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х+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– СО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+ 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(С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х+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– СООН)=(14х+46) г/мо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2) Рассчитать количество веществ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гидроксида натр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аОН)=5*0,025=0,125 мо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3) Установить формулу кислот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11/(14х+46)=0,125/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х=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формула С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– СОО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твет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С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– СОО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0" y="3213000"/>
            <a:ext cx="19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979640" y="2133720"/>
            <a:ext cx="0" cy="38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5:08:37Z</dcterms:created>
  <dc:creator>1</dc:creator>
  <dc:description/>
  <dc:language>en-US</dc:language>
  <cp:lastModifiedBy>Риназ</cp:lastModifiedBy>
  <dcterms:modified xsi:type="dcterms:W3CDTF">2014-10-12T16:44:51Z</dcterms:modified>
  <cp:revision>13</cp:revision>
  <dc:subject/>
  <dc:title>Контрольно – обобщающий урок по теме «Кислородсодержащие органические соединения» </dc:title>
</cp:coreProperties>
</file>