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D2E-0678-40D3-9196-4CA461D3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4DF-84CA-4D47-B037-6C145491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D32-2079-4400-873E-6C537503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EB9-BB1F-43F0-9510-A4E64E3B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0509C-C152-422E-88A5-79D4BD65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F65D0-A480-478F-95AB-E03D06B0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5E86F-36DB-4B70-9319-F1021861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30D05-A903-4B4A-98F1-E792A905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62048-ED08-4DC8-833D-EF2DD097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6E888-F31D-4796-9FD0-891A756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F7B02-3F98-433F-A775-D82B37B3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3D0-3449-4F69-B2BF-AA54AD67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70CA-3161-4270-8105-AB1A41D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7B348-8CFA-46F7-B0C2-E27DE77B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1E3F9-F50C-413F-869A-C6004733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03AC3-C27C-4E8F-A5B4-F716F7E6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A9E57-9AB1-462D-92D9-9052E51F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3BA-79E7-4079-88FD-05C4C20C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619-ED9D-4522-AA13-DBA9C914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7EC-D6B7-4926-81FC-CE7BDC77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A5A-3E2A-42BE-A27C-9C59AC7B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FA0-CC50-4225-891E-3DAB4D31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1F9-4216-45EB-B7DB-29AB1F5F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FF9-375D-4765-8361-8FF309DD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015A-E4B5-496A-A3EA-3DC90088AE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8C3B-486C-4C91-A956-F380C0C55F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-252360" y="404640"/>
            <a:ext cx="792000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с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сле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24360" y="2816280"/>
            <a:ext cx="489564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Масленица! Прощай!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На тот годик приезжай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й да Масленица на двор въезж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Широкая на двор въезжа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й да Масленица, погости недельк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селая, погости другую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14454" b="4278"/>
          <a:stretch/>
        </p:blipFill>
        <p:spPr>
          <a:xfrm>
            <a:off x="971640" y="2781360"/>
            <a:ext cx="3057480" cy="352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0" t="0" r="0" b="18071"/>
          <a:stretch/>
        </p:blipFill>
        <p:spPr>
          <a:xfrm>
            <a:off x="5083200" y="2781360"/>
            <a:ext cx="32288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Понедельник - встреч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51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торник - заигрыш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05480" y="1484280"/>
            <a:ext cx="3930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Среда - лаком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6912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Четверг - разгу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5352840" cy="4015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276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Пятница – тещины веч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567240" cy="5013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4319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Суббота - посидел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Воскресенье –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прощеное воскресень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2:11:32Z</dcterms:created>
  <dc:creator>1</dc:creator>
  <dc:description/>
  <dc:language>en-US</dc:language>
  <cp:lastModifiedBy>р ита</cp:lastModifiedBy>
  <dcterms:modified xsi:type="dcterms:W3CDTF">2017-02-04T11:30:32Z</dcterms:modified>
  <cp:revision>9</cp:revision>
  <dc:subject/>
  <dc:title>Слайд 1</dc:title>
</cp:coreProperties>
</file>