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C29-4CCE-489D-8E29-B1091CB0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0AD-C9C4-4AC6-A9FA-A8D19412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A0CA-D21B-4F92-A02D-D952006C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8AE-398D-49F5-B431-02E4C6D5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4B162-67F7-479C-8979-2D9E81CF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DA0F6-179E-4B19-8CE6-3FEC2826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B93C2-3BDA-446E-9CD9-F06A182B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D14C0-85FC-4A03-9B38-AE618073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7DB5A-0674-4FD1-838D-CD5B25C1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44993-029A-4DE9-BF18-DA95BB96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DA07A-0589-40D0-B0D4-0B6E051E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7AF1-E5E2-4F68-9E27-034BF3B5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6788A-312E-4655-AC5B-27697544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5B418-03BC-4128-BB92-2B2CEC0C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04AD6-3C25-423E-9413-B2E8DA88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F1DE2-434C-4D18-B07F-0864CB3D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721FA-F740-4D49-9548-D024195A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3DF-2D6D-4E1B-AA1B-EDE08045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CC2-6B37-482E-A831-70ABA933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5AD-8F24-4233-AB93-4A47D265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010-C178-4B36-BE2B-FD7C3FF6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C3F-34B1-4481-9C7E-A314ECC1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4B1-D623-462B-A23B-70BE9390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D87-93E2-4127-BE2D-E3DB0E8B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01C6-02C6-44FF-8D31-FC9B9CDF42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6929-EB36-45D3-8472-B9C3040690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-252360" y="404640"/>
            <a:ext cx="7920000" cy="29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се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сле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24360" y="2816280"/>
            <a:ext cx="489564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Масленица! Прощай!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На тот годик приезжай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й да Масленица на двор въезж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Широкая на двор въезжа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й да Масленица, погости недельк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селая, погости другую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14454" b="4278"/>
          <a:stretch/>
        </p:blipFill>
        <p:spPr>
          <a:xfrm>
            <a:off x="971640" y="2781360"/>
            <a:ext cx="3057480" cy="352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0" t="0" r="0" b="18071"/>
          <a:stretch/>
        </p:blipFill>
        <p:spPr>
          <a:xfrm>
            <a:off x="5083200" y="2781360"/>
            <a:ext cx="32288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Понедельник - встреч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5516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Вторник - заигрыш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103640" cy="3079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05480" y="1484280"/>
            <a:ext cx="3930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Среда - лаком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1523880"/>
            <a:ext cx="69120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Четверг - разгу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5352840" cy="4015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19640" y="4149720"/>
            <a:ext cx="32767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Пятница – тещины веч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567240" cy="5013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43196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Суббота - посиделк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4170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Воскресенье – 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прощеное воскресень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201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2:11:32Z</dcterms:created>
  <dc:creator>1</dc:creator>
  <dc:description/>
  <dc:language>en-US</dc:language>
  <cp:lastModifiedBy>р ита</cp:lastModifiedBy>
  <dcterms:modified xsi:type="dcterms:W3CDTF">2017-02-04T11:30:32Z</dcterms:modified>
  <cp:revision>9</cp:revision>
  <dc:subject/>
  <dc:title>Слайд 1</dc:title>
</cp:coreProperties>
</file>