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A88-BD7D-4491-8955-72269916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4B3-353B-482E-B5C0-9093CF5E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C42-3502-4473-A4B9-D75589CC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A49-0618-477B-BF46-A9F97CF4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9010-0BF6-4E8E-9FCD-C7267E59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BBE2-5EAF-4F70-832E-A50511E3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CD5-49EE-481C-95AC-C4725F9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72A3-B4AF-40D8-82B7-D48DD450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8454-EB98-44AB-A035-8D4145D7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1AC7-1E54-4E4A-8352-63BCA40B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CCFD-913D-42BA-8E32-F555CFAE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45F-219F-492C-954F-88679CF4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B87E-7000-40A4-B44A-922C9BA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B0AE-A527-4F74-B3FD-87F1743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028-1264-4CAF-AA7B-E770B42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8B9A-BC7E-4CE5-89C8-02174AAF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656-52C2-4FEA-B5BE-5BA7C426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798-FA39-47FA-85AE-DC0875A9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D3A-3B0B-49CB-9B5E-6A018826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CD0-D690-4707-B304-BA9E957E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822-F305-4D8A-B34C-E341F5F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100-3D4C-4919-8C48-50760E4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ECC-53A4-40AC-985A-B454567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BFA-B236-43FC-9ACF-A9E096F9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295A-43D9-41B7-A2AF-18CF32CCE7B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9C78-C831-4399-825D-2FB116D11F6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CBIZ091.WMF"/>
          <p:cNvPicPr/>
          <p:nvPr/>
        </p:nvPicPr>
        <p:blipFill>
          <a:blip r:embed="rId2"/>
          <a:stretch/>
        </p:blipFill>
        <p:spPr>
          <a:xfrm>
            <a:off x="2643120" y="3484440"/>
            <a:ext cx="4264200" cy="3272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35520" cy="1219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рмы бываю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Положительные  и отрицатель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Общественные и более уз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Писаные и неписа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Общие и особ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пповая (или социальная) норма – это правило, стандарт поведения в обществе, регулятор отнош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Рисунок 4" descr="GNGST036.WMF"/>
          <p:cNvPicPr/>
          <p:nvPr/>
        </p:nvPicPr>
        <p:blipFill>
          <a:blip r:embed="rId2"/>
          <a:stretch/>
        </p:blipFill>
        <p:spPr>
          <a:xfrm>
            <a:off x="4000680" y="1857240"/>
            <a:ext cx="4671720" cy="4711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6" descr="KNIGH002.WMF"/>
          <p:cNvPicPr/>
          <p:nvPr/>
        </p:nvPicPr>
        <p:blipFill>
          <a:blip r:embed="rId2"/>
          <a:stretch/>
        </p:blipFill>
        <p:spPr>
          <a:xfrm>
            <a:off x="3143160" y="4071960"/>
            <a:ext cx="1398600" cy="205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есь мир – теат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нем женщины, мужчины – все акте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 них свои есть выходы, уходы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каждый не одну играет роль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. Шекспи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Рисунок 7" descr="KNIGH077.WMF"/>
          <p:cNvPicPr/>
          <p:nvPr/>
        </p:nvPicPr>
        <p:blipFill>
          <a:blip r:embed="rId3"/>
          <a:stretch/>
        </p:blipFill>
        <p:spPr>
          <a:xfrm>
            <a:off x="428760" y="3643200"/>
            <a:ext cx="1830240" cy="2428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KNIGH008.WMF"/>
          <p:cNvPicPr/>
          <p:nvPr/>
        </p:nvPicPr>
        <p:blipFill>
          <a:blip r:embed="rId4"/>
          <a:stretch/>
        </p:blipFill>
        <p:spPr>
          <a:xfrm>
            <a:off x="2286000" y="1571760"/>
            <a:ext cx="1504800" cy="2252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KNIGH039.WMF"/>
          <p:cNvPicPr/>
          <p:nvPr/>
        </p:nvPicPr>
        <p:blipFill>
          <a:blip r:embed="rId5"/>
          <a:stretch/>
        </p:blipFill>
        <p:spPr>
          <a:xfrm>
            <a:off x="1285920" y="1285920"/>
            <a:ext cx="1050840" cy="257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Что такое межличностное взаимодейств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Какой тип поведения является самым продуктивным при межличностном взаимодейств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Как регулируются межличностные взаимоотнош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Каково значение ролевого поведения при межличностном взаимодейств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направленность на себя) – ориентация на прямое вознаграждение, склонность к соперничест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направленность на общение) – стремление при любых условиях поддерживать отношения с людьми, ориентация на совместную деятельность, но часто в ущерб дел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направленность на дело) - заинтересованность в решении деловых проблем, выполнение работы как можно лучш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ченые установили интереснейшую закономерность: то, как другие относятся к вам, во многом определяется тем, как вы относитесь к себ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Межличностное взаимодействие в (широком смысле) – случайный или преднамеренный, частный или публичный, длительный или кратковременный, вербальный или невербальный личностный контакт двух или более человек, имеющий следствием взаимные изменения их поведения, деятельности, отношений, установок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гов Е.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трудниче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тиводейств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бег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тупчив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роми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партнеры по взаимодействию помогают, содействуют друг другу, активно способствуют достижению общих ц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3" descr="CBIZ092.WMF"/>
          <p:cNvPicPr/>
          <p:nvPr/>
        </p:nvPicPr>
        <p:blipFill>
          <a:blip r:embed="rId2"/>
          <a:stretch/>
        </p:blipFill>
        <p:spPr>
          <a:xfrm>
            <a:off x="2571840" y="3076560"/>
            <a:ext cx="4120920" cy="347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партнеры противодействуют, мешают друг другу и препятствуют достижению индивидуальных целей кажд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Рисунок 3" descr="CBIZ103.WMF"/>
          <p:cNvPicPr/>
          <p:nvPr/>
        </p:nvPicPr>
        <p:blipFill>
          <a:blip r:embed="rId2"/>
          <a:stretch/>
        </p:blipFill>
        <p:spPr>
          <a:xfrm>
            <a:off x="2214720" y="3214800"/>
            <a:ext cx="4671720" cy="334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наблюдается тогда, когда партнеры сознательно стараются избегать взаимодейств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4" descr="CMBIZ140.WMF"/>
          <p:cNvPicPr/>
          <p:nvPr/>
        </p:nvPicPr>
        <p:blipFill>
          <a:blip r:embed="rId2"/>
          <a:stretch/>
        </p:blipFill>
        <p:spPr>
          <a:xfrm>
            <a:off x="2214720" y="2928960"/>
            <a:ext cx="4671720" cy="365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один партнер взаимодействия пренебрегает своими интересами в пользу друг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Рисунок 5" descr="CTECH006.WMF"/>
          <p:cNvPicPr/>
          <p:nvPr/>
        </p:nvPicPr>
        <p:blipFill>
          <a:blip r:embed="rId2"/>
          <a:stretch/>
        </p:blipFill>
        <p:spPr>
          <a:xfrm>
            <a:off x="1214280" y="2786040"/>
            <a:ext cx="3121200" cy="36306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BIZ177.WMF"/>
          <p:cNvPicPr/>
          <p:nvPr/>
        </p:nvPicPr>
        <p:blipFill>
          <a:blip r:embed="rId3"/>
          <a:stretch/>
        </p:blipFill>
        <p:spPr>
          <a:xfrm>
            <a:off x="5143680" y="2428920"/>
            <a:ext cx="2906640" cy="3859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встречается тогда, когда оба партнера проявляют отдельные элементы как содействия, так и противодейств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Рисунок 6" descr="CMBIZ145.WMF"/>
          <p:cNvPicPr/>
          <p:nvPr/>
        </p:nvPicPr>
        <p:blipFill>
          <a:blip r:embed="rId2"/>
          <a:stretch/>
        </p:blipFill>
        <p:spPr>
          <a:xfrm>
            <a:off x="4424400" y="934920"/>
            <a:ext cx="3983040" cy="5637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9:14:58Z</dcterms:created>
  <dc:creator>User</dc:creator>
  <dc:description/>
  <dc:language>en-US</dc:language>
  <cp:lastModifiedBy>User</cp:lastModifiedBy>
  <dcterms:modified xsi:type="dcterms:W3CDTF">2010-01-21T17:38:04Z</dcterms:modified>
  <cp:revision>15</cp:revision>
  <dc:subject/>
  <dc:title>Межличностное взаимодействие</dc:title>
</cp:coreProperties>
</file>