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EEC-D843-401E-B176-059F503B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8D2-BA3E-448F-A21D-B5C571D3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149-A8E5-4476-8FBC-058F6DA9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AF8-03E1-47B7-93D3-BD9F9108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4099-3B75-4D17-A5A2-FEB50F49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F8C3-544B-4573-9E9D-A7C7185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CD8-015E-4F39-A441-E808368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D525-CE48-4F80-B06F-7CBEA63F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5D70-391C-468C-AC8B-4E8C363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F775-D313-470B-B554-042B993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1CBB-6D3A-49D9-8D46-F499679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57F-9C2B-459B-984D-6847D0A5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87DA-2E46-45EC-A99E-9271471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B85-D326-4846-8E56-A73A248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E184-7475-4FF3-83E7-64FDBC2A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1B01-AF63-4E0C-8C1A-6DD7467D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E161-6D46-4472-9C0C-0B85DF9C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C67-795F-4708-B378-3B398D7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C17-4678-4CCB-A17C-8808CCB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194-8279-4DFE-9F6F-B47478F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D12-6EC9-48B4-96B7-4049E844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87A-75BA-45D9-8629-35A57F4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633-3A94-4816-B834-D2749E7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AB8-ED27-4EA8-8EBE-E24BCF5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8B0D-00CE-4B67-9794-36A8AAA10E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635-6B41-4DF8-A190-2A263A11DE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 rot="10800000">
            <a:off x="357120" y="6228720"/>
            <a:ext cx="4129200" cy="57240"/>
          </a:xfrm>
          <a:prstGeom prst="rect">
            <a:avLst/>
          </a:prstGeom>
          <a:noFill/>
          <a:ln w="0">
            <a:noFill/>
          </a:ln>
        </p:spPr>
        <p:txBody>
          <a:bodyPr tIns="11520" bIns="1152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28800" y="2500200"/>
            <a:ext cx="4286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Re-exposure of IMG_0131"/>
          <p:cNvPicPr/>
          <p:nvPr/>
        </p:nvPicPr>
        <p:blipFill>
          <a:blip r:embed="rId1"/>
          <a:stretch/>
        </p:blipFill>
        <p:spPr>
          <a:xfrm rot="686400">
            <a:off x="4989240" y="3052800"/>
            <a:ext cx="335124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IMG_2780"/>
          <p:cNvPicPr/>
          <p:nvPr/>
        </p:nvPicPr>
        <p:blipFill>
          <a:blip r:embed="rId2"/>
          <a:stretch/>
        </p:blipFill>
        <p:spPr>
          <a:xfrm>
            <a:off x="0" y="2643120"/>
            <a:ext cx="2743200" cy="42148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8"/>
          <p:cNvSpPr/>
          <p:nvPr/>
        </p:nvSpPr>
        <p:spPr>
          <a:xfrm>
            <a:off x="609480" y="3049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Особенности организации внеурочной деятельности в основной школе в условиях внедрения ФГОС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ВД способствуе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приятной адаптации ребенка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ации учебной нагрузки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ю условий для развития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у возрастных и индивидуальных особен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914400"/>
          <a:ext cx="9144000" cy="6006960"/>
        </p:xfrm>
        <a:graphic>
          <a:graphicData uri="http://schemas.openxmlformats.org/drawingml/2006/table">
            <a:tbl>
              <a:tblPr/>
              <a:tblGrid>
                <a:gridCol w="4356000"/>
                <a:gridCol w="4788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0c6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0c6ba"/>
                    </a:solidFill>
                  </a:tcPr>
                </a:tc>
              </a:tr>
              <a:tr h="53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культу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интеллектуа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ово-развлекательная  (досуговое общ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90000"/>
                        </a:lnSpc>
                        <a:buClr>
                          <a:srgbClr val="4f917e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Приказ Минобрнауки № 373 от 6 октября 2009 г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Об утверждении и введении в действие ФГОС начального общего образования»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е к приказу, ст. 19.3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бный план начального обще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учебных занятий за 4 учебных г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енее 2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ов и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олее 32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ов.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еперь 3345(от 26.10.1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Количество часов на ВД за 4 учебных года до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350 часов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тка часов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имся, посещающим ГП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. 10.28. и п. 10.29. СанПиН 2.4.2.2821-10). </a:t>
            </a:r>
            <a:br>
              <a:rPr sz="6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самоподготовки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организовать прогулки, подвижные и спортивные игры, общественно полезный труд на участке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амоподготов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эмоционального характера (занятия ВД,  игры, посещение зрелищных мероприятий, подготовка и проведение концертов самодеятельности, викторин и другие меропри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типы организационных моделей В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/>
          <a:stretch/>
        </p:blipFill>
        <p:spPr>
          <a:xfrm>
            <a:off x="914400" y="1590840"/>
            <a:ext cx="77724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тимизационная моде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ализации принимают участие все педагогические работники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оводитель – координа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заимодействие с другими педаг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у отношений через разнообразные формы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 значим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588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900"/>
            </a:br>
            <a:r>
              <a:rPr b="1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ОСПИТАТЕЛЬНЫЕ РЕЗУЛЬТАТЫ И ЭФФЕКТЫ</a:t>
            </a:r>
            <a:br>
              <a:rPr sz="2100"/>
            </a:b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br>
              <a:rPr sz="19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8"/>
          <p:cNvSpPr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ледствие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4000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071960" y="1785960"/>
            <a:ext cx="4857840" cy="366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914400" y="5572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о взаимодействии с педаг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92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310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торой уровен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3286080" y="1785960"/>
            <a:ext cx="5643720" cy="378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917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03640" y="1714680"/>
            <a:ext cx="5715000" cy="3929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о взаимодействии с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з Конвенции о правах ребёнк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5640" y="1916280"/>
            <a:ext cx="81597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«Дети должны всегда иметь право на счастливое детство. Их время должно быть временем радости, временем мира, игр, учёбы и ро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Их будущее должно основывать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на гармонии сотрудниче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Их жизнь должна становиться более полнокровной по мере того, как расширяются их перспективы, и они обретают опы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1320" y="671400"/>
            <a:ext cx="5748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700"/>
            </a:br>
            <a:r>
              <a:rPr b="1" lang="ru-RU" sz="1700" spc="-1" strike="noStrike">
                <a:solidFill>
                  <a:srgbClr val="7030a0"/>
                </a:solidFill>
                <a:latin typeface="Times New Roman"/>
              </a:rPr>
              <a:t>ХУДОЖЕСТВЕННОГО ТВОРЧЕСТВ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28760" y="2000160"/>
          <a:ext cx="8229600" cy="4318200"/>
        </p:xfrm>
        <a:graphic>
          <a:graphicData uri="http://schemas.openxmlformats.org/drawingml/2006/table">
            <a:tbl>
              <a:tblPr/>
              <a:tblGrid>
                <a:gridCol w="2057400"/>
                <a:gridCol w="2054160"/>
                <a:gridCol w="2058840"/>
                <a:gridCol w="205920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детских объединений художественного твор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и проек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иков в окружающем школу социу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Пятно 2 28"/>
          <p:cNvSpPr/>
          <p:nvPr/>
        </p:nvSpPr>
        <p:spPr>
          <a:xfrm>
            <a:off x="0" y="571680"/>
            <a:ext cx="235728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43080" y="856800"/>
            <a:ext cx="65865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900"/>
            </a:b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ПОРТИВНО-ОЗДОРОВИТЕЛЬНОЙ ДЕЯТЕЛЬНОСТ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500040" y="2000160"/>
          <a:ext cx="8229600" cy="4264200"/>
        </p:xfrm>
        <a:graphic>
          <a:graphicData uri="http://schemas.openxmlformats.org/drawingml/2006/table">
            <a:tbl>
              <a:tblPr/>
              <a:tblGrid>
                <a:gridCol w="2055960"/>
                <a:gridCol w="2057400"/>
                <a:gridCol w="2058840"/>
                <a:gridCol w="2057400"/>
              </a:tblGrid>
              <a:tr h="1440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участие в оздоровительных процеду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урниры и оздоровительные 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ы школь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окружающем школу социу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Пятно 2 29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571680" y="2071800"/>
          <a:ext cx="8229600" cy="4252680"/>
        </p:xfrm>
        <a:graphic>
          <a:graphicData uri="http://schemas.openxmlformats.org/drawingml/2006/table">
            <a:tbl>
              <a:tblPr/>
              <a:tblGrid>
                <a:gridCol w="2055600"/>
                <a:gridCol w="2057400"/>
                <a:gridCol w="2059200"/>
                <a:gridCol w="2057400"/>
              </a:tblGrid>
              <a:tr h="169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ая про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(коллективное творческое дел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99840" y="9284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900"/>
            </a:b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ЦИАЛЬНОГО ТВОРЧЕСТВА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ятно 2 28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Типы образовательных программ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8760" y="191628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растные образовательные программ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образовательная программа младше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2876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Можно использовать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ую программу по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ую программу по внеурочной деятельности ( традиционный алгоритм утверж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бования к рабочим программам по В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новляется ежего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и и порядок рассмотрения рабочих программ внеурочной деятельности устанавливаю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м актом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утверждения рабочая программа становится нормативным документом, реализуемым в данном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Календарно-тематический пла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600200"/>
          <a:ext cx="8305920" cy="35719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914400"/>
                <a:gridCol w="1905120"/>
                <a:gridCol w="1905120"/>
                <a:gridCol w="1371600"/>
              </a:tblGrid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Тема учебног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Воспита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Теоретич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кая часть занятия /форма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Практическая часть занятия /форма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76520" y="5943600"/>
          <a:ext cx="5740200" cy="611280"/>
        </p:xfrm>
        <a:graphic>
          <a:graphicData uri="http://schemas.openxmlformats.org/drawingml/2006/table">
            <a:tbl>
              <a:tblPr/>
              <a:tblGrid>
                <a:gridCol w="1269720"/>
                <a:gridCol w="576360"/>
                <a:gridCol w="262080"/>
                <a:gridCol w="1401840"/>
                <a:gridCol w="1341360"/>
                <a:gridCol w="888840"/>
              </a:tblGrid>
              <a:tr h="192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Содержание рабочей програм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описание каждой темы учебного занятия согласно нумерации в календарно-тематическом пла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3-4 предлож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 «Средства контрол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зультатом деятельности внеурочной деятельности могут быть концерты, выставки,  конференци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9608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Развитие компетентности к обновлению компетенций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риоритетные подходы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но-компетент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но-деятельно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Что такое ВД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образовательная деятельность, осуществляемая в формах, отличных от классно-урочной, и направленная на достижение планируемых результатов освоения основной образовательной программы (НО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внеуроч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х основной школы (разд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ункт 1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 деятельность организуется по направлениям развития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овно-нрав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о -оздоро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культу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ружки, художественные студии, спортивные клубы и секции, юношеские организации, краеведческая работа, научно-практическая конференция, школьные научные сообщества, олимпиады, соревнования, поисковые и научные исследования, общественно полезные практики, военно-патриотические объединени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42560"/>
            <a:ext cx="8053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стандарта к организации внеурочной деятельност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85600"/>
            <a:ext cx="82296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ы, отводимые на внеурочную деятельность, используются по желанию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ных занятий не должно быть более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иды внеурочной деятельности должны быть строго ориентированы на воспитательны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основной образовательной программы ООО осуществляется самим 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сутствии возможности для реализации внеурочной деятельности ОУ в рамках соответствующих государственных (муниципальных) заданий, формируемых учредителем, использует возможности УДОд, организаций культуры и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иод каникул используется возможности организаций отдых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циальные партнё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 дополнительного образован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ские общественные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и культуры и 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(диплом+желание+догово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В период канику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е лагерные см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тние школы, создаваемые на базе ОУ и У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.А. Пилюгина</dc:creator>
  <dc:description/>
  <dc:language>en-US</dc:language>
  <cp:lastModifiedBy>RePack by Diakov</cp:lastModifiedBy>
  <dcterms:modified xsi:type="dcterms:W3CDTF">2016-08-30T20:04:48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