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AB2-4136-42AB-B105-C8862294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B0B-63F1-4405-921E-E7EABC3C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A12-AB12-420C-AE5E-3ED703FD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E5F-E942-46E6-8735-8D4A50E9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BDCD-44E7-4D8C-A82B-DE0B9F93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406C-226E-48D2-A55E-BE2AC08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19E-A821-4676-9FFB-D3F679BE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415C-D761-43B7-A952-6A2D89E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3AC-0F5D-4EB8-AC95-AA73F2A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8CF-B635-449B-B63C-A04E02B3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C611-0D2E-4861-A0B3-74601D5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1C6-3C3E-4A77-B882-E9BA499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F05D-D188-46DB-8A06-2D261D3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FAAC-B9EA-4A72-858E-04478AD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4263-9480-4CCB-AC24-4AE5D83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7662-9307-48AA-958F-E14C568A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DE4-541F-4053-ADC9-4C32B6D6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DC9-36A4-4B67-9E5E-0896F872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DA4-A959-47C5-81CC-E211DB02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21C-CB0C-4A65-8334-BA4E061B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596-6C2A-4452-A098-30182743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0CC-032E-4C21-AFD9-A6F0691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741-CE20-4F0F-BACA-AE7DD94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CBF-46B1-423A-9001-131B60A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C1D-8BEB-46A9-876D-0A2A31F7C1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77A0-A278-4198-A72E-42D40CC83F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 rot="10800000">
            <a:off x="357120" y="6228720"/>
            <a:ext cx="4129200" cy="57240"/>
          </a:xfrm>
          <a:prstGeom prst="rect">
            <a:avLst/>
          </a:prstGeom>
          <a:noFill/>
          <a:ln w="0">
            <a:noFill/>
          </a:ln>
        </p:spPr>
        <p:txBody>
          <a:bodyPr tIns="11520" bIns="1152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28800" y="2500200"/>
            <a:ext cx="4286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Re-exposure of IMG_0131"/>
          <p:cNvPicPr/>
          <p:nvPr/>
        </p:nvPicPr>
        <p:blipFill>
          <a:blip r:embed="rId1"/>
          <a:stretch/>
        </p:blipFill>
        <p:spPr>
          <a:xfrm rot="686400">
            <a:off x="4989240" y="3052800"/>
            <a:ext cx="335124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IMG_2780"/>
          <p:cNvPicPr/>
          <p:nvPr/>
        </p:nvPicPr>
        <p:blipFill>
          <a:blip r:embed="rId2"/>
          <a:stretch/>
        </p:blipFill>
        <p:spPr>
          <a:xfrm>
            <a:off x="0" y="2643120"/>
            <a:ext cx="2743200" cy="42148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8"/>
          <p:cNvSpPr/>
          <p:nvPr/>
        </p:nvSpPr>
        <p:spPr>
          <a:xfrm>
            <a:off x="609480" y="3049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Особенности организации внеурочной деятельности в основной школе в условиях внедрения ФГОС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ВД способствуе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приятной адаптации ребенка в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ации учебной нагрузки обучаю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ю условий для развития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ту возрастных и индивидуальных особен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914400"/>
          <a:ext cx="9144000" cy="6006960"/>
        </p:xfrm>
        <a:graphic>
          <a:graphicData uri="http://schemas.openxmlformats.org/drawingml/2006/table">
            <a:tbl>
              <a:tblPr/>
              <a:tblGrid>
                <a:gridCol w="4356000"/>
                <a:gridCol w="4788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0c6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0c6ba"/>
                    </a:solidFill>
                  </a:tcPr>
                </a:tc>
              </a:tr>
              <a:tr h="53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культу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интеллектуа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но-нрав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ско-краеведче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угово-развлекательная  (досуговое общ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а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a0c6ba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90000"/>
                        </a:lnSpc>
                        <a:buClr>
                          <a:srgbClr val="4f917e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Приказ Минобрнауки № 373 от 6 октября 2009 г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Об утверждении и введении в действие ФГОС начального общего образования»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ложение к приказу, ст. 19.3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бный план начального обще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учебных занятий за 4 учебных г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енее 2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ов и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олее 32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ов.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еперь 3345(от 26.10.1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Количество часов на ВД за 4 учебных года до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350 часов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тка часов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имся, посещающим ГП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. 10.28. и п. 10.29. СанПиН 2.4.2.2821-10). </a:t>
            </a:r>
            <a:br>
              <a:rPr sz="6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самоподготовки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организовать прогулки, подвижные и спортивные игры, общественно полезный труд на участке О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самоподготов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ие в мероприятиях эмоционального характера (занятия ВД,  игры, посещение зрелищных мероприятий, подготовка и проведение концертов самодеятельности, викторин и другие меропри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типы организационных моделей В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1"/>
          <a:stretch/>
        </p:blipFill>
        <p:spPr>
          <a:xfrm>
            <a:off x="914400" y="1590840"/>
            <a:ext cx="77724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тимизационная моде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ализации принимают участие все педагогические работники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й руководитель – координат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заимодействие с другими педаг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у отношений через разнообразные формы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 значим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588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900"/>
            </a:br>
            <a:r>
              <a:rPr b="1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ОСПИТАТЕЛЬНЫЕ РЕЗУЛЬТАТЫ И ЭФФЕКТЫ</a:t>
            </a:r>
            <a:br>
              <a:rPr sz="2100"/>
            </a:b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ЕУРОЧНОЙ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br>
              <a:rPr sz="19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8"/>
          <p:cNvSpPr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ледствие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1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40006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иобретение школьником социального знания (знания об общественных норм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устройстве общ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оциально одобряемых и неодобряемых формах поведения в обществе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071960" y="1785960"/>
            <a:ext cx="4857840" cy="366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914400" y="5572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4541"/>
                </a:solidFill>
                <a:latin typeface="Times New Roman"/>
              </a:rPr>
              <a:t>Достигается во взаимодействии с педаг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92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1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3106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торой уровен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3286080" y="1785960"/>
            <a:ext cx="5643720" cy="3786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4541"/>
                </a:solidFill>
                <a:latin typeface="Times New Roman"/>
              </a:rPr>
              <a:t>Достигается в дружественной детской среде (коллекти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917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1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203640" y="1714680"/>
            <a:ext cx="5715000" cy="3929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74541"/>
                </a:solidFill>
                <a:latin typeface="Times New Roman"/>
              </a:rPr>
              <a:t>Достигается во взаимодействии с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з Конвенции о правах ребёнк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5640" y="1916280"/>
            <a:ext cx="81597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«Дети должны всегда иметь право на счастливое детство. Их время должно быть временем радости, временем мира, игр, учёбы и ро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Их будущее должно основывать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на гармонии сотрудниче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Их жизнь должна становиться более полнокровной по мере того, как расширяются их перспективы, и они обретают опы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1320" y="671400"/>
            <a:ext cx="5748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700"/>
            </a:br>
            <a:r>
              <a:rPr b="1" lang="ru-RU" sz="1700" spc="-1" strike="noStrike">
                <a:solidFill>
                  <a:srgbClr val="7030a0"/>
                </a:solidFill>
                <a:latin typeface="Times New Roman"/>
              </a:rPr>
              <a:t>ХУДОЖЕСТВЕННОГО ТВОРЧЕСТВ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28760" y="2000160"/>
          <a:ext cx="8229600" cy="4318200"/>
        </p:xfrm>
        <a:graphic>
          <a:graphicData uri="http://schemas.openxmlformats.org/drawingml/2006/table">
            <a:tbl>
              <a:tblPr/>
              <a:tblGrid>
                <a:gridCol w="2057400"/>
                <a:gridCol w="2054160"/>
                <a:gridCol w="2058840"/>
                <a:gridCol w="205920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детских объединений художественного твор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акции и проек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иков в окружающем школу социу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Пятно 2 28"/>
          <p:cNvSpPr/>
          <p:nvPr/>
        </p:nvSpPr>
        <p:spPr>
          <a:xfrm>
            <a:off x="0" y="571680"/>
            <a:ext cx="2357280" cy="1143000"/>
          </a:xfrm>
          <a:prstGeom prst="irregularSeal2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43080" y="856800"/>
            <a:ext cx="65865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900"/>
            </a:b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ПОРТИВНО-ОЗДОРОВИТЕЛЬНОЙ ДЕЯТЕЛЬНОСТ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500040" y="2000160"/>
          <a:ext cx="8229600" cy="4264200"/>
        </p:xfrm>
        <a:graphic>
          <a:graphicData uri="http://schemas.openxmlformats.org/drawingml/2006/table">
            <a:tbl>
              <a:tblPr/>
              <a:tblGrid>
                <a:gridCol w="2055960"/>
                <a:gridCol w="2057400"/>
                <a:gridCol w="2058840"/>
                <a:gridCol w="2057400"/>
              </a:tblGrid>
              <a:tr h="1440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участие в оздоровительных процеду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ые спорти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урниры и оздоровительные 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ы школь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окружающем школу социу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Пятно 2 29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571680" y="2071800"/>
          <a:ext cx="8229600" cy="4252680"/>
        </p:xfrm>
        <a:graphic>
          <a:graphicData uri="http://schemas.openxmlformats.org/drawingml/2006/table">
            <a:tbl>
              <a:tblPr/>
              <a:tblGrid>
                <a:gridCol w="2055600"/>
                <a:gridCol w="2057400"/>
                <a:gridCol w="2059200"/>
                <a:gridCol w="2057400"/>
              </a:tblGrid>
              <a:tr h="169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ая про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Т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(коллективное творческое дел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99840" y="9284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9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900"/>
            </a:b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ЦИАЛЬНОГО ТВОРЧЕСТВА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ятно 2 28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409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Типы образовательных программ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8760" y="191628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по конкретным видам 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растные образовательные программ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 образовательная программа младшего 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2876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Можно использовать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ую программу по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ую программу по внеурочной деятельности ( традиционный алгоритм утвержд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ебования к рабочим программам по В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новляется ежего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и и порядок рассмотрения рабочих программ внеурочной деятельности устанавливаю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м актом 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утверждения рабочая программа становится нормативным документом, реализуемым в данном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Календарно-тематический пла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600200"/>
          <a:ext cx="8305920" cy="35719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914400"/>
                <a:gridCol w="1905120"/>
                <a:gridCol w="1905120"/>
                <a:gridCol w="1371600"/>
              </a:tblGrid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Тема учебног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Воспита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917e"/>
                    </a:solidFill>
                  </a:tcPr>
                </a:tc>
              </a:tr>
              <a:tr h="20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Теоретич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кая часть занятия /форма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Практическая часть занятия /форма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c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76520" y="5943600"/>
          <a:ext cx="5740200" cy="611280"/>
        </p:xfrm>
        <a:graphic>
          <a:graphicData uri="http://schemas.openxmlformats.org/drawingml/2006/table">
            <a:tbl>
              <a:tblPr/>
              <a:tblGrid>
                <a:gridCol w="1269720"/>
                <a:gridCol w="576360"/>
                <a:gridCol w="262080"/>
                <a:gridCol w="1401840"/>
                <a:gridCol w="1341360"/>
                <a:gridCol w="888840"/>
              </a:tblGrid>
              <a:tr h="192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01572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Содержание рабочей программ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описание каждой темы учебного занятия согласно нумерации в календарно-тематическом пла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3-4 предложе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 «Средства контрол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зультатом деятельности внеурочной деятельности могут быть концерты, выставки,  конференци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69608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Развитие компетентности к обновлению компетенций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риоритетные подходы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но-компетент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но-деятельно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Что такое ВД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4479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образовательная деятельность, осуществляемая в формах, отличных от классно-урочной, и направленная на достижение планируемых результатов освоения основной образовательной программы (НО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внеуроч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х основной школы (разд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ункт 1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урочная деятельность организуется по направлениям развития лич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уховно-нрав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о -оздоро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культу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ружки, художественные студии, спортивные клубы и секции, юношеские организации, краеведческая работа, научно-практическая конференция, школьные научные сообщества, олимпиады, соревнования, поисковые и научные исследования, общественно полезные практики, военно-патриотические объединени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42560"/>
            <a:ext cx="8053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стандарта к организации внеурочной деятельност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85600"/>
            <a:ext cx="82296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ы, отводимые на внеурочную деятельность, используются по желанию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ных занятий не должно быть более 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иды внеурочной деятельности должны быть строго ориентированы на воспитательны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основной образовательной программы ООО осуществляется самим О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сутствии возможности для реализации внеурочной деятельности ОУ в рамках соответствующих государственных (муниципальных) заданий, формируемых учредителем, использует возможности УДОд, организаций культуры и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иод каникул используется возможности организаций отдыха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циальные партнё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учреждения дополнительного образовани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ские общественные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и культуры и 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(диплом+желание+догово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В период канику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е лагерные см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тние школы, создаваемые на базе ОУ и У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.А. Пилюгина</dc:creator>
  <dc:description/>
  <dc:language>en-US</dc:language>
  <cp:lastModifiedBy>RePack by Diakov</cp:lastModifiedBy>
  <dcterms:modified xsi:type="dcterms:W3CDTF">2016-08-30T20:04:48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