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A80-3A38-41D5-B110-188720799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7F3-A082-4AFD-A1BC-558407845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A49-2644-4BFD-A8B1-0C2685923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ACE-5378-4C81-B025-972E73DE9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CEF-C72B-4EDD-887B-F9261EE78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EFC-5E06-4C8A-BB2D-EE30321AC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3AC-A1B9-4AF5-ABB2-918A83D4C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F8F-3058-4729-89A0-4533A43B2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69E-0994-4EBE-95A1-ED0622A17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F10A-E7E5-4B7E-B9F6-8D8BB2161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9EB-7004-4E50-A75E-951D05A19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932-13BC-46A4-BA3A-CD663FCD7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AD0-E083-496B-B7EE-EDA7CBE58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B26-4D8E-4F0B-BAE3-EC77DA953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C7EB-DF9B-4148-8059-8C50DBA77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6BA-3D8F-47E0-AE01-15E6629A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F84-DC05-4916-9F8F-F377F69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1AE-C02F-4FB7-B35B-162C9870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4AB-A393-4AB3-ADE3-EC113863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585-27BC-403A-8838-FEA12EF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2FD-EC40-4EBF-8FE5-B2C01C5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2DC-3519-4B6C-8B9B-E1304B38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02D-C43C-4F10-94AE-9DF4F375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1C5-C758-48DF-B76A-253D741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432-ECA9-4E9C-8A04-E435239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CF1-14DA-44C3-A69D-649C089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9DD-611C-4EAB-A271-8CCD52D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766-7867-4B92-B754-CCA083360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49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50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3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3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2" descr="G:\обж\квн\Новая папка\2342.jpg"/>
          <p:cNvPicPr/>
          <p:nvPr/>
        </p:nvPicPr>
        <p:blipFill>
          <a:blip r:embed="rId1"/>
          <a:stretch/>
        </p:blipFill>
        <p:spPr>
          <a:xfrm>
            <a:off x="8380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4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4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13" descr="G:\обж\квн\Новая папка\preview.jpg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5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5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67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68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76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77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5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5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G:\обж\квн\Новая папка\45055_html_4ff3a21e.jpg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6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6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2" descr="G:\обж\квн\Новая папка\1274455523_lkot-petuh-b1.jpg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7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7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G:\обж\квн\Новая папка\image52.jpg"/>
          <p:cNvPicPr/>
          <p:nvPr/>
        </p:nvPicPr>
        <p:blipFill>
          <a:blip r:embed="rId1"/>
          <a:stretch/>
        </p:blipFill>
        <p:spPr>
          <a:xfrm>
            <a:off x="914400" y="8380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8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8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G:\обж\квн\Новая папка\FA_image_0007655.jpg"/>
          <p:cNvPicPr/>
          <p:nvPr/>
        </p:nvPicPr>
        <p:blipFill>
          <a:blip r:embed="rId1"/>
          <a:stretch/>
        </p:blipFill>
        <p:spPr>
          <a:xfrm>
            <a:off x="914400" y="533520"/>
            <a:ext cx="80010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9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9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" descr="G:\обж\квн\Новая папка\000047.jpg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0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0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G:\обж\квн\Новая папка\hqdefault1.jpg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1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1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G:\обж\квн\Новая папка\0_88df6_8f790218_XL.jpg"/>
          <p:cNvPicPr/>
          <p:nvPr/>
        </p:nvPicPr>
        <p:blipFill>
          <a:blip r:embed="rId1"/>
          <a:stretch/>
        </p:blipFill>
        <p:spPr>
          <a:xfrm>
            <a:off x="2286000" y="914400"/>
            <a:ext cx="4800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9"/>
          <p:cNvGrpSpPr/>
          <p:nvPr/>
        </p:nvGrpSpPr>
        <p:grpSpPr>
          <a:xfrm>
            <a:off x="66600" y="7920"/>
            <a:ext cx="9077040" cy="6850080"/>
            <a:chOff x="66600" y="7920"/>
            <a:chExt cx="9077040" cy="6850080"/>
          </a:xfrm>
        </p:grpSpPr>
        <p:grpSp>
          <p:nvGrpSpPr>
            <p:cNvPr id="128" name="Group 20"/>
            <p:cNvGrpSpPr/>
            <p:nvPr/>
          </p:nvGrpSpPr>
          <p:grpSpPr>
            <a:xfrm>
              <a:off x="217080" y="311040"/>
              <a:ext cx="8926560" cy="374760"/>
              <a:chOff x="217080" y="311040"/>
              <a:chExt cx="8926560" cy="374760"/>
            </a:xfrm>
          </p:grpSpPr>
          <p:sp>
            <p:nvSpPr>
              <p:cNvPr id="129" name="Rectangle 21"/>
              <p:cNvSpPr/>
              <p:nvPr/>
            </p:nvSpPr>
            <p:spPr>
              <a:xfrm rot="5400000">
                <a:off x="460800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rot="5400000">
                <a:off x="460800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3"/>
            <p:cNvSpPr/>
            <p:nvPr/>
          </p:nvSpPr>
          <p:spPr>
            <a:xfrm rot="10800000">
              <a:off x="19620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66600" y="3682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333000" y="55872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504720" y="282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274320" y="13824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G:\обж\квн\Новая папка\maxresdefault.jpg"/>
          <p:cNvPicPr/>
          <p:nvPr/>
        </p:nvPicPr>
        <p:blipFill>
          <a:blip r:embed="rId1"/>
          <a:stretch/>
        </p:blipFill>
        <p:spPr>
          <a:xfrm>
            <a:off x="1295280" y="1155600"/>
            <a:ext cx="6553440" cy="524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-0987</cp:lastModifiedBy>
  <dcterms:modified xsi:type="dcterms:W3CDTF">2016-01-23T20:35:0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