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5518-EDB9-4790-8E34-71FC3D91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A018-FBF5-44A7-A8E2-31BE09BE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70EF-4334-4192-9829-C8D3008C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F170-0A09-4FBB-BBFC-9173B1C4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4664-990D-44FB-9236-ED6C1E1A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6EAD-3978-433B-899D-134DDDF4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F521-7617-4A5D-B750-30EC781B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7D5-C054-437C-BD54-C43B1799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5559-B3D5-4B2B-8EA0-F23576C3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6996-4655-4923-A834-90F9BD50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8EF8-D091-4F6C-B0A0-0D44EAB2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4853-C2EE-4363-863D-0431F252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7CE4-4131-47D2-9895-04B9D15017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90а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4" name="WordArt 8"/>
          <p:cNvSpPr txBox="1"/>
          <p:nvPr/>
        </p:nvSpPr>
        <p:spPr>
          <a:xfrm>
            <a:off x="623880" y="2492280"/>
            <a:ext cx="78962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писание приставок и предлогов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WordArt 9"/>
          <p:cNvSpPr txBox="1"/>
          <p:nvPr/>
        </p:nvSpPr>
        <p:spPr>
          <a:xfrm>
            <a:off x="1547640" y="3716280"/>
            <a:ext cx="5972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 класс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ВЫВО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Приставка – часть  слова. Пишется  вм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едлог – часть речи (маленькое  слово), пишется  разд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Выноска-облако 2"/>
          <p:cNvSpPr/>
          <p:nvPr/>
        </p:nvSpPr>
        <p:spPr>
          <a:xfrm>
            <a:off x="5219640" y="1268280"/>
            <a:ext cx="3708360" cy="1727280"/>
          </a:xfrm>
          <a:prstGeom prst="cloudCallout">
            <a:avLst>
              <a:gd name="adj1" fmla="val -101796"/>
              <a:gd name="adj2" fmla="val 94944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Отлично поработали!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buraglavnaa"/>
          <p:cNvPicPr/>
          <p:nvPr/>
        </p:nvPicPr>
        <p:blipFill>
          <a:blip r:embed="rId1"/>
          <a:stretch/>
        </p:blipFill>
        <p:spPr>
          <a:xfrm>
            <a:off x="755640" y="2349360"/>
            <a:ext cx="2817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395280" y="765000"/>
            <a:ext cx="50673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териал: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 Картинки   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WordArt 5"/>
          <p:cNvSpPr txBox="1"/>
          <p:nvPr/>
        </p:nvSpPr>
        <p:spPr>
          <a:xfrm>
            <a:off x="179280" y="3068640"/>
            <a:ext cx="78105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Отрывок из русской народной сказки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Царевна-Лягушка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900000" y="1916280"/>
            <a:ext cx="43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sashka.km.ru/lit/buraglavnaa.gif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98200" y="2276640"/>
            <a:ext cx="49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donial.ucoz.ru/Buratino/snap0005.jp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398880" y="4581360"/>
            <a:ext cx="759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www.pycckue-cka3ku.ru/skazka_carevna_ljagushka_text.htm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Arial"/>
              </a:rPr>
              <a:t>Приставка – часть  слова</a:t>
            </a:r>
            <a:br>
              <a:rPr sz="4800"/>
            </a:br>
            <a:r>
              <a:rPr b="1" lang="ru-RU" sz="4800" spc="-1" strike="noStrike">
                <a:solidFill>
                  <a:srgbClr val="009900"/>
                </a:solidFill>
                <a:latin typeface="Arial"/>
              </a:rPr>
              <a:t>приеха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редлог –часть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  дома,   к  большой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   высокой,   за  дом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2987640" y="1700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4211640" y="1700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99"/>
                </a:solidFill>
                <a:latin typeface="Arial"/>
              </a:rPr>
              <a:t>предло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250920" y="3166920"/>
            <a:ext cx="8569080" cy="119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  балконе   ящики  с  цветами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Line 5"/>
          <p:cNvSpPr/>
          <p:nvPr/>
        </p:nvSpPr>
        <p:spPr>
          <a:xfrm>
            <a:off x="1187280" y="2492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6443640" y="2492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7"/>
          <p:cNvSpPr txBox="1"/>
          <p:nvPr/>
        </p:nvSpPr>
        <p:spPr>
          <a:xfrm>
            <a:off x="539640" y="333360"/>
            <a:ext cx="1513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шем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WordArt 8"/>
          <p:cNvSpPr txBox="1"/>
          <p:nvPr/>
        </p:nvSpPr>
        <p:spPr>
          <a:xfrm>
            <a:off x="5580000" y="404640"/>
            <a:ext cx="2592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асивыми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54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6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99"/>
                </a:solidFill>
                <a:latin typeface="Arial"/>
              </a:rPr>
              <a:t>ПРИСТАВ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6"/>
          <p:cNvSpPr txBox="1"/>
          <p:nvPr/>
        </p:nvSpPr>
        <p:spPr>
          <a:xfrm>
            <a:off x="324000" y="2349360"/>
            <a:ext cx="8351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лнце  зашло  за  тучу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3203640" y="2421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3995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3995640" y="1197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6732720" y="1773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11"/>
          <p:cNvSpPr txBox="1"/>
          <p:nvPr/>
        </p:nvSpPr>
        <p:spPr>
          <a:xfrm>
            <a:off x="5508720" y="189000"/>
            <a:ext cx="237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ёмную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WordArt 12"/>
          <p:cNvSpPr txBox="1"/>
          <p:nvPr/>
        </p:nvSpPr>
        <p:spPr>
          <a:xfrm>
            <a:off x="2771640" y="4292640"/>
            <a:ext cx="287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что  сделало?)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WordArt 13"/>
          <p:cNvSpPr txBox="1"/>
          <p:nvPr/>
        </p:nvSpPr>
        <p:spPr>
          <a:xfrm>
            <a:off x="2050920" y="5013360"/>
            <a:ext cx="4249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йствие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1908000" y="580536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1835280" y="602136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3819 L 0.00399 0.29514 E">
                                      <p:cBhvr>
                                        <p:cTn id="104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0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99"/>
                </a:solidFill>
                <a:latin typeface="Arial"/>
              </a:rPr>
              <a:t>Действие  предме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Что  дела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Что  делал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Что  сделаю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Что будет  делать?    И  д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68360" y="494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Прилетят, запоют, съедят, отрежут, выписать, уехать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684360" y="50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755640" y="501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1547640" y="50133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3059280" y="501336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>
            <a:off x="349236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>
            <a:off x="4788000" y="5013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5076720" y="50133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6516720" y="5013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>
            <a:off x="702000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2627280" y="5589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"/>
          <p:cNvSpPr/>
          <p:nvPr/>
        </p:nvSpPr>
        <p:spPr>
          <a:xfrm>
            <a:off x="320364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6"/>
          <p:cNvSpPr/>
          <p:nvPr/>
        </p:nvSpPr>
        <p:spPr>
          <a:xfrm>
            <a:off x="4788000" y="566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5148360" y="5661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68320" y="615240"/>
            <a:ext cx="1935360" cy="143892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умай!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snap0005"/>
          <p:cNvPicPr/>
          <p:nvPr/>
        </p:nvPicPr>
        <p:blipFill>
          <a:blip r:embed="rId1"/>
          <a:stretch/>
        </p:blipFill>
        <p:spPr>
          <a:xfrm>
            <a:off x="4643280" y="1341360"/>
            <a:ext cx="40500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50" autoRev="1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6" dur="250" autoRev="1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7" dur="250" autoRev="1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395280" y="620640"/>
            <a:ext cx="3529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бежали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WordArt 5"/>
          <p:cNvSpPr txBox="1"/>
          <p:nvPr/>
        </p:nvSpPr>
        <p:spPr>
          <a:xfrm>
            <a:off x="4643280" y="836640"/>
            <a:ext cx="73836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WordArt 6"/>
          <p:cNvSpPr txBox="1"/>
          <p:nvPr/>
        </p:nvSpPr>
        <p:spPr>
          <a:xfrm>
            <a:off x="5364000" y="836640"/>
            <a:ext cx="165600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роге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Line 7"/>
          <p:cNvSpPr/>
          <p:nvPr/>
        </p:nvSpPr>
        <p:spPr>
          <a:xfrm>
            <a:off x="324000" y="54936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1258920" y="54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 flipV="1">
            <a:off x="5724360" y="1484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4643280" y="5734080"/>
            <a:ext cx="230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ирокой</a:t>
            </a:r>
            <a:endParaRPr b="1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79 -0.00324 L 0.14601 -0.00324 E">
                                      <p:cBhvr>
                                        <p:cTn id="270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2.59259E-006 L 0.03958 -0.48959 E">
                                      <p:cBhvr>
                                        <p:cTn id="28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Определи,  где  приставка, а  где        предлог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о)сидеть,  (за)шить, (за)грибами,  (с)бегают,  (с)горы,  (от)плыла,  (от)берега, (на)пал, (на)след, (на)гор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)рывают,  (по)широкой,  (в)ъехал, (в)гараж,  (на)ступила, (на)полу,  (на)ветку, (на)остановку, (по)дружить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539640" y="256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539640" y="2708280"/>
            <a:ext cx="2016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2916360" y="2708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826920" y="314172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>
            <a:off x="4716360" y="31417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2987640" y="3716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539640" y="4221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>
            <a:off x="5508720" y="422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2700360" y="4724280"/>
            <a:ext cx="23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5580000" y="515772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, где  в скобках стоит  приставка, а где – предл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од)летела (к)крыльцу  золочёная  карета. (Вы)шла  (из)кареты  Василиса Премудрая. Взяла Ивана-царевича (за)руку и (по)вела (за) столы дубов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1332000" y="22050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2340000" y="2708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2916360" y="37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2250"/>
                            </p:stCondLst>
                            <p:childTnLst>
                              <p:par>
                                <p:cTn id="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275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325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375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2:22:21Z</dcterms:created>
  <dc:creator>User</dc:creator>
  <dc:description/>
  <dc:language>en-US</dc:language>
  <cp:lastModifiedBy>User</cp:lastModifiedBy>
  <dcterms:modified xsi:type="dcterms:W3CDTF">2017-09-03T11:52:20Z</dcterms:modified>
  <cp:revision>12</cp:revision>
  <dc:subject/>
  <dc:title>Приставки  и  предлоги</dc:title>
</cp:coreProperties>
</file>