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0.wmf" ContentType="image/x-wmf"/>
  <Override PartName="/ppt/media/image2.png" ContentType="image/png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9.wmf" ContentType="image/x-wmf"/>
  <Override PartName="/ppt/media/image13.wmf" ContentType="image/x-wmf"/>
  <Override PartName="/ppt/media/image1.png" ContentType="image/png"/>
  <Override PartName="/ppt/media/image5.jpeg" ContentType="image/jpeg"/>
  <Override PartName="/ppt/media/image18.wmf" ContentType="image/x-wmf"/>
  <Override PartName="/ppt/media/type.wav" ContentType="audio/x-wav"/>
  <Override PartName="/ppt/media/image6.gif" ContentType="image/gif"/>
  <Override PartName="/ppt/media/image17.wmf" ContentType="image/x-wmf"/>
  <Override PartName="/ppt/media/image7.wmf" ContentType="image/x-wmf"/>
  <Override PartName="/ppt/media/image12.wmf" ContentType="image/x-wmf"/>
  <Override PartName="/ppt/media/image4.png" ContentType="image/png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notesMasterIdLst>
    <p:notesMasterId r:id="rId27"/>
  </p:notes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  <p:sldId id="267" r:id="rId39"/>
    <p:sldId id="268" r:id="rId40"/>
    <p:sldId id="269" r:id="rId41"/>
    <p:sldId id="270" r:id="rId42"/>
    <p:sldId id="271" r:id="rId43"/>
    <p:sldId id="272" r:id="rId44"/>
    <p:sldId id="273" r:id="rId45"/>
    <p:sldId id="274" r:id="rId46"/>
    <p:sldId id="275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notesMaster" Target="notesMasters/notesMaster1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slide" Target="slides/slide12.xml"/><Relationship Id="rId40" Type="http://schemas.openxmlformats.org/officeDocument/2006/relationships/slide" Target="slides/slide13.xml"/><Relationship Id="rId41" Type="http://schemas.openxmlformats.org/officeDocument/2006/relationships/slide" Target="slides/slide14.xml"/><Relationship Id="rId42" Type="http://schemas.openxmlformats.org/officeDocument/2006/relationships/slide" Target="slides/slide15.xml"/><Relationship Id="rId43" Type="http://schemas.openxmlformats.org/officeDocument/2006/relationships/slide" Target="slides/slide16.xml"/><Relationship Id="rId44" Type="http://schemas.openxmlformats.org/officeDocument/2006/relationships/slide" Target="slides/slide17.xml"/><Relationship Id="rId45" Type="http://schemas.openxmlformats.org/officeDocument/2006/relationships/slide" Target="slides/slide18.xml"/><Relationship Id="rId46" Type="http://schemas.openxmlformats.org/officeDocument/2006/relationships/slide" Target="slides/slide19.xml"/><Relationship Id="rId47" Type="http://schemas.openxmlformats.org/officeDocument/2006/relationships/slide" Target="slides/slide20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 type="dt" idx="7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5"/>
          <p:cNvSpPr>
            <a:spLocks noGrp="1"/>
          </p:cNvSpPr>
          <p:nvPr>
            <p:ph type="ftr" idx="7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PlaceHolder 6"/>
          <p:cNvSpPr>
            <a:spLocks noGrp="1"/>
          </p:cNvSpPr>
          <p:nvPr>
            <p:ph type="sldNum" idx="7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F907C-BD55-4556-A7D5-EB6C7701A3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21C7A-9DFF-4DD6-9AEC-49FBB998D72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0067F-D7C4-4EDC-9D9A-53A39B07D85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0143-E8D8-4E9A-BFB6-F3468F8E7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078B-2A2D-439F-A845-0F2FB3694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2E1928-1C00-4942-B1B1-DAA9BE0E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8D81A0-1DEC-4271-9B28-56C74B0FB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FCDC2C-0A9C-4CE4-A494-0D6B17386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86F9AA-8C5B-43E8-9181-9030C99A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C7B532-21F7-4FF4-B16F-0C962B4F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1A8029-6ED4-4A91-809C-382CEB2C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E86DBD-E449-406D-B227-F55275C77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374B5F-2824-4C5F-981F-8CF34D884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3EFDDE-17F2-4E41-960E-ACCEB57B7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F14FB4-D0F3-48EA-A981-55E1C3E1A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2E7A-979A-4404-8938-7BED6FDD1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735A0F-B947-4AB6-9560-36AC562EA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5A2C01-CAB8-470A-BCA2-BE778951D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5A0214-1EA6-44B5-A2E9-1F3CAAF3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FF6720-D01C-41A2-A22E-62014A410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812D98-4F68-4C88-9A24-F1E35088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BD11C1-B3A1-4DDC-8E60-F0C8BBC3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9A27E7-AE01-41A1-ABD2-1D1A9F0F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8CAA21-B732-450B-A5D6-31B688F1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9EEE38-BB88-4E9D-87C8-8AEF82178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135B09-D124-4F08-A89F-7AE2208BC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815A-D4C2-4E6D-A9AB-B7748D61C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8A4767-FDBB-4155-A729-5D9825D2A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940CB6-3F13-4F15-940E-881E20EB1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73F675-18CA-4287-A265-409FD8C61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F35D4C-3FD6-47B7-B083-A4B710D56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BA4EBA-C809-42B2-8420-B36324614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104E51-4322-45FF-8FCD-D00E6ED6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98F3F3-D1C6-47A7-B5A8-4D9F68207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C869F7-00DB-4F41-A26B-C6927719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F13495-705E-414F-B16C-2DA812DA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A238AB-2889-4809-B24A-19F6AD87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392A7-F257-4D42-AE41-4ADACDB61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288CBD-DD2A-456D-9FE8-EDC76ED66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AC090C-5654-420F-9192-219C104DB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6ECA10-10C4-481D-9BDD-DD881CBB7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357E24-D87C-4059-A3EF-0247B251A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B1D43B-120C-48C2-8D09-73879CC29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7B4A6D-64D7-4469-A677-6E273986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C8F1BD-CD57-47C3-B85E-CD6316E83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2BC011-139D-4A22-83E7-1719FD10A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F12FF1-5B60-4E2B-B300-21A2EF752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442600-45AA-4703-8888-C53632E1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EE496-6A11-4BD6-B79A-8B338DC79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68AE63-64AD-4396-B9EC-E8C8C902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965A18-859B-4D35-B778-931AB906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732B52-AF37-4F53-864B-5B6F719C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4B51E0-96F8-4670-9162-007DD5AB1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8BA272-C638-417D-843E-5963D801F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0A86BC-BD9C-4BB9-9132-728823D34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DC8BF4-91A5-45E3-8B80-949C0A5B9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EF514F-E7A9-4E33-BFE4-F730C73BD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99810F-F296-4EF5-9EA8-EDB1848B5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1AAA06-DA46-4C58-9024-20D72430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3A6F1-63E8-43BA-A315-316EC6D7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564B20-9530-4E3A-84F8-6CE8F72C5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748EC3-02D2-4638-943A-1042497A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716655-2F5D-4EA2-B5B1-3F205D37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C70473-E691-422E-A751-352D951F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1FA318-F3E9-44E2-BB56-2D7149D96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5505CC-9F87-49FC-A3FE-ADDCA7186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C91476-AFE9-4685-BCC2-8F96D8B91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BB2FDE-6F57-419B-827C-B4EDBC5F0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4815B5-227F-4865-88CC-7CDD30EE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FD16E5-965C-421C-83BE-31D8293F4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15066-B47E-4382-A1F4-F038A4AE0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818641-9ED6-4E8E-96B8-EA53FEA0A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5E3512-17E9-49F0-9824-D96DA3F5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5CB280-C217-4369-B121-8661C1B6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BA3C9B-04D7-4496-8947-E582695A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894AE0-DDD4-476F-9409-F9684CD6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2BB9B9-7893-4CCB-A12C-E21D8DDA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DC944E-8795-4944-BB04-8DACAA510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DF90F2-C697-47A0-A40A-ED51AE57D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E8D3D8-2FEB-49A8-9137-86EC083BB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6F3C63-3B66-47AD-AAC4-8B1AD7B0E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FB3C3-1E2A-4BB3-A423-E8760463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DDB77E-04A4-4A3D-8397-6B1802214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98756F-369A-4271-9E6E-C518EF61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A57C96-5F3F-4619-8B81-202BD421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54E3BA-F087-4116-A83F-E5823BF4A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0C63B9-F572-424F-9240-E44937D0B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7F975E-6C1A-403C-B559-2CFDAE22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A2E4C4-7D93-4388-978E-37F50F75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F13E28-E756-490A-B690-F7324722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6955F2-1A1E-4A4C-8944-DE2241B8B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3E6363-B07F-4FB6-A5CF-059F1A649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48F6C-9206-45AD-9FFC-930DEFF5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1062B3-162C-4B68-8A2B-78A478C64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AFFC02-6860-4D26-9E51-8F09735F1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5FAAD2-A436-462B-BCA4-26EAF5285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0A8EBD-E8E1-454C-9A08-E93C9BCE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CB0E7C-245F-47E8-9230-B8C50EF07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DFE023-4D8D-4B21-88BA-4E96BFCB7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46050A-592F-4EC1-A96C-F025EE3D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ED1C51-FAF7-426D-9BAF-6168FF79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93B0FB-D1CE-4E7D-8B40-47344D07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F8EFE5-A977-4C2C-8E22-DB72F224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52001-4C19-4679-82A2-989B95A4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95781C-B38F-425C-88FE-E44275929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8D6AFA-8F57-4B25-82D6-7CAEBD88F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99BE59-3E66-446E-A080-FFB7A6B3E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B3063E-44C3-480C-91E3-6E0E660BA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C5F4D7-1F95-43D4-BE27-4082B62B7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BEE5FA-81F4-4CEC-A99C-921A53DC8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07EEC0-8F45-467E-9D6E-86AD18838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F2ADC0-DCF9-473F-8AB0-6CF01E7F1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30F2BD-5360-4B14-B875-7133AF5E9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C05851-BFF5-4BBA-82ED-8C96FE9A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F906-44C0-43C5-B6E8-439DDACB1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68DEA-620A-49AD-B6E9-DE0318FE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1B9E06-4061-41BA-8979-A5C10608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A4E47B-F570-4928-8987-E72363C6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5CEEF4-C284-433A-BD88-70FA8304F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5E4D4D-0EBA-4035-BB82-7072B13C0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A4B123-DBC6-4F26-B4F8-265454D4C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D24D3B-05DA-4AF1-85F7-9954D1892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462482-E8CE-47A1-95D3-BC126D3E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8BD2C5-BBDA-45AE-8071-40D5A65F6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BD6695-CC57-4370-9BCE-02AFB5EDC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AB44C9-8BA7-4099-8C2F-F9F1EACBC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E86A7-D339-4167-9175-EFBE089F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0E2B4C-FC50-4527-ACC5-5A65E38DC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36AD39-5715-49E2-9610-F692B1F6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AA18DB-7073-4F4E-8DC3-9EC82BBC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359035-D7DA-4806-917F-DD5BAF70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B8132A-B4DB-49B6-92F7-20DA9256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9942C5-8FBC-49D9-A154-BE4B9E3F7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5DC35D-1EBB-4E26-9525-5C106B991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8F15D9-A665-4952-B49E-E79EBD9AC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7A10E2-4D40-4BBF-A40E-B96B23B8E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B4B8A1-A63E-4BD8-8495-868FE9663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D8476-7ECC-429D-AA5F-2C625009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5C1166-6BAF-48FD-8C2B-DADE06C0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F2E14C-A7C7-4D56-B27F-84CAD974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139648-A39A-43FA-B18D-ADEABB819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AF936A-8522-4D7D-A921-90151A9E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56E66A-257A-4EDE-BAD3-591681B2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74E49A-AC45-4DF8-B9F9-BF8B28C3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8CBC01-FDFE-4681-9836-2CB7ECAAA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662535-B13B-42AC-BEAF-5406C6D4C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E6C3AA-FE6D-4847-9CB0-B592A6006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4DACD9-B1F6-460F-9DA8-42866A68E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BF53A-650B-41B5-AFAA-91CCACDFF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5ED762-8B2C-43D9-8B2F-09823A2F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9076AB-EA2F-4433-8A1E-4B9D289E5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9F75EB-4422-4ACA-AABB-467C3784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C12402-CFCC-4695-A8D2-6C9B19D5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9ED41C-131C-436B-80FA-6789C7A97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53E4BF-2A46-4F79-960E-E4FC7439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D22F7E-BDF0-48FA-92A9-5AE65D70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FB7C47-751C-4E3A-8B5D-4E2A3867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605D87-4DEA-4C8A-A67C-B299D88A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38E8BC-C2B1-4E7E-B3BF-420DF02F5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96366-F059-4498-90D3-7822783EA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428AC8-E806-41BF-BEC3-907ED23F4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5B0DAF-DF7C-4163-AED5-2EFFA3E1E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D2C150-0C5A-4851-8D18-2EAA1856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CB5C37-EE47-452B-9D9D-1031860BA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52AE48-2777-4EFF-B2C4-15E39AA5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F9C430-9DCC-480B-BC7F-2B4634D1B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F97BA4-D0AF-4D74-910C-C55FB6F6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D61C6F-05A0-4223-9CD0-53CFCFDC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BF8110-65F0-43DA-A540-95BCEB7E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0BC340-CB8D-4C89-B540-F7489F73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A9B21-1D6B-40E1-B873-7EE922E2C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3CD0A6-C8DF-4B3D-B5D5-97CEB669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9F2772-2372-4FAB-84A7-EA8F02A57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2D2316-D3FC-4E5B-A96C-BAF73C8C9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F42B9DA-6390-471F-9EBA-B03FA3E13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5894C11-6952-4387-BE52-2BCD188B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C56A9B6-F953-4C5D-BC9B-58E1731C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CDAF10-356E-4D65-AB5E-1F9987D5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1D8B25E-D304-4286-BC2D-450DC8F3B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B905B57-8F57-4201-8BFC-2676DE955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D5597E-7F6A-42FF-A5C8-640D829B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822C0-3454-4660-8E07-BEB6E70C3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A82B73C-FE2B-45B4-9328-9F3037D0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E8CB358-D702-4CAE-BB1D-367C5AE8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EC86289-34D0-46D4-928C-F6A5641E4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1B1087-6462-4D07-8C55-AD310A373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A6F3AB8-08DC-40BA-83BD-ABB203931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87184AA-D82D-4ABB-A29A-2497F94C0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2A4670B-78D7-4EF1-92CB-A9C736AE2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B3C38BC-34F5-47A3-978C-43F30149E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A9A9A63-17E2-4422-967C-BB36E5878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EE3DA06-7AB1-470B-A2C7-319475EA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9C592-2A3E-4333-80B2-19C4A7C14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939C11D-73B2-497C-86FA-6C3ABE241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799EE23-452C-4C54-944C-CC73C3B2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3533226-1487-4294-A0B9-23F14039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0530CC-C18D-418B-A390-664B44AC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A2BCC07-A157-4AC9-825D-FD2E931E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993C839-05D8-46B2-9543-2DEA3B175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4AA0BE4-E63D-4E89-9DC7-69974B836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8AE3866-3CD1-4151-840A-7950B7D47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44F87D4-D0D6-4FC0-98C1-4D792AFA6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DCD9A43-D4D3-44AF-A52F-40A5A3298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C2F99-F6B7-402A-9FBE-F63E913E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9D8765A-3CB0-4DD1-B729-8871CBA55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6855F2E-AE75-4484-9FC7-2DCB91200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9DE7ADF-3F18-435F-85D0-B8A34CC8A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35C9329-A394-4290-AC81-493F62B2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715492F-1478-46BF-9814-D8AD5FC2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E6B9087-9316-47B2-A251-22A5A6F7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3EC5609-7B13-410F-A384-BC6B67C22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BBA210E-99EC-4714-8394-242962BA9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4CD2158-5660-4FE0-B7B4-9C6228995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6FDEE3E-92ED-4835-AE62-87CEEB997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B69CA-3163-4223-88DB-E0B7BED8F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C2BE84E-F9AA-44CD-98C8-3FC84A44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B6B6AE3-9CDB-48E5-AD94-A36D5D27A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66EFA86-C93B-4D37-8025-8C4731124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2B53A56-4C0A-4646-90D4-374B0AC13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C0C98C3-E4E4-4232-92D7-01C4A6E79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4907BF3-9C14-471C-B44C-6F207CF4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2D33232-FBD1-4D5D-A543-EF3F4F04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123938F-DEC3-436C-90AE-EB0C3D6B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942A2A1-52A4-448F-B71C-E2E498F91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356672E-BF42-4C01-9726-A6E8C41D5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2D4E-DC51-484E-A0BE-F01337A3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07633-A641-45C0-A49E-F55D5E09B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1701D82-B9B6-4515-84EC-9E56EEA3A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8A66B-6318-4F63-BEB2-08F04A2C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CB4D0-8D1A-4F6D-B4F6-7372962C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AAE9F-CE61-4F39-AEC1-57F13A34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B6150-E62C-45C5-9863-2E2BC7DD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EBDC2-9E8C-4949-8CFE-3A93B5052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A463D-5897-44C1-9477-57424A7DD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CD5A1-57E8-4775-AEE5-DE556CACE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996FB-DB50-40CB-A936-C3FFDD493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3CA25-3CED-431C-8F17-D67836DF0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568C-B9DA-4F94-8840-128FFF61E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D0230-571D-4886-87AC-22CEFFD6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634BD-E3FF-4354-87B4-47A84B34B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A52CC-D817-49AA-8F0B-ADF81AB5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10338-83E3-45F7-9E75-E46C91D6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1FE78-C17C-4D96-830F-45269855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A2649-8F59-4EC7-A69E-36200749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C04AD-B105-491C-88D4-E26DF650B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9EF0D-FB09-4876-90E5-68D59A635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03C49-0F39-4E8D-981C-DA1C1EE60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D2CC5-79A1-4F67-A77C-CE7032AF4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5370-8D1F-4DCB-8144-4720B8D67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7B1C1-0C13-415E-80AA-222B08EB4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8C207-48A3-461D-8CAD-F6D099E99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DCA8F-324B-4C6F-BD13-B92BD1FC5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EC320-1FC0-4C08-80D4-9C9E6F06B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90C3E-471E-4B46-8CA0-34A6F706B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F0AC0-3184-4D72-A224-0B08693E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19E31-1EFD-43C4-8AD2-559A1B2F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76064-2C99-42EA-8DC2-280FDCF6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C12E5-8E42-45A3-85E0-27BC5B9B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E0D74-09A5-418D-BAAD-1CE6E43BB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A381-69C2-4081-921D-3BB9FF4B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04402-330D-494C-A374-A71D602AD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5E80A5-0A67-4648-B663-F80784FAD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385F9A-54B9-48D2-A6AF-3BAE3013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4C11EC-5C11-48AC-9F1C-23478A5BC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FE5E91-25CC-4A5F-BC41-4BBED7003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F76C63-F5FE-4FCC-A88E-0A7D40845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EC8950-4553-4234-9A48-1206E0D71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20A050-A5AE-4FF9-8987-234B5F97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CD3B2D-EE04-4936-8239-25E9DF96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7A2E8F-293A-4941-84E5-A32AAA24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C947-37CF-4C57-96EB-B4966A12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1CBA8D-FCE5-43FC-B4DD-30144AE95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15E2FF-C474-4268-8C94-60D3B59DB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0710EC-A152-4E47-8F9A-4DE98352B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7B188-3946-4947-BF6B-D867B7651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F9906-E060-4CEA-8FBB-5107DEEE0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07652-313C-48C6-81BB-00FD131C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2B48D2-76DF-4ED9-B577-70CE2A198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088C5-7EE4-4B78-8FAD-6A597CFE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23EA3-E1F7-494F-87F5-12A0B9A69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3974C-D9C1-4762-8DE9-0C6F3947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F0B8-F265-4949-9459-B734F9E1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70ADD-3BC5-4478-924E-0216F28D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4D670-A4C1-4A76-984B-DF61AF93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3362C-11D8-4029-8A25-99B0FC8F0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BD9C5-9A78-4C34-A67B-7921961D0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8F93B-AF2F-4A0A-B13A-90A7B39D8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7CC4F4-AC75-4BC6-B4D3-FB8B3CC32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82EA5A-BCC8-441C-82C1-26366C609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9F811-401E-430A-9FB1-4EC9952D2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2B3A8A-B90F-4B67-8BE0-B44DC6AFE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53A4B-A54B-4180-91DB-9A39EAA7B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5F90-256C-4A8C-A769-8D59B588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014A4C-E588-4913-BA29-3B220937F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36170-A6FF-4D08-B9F4-D03B98E2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ACE0D-1506-4BDE-807A-8C7D73F7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FCBBE-20F3-4DC5-881C-3B827F23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73BF59-C1FD-483B-91D5-C1EC31161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28C62-8143-4EF5-9330-6D620789E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BF3A8-CC89-4A5F-9F52-B80F372E3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EEA822-2EA2-4A70-A500-37FDFB32C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263D07-20D6-465F-B4F2-EECF733D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2CCF2A-08BC-4CB2-80E7-E761A3834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2525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60F8-830F-4DFD-95C4-77F3AC7C0550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1D56D-DE0A-4865-B058-C819741BA0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2525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28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60958-669A-4D54-99A0-727D6874AEE6}" type="datetime">
              <a:rPr b="0" lang="ru-RU" sz="1000" spc="-1" strike="noStrike">
                <a:solidFill>
                  <a:srgbClr val="000000"/>
                </a:solidFill>
                <a:latin typeface="Tahom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29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30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B6104-5625-46D5-84A4-1AE0D042707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2525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31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A3E07-3789-4EF0-9125-D98D3E301B45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32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24B1-6C7E-4A21-AA06-0F433321C6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2525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BB101-066A-4AEA-9A15-D677F5C02052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5FC6E-18A5-4C7B-A0CF-87BB22F5AC7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2525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70C6E-F5F7-4D72-9072-DB529A62EDEB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3BD41-E426-4847-AADF-6422003FD4B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2525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 type="dt" idx="4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FBEFC-7BAD-490E-9643-4954DF99B302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 type="ftr" idx="4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 type="sldNum" idx="4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7BD1-E96C-43F2-965B-45CF5E50CFAB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2525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FAA8E-3232-4191-B179-811E49720EEA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47CC-864B-4C91-B200-ECD447BCA29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2525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9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0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2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823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4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5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6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7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8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9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0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1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2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3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4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5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6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7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8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9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0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1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2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3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4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5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6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7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E5949-DD26-4D7A-8C48-CFA759690C2B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8983A-D904-4F02-B847-A215FDAC8FA1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2525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9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890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 type="dt" idx="49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0FD36-E19A-43A9-AF44-5120E77D365B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 type="ftr" idx="50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D4D3-0427-4552-A43F-842BDC3F4A1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2525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5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936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39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940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1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2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3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4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5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6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7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8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9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0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1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2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53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64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965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6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7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8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9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70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3BFC6-C3EE-4FA5-ABF6-0ECD59795567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5C53D-5F2F-40D3-BDB1-C889C520F59D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2525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14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1015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28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0E63-6A0C-4003-8FFF-0A4323D38561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B36F-3895-4E67-9066-3E6F0426416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2525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07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9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20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8A565-E369-41DE-90C5-6CB02EFF9AAD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EE1E-1C05-4146-8CBA-3239B08A88DF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2525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1071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1072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3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74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7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1078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9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0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1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2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3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 type="dt" idx="58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7986C-AD32-4470-AA6D-A163FCEA0F28}" type="datetime">
              <a:rPr b="0" lang="ru-RU" sz="1000" spc="-1" strike="noStrike">
                <a:solidFill>
                  <a:srgbClr val="000000"/>
                </a:solidFill>
                <a:latin typeface="Tahom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 type="ftr" idx="59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 type="sldNum" idx="60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3D1E2-B243-4847-A8DF-64AB426BCCD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2525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5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126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 type="dt" idx="61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90A8D-EC4D-41C7-A485-343147EB6488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 type="ftr" idx="62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PlaceHolder 5"/>
          <p:cNvSpPr>
            <a:spLocks noGrp="1"/>
          </p:cNvSpPr>
          <p:nvPr>
            <p:ph type="sldNum" idx="6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3CA49-0C27-4C3B-97BE-F74DF2D7B18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2525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3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74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1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2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3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4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5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6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8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6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F39D5-AF24-4DA9-BFDD-6A07D530DDDA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51D8F-A1F0-4E43-AEDF-353B898F301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2525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 type="dt" idx="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F982D-F49E-4487-9D75-5B91A6F424E3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5" name="PlaceHolder 5"/>
          <p:cNvSpPr>
            <a:spLocks noGrp="1"/>
          </p:cNvSpPr>
          <p:nvPr>
            <p:ph type="sldNum" idx="6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C39E6-A88C-48F2-9213-E3B71B45D08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2525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2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273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4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5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276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7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 type="dt" idx="7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48D8-BC60-4659-A926-6438624D2E43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 type="ftr" idx="7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PlaceHolder 5"/>
          <p:cNvSpPr>
            <a:spLocks noGrp="1"/>
          </p:cNvSpPr>
          <p:nvPr>
            <p:ph type="sldNum" idx="7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0C35B-4C01-4A07-97F9-B5B0F4FEB8AF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2525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9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320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1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2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3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4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5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2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 type="dt" idx="7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9E0A5-F51F-4BAC-B7BD-A96409F7520F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AC310-CC0C-4922-9F09-2EED15AC477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2525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87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0666F-C772-4C0D-91FA-386D29B6907F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B090-B088-4824-BA33-E132532DE26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2525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236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EEC6A-737D-429B-804B-46234DBE0933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E31C1-F8FF-41DE-BB97-716B40939FE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2525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28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28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1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61269-C396-411A-A068-4AB5FF3007D8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B2FE9-1BFC-4922-A7DE-13C6C2441A08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2525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98743-5F14-44C8-8B48-6E659E0CF42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4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365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8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10945-47C6-4A45-AA4E-359927C30262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2525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16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2439-4111-40F4-9017-A9A2D5BDC51E}" type="datetime">
              <a:rPr b="0" lang="ru-RU" sz="1200" spc="-1" strike="noStrike">
                <a:solidFill>
                  <a:srgbClr val="000000"/>
                </a:solidFill>
                <a:latin typeface="Tahom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D00D7-6557-4BF8-B954-884CDCE16C85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2525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60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628CE-2904-4366-B4D3-52B697FC65A5}" type="datetime">
              <a:rPr b="0" lang="ru-RU" sz="1200" spc="-1" strike="noStrike">
                <a:solidFill>
                  <a:srgbClr val="000000"/>
                </a:solidFill>
                <a:latin typeface="Tahom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3A6B5-E9F6-4529-9D33-A821D9FBC19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2525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04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56C70-B1C2-498B-95F3-21D1A81B792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5266D-86E5-4478-82FA-31FC55161D7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1295280" y="1219320"/>
            <a:ext cx="68580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ffff00"/>
                </a:solidFill>
                <a:latin typeface="Tahoma"/>
              </a:rPr>
              <a:t>Интегрированный урок</a:t>
            </a:r>
            <a:endParaRPr b="0" lang="en-US" sz="4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 type="subTitle"/>
          </p:nvPr>
        </p:nvSpPr>
        <p:spPr>
          <a:xfrm>
            <a:off x="941400" y="3944880"/>
            <a:ext cx="7261200" cy="15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66"/>
                </a:solidFill>
                <a:uFillTx/>
                <a:latin typeface="Castellar"/>
              </a:rPr>
              <a:t>химия и биолог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astellar"/>
              </a:rPr>
              <a:t>10 клас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6" name="Rectangle 15"/>
          <p:cNvSpPr/>
          <p:nvPr/>
        </p:nvSpPr>
        <p:spPr>
          <a:xfrm>
            <a:off x="371880" y="305280"/>
            <a:ext cx="4044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Алиуллова Рамзия Адизяновн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typ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30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Аналитики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781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Группе аналитиков по предлагаемой схеме «Строение человеческого организма», необходимо проследить процесс всасывания этилового спирта в кровь (см. приложение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Вопрос учителя биологии: «Люди в состоянии похмелья испытывают утренние головные боли. С чем это связано?»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(Выведение погибших нервных клеток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0" name="Picture 7" descr="j0240719"/>
          <p:cNvPicPr/>
          <p:nvPr/>
        </p:nvPicPr>
        <p:blipFill>
          <a:blip r:embed="rId1"/>
          <a:stretch/>
        </p:blipFill>
        <p:spPr>
          <a:xfrm>
            <a:off x="6934320" y="3200400"/>
            <a:ext cx="1447560" cy="209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c0000"/>
                                      </p:to>
                                    </p:animClr>
                                    <p:animClr clrSpc="rgb">
                                      <p:cBhvr>
                                        <p:cTn id="33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c0000"/>
                                      </p:to>
                                    </p:animClr>
                                    <p:set>
                                      <p:cBhvr>
                                        <p:cTn id="334" dur="30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3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Исследовател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40352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120000"/>
              <a:buFont typeface="Web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Tahoma"/>
              </a:rPr>
              <a:t>Группа исследователей по инструктивной карте проводит эксперимент по выявлению причины нарушения исчезновения барьера для спирта при поступлении его в клетки головного мозг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47960" y="1752120"/>
            <a:ext cx="40352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120000"/>
              <a:buFont typeface="Web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Tahoma"/>
              </a:rPr>
              <a:t>Приливают в пробирки с жиром небольшое количество этилового спирта, исследуют что произошло и отвечают на вопрос инструктивной карты: «</a:t>
            </a:r>
            <a:r>
              <a:rPr b="1" lang="ru-RU" sz="2400" spc="-1" strike="noStrike">
                <a:solidFill>
                  <a:srgbClr val="ffff66"/>
                </a:solidFill>
                <a:latin typeface="Tahoma"/>
              </a:rPr>
              <a:t>? </a:t>
            </a:r>
            <a:r>
              <a:rPr b="0" lang="ru-RU" sz="2400" spc="-1" strike="noStrike">
                <a:solidFill>
                  <a:srgbClr val="ffff66"/>
                </a:solidFill>
                <a:latin typeface="Tahoma"/>
              </a:rPr>
              <a:t>Почему молекулы этилового спирта беспрепятственно преодолевают биологические </a:t>
            </a:r>
            <a:r>
              <a:rPr b="0" lang="ru-RU" sz="2400" spc="-1" strike="noStrike">
                <a:solidFill>
                  <a:srgbClr val="8c0000"/>
                </a:solidFill>
                <a:latin typeface="Tahoma"/>
              </a:rPr>
              <a:t>мембраны».</a:t>
            </a:r>
            <a:r>
              <a:rPr b="0" lang="ru-RU" sz="24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5" dur="2000"/>
                                        <p:tgtEl>
                                          <p:spTgt spid="1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Эксперты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Tahoma"/>
              </a:rPr>
              <a:t>Группе экспертов предлагается по рисункам, фотографиям подготовить сообщение о губительном воздействии этанола на органы пищеварения, дыхания, выделения, сердечно-сосудистую и нервную систем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Tahoma"/>
              </a:rPr>
              <a:t>Делают вывод о влиянии алкоголя на органы и системы орган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2" dur="20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1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2" dur="500"/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"/>
          <p:cNvSpPr txBox="1"/>
          <p:nvPr/>
        </p:nvSpPr>
        <p:spPr>
          <a:xfrm>
            <a:off x="731880" y="1189080"/>
            <a:ext cx="4097880" cy="59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00"/>
                </a:solidFill>
                <a:latin typeface="Tahoma"/>
              </a:rPr>
              <a:t>Т</a:t>
            </a:r>
            <a:r>
              <a:rPr b="0" i="1" lang="ru-RU" sz="4400" spc="-1" strike="noStrike">
                <a:solidFill>
                  <a:srgbClr val="ffff00"/>
                </a:solidFill>
                <a:latin typeface="Tahoma"/>
              </a:rPr>
              <a:t>еоретики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8" name="PlaceHolder 1"/>
          <p:cNvSpPr>
            <a:spLocks noGrp="1"/>
          </p:cNvSpPr>
          <p:nvPr>
            <p:ph/>
          </p:nvPr>
        </p:nvSpPr>
        <p:spPr>
          <a:xfrm>
            <a:off x="609120" y="1600200"/>
            <a:ext cx="37753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Группе теоретиков по опорным конспектам необходимо решить проблемный вопрос: «Почему люди, употребляющие много алкоголя, чаще болеют инфекционными заболеваниями, тяжелее переносят операции». Как вы можете это объяснить?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ahoma"/>
              </a:rPr>
              <a:t>?</a:t>
            </a: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 «Почему врачи называют печень </a:t>
            </a:r>
            <a:r>
              <a:rPr b="0" lang="ru-RU" sz="2000" spc="-1" strike="noStrike" u="sng">
                <a:solidFill>
                  <a:srgbClr val="ffff66"/>
                </a:solidFill>
                <a:uFillTx/>
                <a:latin typeface="Tahoma"/>
              </a:rPr>
              <a:t>«мишенью для алкоголя»</a:t>
            </a: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Запишите на доске этапы </a:t>
            </a:r>
            <a:r>
              <a:rPr b="0" lang="ru-RU" sz="2000" spc="-1" strike="noStrike">
                <a:solidFill>
                  <a:srgbClr val="8c0000"/>
                </a:solidFill>
                <a:latin typeface="Tahoma"/>
              </a:rPr>
              <a:t>химического окисления этилового спирта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9" name="Picture 7" descr="j0293844"/>
          <p:cNvPicPr/>
          <p:nvPr/>
        </p:nvPicPr>
        <p:blipFill>
          <a:blip r:embed="rId1"/>
          <a:stretch/>
        </p:blipFill>
        <p:spPr>
          <a:xfrm rot="21232200">
            <a:off x="4645080" y="4601880"/>
            <a:ext cx="3352680" cy="1752480"/>
          </a:xfrm>
          <a:prstGeom prst="rect">
            <a:avLst/>
          </a:prstGeom>
          <a:ln w="0">
            <a:noFill/>
          </a:ln>
        </p:spPr>
      </p:pic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756320" y="533160"/>
            <a:ext cx="3774960" cy="55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После этого каждая группа выступает с результатами своего исследования по схеме: цель – выводы -аргумент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Учащиеся, отвечая на вопрос, особое внимание уделяют причине ослабления иммунной систем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9" dur="20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4" dur="2000"/>
                                        <p:tgtEl>
                                          <p:spTgt spid="1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9" dur="3000"/>
                                        <p:tgtEl>
                                          <p:spTgt spid="1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4" dur="30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9" dur="2000"/>
                                        <p:tgtEl>
                                          <p:spTgt spid="1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4" dur="2000"/>
                                        <p:tgtEl>
                                          <p:spTgt spid="1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1" name="Picture 8" descr="j0300840"/>
          <p:cNvPicPr/>
          <p:nvPr/>
        </p:nvPicPr>
        <p:blipFill>
          <a:blip r:embed="rId1"/>
          <a:stretch/>
        </p:blipFill>
        <p:spPr>
          <a:xfrm>
            <a:off x="0" y="3164040"/>
            <a:ext cx="3657600" cy="3313080"/>
          </a:xfrm>
          <a:prstGeom prst="rect">
            <a:avLst/>
          </a:prstGeom>
          <a:ln w="0">
            <a:noFill/>
          </a:ln>
        </p:spPr>
      </p:pic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Аналитик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66"/>
                </a:solidFill>
                <a:latin typeface="Tahoma"/>
              </a:rPr>
              <a:t>Группе аналитиков по схеме (см. приложение) предлагается выявить причины более быстрого по сравнению с молекулами воды и глюкозы проникновения молекул спирта через биологические мембраны в кровь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3581280" y="3276360"/>
            <a:ext cx="55627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Причинами проникновения являются:</a:t>
            </a:r>
            <a:r>
              <a:rPr b="0" lang="ru-RU" sz="18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- малый радиус молекул спирт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- слабая поляризац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- хорошая растворимость в жирах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- хорошая растворимость в воде за счет образования водородных связей с </a:t>
            </a:r>
            <a:r>
              <a:rPr b="0" lang="ru-RU" sz="2000" spc="-1" strike="noStrike">
                <a:solidFill>
                  <a:srgbClr val="8c0000"/>
                </a:solidFill>
                <a:latin typeface="Tahoma"/>
              </a:rPr>
              <a:t>молекулами вод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0" dur="2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5" dur="20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3000"/>
                                        <p:tgtEl>
                                          <p:spTgt spid="1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animClr clrSpc="rgb">
                                      <p:cBhvr>
                                        <p:cTn id="45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456" dur="3000" fill="hold"/>
                                        <p:tgtEl>
                                          <p:spTgt spid="1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5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1000"/>
                                        <p:tgtEl>
                                          <p:spTgt spid="1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1000"/>
                                        <p:tgtEl>
                                          <p:spTgt spid="1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1000"/>
                                        <p:tgtEl>
                                          <p:spTgt spid="1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1000"/>
                                        <p:tgtEl>
                                          <p:spTgt spid="1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1000"/>
                                        <p:tgtEl>
                                          <p:spTgt spid="1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33"/>
                </a:solidFill>
                <a:latin typeface="Castellar"/>
              </a:rPr>
              <a:t>Биологическая мембран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426" name="Object 4"/>
          <p:cNvGraphicFramePr/>
          <p:nvPr/>
        </p:nvGraphicFramePr>
        <p:xfrm>
          <a:off x="457200" y="1143000"/>
          <a:ext cx="8305920" cy="518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143000"/>
                    <a:ext cx="830592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5" dur="20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6" dur="1000" autoRev="1" fill="hold"/>
                                        <p:tgtEl>
                                          <p:spTgt spid="14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00"/>
                </a:solidFill>
                <a:latin typeface="Arial"/>
              </a:rPr>
              <a:t>Исследовател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47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Viner Hand ITC"/>
              </a:rPr>
              <a:t>Группа исследовател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Viner Hand ITC"/>
              </a:rPr>
              <a:t>должна выявить последств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Viner Hand ITC"/>
              </a:rPr>
              <a:t>воздействия кислоты, спир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Viner Hand ITC"/>
              </a:rPr>
              <a:t>и воды на белок и фермен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Viner Hand ITC"/>
              </a:rPr>
              <a:t>находящиеся в клет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571640" y="1143000"/>
            <a:ext cx="3884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В 3 пробирки с яичным белком добавляю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SzPct val="150000"/>
              <a:buFont typeface="Vivaldi"/>
              <a:buChar char="M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5 мл. во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SzPct val="150000"/>
              <a:buFont typeface="Vivaldi"/>
              <a:buChar char="M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5 мл. этанол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SzPct val="150000"/>
              <a:buFont typeface="Vivaldi"/>
              <a:buChar char="M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5 мл. кислоты (азотно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Наблюдают               происходящее явление, поясняют, что происходит с молекулами белков. Как называется этот процесс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66"/>
                </a:solidFill>
                <a:uFillTx/>
                <a:latin typeface="Arial"/>
              </a:rPr>
              <a:t>(</a:t>
            </a:r>
            <a:r>
              <a:rPr b="1" lang="ru-RU" sz="2400" spc="-1" strike="noStrike" u="sng">
                <a:solidFill>
                  <a:srgbClr val="ffff66"/>
                </a:solidFill>
                <a:uFillTx/>
                <a:latin typeface="Arial"/>
              </a:rPr>
              <a:t>!</a:t>
            </a:r>
            <a:r>
              <a:rPr b="0" lang="ru-RU" sz="2000" spc="-1" strike="noStrike" u="sng">
                <a:solidFill>
                  <a:srgbClr val="ffff66"/>
                </a:solidFill>
                <a:uFillTx/>
                <a:latin typeface="Arial"/>
              </a:rPr>
              <a:t> Денатурац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3" dur="20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8" dur="1000"/>
                                        <p:tgtEl>
                                          <p:spTgt spid="1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3" dur="1000"/>
                                        <p:tgtEl>
                                          <p:spTgt spid="1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8" dur="1000"/>
                                        <p:tgtEl>
                                          <p:spTgt spid="1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3" dur="1000"/>
                                        <p:tgtEl>
                                          <p:spTgt spid="1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8" dur="1000"/>
                                        <p:tgtEl>
                                          <p:spTgt spid="14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3" dur="3000"/>
                                        <p:tgtEl>
                                          <p:spTgt spid="1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8" dur="3000"/>
                                        <p:tgtEl>
                                          <p:spTgt spid="1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3" dur="3000"/>
                                        <p:tgtEl>
                                          <p:spTgt spid="1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8" dur="3000"/>
                                        <p:tgtEl>
                                          <p:spTgt spid="1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3" dur="3000"/>
                                        <p:tgtEl>
                                          <p:spTgt spid="1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8" dur="3000"/>
                                        <p:tgtEl>
                                          <p:spTgt spid="1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3" dur="3000"/>
                                        <p:tgtEl>
                                          <p:spTgt spid="14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Эксперт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913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0" lang="ru-RU" sz="2800" spc="-1" strike="noStrike">
                <a:solidFill>
                  <a:srgbClr val="ffff66"/>
                </a:solidFill>
                <a:latin typeface="Arial Narrow"/>
              </a:rPr>
              <a:t>Группе экспертов предлагается выявить нарушения эмбрионального развития и ответить на вопрос: «Почему именно развивающийся плод оказывается наиболее уязвимым воздействием алкоголя?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2971800" y="3733920"/>
            <a:ext cx="58672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Viner Hand ITC"/>
              </a:rPr>
              <a:t>По фотографиям и схемам выявляют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Viner Hand ITC"/>
              </a:rPr>
              <a:t>изменения в эмбриональном развитии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Viner Hand ITC"/>
              </a:rPr>
              <a:t>(заячья губа, сращение пальцев рук, изменения формы головы, и т.д.)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Viner Hand ITC"/>
              </a:rPr>
              <a:t>Активность антиалкогольных ферментов у плода в 10 раз слабее, чем у взрослых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0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5" dur="500"/>
                                        <p:tgtEl>
                                          <p:spTgt spid="1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0" dur="2000"/>
                                        <p:tgtEl>
                                          <p:spTgt spid="1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5" dur="2000"/>
                                        <p:tgtEl>
                                          <p:spTgt spid="1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0" dur="2000"/>
                                        <p:tgtEl>
                                          <p:spTgt spid="1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5" dur="2000"/>
                                        <p:tgtEl>
                                          <p:spTgt spid="1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1599840" y="380520"/>
            <a:ext cx="70102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900" spc="-1" strike="noStrike">
                <a:solidFill>
                  <a:srgbClr val="ffff00"/>
                </a:solidFill>
                <a:latin typeface="Viner Hand ITC"/>
              </a:rPr>
              <a:t>Творческое задание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39625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66"/>
                </a:solidFill>
                <a:latin typeface="Arial"/>
              </a:rPr>
              <a:t>В процессе подготовки к уроку группе учащихся было дано творческое задание подготовить несколько страниц из «дневника неродившегося ребенка» (используя опорные знания об этапах развития эмбриона)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4876560" y="1981080"/>
            <a:ext cx="3733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Blackadder ITC"/>
              </a:rPr>
              <a:t>Зачитываю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Blackadder ITC"/>
              </a:rPr>
              <a:t>творческое задание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Blackadder ITC"/>
              </a:rPr>
              <a:t>«дневни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Blackadder ITC"/>
              </a:rPr>
              <a:t>неродившего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Blackadder ITC"/>
              </a:rPr>
              <a:t>ребенка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2" dur="2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7" dur="3000"/>
                                        <p:tgtEl>
                                          <p:spTgt spid="1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1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1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1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1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Теоретик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8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Verdana"/>
              </a:rPr>
              <a:t>В качеств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Verdana"/>
              </a:rPr>
              <a:t>закрепл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ffff66"/>
                </a:solidFill>
                <a:latin typeface="Verdana"/>
              </a:rPr>
              <a:t>групп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Verdana"/>
              </a:rPr>
              <a:t>теоретиков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Verdana"/>
              </a:rPr>
              <a:t>предлагаетс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Verdana"/>
              </a:rPr>
              <a:t>заполнить таблицу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Verdana"/>
              </a:rPr>
              <a:t>Подведение итогов урока.</a:t>
            </a:r>
            <a:r>
              <a:rPr b="1" i="1" lang="ru-RU" sz="18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Verdana"/>
              </a:rPr>
              <a:t>Рефлексия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39" name=""/>
          <p:cNvGraphicFramePr/>
          <p:nvPr/>
        </p:nvGraphicFramePr>
        <p:xfrm>
          <a:off x="4648320" y="2286000"/>
          <a:ext cx="4038480" cy="438948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Уровень организации живой матери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Проявление токсичных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свойств спирт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ffff66"/>
                          </a:solidFill>
                          <a:latin typeface="Tunga"/>
                        </a:rPr>
                        <a:t>Молекулярный уров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ffff66"/>
                          </a:solidFill>
                          <a:latin typeface="Tunga"/>
                        </a:rPr>
                        <a:t>Клеточный уровень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ffff66"/>
                          </a:solidFill>
                          <a:latin typeface="Tunga"/>
                        </a:rPr>
                        <a:t>Уровень органов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8c0000"/>
                          </a:solidFill>
                          <a:latin typeface="Tunga"/>
                        </a:rPr>
                        <a:t>Системы органов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8c0000"/>
                          </a:solidFill>
                          <a:latin typeface="Tunga"/>
                        </a:rPr>
                        <a:t>Организм в цело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0" name="Rectangle 33"/>
          <p:cNvSpPr/>
          <p:nvPr/>
        </p:nvSpPr>
        <p:spPr>
          <a:xfrm>
            <a:off x="4572000" y="129528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Times New Roman"/>
              </a:rPr>
              <a:t>Токсичное воздействие этанола на различные уровни организации живой матер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6" dur="2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0" dur="20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66"/>
                </a:solidFill>
                <a:latin typeface="Tahoma"/>
              </a:rPr>
              <a:t>Причины и последствия</a:t>
            </a:r>
            <a:br>
              <a:rPr sz="3600"/>
            </a:br>
            <a:r>
              <a:rPr b="0" lang="ru-RU" sz="3600" spc="-1" strike="noStrike">
                <a:solidFill>
                  <a:srgbClr val="ffff66"/>
                </a:solidFill>
                <a:latin typeface="Tahoma"/>
              </a:rPr>
              <a:t> токсичного влияния этанола на организм человека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5409720" y="1904760"/>
            <a:ext cx="3505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ahoma"/>
              </a:rPr>
              <a:t>Яд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ahoma"/>
              </a:rPr>
              <a:t>который действует не сразу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ahoma"/>
              </a:rPr>
              <a:t>не является менее опасны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Tahoma"/>
              </a:rPr>
              <a:t>Восточная мудрость</a:t>
            </a:r>
            <a:r>
              <a:rPr b="0" lang="ru-RU" sz="40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9" name="Picture 8" descr="D918797A_5826"/>
          <p:cNvPicPr/>
          <p:nvPr/>
        </p:nvPicPr>
        <p:blipFill>
          <a:blip r:embed="rId1"/>
          <a:stretch/>
        </p:blipFill>
        <p:spPr>
          <a:xfrm>
            <a:off x="0" y="1828800"/>
            <a:ext cx="5334120" cy="50292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5" dur="2000" fill="hold"/>
                                        <p:tgtEl>
                                          <p:spTgt spid="13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Презентация подготовлена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учителем химии  Алиулловой Р.А.</a:t>
            </a:r>
            <a:br>
              <a:rPr sz="32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МОУ «Староишлинская СОШ »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Дроҗҗановский район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2009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ahoma"/>
              </a:rPr>
              <a:t>Тип урока: обобщающий семинар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 type="subTitle"/>
          </p:nvPr>
        </p:nvSpPr>
        <p:spPr>
          <a:xfrm>
            <a:off x="304560" y="2209680"/>
            <a:ext cx="83055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Tahoma"/>
              </a:rPr>
              <a:t>Идея: </a:t>
            </a:r>
            <a:r>
              <a:rPr b="0" lang="ru-RU" sz="3600" spc="-1" strike="noStrike">
                <a:solidFill>
                  <a:srgbClr val="ffff66"/>
                </a:solidFill>
                <a:latin typeface="Tahoma"/>
              </a:rPr>
              <a:t>создать условия для формирования устойчивого интереса учащихся к предметам химии и биологии через использование различных методических приемов и средств обучения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800"/>
                                        <p:tgtEl>
                                          <p:spTgt spid="1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Rectangle 1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3" name="Rectangle 1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73B64-3D96-41E5-8052-F08FFE2CBAE0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ubTitle"/>
          </p:nvPr>
        </p:nvSpPr>
        <p:spPr>
          <a:xfrm>
            <a:off x="456840" y="19807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18000" bIns="252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Tahoma"/>
              </a:rPr>
              <a:t>Задачи:</a:t>
            </a: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Выявить причины токсичности этилового спир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Рассмотреть механизм действия спирта на клетки органы и системы организма человека, попытаться спрогнозировать последствия гибельного влияния этанол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Способствовать на уроке развитию умений: анализировать, сравнивать, </a:t>
            </a:r>
            <a:r>
              <a:rPr b="0" lang="ru-RU" sz="2000" spc="-1" strike="noStrike">
                <a:solidFill>
                  <a:srgbClr val="8c0000"/>
                </a:solidFill>
                <a:latin typeface="Tahoma"/>
              </a:rPr>
              <a:t>логически мыслить, обоснованно высказывать свою точку зр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c0000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8c0000"/>
                </a:solidFill>
                <a:latin typeface="Tahoma"/>
              </a:rPr>
              <a:t>Формировать навыки работы с различными информационными источниками (схемами, таблицами, инструктивными картами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c0000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8c0000"/>
                </a:solidFill>
                <a:latin typeface="Tahoma"/>
              </a:rPr>
              <a:t>Развивать творческие способности, социальную активность учащихся через установление межпредметных связей химии с биологией, медицин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c0000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8c0000"/>
                </a:solidFill>
                <a:latin typeface="Tahoma"/>
              </a:rPr>
              <a:t>Обеспечить условия для формирования коммуникативных способностей, умений слушать и слышать своих товарищей, воспитание толерантности и ответственн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 type="title"/>
          </p:nvPr>
        </p:nvSpPr>
        <p:spPr>
          <a:xfrm>
            <a:off x="151920" y="304560"/>
            <a:ext cx="8610840" cy="1555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66"/>
                </a:solidFill>
                <a:latin typeface="Vladimir Script"/>
              </a:rPr>
              <a:t>Цели урока</a:t>
            </a:r>
            <a:r>
              <a:rPr b="1" lang="ru-RU" sz="2300" spc="-1" strike="noStrike">
                <a:solidFill>
                  <a:srgbClr val="ffff66"/>
                </a:solidFill>
                <a:latin typeface="Tahoma"/>
              </a:rPr>
              <a:t>:</a:t>
            </a:r>
            <a:r>
              <a:rPr b="0" lang="ru-RU" sz="2300" spc="-1" strike="noStrike" u="sng">
                <a:solidFill>
                  <a:srgbClr val="ffff66"/>
                </a:solidFill>
                <a:uFillTx/>
                <a:latin typeface="Vladimir Script"/>
              </a:rPr>
              <a:t> </a:t>
            </a:r>
            <a:br>
              <a:rPr sz="2300"/>
            </a:br>
            <a:r>
              <a:rPr b="0" lang="ru-RU" sz="2300" spc="-1" strike="noStrike">
                <a:solidFill>
                  <a:srgbClr val="ffff66"/>
                </a:solidFill>
                <a:latin typeface="Vladimir Script"/>
              </a:rPr>
              <a:t>обобщение полученных на уроках химии и биологии знаний</a:t>
            </a:r>
            <a:r>
              <a:rPr b="0" lang="ru-RU" sz="2300" spc="-1" strike="noStrike">
                <a:solidFill>
                  <a:srgbClr val="ffff66"/>
                </a:solidFill>
                <a:latin typeface="Tahoma"/>
              </a:rPr>
              <a:t>;</a:t>
            </a:r>
            <a:r>
              <a:rPr b="0" lang="ru-RU" sz="2300" spc="-1" strike="noStrike">
                <a:solidFill>
                  <a:srgbClr val="ffff66"/>
                </a:solidFill>
                <a:latin typeface="Vladimir Script"/>
              </a:rPr>
              <a:t> </a:t>
            </a:r>
            <a:br>
              <a:rPr sz="2300"/>
            </a:br>
            <a:r>
              <a:rPr b="0" lang="ru-RU" sz="2300" spc="-1" strike="noStrike">
                <a:solidFill>
                  <a:srgbClr val="ffff66"/>
                </a:solidFill>
                <a:latin typeface="Vladimir Script"/>
              </a:rPr>
              <a:t>применение знаний в новой проблемной ситуации</a:t>
            </a:r>
            <a:r>
              <a:rPr b="0" lang="ru-RU" sz="2300" spc="-1" strike="noStrike">
                <a:solidFill>
                  <a:srgbClr val="ffff66"/>
                </a:solidFill>
                <a:latin typeface="Tahoma"/>
              </a:rPr>
              <a:t>;</a:t>
            </a:r>
            <a:r>
              <a:rPr b="0" lang="ru-RU" sz="2300" spc="-1" strike="noStrike">
                <a:solidFill>
                  <a:srgbClr val="ffff66"/>
                </a:solidFill>
                <a:latin typeface="Vladimir Script"/>
              </a:rPr>
              <a:t> </a:t>
            </a:r>
            <a:br>
              <a:rPr sz="2300"/>
            </a:br>
            <a:r>
              <a:rPr b="0" lang="ru-RU" sz="2300" spc="-1" strike="noStrike">
                <a:solidFill>
                  <a:srgbClr val="ffff66"/>
                </a:solidFill>
                <a:latin typeface="Vladimir Script"/>
              </a:rPr>
              <a:t>формирование мотивации здорового образа жизни, активной позиции в отношении охраны своего здоровья</a:t>
            </a:r>
            <a:r>
              <a:rPr b="0" lang="ru-RU" sz="2300" spc="-1" strike="noStrike">
                <a:solidFill>
                  <a:srgbClr val="ffff66"/>
                </a:solidFill>
                <a:latin typeface="Tahoma"/>
              </a:rPr>
              <a:t>.</a:t>
            </a:r>
            <a:endParaRPr b="0" lang="en-US" sz="23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66"/>
                </a:solidFill>
                <a:latin typeface="Tahoma"/>
              </a:rPr>
              <a:t>Методы:</a:t>
            </a:r>
            <a:r>
              <a:rPr b="0" i="1" lang="ru-RU" sz="2700" spc="-1" strike="noStrike">
                <a:solidFill>
                  <a:srgbClr val="ffff66"/>
                </a:solidFill>
                <a:latin typeface="Tahoma"/>
              </a:rPr>
              <a:t> исследовательские</a:t>
            </a:r>
            <a:r>
              <a:rPr b="0" lang="ru-RU" sz="2700" spc="-1" strike="noStrike">
                <a:solidFill>
                  <a:srgbClr val="ffff66"/>
                </a:solidFill>
                <a:latin typeface="Tahoma"/>
              </a:rPr>
              <a:t> </a:t>
            </a:r>
            <a:br>
              <a:rPr sz="2700"/>
            </a:br>
            <a:r>
              <a:rPr b="1" lang="ru-RU" sz="2700" spc="-1" strike="noStrike">
                <a:solidFill>
                  <a:srgbClr val="ffff66"/>
                </a:solidFill>
                <a:latin typeface="Tahoma"/>
              </a:rPr>
              <a:t>Форма работы:</a:t>
            </a:r>
            <a:r>
              <a:rPr b="0" lang="ru-RU" sz="27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i="1" lang="ru-RU" sz="2700" spc="-1" strike="noStrike">
                <a:solidFill>
                  <a:srgbClr val="ffff66"/>
                </a:solidFill>
                <a:latin typeface="Tahoma"/>
              </a:rPr>
              <a:t>групповая (4 лаборатории</a:t>
            </a:r>
            <a:r>
              <a:rPr b="0" i="1" lang="ru-RU" sz="2800" spc="-1" strike="noStrike">
                <a:solidFill>
                  <a:srgbClr val="ffff66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87" name="Picture 17" descr="j0234687"/>
          <p:cNvPicPr/>
          <p:nvPr/>
        </p:nvPicPr>
        <p:blipFill>
          <a:blip r:embed="rId1"/>
          <a:stretch/>
        </p:blipFill>
        <p:spPr>
          <a:xfrm>
            <a:off x="4724280" y="1828800"/>
            <a:ext cx="4038840" cy="2133720"/>
          </a:xfrm>
          <a:prstGeom prst="rect">
            <a:avLst/>
          </a:prstGeom>
          <a:ln w="0">
            <a:noFill/>
          </a:ln>
        </p:spPr>
      </p:pic>
      <p:pic>
        <p:nvPicPr>
          <p:cNvPr id="1388" name="Picture 18" descr="j0090070"/>
          <p:cNvPicPr/>
          <p:nvPr/>
        </p:nvPicPr>
        <p:blipFill>
          <a:blip r:embed="rId2"/>
          <a:stretch/>
        </p:blipFill>
        <p:spPr>
          <a:xfrm>
            <a:off x="457200" y="1752480"/>
            <a:ext cx="3962520" cy="2170080"/>
          </a:xfrm>
          <a:prstGeom prst="rect">
            <a:avLst/>
          </a:prstGeom>
          <a:ln w="0">
            <a:noFill/>
          </a:ln>
        </p:spPr>
      </p:pic>
      <p:pic>
        <p:nvPicPr>
          <p:cNvPr id="1389" name="Picture 19" descr="j0301252"/>
          <p:cNvPicPr/>
          <p:nvPr/>
        </p:nvPicPr>
        <p:blipFill>
          <a:blip r:embed="rId3"/>
          <a:stretch/>
        </p:blipFill>
        <p:spPr>
          <a:xfrm>
            <a:off x="609480" y="4267080"/>
            <a:ext cx="3657600" cy="2021040"/>
          </a:xfrm>
          <a:prstGeom prst="rect">
            <a:avLst/>
          </a:prstGeom>
          <a:ln w="0">
            <a:noFill/>
          </a:ln>
        </p:spPr>
      </p:pic>
      <p:pic>
        <p:nvPicPr>
          <p:cNvPr id="1390" name="Picture 20" descr="j0233018"/>
          <p:cNvPicPr/>
          <p:nvPr/>
        </p:nvPicPr>
        <p:blipFill>
          <a:blip r:embed="rId4"/>
          <a:stretch/>
        </p:blipFill>
        <p:spPr>
          <a:xfrm>
            <a:off x="4800600" y="4114800"/>
            <a:ext cx="3886200" cy="2171880"/>
          </a:xfrm>
          <a:prstGeom prst="rect">
            <a:avLst/>
          </a:prstGeom>
          <a:ln w="0">
            <a:noFill/>
          </a:ln>
        </p:spPr>
      </p:pic>
      <p:sp>
        <p:nvSpPr>
          <p:cNvPr id="1391" name="Text Box 21"/>
          <p:cNvSpPr/>
          <p:nvPr/>
        </p:nvSpPr>
        <p:spPr>
          <a:xfrm>
            <a:off x="1449000" y="337968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Исследовател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2" name="Text Box 22"/>
          <p:cNvSpPr/>
          <p:nvPr/>
        </p:nvSpPr>
        <p:spPr>
          <a:xfrm>
            <a:off x="6705720" y="3429000"/>
            <a:ext cx="18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алитик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3" name="Text Box 23"/>
          <p:cNvSpPr/>
          <p:nvPr/>
        </p:nvSpPr>
        <p:spPr>
          <a:xfrm>
            <a:off x="337680" y="5943600"/>
            <a:ext cx="189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Broadway"/>
              </a:rPr>
              <a:t>Теорети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4" name="Text Box 24"/>
          <p:cNvSpPr/>
          <p:nvPr/>
        </p:nvSpPr>
        <p:spPr>
          <a:xfrm>
            <a:off x="5791320" y="617220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ff"/>
                </a:solidFill>
                <a:latin typeface="Castellar"/>
              </a:rPr>
              <a:t>Эксперт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768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768" fill="hold"/>
                                        <p:tgtEl>
                                          <p:spTgt spid="13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0" dur="768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2" dur="768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5" name="Picture 9" descr="j0217698"/>
          <p:cNvPicPr/>
          <p:nvPr/>
        </p:nvPicPr>
        <p:blipFill>
          <a:blip r:embed="rId1"/>
          <a:stretch/>
        </p:blipFill>
        <p:spPr>
          <a:xfrm rot="1597800">
            <a:off x="3352680" y="609480"/>
            <a:ext cx="3429000" cy="3183120"/>
          </a:xfrm>
          <a:prstGeom prst="rect">
            <a:avLst/>
          </a:prstGeom>
          <a:ln w="0">
            <a:noFill/>
          </a:ln>
        </p:spPr>
      </p:pic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Оформление:</a:t>
            </a:r>
            <a:r>
              <a:rPr b="0" lang="ru-RU" sz="3200" spc="-1" strike="noStrike">
                <a:solidFill>
                  <a:srgbClr val="ffff66"/>
                </a:solidFill>
                <a:latin typeface="Tahoma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ffff66"/>
                </a:solidFill>
                <a:latin typeface="Tahoma"/>
              </a:rPr>
              <a:t>таблицы; </a:t>
            </a:r>
            <a:br>
              <a:rPr sz="3200"/>
            </a:br>
            <a:r>
              <a:rPr b="0" lang="ru-RU" sz="3200" spc="-1" strike="noStrike">
                <a:solidFill>
                  <a:srgbClr val="ffff66"/>
                </a:solidFill>
                <a:latin typeface="Tahoma"/>
              </a:rPr>
              <a:t>фотографии: </a:t>
            </a:r>
            <a:br>
              <a:rPr sz="3200"/>
            </a:br>
            <a:r>
              <a:rPr b="0" lang="ru-RU" sz="3200" spc="-1" strike="noStrike">
                <a:solidFill>
                  <a:srgbClr val="ffff66"/>
                </a:solidFill>
                <a:latin typeface="Tahoma"/>
              </a:rPr>
              <a:t>диаграммы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;</a:t>
            </a:r>
            <a:r>
              <a:rPr b="0" lang="ru-RU" sz="3200" spc="-1" strike="noStrike">
                <a:solidFill>
                  <a:srgbClr val="ffff66"/>
                </a:solidFill>
                <a:latin typeface="Tahoma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ffff66"/>
                </a:solidFill>
                <a:latin typeface="Tahoma"/>
              </a:rPr>
              <a:t>стенд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457200" y="3920760"/>
            <a:ext cx="8229600" cy="217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c0000"/>
                </a:solidFill>
                <a:latin typeface="Berlin Sans FB"/>
              </a:rPr>
              <a:t>Оборудование: </a:t>
            </a:r>
            <a:r>
              <a:rPr b="0" lang="ru-RU" sz="2800" spc="-1" strike="noStrike">
                <a:solidFill>
                  <a:srgbClr val="8c0000"/>
                </a:solidFill>
                <a:latin typeface="Berlin Sans FB"/>
              </a:rPr>
              <a:t>схемы, инструктивные карты, опорные конспекты, реактивы (вода, этиловый спирт, раствор азотной кислоты, раствор яичного белка, лабораторное оборудование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8" name="Picture 8" descr="j0286068"/>
          <p:cNvPicPr/>
          <p:nvPr/>
        </p:nvPicPr>
        <p:blipFill>
          <a:blip r:embed="rId2"/>
          <a:stretch/>
        </p:blipFill>
        <p:spPr>
          <a:xfrm>
            <a:off x="457200" y="609480"/>
            <a:ext cx="1865160" cy="2224080"/>
          </a:xfrm>
          <a:prstGeom prst="rect">
            <a:avLst/>
          </a:prstGeom>
          <a:ln w="0">
            <a:noFill/>
          </a:ln>
        </p:spPr>
      </p:pic>
      <p:pic>
        <p:nvPicPr>
          <p:cNvPr id="1399" name="Picture 10" descr="j0305257"/>
          <p:cNvPicPr/>
          <p:nvPr/>
        </p:nvPicPr>
        <p:blipFill>
          <a:blip r:embed="rId3"/>
          <a:stretch/>
        </p:blipFill>
        <p:spPr>
          <a:xfrm>
            <a:off x="2209680" y="1828800"/>
            <a:ext cx="114300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9" dur="20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67 0 L 0.21 0.22236 L -0.04 0.22236 L 0 0 Z">
                                      <p:cBhvr>
                                        <p:cTn id="143" dur="3000" fill="hold"/>
                                        <p:tgtEl>
                                          <p:spTgt spid="1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7" dur="2000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" dur="2000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1" dur="20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0" name="Picture 10" descr="j0235241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33"/>
                </a:solidFill>
                <a:latin typeface="Bodoni MT"/>
              </a:rPr>
              <a:t>Вступите</a:t>
            </a:r>
            <a:r>
              <a:rPr b="1" lang="ru-RU" sz="4000" spc="-1" strike="noStrike">
                <a:solidFill>
                  <a:srgbClr val="2850a0"/>
                </a:solidFill>
                <a:latin typeface="Bodoni MT"/>
              </a:rPr>
              <a:t>льное</a:t>
            </a:r>
            <a:r>
              <a:rPr b="1" lang="ru-RU" sz="4000" spc="-1" strike="noStrike">
                <a:solidFill>
                  <a:srgbClr val="a25100"/>
                </a:solidFill>
                <a:latin typeface="Bodoni MT"/>
              </a:rPr>
              <a:t> </a:t>
            </a:r>
            <a:r>
              <a:rPr b="1" lang="ru-RU" sz="4000" spc="-1" strike="noStrike">
                <a:solidFill>
                  <a:srgbClr val="2850a0"/>
                </a:solidFill>
                <a:latin typeface="Bodoni MT"/>
              </a:rPr>
              <a:t>слово</a:t>
            </a:r>
            <a:r>
              <a:rPr b="1" lang="ru-RU" sz="4000" spc="-1" strike="noStrike">
                <a:solidFill>
                  <a:srgbClr val="a25100"/>
                </a:solidFill>
                <a:latin typeface="Bodoni MT"/>
              </a:rPr>
              <a:t> уч</a:t>
            </a:r>
            <a:r>
              <a:rPr b="1" lang="ru-RU" sz="4000" spc="-1" strike="noStrike">
                <a:solidFill>
                  <a:srgbClr val="ffff6d"/>
                </a:solidFill>
                <a:latin typeface="Bodoni MT"/>
              </a:rPr>
              <a:t>ителя </a:t>
            </a:r>
            <a:r>
              <a:rPr b="1" lang="ru-RU" sz="4000" spc="-1" strike="noStrike">
                <a:solidFill>
                  <a:srgbClr val="a25100"/>
                </a:solidFill>
                <a:latin typeface="Bodoni MT"/>
              </a:rPr>
              <a:t>: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 rot="21421800">
            <a:off x="380520" y="1370880"/>
            <a:ext cx="8229600" cy="4419720"/>
          </a:xfrm>
          <a:prstGeom prst="rect">
            <a:avLst/>
          </a:prstGeom>
          <a:noFill/>
          <a:ln w="9360">
            <a:solidFill>
              <a:srgbClr val="a251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Мы с вами подошли к заключению в изучении индивидуального развития всех живых организмов, в том числе человека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   </a:t>
            </a: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На протяжении всего времени, развитие зародышевого организма проходит через плаценту материнского организма и постоянно зависит от условий окружающей среды, состояния здоровья матери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Природа запрограммировала жизнь человека на абсолютно трезвое существование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   </a:t>
            </a: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Отклонение от этого закона чревато серьезными последствиями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   </a:t>
            </a: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Природа не включила алкоголь в обменные процессы человека а значит и не создала естественных противоядий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   </a:t>
            </a: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Поэтому нам сегодня предстоит разобраться каким может оказаться влияние спиртов на развитие организма в целом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9" dur="30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1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1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3000"/>
                                        <p:tgtEl>
                                          <p:spTgt spid="1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1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1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1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0" fill="hold"/>
                                        <p:tgtEl>
                                          <p:spTgt spid="1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0" fill="hold"/>
                                        <p:tgtEl>
                                          <p:spTgt spid="14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3000" fill="hold"/>
                                        <p:tgtEl>
                                          <p:spTgt spid="14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000" fill="hold"/>
                                        <p:tgtEl>
                                          <p:spTgt spid="14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3" name="Picture 8" descr="j0299125"/>
          <p:cNvPicPr/>
          <p:nvPr/>
        </p:nvPicPr>
        <p:blipFill>
          <a:blip r:embed="rId1"/>
          <a:stretch/>
        </p:blipFill>
        <p:spPr>
          <a:xfrm rot="21087000">
            <a:off x="7009920" y="1905120"/>
            <a:ext cx="1676520" cy="4647960"/>
          </a:xfrm>
          <a:prstGeom prst="rect">
            <a:avLst/>
          </a:prstGeom>
          <a:ln w="0">
            <a:noFill/>
          </a:ln>
        </p:spPr>
      </p:pic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b009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Tahoma"/>
              </a:rPr>
              <a:t>Сло</a:t>
            </a:r>
            <a:r>
              <a:rPr b="0" lang="ru-RU" sz="4400" spc="-1" strike="noStrike">
                <a:solidFill>
                  <a:srgbClr val="9999ff"/>
                </a:solidFill>
                <a:latin typeface="Tahoma"/>
              </a:rPr>
              <a:t>во учителя</a:t>
            </a:r>
            <a:r>
              <a:rPr b="0" lang="ru-RU" sz="4400" spc="-1" strike="noStrike">
                <a:solidFill>
                  <a:srgbClr val="cdd7d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80000"/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«Ребята, вы уже знакомы с понятиями спиртов. В соответствии с современными воззрениями, этанол относится к веществам, не содержащимся в человеческом организме, но влияющим на его жизнедеятельность. Как называются такие вещества?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80000"/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66"/>
                </a:solidFill>
                <a:uFillTx/>
                <a:latin typeface="Tahoma"/>
              </a:rPr>
              <a:t>Ответ учащихся: «Ксенобиотики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80000"/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6600cc"/>
                </a:solidFill>
                <a:latin typeface="Tahoma"/>
              </a:rPr>
              <a:t>«Будучи лекарственными средствами – влияют на наше самочувствие, воздействуют на биохимические процессы в организме. Но при этом их относят и к ядам – веществам, нарушающим естественные биологические процессы, вызывая нарушения в работе организма или смерть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30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0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" dur="30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5" dur="20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3000" fill="hold"/>
                                        <p:tgtEl>
                                          <p:spTgt spid="1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000" fill="hold"/>
                                        <p:tgtEl>
                                          <p:spTgt spid="1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3000"/>
                                        <p:tgtEl>
                                          <p:spTgt spid="1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6" dur="1500" autoRev="1" fill="hold"/>
                                        <p:tgtEl>
                                          <p:spTgt spid="1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ff"/>
                                      </p:to>
                                    </p:animClr>
                                    <p:animClr clrSpc="rgb">
                                      <p:cBhvr>
                                        <p:cTn id="267" dur="1500" autoRev="1" fill="hold"/>
                                        <p:tgtEl>
                                          <p:spTgt spid="1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ff"/>
                                      </p:to>
                                    </p:animClr>
                                    <p:set>
                                      <p:cBhvr>
                                        <p:cTn id="268" dur="1500" autoRev="1" fill="hold"/>
                                        <p:tgtEl>
                                          <p:spTgt spid="1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2000"/>
                                        <p:tgtEl>
                                          <p:spTgt spid="1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7" dur="5000" fill="hold"/>
                                        <p:tgtEl>
                                          <p:spTgt spid="14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1" dur="200" fill="hold"/>
                                        <p:tgtEl>
                                          <p:spTgt spid="1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399"/>
                                      </p:to>
                                    </p:animClr>
                                    <p:animClr clrSpc="rgb">
                                      <p:cBhvr>
                                        <p:cTn id="282" dur="200" fill="hold"/>
                                        <p:tgtEl>
                                          <p:spTgt spid="1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399"/>
                                      </p:to>
                                    </p:animClr>
                                    <p:set>
                                      <p:cBhvr>
                                        <p:cTn id="283" dur="200" fill="hold"/>
                                        <p:tgtEl>
                                          <p:spTgt spid="1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8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5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86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7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0" fill="hold"/>
                                        <p:tgtEl>
                                          <p:spTgt spid="1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0" fill="hold"/>
                                        <p:tgtEl>
                                          <p:spTgt spid="1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8" dur="1500" autoRev="1" fill="hold"/>
                                        <p:tgtEl>
                                          <p:spTgt spid="1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99" dur="1500" autoRev="1" fill="hold"/>
                                        <p:tgtEl>
                                          <p:spTgt spid="1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00" dur="1500" autoRev="1" fill="hold"/>
                                        <p:tgtEl>
                                          <p:spTgt spid="1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04" dur="2000" fill="hold"/>
                                        <p:tgtEl>
                                          <p:spTgt spid="1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05" dur="2000" fill="hold"/>
                                        <p:tgtEl>
                                          <p:spTgt spid="1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06" dur="2000" fill="hold"/>
                                        <p:tgtEl>
                                          <p:spTgt spid="1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07" dur="2000" fill="hold"/>
                                        <p:tgtEl>
                                          <p:spTgt spid="1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«Тератогенное воздействие алкоголя многократно подтверждалось и экспериментаторами. Так, французские исследователи наблюдали весьма впечатляющий случай. В одном сарае под полом которого находилось помещение для перегонки спирта, было помещено 160 яиц для искусственного выведения цыплят. Так вот, из половины яиц цыплят не получилось вовсе; из оставшейся половины 40 вылупившихся цыплят вскоре погибли, а 25 были физические уродства: раздвоение или отсутствие костей, деформация клюва и др. и все это – только под воздействием паров алкогол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Поэтому цель нашего сегодняшнего урока – обобщив полученные на уроках химии и биологии знания выяснить причины токсичности этилового спирта, рассмотреть механизм действия этилового спирта на клетки, органы и системы организма человека»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66"/>
                </a:solidFill>
                <a:latin typeface="Tahoma"/>
              </a:rPr>
              <a:t>Демонстрация слайд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770"/>
                                        <p:tgtEl>
                                          <p:spTgt spid="1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1" dur="770" fill="hold"/>
                                        <p:tgtEl>
                                          <p:spTgt spid="1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3" dur="770" fill="hold"/>
                                        <p:tgtEl>
                                          <p:spTgt spid="1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5" dur="770" fill="hold"/>
                                        <p:tgtEl>
                                          <p:spTgt spid="1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09-11-24T19:01:55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