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0.wmf" ContentType="image/x-wmf"/>
  <Override PartName="/ppt/media/image2.png" ContentType="image/png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3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type.wav" ContentType="audio/x-wav"/>
  <Override PartName="/ppt/media/image6.gif" ContentType="image/gif"/>
  <Override PartName="/ppt/media/image17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 type="ftr" idx="7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3E2B-14FD-4ACE-A93B-96AFF470E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C4E4-84AF-4BA2-9A6B-9DEBC899FF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8C9A-2326-4266-A6E8-D084D35875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126-66B2-46C2-9D7B-CE198F26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239-9451-47A6-9A3C-AA6B2256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5A7B3-98FC-4FB9-BE7C-A7382469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C77FF-B8DC-4734-9BE4-2BD4E93D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B7218-6E11-4CA9-88A6-6968AE9B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A3A41-A217-4D0E-AD3D-9C8A9935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D2679-E797-4EB0-8A2A-996D59C0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BD7D2-AFE8-4BE4-A958-1EECCFA6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97E0B-3DA9-4803-8C10-CECC046E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581A5-4A98-485B-B3C0-27ECA310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6DCD3-1D41-4710-A57E-EF6AFDA8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A4AE2-6C11-49D5-A931-151D0FDA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865-DB37-48D7-AABF-7C1AC99A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B0493-3EEB-4F57-B07C-E8A16BA5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9494A-A3C6-48A9-80E4-9BA0A742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9F788-6484-4A51-9434-88801D23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0DA74-4081-4A4E-AB36-D4D1A772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DF527-DF2E-4605-B3B1-41CA396B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ADC33-5BFF-48D8-B38F-9013CE01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69954-C992-4F44-A2FB-A4AB28DC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5C82D-FF4E-43BB-B88F-915A6B10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C15A5-7B96-405C-943B-4324859A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680DB-1E1F-4952-8AC5-29416CEC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D303-4090-480B-BFBD-29D135F6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5A567-53BF-47C2-A0EF-B5405E82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36225-D402-46BC-A5C7-131EE7AF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C80B3-746F-48D7-B986-A9FA2489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ED9C7-2A87-40E2-B65E-73198535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935B2-03BA-41C9-A234-DC71AC1F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532C0-2E9B-4D82-B41A-3D406D44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76CBD-9F04-4C07-AC10-39867B08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E97F9-89E5-4562-A2F1-BE6BD42B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F2F40-2398-437C-BA68-2AD6AA6F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AA99F-2FFA-4F4F-9A36-73BFD5C3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F8E8-5041-4DCA-851B-597554F7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7B58E-25FC-42A2-AD5B-088C8B8F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B6B9B-86FB-47C1-9E64-455EBBB7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DA75D-9FA3-4B0E-A40A-A8F55D16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C4DE8-4B2F-4025-9F7E-59E09174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2942A-81C4-4FBF-84FC-84465439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3EE25-EBCD-4B75-B74F-5595325F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C71D5-9723-4E27-8746-4580F580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9A416-D259-4205-88BB-9081631C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1237B-3C05-42A3-8950-FCDF9638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A043B-1B07-432C-88E9-98EEC441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E0CE-255D-4839-B2E9-6F30CDBC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74C8A-1580-4CA7-808C-214E533D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28D65-139A-46C5-A02F-C5FBB3C4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86B39-F958-41C1-8B31-C5D8DE99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B761D-B07A-4C42-9C85-8A4AD1EB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AC968-2DBE-4250-90CD-3DF0F125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03318-1C5F-414F-8626-991945D0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E960F-5A4E-4E75-B0EF-9716831E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2931D-2838-4D1D-8452-D3D8FD6E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0DB22-B63E-4412-899A-7EAE9CFF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8DE083-1216-487C-A2D5-64D822B2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4F4A-313E-4F64-8C3A-7F826A6E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D412F-C0A0-45C6-BA79-E15D268E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778D7-67DE-4051-A0FC-9876A8A4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654CB-1F6B-43D3-AE95-8C46F8E5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14DFF-02A0-4250-864C-892E3575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40584-B9B9-4005-A115-ED194935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FD0635-0BDD-43C1-B5C5-11A18268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5546B6-7974-4D53-A3EE-3ECC1949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B48C9-B5B5-4558-B6A9-2DDAC3A4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51E03-A77F-4814-9213-4CD4C255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6B016-47E0-4190-A7A7-85C82FC8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8B8D-A24C-4088-8A1F-B412E7D1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8A6F92-DC52-446D-8AC0-78DEE7DF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D04270-EF70-4E06-B663-0E361DD9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AABB2E-39F1-4D29-A868-15E77885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451BC0-34C7-4AB1-A3D0-34A79D07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D71872-7733-4744-931E-AF1B66B0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32F565-ED8E-49E4-959C-BB3BA7A0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65ACC4-BF60-4E5A-8081-FE6E53C5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DEE650-BC51-4CE7-B29F-19650493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CFA4EE-50FB-4B6A-8A77-97C99376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F4897-750F-42CE-A32E-E508834D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E798-4E52-4AFB-A1BE-5ABC23AB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487D8A-9B0A-4CDF-9050-A2B81909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25D54-9167-4AD5-B253-57FA651A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1799BB-2298-4598-91AC-2D75339A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87197-F0D0-4618-A106-43ABCC25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6BB40-FA02-432D-BC16-FC1EEAE0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3234E5-2531-4319-BE36-514964C5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02E635-57AA-46E3-9A3B-17C4A3AB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7FA083-512E-4E34-9FEE-3281D600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55CA05-2A8E-47C3-BD71-05233492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8A265D-3FD0-4296-AF28-A202496D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84B5-DC41-4848-81FA-67667D4A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40E462-E17E-4FFA-85A1-D1AC1461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273AA3-38A8-4089-88EE-CBFAE8AB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A7E533-DEC7-4330-9D15-84D8DCD1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9E53B2-EF70-43C3-B8A2-A88A2A30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35A08C-A9F5-45D1-8709-ECD453CD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D1556E-3288-47EF-86EC-6A578335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4EFB22-7BA8-4EFB-9C43-0747DBE1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131D0F-2319-45C7-AB47-C230CFCA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3D165B-7E5E-4EDD-8B6C-1F4F5916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EEB0E2-E964-460B-9F42-3D5ED743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B073-0391-43F4-9D3A-8D631E5F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A834F-331B-4042-949C-83D4F3A9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60A6B5-E9D3-47AB-80D8-A79E7395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1F877C-1B11-4EE5-8E5B-7E6321E3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C61FA4-535F-4828-9141-A25A7C1C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9586B9-D6D3-4BDE-9683-D620CAC6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C20547-88D9-4FF6-8C42-457A9940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CA5C5-4DC7-44E0-80A3-B068739A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154FE-708D-45B4-A389-B35155D5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B67424-178F-4AF7-ACDD-09D84C54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B40CDE-F4B0-4F83-8CAE-4424CF82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E89-0CB8-455B-BC0B-29C6DA50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8D8E-B3BA-4979-BAE9-1D8A428E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3CEABC-1DC3-4D67-8118-F33EA3C8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047319-D900-47E1-AC2C-B2071E34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021B2D-DA63-4972-8229-A41A7D1C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740A62-995D-4FB8-B855-77B464C0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AE9383-14F5-4C78-B4BD-53FAAEE9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903EC5-E73C-4738-89DE-E481C9E7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A82BAC-83D7-4157-8AF1-11ABB453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707540-BF88-4C51-9E57-62C45D28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B0F6D8-4528-4487-A06A-EF75D85D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8B68F2-C563-43BF-98F1-BF29A4FC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FE20-ADFD-4F8C-80BB-B639DF17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377284-2492-4B18-A3A3-9F1DD13A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32AEA0-0167-4975-86C6-D47461C4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6165AA-5B1E-4687-A32A-91F2CC70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EFC603-3737-46D6-B15A-BC7B38BA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26F9FB-D108-44D4-83A1-43EB3B1B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3E86FE-A665-4973-8545-62CC1617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B88A53-7323-4738-B780-C272B755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56B6F0-60A8-4B78-9618-08D1CC4D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2995FC-D0D9-4E6B-BF45-A17A623D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5B186D-81D9-43F6-84BC-EEE6BEBF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B093-BCDF-4914-81C2-67A405D6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C4D704-BF4F-49DE-8E63-1B7C58DB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FE6C12-E0EF-44D2-B10B-231EED1E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5D9AAD-ED22-44AB-9677-960BD980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606729-888D-4A1E-9C76-1DE19262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AF8805-47DC-4FEC-A462-387AA998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8C2833-52E7-43EC-83AA-F6DA661F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65A8DF-F225-4783-987A-5C15796B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882A58-E5FC-4F0C-B070-24E4B6C0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4DF737-7F3B-41B6-85E7-1258D900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4175FB-3AE7-438D-B51E-F7B1B25D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6FE5-A7CF-4E01-8BF0-757CAC1A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0A7B43-94FD-4B33-AD83-7A4BF465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488092-229B-44AF-8FE5-66AC7A37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092044-3359-4B80-8A8C-254C4E59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8692D3-9042-4DB5-AD29-88AABCD9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611DF9-9607-4B0E-9964-14C1D926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4FB936-2AEA-4532-AEAE-36D800AF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265E53-52A7-4179-8580-122C0324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40F71F-6CEB-472E-8511-9D6D0DB5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258168-EC1F-471C-88E9-2351B978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5E9977-630F-49BB-9CB0-2A6EDC5B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CB14-867F-49E7-8B1C-AB297D5C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ED9854-B676-492D-AC89-A26BEEBA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F9437E-C781-49B8-960C-39AD07A1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10298D-EEE3-467B-A342-3D5C4D0E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A58446-9531-40C0-92DE-A24FFFF6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F7E111-0896-4AA0-9D5D-78A488FF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792F04-BB66-44E7-88E1-9E364C13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C8EBD3-F6D4-443D-B749-D2768D0F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8E6C30-1C0E-48AA-B78C-AAC93711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FF435A-A777-4661-8ADF-393BD99A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6E332E-CC64-4807-8739-80E5833C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0F8BB-5D67-4E80-A769-5F1591E3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0A32D4-6C93-4052-8E3B-312F9489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0B43A9-D732-41C2-94DB-E1D8153F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BADA6D-A2B3-4D0D-A961-2B955A5B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B7ED10-9EF7-474D-9D78-769B1B89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FBB568-17B3-4B4A-9D56-2C8ECE41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40B6D7-ABA7-4B14-B715-25C7D458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A38C1F-E10A-4207-8625-D0467838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F65380-7BE1-4222-8AFA-4755055F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A02479-725E-4A46-84CB-9522C84D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C268EA-9ECC-4B65-851D-DF49C2E0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87DB8-0060-4DB5-9715-CEB2A692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A1EE6C-86C0-4483-8711-A82ECF0D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B5EA69-80BC-4E02-A414-376CBCC1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2B3AC7-81A8-4238-B1BE-4252B6F9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D35B9F-CE11-4001-8BC6-A1B776CC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2BEBD9-7D22-4A3C-BC6F-B3E92373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CB1237-D8EA-465E-8591-70130C0F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1187E6-EDDC-45E6-9F28-21550D90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D2ADE7-4F43-411E-93D9-7FA28715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3ED770-F312-4431-A492-6A59D988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E62F62-DFF7-4EA6-90C6-19DF5622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CB644-0B52-43D5-A770-B5F8F699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81EBB5-BE7A-41D8-9C3C-8F070329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C099D0-EE7C-48CF-9DDB-56C1C6F1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FA37B0-39B2-4B73-8340-F387E48F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6AFE00-FC09-4C4D-9CAA-8A50F70E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ADD512-78F8-4446-B53A-7B283D7B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1A083D-7585-4485-B946-54C4DA0B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19DDF4-2F48-452E-A257-D2CABDE1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4E3C2C-C826-42C7-836F-0C4FAF2D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4E624B-3308-4C4D-9877-A025D237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C0FB3E-632A-4ECA-A019-DC8BD0B9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5EACA-7EB5-4A5C-87D9-0C658946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D59B99-FD38-4081-9980-0FDEFE5C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57DF72-785C-49B7-AF52-B017233E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11EF6E-50F2-411A-B61C-8BDC3403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C10E5D-362B-4E8D-931D-292A96B5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3D599E-FEE0-4E08-8176-4367CD7B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CFB9B4-1B30-4654-939F-6AEF2296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9B9745-CAE2-413B-9970-801F731D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B1EA98-299F-45D0-A229-0A1F32DC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432457-5B70-4DEA-9AFE-2C4A5134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6478AF-6222-4B99-AF7A-D0CDB8EB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721E8-92D0-4668-A2C2-A5328DDB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FC677A-0EA0-4ABA-9B6D-552C1CE1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48A38C-DDDB-42D5-82F8-F5328A69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5E10DA-6698-4E35-B8AE-475EBA5D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5D06D4-140D-4A83-AED8-A5D5AF6E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2C1B79-A73F-486F-97CA-57F760B8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A13263-84DF-4616-B059-AC2C1EDE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231C10-7B9D-4CFD-9419-D241217A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FFE0D3-9259-4800-BF19-ED760F5B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8EB09C-7471-4CE2-AC0B-EC4C1D01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F8623A-0100-46FE-895E-D93A3B4C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A01A-6FC5-45E3-A781-89E1DD7D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5C4F9-E835-4EAB-9C57-07B06EBA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C78A5A-936F-4063-8B1B-BE046722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5FDB-68B0-4759-A16E-D5BD01BF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39574-799A-431C-834F-0D2CDC66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860A0-389F-4F9B-A36B-0871E406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28944-C238-4EA3-A003-7B846FD3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DBE09-0480-46F6-9654-09F58F5E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49969-E1C3-46A0-8BBF-9A9B9794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B4F66-F37D-4DA4-A54B-9D15DF3B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E31C6-B893-4A88-BF04-ECF00C2D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1138E-0487-40A8-B0F2-0C141726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FED-77BB-43BE-AE90-375EB4D0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74D17-A2AF-4806-9646-A4AE5CFE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6B9F1-E685-4D15-BA7F-D24FD35A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EF054-9695-47BF-B159-8C60CBA9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62580-6562-4E31-91B5-8EDD7FC2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96B13-E011-48C6-812C-36047E67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6E21B-1D30-4DEE-921A-0FC2C733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9522A-6AF2-48E7-9BD0-59141446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BA94A-C24A-4E06-8F3D-3746D7EA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4F007-2429-4ECB-8326-4897D5E1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725D8-4EDE-44B8-A052-AE073846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85C-FF35-48D6-8886-252EFB04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B8AE7-2154-4069-BD18-A48D5054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0EF85-72D6-4A9A-AF10-60C60FC3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ABBED-1D39-42D7-92DD-B1A24071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572FA-2082-4986-8057-BD89748B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795EA-6069-4575-B690-2C473E5A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F4260-9DB3-4FA5-84B7-3021C0D8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405E4-CDE1-4DEA-980C-BDF6BD07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F953B-82B5-49F1-8B40-1F0C4D77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46420-4D66-425E-8583-ABDE9A5D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E6CCA-AA43-49EC-A784-0DE2D0FF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E1C-6922-4AD2-872A-356CC933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F422E-9D4D-403E-B927-600B470C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BCAD33-5EEE-4962-833B-23E3DFE8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7593DB-1879-41A4-A701-FA9F08B3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54F0BB-B489-4961-B99A-C6A58DEA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1ABCE-DBDF-4231-B0D0-E2C63804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9396D9-434B-4C61-903B-4BBCBBE8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FF8F26-81D6-4E9C-876A-5716B13F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981476-8940-4031-9C5F-6CD49B94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66F1E6-2A0F-49FD-82E0-BDF934BA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79FA9-1370-4572-9161-8E93DE2C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086-BE22-45FB-A1EB-72BCF1A5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82ED7A-E16F-49E1-8BAC-97D8BA59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6D7B40-72BA-40A6-BC9C-790CEC14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151D6-E9E2-43A0-BFBC-F698FF89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22DF1-C522-467D-9EAD-425F97F6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5277C-57B0-4968-B81F-3B63A35B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518FC-DB09-4B75-93DB-29A931BD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962C3-9E55-446A-AA2B-652463EB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BD67D-E9A8-4FCE-B59F-FF98B0DD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39FA5-79D7-46FA-9AC3-A17C695C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E3214-48AB-4BA7-9DC5-A74CC603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ABEE-EE11-462B-88ED-E61B313E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B1D42-449E-4637-B9DC-9DF714A9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886D1-DC87-478F-A857-F35F2425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8E3A9-C399-4F74-AA3C-738310F3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0813C-F4F4-4634-932F-9F4A83A8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61FB6-5FCD-45E3-A75C-2BC955D1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9ADEE-4A27-4AA6-96B8-4078DDB6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3B46C-C7DB-4249-B109-C972B7F2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DA35E-38E7-4EAC-A719-5335A004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8A150-01EA-4CD8-AE69-04D8AB7E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46203-9805-4CBD-B3ED-B8D2BB13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6EB-EED2-4AB8-AB36-713E3160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341E7-5BA9-4696-B6CD-590BB30A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3359A-3253-4730-A636-E5A54899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68EB1-DE87-4BB6-B5F6-32BFE635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51CD8-B9F1-459E-9D90-54A175FD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A0B4E-C93B-4571-A7D0-0841437A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C77A3-9A93-4D45-8529-1E9C51AD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0EEA5-D13A-4454-A0DE-30CA08F9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F4C53-1C6B-4BF4-82F3-D202F161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572DF-E213-4A3F-91A3-830079D6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0EC1A-C324-43E4-8E1B-345EECB4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044F-876C-4FFA-8CB2-A7B57435C24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8712-2DAB-48B7-B62B-98D4F555A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1BA9-B87C-4D0C-A004-7969E48F689B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6974-2FA0-4AFA-923B-6BA569D9E3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04DE-7AB0-4B32-B879-4595F23DB95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AB06-C7A8-4C26-BE2B-6E0C8DC166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CBFF-4880-413F-A209-5BD68BCF8B9A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891C-B3C3-4D78-88F8-929ADB8459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06A7-2141-425D-8843-5226C0D4E061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9222-D719-4BCA-A2E9-0078B5A1A5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4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0AB8-0485-4F91-BB55-D8E27F578949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4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4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903F-21C8-4B06-ACE1-ABDE6C9F1F9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0516-945A-4239-9BB2-633400BBDF3F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5705-9305-426A-8CC0-AC46C933D6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0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2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23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AAFC-F14B-463B-B5C9-B0CDAA398275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13E8-1DE1-4F8A-9C2C-F0E8CFE7F6D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9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BAC0-E6A0-4664-967B-148DA56F3E26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43E0-181D-402D-904A-6031D50E7E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936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940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3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6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7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17FF-F1E2-4602-8299-E23294B3B614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0C65-A83B-4B75-81D8-053AFEB3679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4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15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8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BE37-AB7C-45CC-A7EB-CE1F633385F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CDC9-E600-46F0-BF71-D440D50D9A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07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20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D0CE-6656-495E-959E-7FD010CEEDED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F577-077F-456B-997D-6A366C8B119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071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072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4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7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78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5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427F-C62D-45C8-B58B-8FD783428503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5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6F50-29BF-440C-99EF-EEFC04CD66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126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 type="dt" idx="6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462A-6A53-44BB-922F-8D5A8378529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 type="ftr" idx="6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 type="sldNum" idx="6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DB73-409D-4649-AE68-E0F9FAE24D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74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2656-6375-4CBD-9FA2-784365092D1A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E814-837F-4215-9999-CAED46B007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50C5-B050-4E5E-BC0E-4288FD943820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70FC-38CE-4BB2-A209-2685AA94F4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27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27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7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6D78-BFAD-4470-84C0-31DB4550038F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7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7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BC73-EA3F-49C3-BE02-1352D6F0C3D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20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AEF4-45C8-4265-9785-75393F172A33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EB5B-D9AE-45EF-8ADB-401ACD2072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7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9CE7-90CC-4F51-B7B7-E4EB3DD4599B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3530-8A43-48B7-BEF1-D73740A327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3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FF39-003B-4733-BFFB-427DCE3461EB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A4A5-32D1-4836-B32D-D3C52458BD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8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8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1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FAD1-0543-48C7-85F7-EB09FB453991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4513-3D1E-4C13-B8A0-E6DE69CE271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C447-09CF-4309-B837-D7963E3290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65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8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7F4B-9737-43A9-A87C-ED63EB14FC9C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16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95B1-57EB-410D-882C-FAFCB8598E0B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C0E6-094A-47D8-B6F1-BBA0CCBC9CC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0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B793-EA7F-43DC-B92A-43946EA59907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F7B6-19D2-4EF2-A4E2-9378782E7E6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0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9AC3-E0B7-4696-BA41-B45A02BC3D4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349C-410C-46A0-9437-0D9CE42C1F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6858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00"/>
                </a:solidFill>
                <a:latin typeface="Tahoma"/>
              </a:rPr>
              <a:t>Интегрированный урок</a:t>
            </a:r>
            <a:endParaRPr b="0" lang="en-US" sz="4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941400" y="3944880"/>
            <a:ext cx="72612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66"/>
                </a:solidFill>
                <a:uFillTx/>
                <a:latin typeface="Castellar"/>
              </a:rPr>
              <a:t>химия и би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astellar"/>
              </a:rPr>
              <a:t>10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6" name="Rectangle 15"/>
          <p:cNvSpPr/>
          <p:nvPr/>
        </p:nvSpPr>
        <p:spPr>
          <a:xfrm>
            <a:off x="371880" y="305280"/>
            <a:ext cx="4044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Алиуллова Рамзия Адизянов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Аналитики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Группе аналитиков по предлагаемой схеме «Строение человеческого организма», необходимо проследить процесс всасывания этилового спирта в кровь (см. приложение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опрос учителя биологии: «Люди в состоянии похмелья испытывают утренние головные боли. С чем это связано?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(Выведение погибших нервных клеток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0" name="Picture 7" descr="j0240719"/>
          <p:cNvPicPr/>
          <p:nvPr/>
        </p:nvPicPr>
        <p:blipFill>
          <a:blip r:embed="rId1"/>
          <a:stretch/>
        </p:blipFill>
        <p:spPr>
          <a:xfrm>
            <a:off x="6934320" y="3200400"/>
            <a:ext cx="144756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c0000"/>
                                      </p:to>
                                    </p:animClr>
                                    <p:animClr clrSpc="rgb">
                                      <p:cBhvr>
                                        <p:cTn id="3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c0000"/>
                                      </p:to>
                                    </p:animClr>
                                    <p:set>
                                      <p:cBhvr>
                                        <p:cTn id="334" dur="3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Исследовател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035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120000"/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Группа исследователей по инструктивной карте проводит эксперимент по выявлению причины нарушения исчезновения барьера для спирта при поступлении его в клетки головного моз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4035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120000"/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Приливают в пробирки с жиром небольшое количество этилового спирта, исследуют что произошло и отвечают на вопрос инструктивной карты: «</a:t>
            </a: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? </a:t>
            </a: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Почему молекулы этилового спирта беспрепятственно преодолевают биологические </a:t>
            </a: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мембраны».</a:t>
            </a: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Эксперт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Группе экспертов предлагается по рисункам, фотографиям подготовить сообщение о губительном воздействии этанола на органы пищеварения, дыхания, выделения, сердечно-сосудистую и нервную систем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Делают вывод о влиянии алкоголя на органы и системы орган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 txBox="1"/>
          <p:nvPr/>
        </p:nvSpPr>
        <p:spPr>
          <a:xfrm>
            <a:off x="731880" y="1189080"/>
            <a:ext cx="4097880" cy="59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00"/>
                </a:solidFill>
                <a:latin typeface="Tahoma"/>
              </a:rPr>
              <a:t>Т</a:t>
            </a:r>
            <a:r>
              <a:rPr b="0" i="1" lang="ru-RU" sz="4400" spc="-1" strike="noStrike">
                <a:solidFill>
                  <a:srgbClr val="ffff00"/>
                </a:solidFill>
                <a:latin typeface="Tahoma"/>
              </a:rPr>
              <a:t>еоретики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3775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Группе теоретиков по опорным конспектам необходимо решить проблемный вопрос: «Почему люди, употребляющие много алкоголя, чаще болеют инфекционными заболеваниями, тяжелее переносят операции». Как вы можете это объяснить?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?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 «Почему врачи называют печень </a:t>
            </a:r>
            <a:r>
              <a:rPr b="0" lang="ru-RU" sz="2000" spc="-1" strike="noStrike" u="sng">
                <a:solidFill>
                  <a:srgbClr val="ffff66"/>
                </a:solidFill>
                <a:uFillTx/>
                <a:latin typeface="Tahoma"/>
              </a:rPr>
              <a:t>«мишенью для алкоголя»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Запишите на доске этапы </a:t>
            </a: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химического окисления этилового спирт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9" name="Picture 7" descr="j0293844"/>
          <p:cNvPicPr/>
          <p:nvPr/>
        </p:nvPicPr>
        <p:blipFill>
          <a:blip r:embed="rId1"/>
          <a:stretch/>
        </p:blipFill>
        <p:spPr>
          <a:xfrm rot="21232200">
            <a:off x="4645080" y="4601880"/>
            <a:ext cx="3352680" cy="1752480"/>
          </a:xfrm>
          <a:prstGeom prst="rect">
            <a:avLst/>
          </a:prstGeom>
          <a:ln w="0">
            <a:noFill/>
          </a:ln>
        </p:spPr>
      </p:pic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756320" y="533160"/>
            <a:ext cx="377496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После этого каждая группа выступает с результатами своего исследования по схеме: цель – выводы -аргумен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Учащиеся, отвечая на вопрос, особое внимание уделяют причине ослабления иммунной систем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9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2000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3000"/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4" dur="3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2000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" dur="2000"/>
                                        <p:tgtEl>
                                          <p:spTgt spid="1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1" name="Picture 8" descr="j0300840"/>
          <p:cNvPicPr/>
          <p:nvPr/>
        </p:nvPicPr>
        <p:blipFill>
          <a:blip r:embed="rId1"/>
          <a:stretch/>
        </p:blipFill>
        <p:spPr>
          <a:xfrm>
            <a:off x="0" y="3164040"/>
            <a:ext cx="3657600" cy="3313080"/>
          </a:xfrm>
          <a:prstGeom prst="rect">
            <a:avLst/>
          </a:prstGeom>
          <a:ln w="0">
            <a:noFill/>
          </a:ln>
        </p:spPr>
      </p:pic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Аналит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66"/>
                </a:solidFill>
                <a:latin typeface="Tahoma"/>
              </a:rPr>
              <a:t>Группе аналитиков по схеме (см. приложение) предлагается выявить причины более быстрого по сравнению с молекулами воды и глюкозы проникновения молекул спирта через биологические мембраны в кровь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3581280" y="327636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Причинами проникновения являются:</a:t>
            </a:r>
            <a:r>
              <a:rPr b="0" lang="ru-RU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- малый радиус молекул спир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- слабая поляризац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- хорошая растворимость в жир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- хорошая растворимость в воде за счет образования водородных связей с </a:t>
            </a: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молекулами в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0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2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3000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animClr clrSpc="rgb">
                                      <p:cBhvr>
                                        <p:cTn id="45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56" dur="3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1000"/>
                                        <p:tgtEl>
                                          <p:spTgt spid="1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1000"/>
                                        <p:tgtEl>
                                          <p:spTgt spid="1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1000"/>
                                        <p:tgtEl>
                                          <p:spTgt spid="1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1000"/>
                                        <p:tgtEl>
                                          <p:spTgt spid="1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1000"/>
                                        <p:tgtEl>
                                          <p:spTgt spid="1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Castellar"/>
              </a:rPr>
              <a:t>Биологическая мембра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26" name="Object 4"/>
          <p:cNvGraphicFramePr/>
          <p:nvPr/>
        </p:nvGraphicFramePr>
        <p:xfrm>
          <a:off x="457200" y="1143000"/>
          <a:ext cx="830592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3059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2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6" dur="1000" autoRev="1" fill="hold"/>
                                        <p:tgtEl>
                                          <p:spTgt spid="1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Arial"/>
              </a:rPr>
              <a:t>Исследовател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4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Viner Hand ITC"/>
              </a:rPr>
              <a:t>Группа исследова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Viner Hand ITC"/>
              </a:rPr>
              <a:t>должна выявить последст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Viner Hand ITC"/>
              </a:rPr>
              <a:t>воздействия кислоты, спи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Viner Hand ITC"/>
              </a:rPr>
              <a:t>и воды на белок и фермен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Viner Hand ITC"/>
              </a:rPr>
              <a:t>находящиеся в клет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571640" y="1143000"/>
            <a:ext cx="3884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 3 пробирки с яичным белком добавляю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150000"/>
              <a:buFont typeface="Vivaldi"/>
              <a:buChar char="M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5 мл. 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150000"/>
              <a:buFont typeface="Vivaldi"/>
              <a:buChar char="M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5 мл. этано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150000"/>
              <a:buFont typeface="Vivaldi"/>
              <a:buChar char="M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5 мл. кислоты (азотно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Наблюдают               происходящее явление, поясняют, что происходит с молекулами белков. Как называется этот процес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66"/>
                </a:solidFill>
                <a:uFillTx/>
                <a:latin typeface="Arial"/>
              </a:rPr>
              <a:t>(</a:t>
            </a:r>
            <a:r>
              <a:rPr b="1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!</a:t>
            </a:r>
            <a:r>
              <a:rPr b="0" lang="ru-RU" sz="2000" spc="-1" strike="noStrike" u="sng">
                <a:solidFill>
                  <a:srgbClr val="ffff66"/>
                </a:solidFill>
                <a:uFillTx/>
                <a:latin typeface="Arial"/>
              </a:rPr>
              <a:t> Денатурац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1000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3" dur="1000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8" dur="1000"/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3" dur="1000"/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1000"/>
                                        <p:tgtEl>
                                          <p:spTgt spid="1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3000"/>
                                        <p:tgtEl>
                                          <p:spTgt spid="1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3000"/>
                                        <p:tgtEl>
                                          <p:spTgt spid="1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3000"/>
                                        <p:tgtEl>
                                          <p:spTgt spid="1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8" dur="3000"/>
                                        <p:tgtEl>
                                          <p:spTgt spid="1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3000"/>
                                        <p:tgtEl>
                                          <p:spTgt spid="1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8" dur="3000"/>
                                        <p:tgtEl>
                                          <p:spTgt spid="1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3000"/>
                                        <p:tgtEl>
                                          <p:spTgt spid="1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Экспер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ru-RU" sz="2800" spc="-1" strike="noStrike">
                <a:solidFill>
                  <a:srgbClr val="ffff66"/>
                </a:solidFill>
                <a:latin typeface="Arial Narrow"/>
              </a:rPr>
              <a:t>Группе экспертов предлагается выявить нарушения эмбрионального развития и ответить на вопрос: «Почему именно развивающийся плод оказывается наиболее уязвимым воздействием алкоголя?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2971800" y="373392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iner Hand ITC"/>
              </a:rPr>
              <a:t>По фотографиям и схемам выявляют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iner Hand ITC"/>
              </a:rPr>
              <a:t>изменения в эмбриональном развит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iner Hand ITC"/>
              </a:rPr>
              <a:t>(заячья губа, сращение пальцев рук, изменения формы головы, и т.д.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iner Hand ITC"/>
              </a:rPr>
              <a:t>Активность антиалкогольных ферментов у плода в 10 раз слабее, чем у взрослых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5" dur="500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2000"/>
                                        <p:tgtEl>
                                          <p:spTgt spid="1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1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0" dur="2000"/>
                                        <p:tgtEl>
                                          <p:spTgt spid="1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5" dur="2000"/>
                                        <p:tgtEl>
                                          <p:spTgt spid="1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ffff00"/>
                </a:solidFill>
                <a:latin typeface="Viner Hand ITC"/>
              </a:rPr>
              <a:t>Творческое задани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3962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66"/>
                </a:solidFill>
                <a:latin typeface="Arial"/>
              </a:rPr>
              <a:t>В процессе подготовки к уроку группе учащихся было дано творческое задание подготовить несколько страниц из «дневника неродившегося ребенка» (используя опорные знания об этапах развития эмбриона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Blackadder ITC"/>
              </a:rPr>
              <a:t>Зачитыв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Blackadder ITC"/>
              </a:rPr>
              <a:t>творческое задан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Blackadder ITC"/>
              </a:rPr>
              <a:t>«дневн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Blackadder ITC"/>
              </a:rPr>
              <a:t>неродившего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Blackadder ITC"/>
              </a:rPr>
              <a:t>ребенк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2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300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Теорет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В качест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закреп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групп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теоретик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предлагаетс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заполнить таблиц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Подведение итогов урока.</a:t>
            </a:r>
            <a:r>
              <a:rPr b="1" i="1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Verdana"/>
              </a:rPr>
              <a:t>Рефлекс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9" name=""/>
          <p:cNvGraphicFramePr/>
          <p:nvPr/>
        </p:nvGraphicFramePr>
        <p:xfrm>
          <a:off x="4648320" y="2286000"/>
          <a:ext cx="4038480" cy="43894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Уровень организации живой матер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Проявление токсичных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свойств спир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66"/>
                          </a:solidFill>
                          <a:latin typeface="Tunga"/>
                        </a:rPr>
                        <a:t>Молекулярны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66"/>
                          </a:solidFill>
                          <a:latin typeface="Tunga"/>
                        </a:rPr>
                        <a:t>Клеточный уровен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66"/>
                          </a:solidFill>
                          <a:latin typeface="Tunga"/>
                        </a:rPr>
                        <a:t>Уровень орган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8c0000"/>
                          </a:solidFill>
                          <a:latin typeface="Tunga"/>
                        </a:rPr>
                        <a:t>Системы орган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8c0000"/>
                          </a:solidFill>
                          <a:latin typeface="Tunga"/>
                        </a:rPr>
                        <a:t>Организм в цел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0" name="Rectangle 33"/>
          <p:cNvSpPr/>
          <p:nvPr/>
        </p:nvSpPr>
        <p:spPr>
          <a:xfrm>
            <a:off x="4572000" y="1295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Токсичное воздействие этанола на различные уровни организации живой матер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0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Причины и последствия</a:t>
            </a:r>
            <a:br>
              <a:rPr sz="3600"/>
            </a:b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 токсичного влияния этанола на организм человек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5409720" y="190476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Яд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который действует не сразу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не является менее опас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Восточная мудрость</a:t>
            </a: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9" name="Picture 8" descr="D918797A_5826"/>
          <p:cNvPicPr/>
          <p:nvPr/>
        </p:nvPicPr>
        <p:blipFill>
          <a:blip r:embed="rId1"/>
          <a:stretch/>
        </p:blipFill>
        <p:spPr>
          <a:xfrm>
            <a:off x="0" y="1828800"/>
            <a:ext cx="5334120" cy="5029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" dur="2000" fill="hold"/>
                                        <p:tgtEl>
                                          <p:spTgt spid="1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езентация подготовлена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учителем химии  Алиулловой Р.А.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У «Староишлинская СОШ »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роҗҗановский район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009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Тип урока: обобщающий семинар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560" y="2209680"/>
            <a:ext cx="83055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Идея: </a:t>
            </a: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создать условия для формирования устойчивого интереса учащихся к предметам химии и биологии через использование различных методических приемов и средств обуч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1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Rectangle 1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05A9-87B1-445B-A412-62D47F33BAA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8000" bIns="252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Задачи: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Выявить причины токсичности этилового спир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Рассмотреть механизм действия спирта на клетки органы и системы организма человека, попытаться спрогнозировать последствия гибельного влияния этано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Способствовать на уроке развитию умений: анализировать, сравнивать, </a:t>
            </a: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логически мыслить, обоснованно высказывать свою точку зр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Формировать навыки работы с различными информационными источниками (схемами, таблицами, инструктивными картами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Развивать творческие способности, социальную активность учащихся через установление межпредметных связей химии с биологией, медици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Обеспечить условия для формирования коммуникативных способностей, умений слушать и слышать своих товарищей, воспитание толерантности и ответствен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66"/>
                </a:solidFill>
                <a:latin typeface="Vladimir Script"/>
              </a:rPr>
              <a:t>Цели урока</a:t>
            </a:r>
            <a:r>
              <a:rPr b="1" lang="ru-RU" sz="2300" spc="-1" strike="noStrike">
                <a:solidFill>
                  <a:srgbClr val="ffff66"/>
                </a:solidFill>
                <a:latin typeface="Tahoma"/>
              </a:rPr>
              <a:t>:</a:t>
            </a:r>
            <a:r>
              <a:rPr b="0" lang="ru-RU" sz="2300" spc="-1" strike="noStrike" u="sng">
                <a:solidFill>
                  <a:srgbClr val="ffff66"/>
                </a:solidFill>
                <a:uFillTx/>
                <a:latin typeface="Vladimir Script"/>
              </a:rPr>
              <a:t> </a:t>
            </a:r>
            <a:br>
              <a:rPr sz="2300"/>
            </a:br>
            <a:r>
              <a:rPr b="0" lang="ru-RU" sz="2300" spc="-1" strike="noStrike">
                <a:solidFill>
                  <a:srgbClr val="ffff66"/>
                </a:solidFill>
                <a:latin typeface="Vladimir Script"/>
              </a:rPr>
              <a:t>обобщение полученных на уроках химии и биологии знаний</a:t>
            </a:r>
            <a:r>
              <a:rPr b="0" lang="ru-RU" sz="2300" spc="-1" strike="noStrike">
                <a:solidFill>
                  <a:srgbClr val="ffff66"/>
                </a:solidFill>
                <a:latin typeface="Tahoma"/>
              </a:rPr>
              <a:t>;</a:t>
            </a:r>
            <a:r>
              <a:rPr b="0" lang="ru-RU" sz="2300" spc="-1" strike="noStrike">
                <a:solidFill>
                  <a:srgbClr val="ffff66"/>
                </a:solidFill>
                <a:latin typeface="Vladimir Script"/>
              </a:rPr>
              <a:t> </a:t>
            </a:r>
            <a:br>
              <a:rPr sz="2300"/>
            </a:br>
            <a:r>
              <a:rPr b="0" lang="ru-RU" sz="2300" spc="-1" strike="noStrike">
                <a:solidFill>
                  <a:srgbClr val="ffff66"/>
                </a:solidFill>
                <a:latin typeface="Vladimir Script"/>
              </a:rPr>
              <a:t>применение знаний в новой проблемной ситуации</a:t>
            </a:r>
            <a:r>
              <a:rPr b="0" lang="ru-RU" sz="2300" spc="-1" strike="noStrike">
                <a:solidFill>
                  <a:srgbClr val="ffff66"/>
                </a:solidFill>
                <a:latin typeface="Tahoma"/>
              </a:rPr>
              <a:t>;</a:t>
            </a:r>
            <a:r>
              <a:rPr b="0" lang="ru-RU" sz="2300" spc="-1" strike="noStrike">
                <a:solidFill>
                  <a:srgbClr val="ffff66"/>
                </a:solidFill>
                <a:latin typeface="Vladimir Script"/>
              </a:rPr>
              <a:t> </a:t>
            </a:r>
            <a:br>
              <a:rPr sz="2300"/>
            </a:br>
            <a:r>
              <a:rPr b="0" lang="ru-RU" sz="2300" spc="-1" strike="noStrike">
                <a:solidFill>
                  <a:srgbClr val="ffff66"/>
                </a:solidFill>
                <a:latin typeface="Vladimir Script"/>
              </a:rPr>
              <a:t>формирование мотивации здорового образа жизни, активной позиции в отношении охраны своего здоровья</a:t>
            </a:r>
            <a:r>
              <a:rPr b="0" lang="ru-RU" sz="23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66"/>
                </a:solidFill>
                <a:latin typeface="Tahoma"/>
              </a:rPr>
              <a:t>Методы:</a:t>
            </a:r>
            <a:r>
              <a:rPr b="0" i="1" lang="ru-RU" sz="2700" spc="-1" strike="noStrike">
                <a:solidFill>
                  <a:srgbClr val="ffff66"/>
                </a:solidFill>
                <a:latin typeface="Tahoma"/>
              </a:rPr>
              <a:t> исследовательские</a:t>
            </a:r>
            <a:r>
              <a:rPr b="0" lang="ru-RU" sz="2700" spc="-1" strike="noStrike">
                <a:solidFill>
                  <a:srgbClr val="ffff66"/>
                </a:solidFill>
                <a:latin typeface="Tahoma"/>
              </a:rPr>
              <a:t> </a:t>
            </a:r>
            <a:br>
              <a:rPr sz="2700"/>
            </a:br>
            <a:r>
              <a:rPr b="1" lang="ru-RU" sz="2700" spc="-1" strike="noStrike">
                <a:solidFill>
                  <a:srgbClr val="ffff66"/>
                </a:solidFill>
                <a:latin typeface="Tahoma"/>
              </a:rPr>
              <a:t>Форма работы:</a:t>
            </a:r>
            <a:r>
              <a:rPr b="0" lang="ru-RU" sz="27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i="1" lang="ru-RU" sz="2700" spc="-1" strike="noStrike">
                <a:solidFill>
                  <a:srgbClr val="ffff66"/>
                </a:solidFill>
                <a:latin typeface="Tahoma"/>
              </a:rPr>
              <a:t>групповая (4 лаборатории</a:t>
            </a:r>
            <a:r>
              <a:rPr b="0" i="1" lang="ru-RU" sz="2800" spc="-1" strike="noStrike">
                <a:solidFill>
                  <a:srgbClr val="ffff66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7" name="Picture 17" descr="j0234687"/>
          <p:cNvPicPr/>
          <p:nvPr/>
        </p:nvPicPr>
        <p:blipFill>
          <a:blip r:embed="rId1"/>
          <a:stretch/>
        </p:blipFill>
        <p:spPr>
          <a:xfrm>
            <a:off x="4724280" y="1828800"/>
            <a:ext cx="4038840" cy="2133720"/>
          </a:xfrm>
          <a:prstGeom prst="rect">
            <a:avLst/>
          </a:prstGeom>
          <a:ln w="0">
            <a:noFill/>
          </a:ln>
        </p:spPr>
      </p:pic>
      <p:pic>
        <p:nvPicPr>
          <p:cNvPr id="1388" name="Picture 18" descr="j0090070"/>
          <p:cNvPicPr/>
          <p:nvPr/>
        </p:nvPicPr>
        <p:blipFill>
          <a:blip r:embed="rId2"/>
          <a:stretch/>
        </p:blipFill>
        <p:spPr>
          <a:xfrm>
            <a:off x="457200" y="1752480"/>
            <a:ext cx="3962520" cy="217008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19" descr="j0301252"/>
          <p:cNvPicPr/>
          <p:nvPr/>
        </p:nvPicPr>
        <p:blipFill>
          <a:blip r:embed="rId3"/>
          <a:stretch/>
        </p:blipFill>
        <p:spPr>
          <a:xfrm>
            <a:off x="609480" y="4267080"/>
            <a:ext cx="3657600" cy="202104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20" descr="j0233018"/>
          <p:cNvPicPr/>
          <p:nvPr/>
        </p:nvPicPr>
        <p:blipFill>
          <a:blip r:embed="rId4"/>
          <a:stretch/>
        </p:blipFill>
        <p:spPr>
          <a:xfrm>
            <a:off x="4800600" y="4114800"/>
            <a:ext cx="3886200" cy="2171880"/>
          </a:xfrm>
          <a:prstGeom prst="rect">
            <a:avLst/>
          </a:prstGeom>
          <a:ln w="0">
            <a:noFill/>
          </a:ln>
        </p:spPr>
      </p:pic>
      <p:sp>
        <p:nvSpPr>
          <p:cNvPr id="1391" name="Text Box 21"/>
          <p:cNvSpPr/>
          <p:nvPr/>
        </p:nvSpPr>
        <p:spPr>
          <a:xfrm>
            <a:off x="1449000" y="33796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Исследовате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Text Box 22"/>
          <p:cNvSpPr/>
          <p:nvPr/>
        </p:nvSpPr>
        <p:spPr>
          <a:xfrm>
            <a:off x="6705720" y="3429000"/>
            <a:ext cx="18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лит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Text Box 23"/>
          <p:cNvSpPr/>
          <p:nvPr/>
        </p:nvSpPr>
        <p:spPr>
          <a:xfrm>
            <a:off x="337680" y="594360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Broadway"/>
              </a:rPr>
              <a:t>Теорет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Text Box 24"/>
          <p:cNvSpPr/>
          <p:nvPr/>
        </p:nvSpPr>
        <p:spPr>
          <a:xfrm>
            <a:off x="5791320" y="61722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Castellar"/>
              </a:rPr>
              <a:t>Экспер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68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68" fill="hold"/>
                                        <p:tgtEl>
                                          <p:spTgt spid="13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68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68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Picture 9" descr="j0217698"/>
          <p:cNvPicPr/>
          <p:nvPr/>
        </p:nvPicPr>
        <p:blipFill>
          <a:blip r:embed="rId1"/>
          <a:stretch/>
        </p:blipFill>
        <p:spPr>
          <a:xfrm rot="1597800">
            <a:off x="3352680" y="609480"/>
            <a:ext cx="3429000" cy="3183120"/>
          </a:xfrm>
          <a:prstGeom prst="rect">
            <a:avLst/>
          </a:prstGeom>
          <a:ln w="0">
            <a:noFill/>
          </a:ln>
        </p:spPr>
      </p:pic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Оформление: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таблицы; </a:t>
            </a:r>
            <a:br>
              <a:rPr sz="3200"/>
            </a:b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фотографии: </a:t>
            </a:r>
            <a:br>
              <a:rPr sz="3200"/>
            </a:b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диаграммы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стенд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1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Berlin Sans FB"/>
              </a:rPr>
              <a:t>Оборудование: </a:t>
            </a:r>
            <a:r>
              <a:rPr b="0" lang="ru-RU" sz="2800" spc="-1" strike="noStrike">
                <a:solidFill>
                  <a:srgbClr val="8c0000"/>
                </a:solidFill>
                <a:latin typeface="Berlin Sans FB"/>
              </a:rPr>
              <a:t>схемы, инструктивные карты, опорные конспекты, реактивы (вода, этиловый спирт, раствор азотной кислоты, раствор яичного белка, лабораторное оборудова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8" name="Picture 8" descr="j0286068"/>
          <p:cNvPicPr/>
          <p:nvPr/>
        </p:nvPicPr>
        <p:blipFill>
          <a:blip r:embed="rId2"/>
          <a:stretch/>
        </p:blipFill>
        <p:spPr>
          <a:xfrm>
            <a:off x="457200" y="609480"/>
            <a:ext cx="1865160" cy="222408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10" descr="j0305257"/>
          <p:cNvPicPr/>
          <p:nvPr/>
        </p:nvPicPr>
        <p:blipFill>
          <a:blip r:embed="rId3"/>
          <a:stretch/>
        </p:blipFill>
        <p:spPr>
          <a:xfrm>
            <a:off x="2209680" y="1828800"/>
            <a:ext cx="11430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2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7 0 L 0.21 0.22236 L -0.04 0.22236 L 0 0 Z">
                                      <p:cBhvr>
                                        <p:cTn id="143" dur="3000" fill="hold"/>
                                        <p:tgtEl>
                                          <p:spTgt spid="1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2000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0" name="Picture 10" descr="j0235241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Bodoni MT"/>
              </a:rPr>
              <a:t>Вступите</a:t>
            </a:r>
            <a:r>
              <a:rPr b="1" lang="ru-RU" sz="4000" spc="-1" strike="noStrike">
                <a:solidFill>
                  <a:srgbClr val="2850a0"/>
                </a:solidFill>
                <a:latin typeface="Bodoni MT"/>
              </a:rPr>
              <a:t>льное</a:t>
            </a:r>
            <a:r>
              <a:rPr b="1" lang="ru-RU" sz="4000" spc="-1" strike="noStrike">
                <a:solidFill>
                  <a:srgbClr val="a25100"/>
                </a:solidFill>
                <a:latin typeface="Bodoni MT"/>
              </a:rPr>
              <a:t> </a:t>
            </a:r>
            <a:r>
              <a:rPr b="1" lang="ru-RU" sz="4000" spc="-1" strike="noStrike">
                <a:solidFill>
                  <a:srgbClr val="2850a0"/>
                </a:solidFill>
                <a:latin typeface="Bodoni MT"/>
              </a:rPr>
              <a:t>слово</a:t>
            </a:r>
            <a:r>
              <a:rPr b="1" lang="ru-RU" sz="4000" spc="-1" strike="noStrike">
                <a:solidFill>
                  <a:srgbClr val="a25100"/>
                </a:solidFill>
                <a:latin typeface="Bodoni MT"/>
              </a:rPr>
              <a:t> уч</a:t>
            </a:r>
            <a:r>
              <a:rPr b="1" lang="ru-RU" sz="4000" spc="-1" strike="noStrike">
                <a:solidFill>
                  <a:srgbClr val="ffff6d"/>
                </a:solidFill>
                <a:latin typeface="Bodoni MT"/>
              </a:rPr>
              <a:t>ителя </a:t>
            </a:r>
            <a:r>
              <a:rPr b="1" lang="ru-RU" sz="4000" spc="-1" strike="noStrike">
                <a:solidFill>
                  <a:srgbClr val="a25100"/>
                </a:solidFill>
                <a:latin typeface="Bodoni MT"/>
              </a:rPr>
              <a:t>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 rot="21421800">
            <a:off x="380520" y="1370880"/>
            <a:ext cx="8229600" cy="4419720"/>
          </a:xfrm>
          <a:prstGeom prst="rect">
            <a:avLst/>
          </a:prstGeom>
          <a:noFill/>
          <a:ln w="9360">
            <a:solidFill>
              <a:srgbClr val="a251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Мы с вами подошли к заключению в изучении индивидуального развития всех живых организмов, в том числе человек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На протяжении всего времени, развитие зародышевого организма проходит через плаценту материнского организма и постоянно зависит от условий окружающей среды, состояния здоровья матер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рирода запрограммировала жизнь человека на абсолютно трезвое существовани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Отклонение от этого закона чревато серьезными последствиям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рирода не включила алкоголь в обменные процессы человека а значит и не создала естественных противояди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этому нам сегодня предстоит разобраться каким может оказаться влияние спиртов на развитие организма в цело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3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1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1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3" name="Picture 8" descr="j0299125"/>
          <p:cNvPicPr/>
          <p:nvPr/>
        </p:nvPicPr>
        <p:blipFill>
          <a:blip r:embed="rId1"/>
          <a:stretch/>
        </p:blipFill>
        <p:spPr>
          <a:xfrm rot="21087000">
            <a:off x="7009920" y="1905120"/>
            <a:ext cx="1676520" cy="4647960"/>
          </a:xfrm>
          <a:prstGeom prst="rect">
            <a:avLst/>
          </a:prstGeom>
          <a:ln w="0">
            <a:noFill/>
          </a:ln>
        </p:spPr>
      </p:pic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009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Сло</a:t>
            </a:r>
            <a:r>
              <a:rPr b="0" lang="ru-RU" sz="4400" spc="-1" strike="noStrike">
                <a:solidFill>
                  <a:srgbClr val="9999ff"/>
                </a:solidFill>
                <a:latin typeface="Tahoma"/>
              </a:rPr>
              <a:t>во учителя</a:t>
            </a:r>
            <a:r>
              <a:rPr b="0" lang="ru-RU" sz="4400" spc="-1" strike="noStrike">
                <a:solidFill>
                  <a:srgbClr val="cdd7d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«Ребята, вы уже знакомы с понятиями спиртов. В соответствии с современными воззрениями, этанол относится к веществам, не содержащимся в человеческом организме, но влияющим на его жизнедеятельность. Как называются такие вещества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66"/>
                </a:solidFill>
                <a:uFillTx/>
                <a:latin typeface="Tahoma"/>
              </a:rPr>
              <a:t>Ответ учащихся: «Ксенобиотик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6600cc"/>
                </a:solidFill>
                <a:latin typeface="Tahoma"/>
              </a:rPr>
              <a:t>«Будучи лекарственными средствами – влияют на наше самочувствие, воздействуют на биохимические процессы в организме. Но при этом их относят и к ядам – веществам, нарушающим естественные биологические процессы, вызывая нарушения в работе организма или смерть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3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1500" autoRev="1" fill="hold"/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267" dur="1500" autoRev="1" fill="hold"/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268" dur="1500" autoRev="1" fill="hold"/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2000"/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5000" fill="hold"/>
                                        <p:tgtEl>
                                          <p:spTgt spid="14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200" fill="hold"/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399"/>
                                      </p:to>
                                    </p:animClr>
                                    <p:animClr clrSpc="rgb">
                                      <p:cBhvr>
                                        <p:cTn id="282" dur="200" fill="hold"/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399"/>
                                      </p:to>
                                    </p:animClr>
                                    <p:set>
                                      <p:cBhvr>
                                        <p:cTn id="283" dur="200" fill="hold"/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1500" autoRev="1" fill="hold"/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99" dur="1500" autoRev="1" fill="hold"/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0" dur="1500" autoRev="1" fill="hold"/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4" dur="2000" fill="hold"/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5" dur="2000" fill="hold"/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6" dur="2000" fill="hold"/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07" dur="2000" fill="hold"/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«Тератогенное воздействие алкоголя многократно подтверждалось и экспериментаторами. Так, французские исследователи наблюдали весьма впечатляющий случай. В одном сарае под полом которого находилось помещение для перегонки спирта, было помещено 160 яиц для искусственного выведения цыплят. Так вот, из половины яиц цыплят не получилось вовсе; из оставшейся половины 40 вылупившихся цыплят вскоре погибли, а 25 были физические уродства: раздвоение или отсутствие костей, деформация клюва и др. и все это – только под воздействием паров алкого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оэтому цель нашего сегодняшнего урока – обобщив полученные на уроках химии и биологии знания выяснить причины токсичности этилового спирта, рассмотреть механизм действия этилового спирта на клетки, органы и системы организма человека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Tahoma"/>
              </a:rPr>
              <a:t>Демонстрация слай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770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770" fill="hold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09-11-24T19:01:55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