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806-9BEA-47C9-B2E5-36EAD905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6C3-2308-494A-A653-20A342C2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9FA-2731-41CC-B675-3C7EEB3F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72A-69AB-4DF6-A5FC-9D3306A6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9C56-B3B4-4B3F-9A63-095A751A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619D-4A30-419C-ABB0-5B3C3620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F00A-BB0B-4159-ACFB-7FD4CC53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C88F-F48D-4E76-838D-5AB17006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AE1-77D4-41BD-9726-F491F7B5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F21-7958-4971-9BEB-7CCFA849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095-D274-48AF-8A5D-860CE4CA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439-66CB-4CC7-B357-1460A8C6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681448-4A56-4271-9D8E-6CD56FB6D5FA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716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Что растёт на клумб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71592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Окружающий мир . 1 клас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К учебнику А.А.Плешак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Анютины глазки – раньше это было лесное растение. Немцы называют его мачехой. такое название они объясняют строением цветка. Нижний, самый крупный и красивый лепесток-это мачеха. Два боковых, поменьше, но тоже красивые, -её родные дочери, а два самых маленьких, верхних, почти не раскрашенных, -падчериц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31520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imes New Roman"/>
              </a:rPr>
              <a:t>Тюльпан своё название эти цветы получили от персидского слова «тюрбан»-чалма (головной убор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Георгин. Двести лет назад из Южной Америки привезли клубни неизвестного мексиканского растения. Первый выросший цветок назвали в честь русского академика натуралиста и путешественника Георг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33744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Times New Roman"/>
              </a:rPr>
              <a:t>Древние греки и римляне чествовали гиацинты и лил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5516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59280" y="1341360"/>
            <a:ext cx="428472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У англичан существовал праздник пионов и лото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3671640" cy="2694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3889440" cy="2694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88000" y="4114800"/>
            <a:ext cx="3671640" cy="2743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826920" y="4114800"/>
            <a:ext cx="38782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imes New Roman"/>
              </a:rPr>
              <a:t>Славяне праздновали 6 июля день Ивана Купалы, символом которого являлся папоротн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4495680" cy="3390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442764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Times New Roman"/>
              </a:rPr>
              <a:t>Во Франции в старину был праздник роз, а теперь- праздник ландыш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32360" cy="5516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2959200" cy="262116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4158000" y="4444920"/>
            <a:ext cx="4790520" cy="1658880"/>
            <a:chOff x="4158000" y="4444920"/>
            <a:chExt cx="4790520" cy="1658880"/>
          </a:xfrm>
        </p:grpSpPr>
        <p:cxnSp>
          <p:nvCxnSpPr>
            <p:cNvPr id="79" name=""/>
            <p:cNvCxnSpPr>
              <a:stCxn id="80" idx="0"/>
              <a:endCxn id="81" idx="2"/>
            </p:cNvCxnSpPr>
            <p:nvPr/>
          </p:nvCxnSpPr>
          <p:spPr>
            <a:xfrm flipV="1" rot="16200000">
              <a:off x="7160400" y="4382280"/>
              <a:ext cx="277200" cy="1497600"/>
            </a:xfrm>
            <a:prstGeom prst="bentConnector5">
              <a:avLst>
                <a:gd name="adj1" fmla="val 101170"/>
                <a:gd name="adj2" fmla="val -60182"/>
                <a:gd name="adj3" fmla="val -301300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82" name=""/>
            <p:cNvCxnSpPr>
              <a:stCxn id="83" idx="0"/>
              <a:endCxn id="81" idx="2"/>
            </p:cNvCxnSpPr>
            <p:nvPr/>
          </p:nvCxnSpPr>
          <p:spPr>
            <a:xfrm flipV="1" rot="16200000">
              <a:off x="6413400" y="5130720"/>
              <a:ext cx="27720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84" name=""/>
            <p:cNvCxnSpPr>
              <a:stCxn id="85" idx="0"/>
              <a:endCxn id="81" idx="2"/>
            </p:cNvCxnSpPr>
            <p:nvPr/>
          </p:nvCxnSpPr>
          <p:spPr>
            <a:xfrm flipH="1" flipV="1" rot="5400000">
              <a:off x="5664960" y="4384440"/>
              <a:ext cx="277200" cy="1494000"/>
            </a:xfrm>
            <a:prstGeom prst="bentConnector5">
              <a:avLst>
                <a:gd name="adj1" fmla="val 101170"/>
                <a:gd name="adj2" fmla="val -60183"/>
                <a:gd name="adj3" fmla="val -301300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sp>
          <p:nvSpPr>
            <p:cNvPr id="81" name=""/>
            <p:cNvSpPr/>
            <p:nvPr/>
          </p:nvSpPr>
          <p:spPr>
            <a:xfrm>
              <a:off x="5911560" y="4444920"/>
              <a:ext cx="1279440" cy="548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16480" y="5269680"/>
              <a:ext cx="1279440" cy="548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1560" y="5269680"/>
              <a:ext cx="1279440" cy="548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06640" y="5269680"/>
              <a:ext cx="1279800" cy="548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572000" y="4005360"/>
            <a:ext cx="388764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В Каннах в феврале устраивается день мимоз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248000" cy="558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8320" y="1628640"/>
            <a:ext cx="43164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Болгарии проводят праздник роз, а в Великобритании- день ма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643280" cy="4176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45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В Голландии проводят пышные карнавалы цве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На клумбах и цветниках можно увидеть</a:t>
            </a:r>
            <a:r>
              <a:rPr b="0" lang="ru-RU" sz="4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огромное количество ярких, красивых цветов. Они разнообразны по своей окраске, форме и размерам.</a:t>
            </a:r>
            <a:br>
              <a:rPr sz="2400"/>
            </a:b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Я расскажу вам о некоторых наиболее известных цве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е цветы вы можете назвать и что запомнили о них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чего люди на клумбах сажают цвет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Гладиолус -  он словно пышный коло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84072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Календула (ноготки) – лекарственное растение. Из её цветков делают отвары и настои для заживления ра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07240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Мак-неженка, его крупные лепестки быстро осыпаются. В древнем Риме мак был священным цветком бога сна Морфе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9138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Пион - лекарственное растение. Названо оно по имени Пеона – врача из древнегреческих мифов, который с помощью этого цветка исцелял бог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05636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Times New Roman"/>
              </a:rPr>
              <a:t>Астра – в переводе на русский язык означает звезда. По легенде, первая астра выросла на месте, куда упал осколок, обронённый на Землю пролетавшей звёздоч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49016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</a:rPr>
              <a:t>Гиацинт – посвящён богу Аполлону. В Греции это растение считалось символом печали. Предание гласит, что гиацинт вырос на крови юноши Гиацинта, погибшего во время спортивных состяза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33564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Times New Roman"/>
              </a:rPr>
              <a:t>Нарцисс. Давным-давно в Греции жил прекрасный юноша по имени Нарцисс. За излишнюю любовь к своей внешности был жестоко наказан Богами. До конца своих дней Нарцисс был обречён постоянно любоваться собственным отражением в пруд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7-01-12T13:03:06Z</dcterms:modified>
  <cp:revision>3</cp:revision>
  <dc:subject/>
  <dc:title>PowerPoint Presentation</dc:title>
</cp:coreProperties>
</file>