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png" ContentType="image/png"/>
  <Override PartName="/ppt/media/image8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E37-9B8D-4174-B337-B7A74E73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66E-8B60-413C-BB4A-1110CF54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10C-4021-416C-9630-364DC40A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E7CB-B3AB-4880-816C-F8762C43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9866-E9A0-4FBF-85C7-B66216A3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A1CC-4A73-42A1-92A5-803A2DAA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A56F-23B1-47BD-8ED2-DA5F2371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1149-8C54-4A3C-B3D0-F4557805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6B5A-88E3-4E9E-B8F3-92748481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CBE5-D930-459C-9A2A-ED26C8CC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B5D9-CEFE-4FAC-BBEE-ECEA4453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724-045D-40B3-A357-CD4416AE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0639-FDC8-49BF-BD26-87F4F9C7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CCE7-6238-41A5-8B61-811B21F8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343F-33BB-4D53-B986-F5486189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E824-A32F-461E-81F1-6756A7AD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811F-68CC-4029-BCBB-38600AFC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AA2-F4D6-4732-A822-F3B1D768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7DD-A6BC-404D-BEEB-0E5FA2E6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7FA-8E24-4D5D-8C09-DF69753F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667-70C4-4777-8A22-09344EE9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9F1-DAA0-4169-9B19-6B8EAA61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9E9-3EBE-492D-8ACA-878C4BC5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72D-3054-43E7-BA39-11030ED1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1782-7A67-4E84-9B3B-DD0167F9BAE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C157-CAFB-4F31-933A-9335B48649C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egoe Script"/>
              </a:rPr>
              <a:t>Проек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egoe Script"/>
              </a:rPr>
              <a:t>«Дорожный дозор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038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593720"/>
            <a:ext cx="4038480" cy="4959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37814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Segoe Script"/>
              </a:rPr>
              <a:t>Привлеч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egoe Script"/>
              </a:rPr>
              <a:t>сотрудники ГИБДД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egoe Script"/>
              </a:rPr>
              <a:t>общественные организаци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egoe Script"/>
              </a:rPr>
              <a:t>родител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egoe Script"/>
              </a:rPr>
              <a:t>психоло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774720" y="1600200"/>
            <a:ext cx="3402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SzPct val="1935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повысить уровень компетентности педагогов и родителей в вопросах профилактики ДТТ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SzPct val="1935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вовлечь детей в активные формы пропаганды ПДД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SzPct val="1935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привлечь к сотрудничеству организации г.Абакана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SzPct val="1935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создать условия для обучения практическим навыкам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SzPct val="1935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воспитывать культуру дорожного движения дошкольников, умение пользоваться полученными знаниями в повседневной жизни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228600" y="160020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403848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38840" cy="617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4495680" y="304920"/>
          <a:ext cx="4496040" cy="6197400"/>
        </p:xfrm>
        <a:graphic>
          <a:graphicData uri="http://schemas.openxmlformats.org/drawingml/2006/table">
            <a:tbl>
              <a:tblPr/>
              <a:tblGrid>
                <a:gridCol w="473040"/>
                <a:gridCol w="1965600"/>
                <a:gridCol w="2057400"/>
              </a:tblGrid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Рис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Минимиза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Низкий уровень компетентности педагог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Прохождение проблемных курсов в области ПД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Непонимание родителями важности данного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Разъяснительная работа педагога-психолога, воспит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Низкая мотивация воспитанников к данному виду деятель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Разнообразие форм и методов индивидуальной и групповой работы с детьми. Поощрение де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Низкий уровень МТБ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Формирование и корректировка сметы учреждения. Привлечение спонсоров и социальных партнерст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Низкий уровень информированности о деятельности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Привлечение С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Segoe Script"/>
              </a:rPr>
              <a:t>Примерная смета расход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600200"/>
          <a:ext cx="4038480" cy="4952880"/>
        </p:xfrm>
        <a:graphic>
          <a:graphicData uri="http://schemas.openxmlformats.org/drawingml/2006/table">
            <a:tbl>
              <a:tblPr/>
              <a:tblGrid>
                <a:gridCol w="2660760"/>
                <a:gridCol w="13777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1. Бюджет (подписные изд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2 000 р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2. Спонсорская помощ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4000 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3. Проведение ярмарок, реализация методической продук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3000 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9 000 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9625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Segoe Script"/>
              </a:rPr>
              <a:t>Некоторые мероприят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280" y="888840"/>
          <a:ext cx="8839440" cy="433548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Оформление папок-передвижек под рубриками: «Дорожные важности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«Наши лучшие друзья- правила движен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Анкетирование родителей «Безопасность на дорога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Совместное изготовление макетов «Мой поселок», «Наша улица», «Улицы, по которым мы ходим» атрибутов к подвижным и сюжетно-ролевым игр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Агитбрига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Творческая 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Постановки спектаклей по ГИБД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Агитбрига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Оборудование детской игровой площадки по ПД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Родительский акти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Акции «Движение с уважением водителей и пешеходов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Творческая 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Конкурс детских рисунков по ПД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cript"/>
                        </a:rPr>
                        <a:t>Роди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Segoe Script"/>
              </a:rPr>
              <a:t>Приглашаем Вас к сотрудничеству!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343400" cy="4572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733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2:32:11Z</dcterms:created>
  <dc:creator>Танюша</dc:creator>
  <dc:description/>
  <dc:language>en-US</dc:language>
  <cp:lastModifiedBy>р ита</cp:lastModifiedBy>
  <dcterms:modified xsi:type="dcterms:W3CDTF">2017-02-11T13:13:3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