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png" ContentType="image/png"/>
  <Override PartName="/ppt/media/image8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69E-D01C-4FE0-9708-C2CC79C7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6FB-85D4-4554-867A-D4BF2A0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652-65D1-4BBC-9A15-2C6A8401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BC6-82EC-4A67-BF6A-1A385642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14DC-E6AB-472F-B969-6C9B29EC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E368-AD61-403D-88E9-B104277F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74F3-F984-4F85-A50D-1F66AB22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3A51-5D46-4F9F-BE95-9FD167A4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9D34-8A7B-47AF-A0C1-A13A9261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9CB-C30D-4A9D-BD99-36091786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594-B5F1-4A0E-A2B1-11A51C9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12C-B5B6-4E4D-86E9-FE14CD3B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C12-24FF-4806-A35C-53389F0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49F5-1F11-4E6C-884F-6E87A5FA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3176-7078-4A45-9625-8824DF9C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5703-0504-4B40-A541-4E530626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8655-5CF8-46D5-9780-466D0EA9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034-BBF1-401E-9FA4-4B8702B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27C-88DF-4CDA-B847-BD261FE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B00-B123-47FB-ABF4-7B1F6E51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A18-2BD2-43FB-8786-CE45B430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099-D1AF-4DFE-A55A-900A821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BD3-E4AB-422F-B6A5-836625F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776-517A-4089-BFBB-A49FEC73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D599-B09E-48CB-80AE-2272A31057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520F-62FB-4E39-B012-DBB257A269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egoe Script"/>
              </a:rPr>
              <a:t>Проек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egoe Script"/>
              </a:rPr>
              <a:t>«Дорожный дозор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3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593720"/>
            <a:ext cx="4038480" cy="495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781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Segoe Script"/>
              </a:rPr>
              <a:t>Привле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сотрудники ГИБДД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общественные организац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родител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психоло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74720" y="1600200"/>
            <a:ext cx="34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SzPct val="1935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повысить уровень компетентности педагогов и родителей в вопросах профилактики ДТТ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вовлечь детей в активные формы пропаганды ПДД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привлечь к сотрудничеству организации г.Абакана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создать условия для обучения практическим навыкам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воспитывать культуру дорожного движения дошкольников, умение пользоваться полученными знаниями в повседневной жизни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286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03848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38840" cy="617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4495680" y="304920"/>
          <a:ext cx="4496040" cy="6197400"/>
        </p:xfrm>
        <a:graphic>
          <a:graphicData uri="http://schemas.openxmlformats.org/drawingml/2006/table">
            <a:tbl>
              <a:tblPr/>
              <a:tblGrid>
                <a:gridCol w="473040"/>
                <a:gridCol w="1965600"/>
                <a:gridCol w="20574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ис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Минимиз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ий уровень компетентности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рохождение проблемных курсов в области П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епонимание родителями важности данного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азъяснительная работа педагога-психолога, воспит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ая мотивация воспитанников к данному виду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азнообразие форм и методов индивидуальной и групповой работы с детьми. Поощрение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ий уровень МТБ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Формирование и корректировка сметы учреждения. Привлечение спонсоров и социальных партнер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ий уровень информированности о деятельности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ривлечение С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Segoe Script"/>
              </a:rPr>
              <a:t>Примерная смета расход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4038480" cy="4952880"/>
        </p:xfrm>
        <a:graphic>
          <a:graphicData uri="http://schemas.openxmlformats.org/drawingml/2006/table">
            <a:tbl>
              <a:tblPr/>
              <a:tblGrid>
                <a:gridCol w="2660760"/>
                <a:gridCol w="13777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1. Бюджет (подписные изд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2 000 р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2. Спонсорская помощ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4000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3. Проведение ярмарок, реализация методической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3000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9 000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Segoe Script"/>
              </a:rPr>
              <a:t>Некоторые мероприят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888840"/>
          <a:ext cx="8839440" cy="43354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Оформление папок-передвижек под рубриками: «Дорожные важности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«Наши лучшие друзья- правила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нкетирование родителей «Безопасность на дорог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Совместное изготовление макетов «Мой поселок», «Наша улица», «Улицы, по которым мы ходим» атрибутов к подвижным и сюжетно-ролевым игр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гитбрига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остановки спектаклей по ГИБ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гитбрига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Оборудование детской игровой площадки по П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одительский акт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кции «Движение с уважением водителей и пешеход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Конкурс детских рисунков по П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Segoe Script"/>
              </a:rPr>
              <a:t>Приглашаем Вас к сотрудничеству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73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2:32:11Z</dcterms:created>
  <dc:creator>Танюша</dc:creator>
  <dc:description/>
  <dc:language>en-US</dc:language>
  <cp:lastModifiedBy>р ита</cp:lastModifiedBy>
  <dcterms:modified xsi:type="dcterms:W3CDTF">2017-02-11T13:13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