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EA1-79CC-49D7-8165-807F1CB5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078-2AAE-4B80-8AFF-CF3BB6BF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FF3-115C-42F6-8F30-5309BACC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B35-E1A4-448E-A43A-E2A9E60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915E-BE0C-476A-BA63-6F47240C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1FF-A4FA-4E59-8F87-F3F067B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BC8-F65D-4FBE-A34C-33B4229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AFFE-6278-4B6C-BBA9-E2E1408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9B56-D163-4B43-AF30-79E364F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1A53-7931-47CC-8F7A-063837B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969B-B627-407B-9A3D-E7543F17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33A-5C84-4E92-81AF-7781583D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8C3-9A2A-4729-8326-0C3E2E4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E231-D6DC-4CD1-986F-36860B6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C805-F3B5-4CED-829B-026691C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5C67-69A8-4D54-9CCB-89C5A93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03BF-B512-4B13-A926-D1975304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84A2-4294-42F9-94CE-41A21AE0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B4B0-8629-45C3-855A-3CA6BCE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4D34-8CBB-496D-938C-8DD2A45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367B-3FB9-496E-BFC8-C2943CC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8995-62CD-4BB9-B878-027CBDD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403-957E-4526-BAEC-7FD7188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1492-687F-463E-9274-B3C9B1D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289E-5A3D-4C50-AC9D-2D352E3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FBD5-873A-4DFF-906A-D6C3C31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95CF-B763-40B1-925E-DD0C25A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2E87-4191-4B27-8B3B-4246176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11E4-8162-4EBC-A634-D8A0897F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75A6-B8F5-4B67-AB5A-26D043EC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0E15-3214-4254-9F63-038BC3C3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473C-BD18-4F3C-BC44-B8ABDC6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0AF5-3621-4DD5-808B-1C7AA7D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594-C7F4-4F47-96D6-AF1E6AE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973B-C113-45EF-A804-4C03E082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DBD7-3D28-4C05-B87C-7B32B7E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52DF-BFC8-4D0B-B3C8-22656B51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B611-578F-4F1B-98F2-AA44CE7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A906-0464-46AE-B54F-EE81FAA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114D-561E-4A6F-9106-8717A185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47A2-2B81-4E7F-80F7-2519545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1112-E14C-41CA-ABC2-ABF87EE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1455-3E4A-433C-82B9-8AB5AEDF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09A-8892-4D7C-8F2F-E88799F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66A-E64B-42C9-BEED-625AA84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153-99B0-4B6B-AFCB-DDB4E13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06B-12D8-4620-B56F-C9CD5CE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CD7-1362-4CB0-BC28-66A2E4E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59a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6232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6232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53C-CE4C-4C4D-8A01-4A0631FBA4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59a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C2A-36F9-4BCC-8DDC-621E2CFDC0D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2328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59a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5FAC-B768-485D-935E-514EC4137D6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59a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6232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6232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2328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2D35-7F86-43A4-B3EC-477384999B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12760" y="334800"/>
            <a:ext cx="8785080" cy="2414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2120760" y="3144960"/>
            <a:ext cx="4962600" cy="359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7200" y="1450800"/>
            <a:ext cx="8229600" cy="28400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3048120" y="5410080"/>
            <a:ext cx="7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  <p:pic>
        <p:nvPicPr>
          <p:cNvPr id="216" name="Прямоугольник 10" descr=""/>
          <p:cNvPicPr/>
          <p:nvPr/>
        </p:nvPicPr>
        <p:blipFill>
          <a:blip r:embed="rId2"/>
          <a:stretch/>
        </p:blipFill>
        <p:spPr>
          <a:xfrm>
            <a:off x="274680" y="2749680"/>
            <a:ext cx="860112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981000"/>
            <a:ext cx="86788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62328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Цель: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формирование  здорового  образа  жизни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19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Укрепление  здоровья  детей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Расширение «библиотеки» движений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Ознакомление детей и взрослых с различными видами двигательной активности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Развитие сознательного отношения к здоровому образу жизни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Воспитание морально-волевых качеств – дисциплина, взаимопомощь, умение преодолевать трудности, терпение и выдержка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2328"/>
                </a:solidFill>
                <a:latin typeface="Verdana"/>
              </a:rPr>
              <a:t>Развитие творческих способностей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 algn="just"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62328"/>
              </a:solidFill>
              <a:latin typeface="Verdana"/>
            </a:endParaRPr>
          </a:p>
        </p:txBody>
      </p:sp>
      <p:pic>
        <p:nvPicPr>
          <p:cNvPr id="199" name="Picture 4" descr="http://img-fotki.yandex.ru/get/4814/119528728.cb7/0_a0f0a_fa3d4a15_XL"/>
          <p:cNvPicPr/>
          <p:nvPr/>
        </p:nvPicPr>
        <p:blipFill>
          <a:blip r:embed="rId1"/>
          <a:stretch/>
        </p:blipFill>
        <p:spPr>
          <a:xfrm>
            <a:off x="6912000" y="4491000"/>
            <a:ext cx="18367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 u="sng">
                <a:solidFill>
                  <a:srgbClr val="55a839"/>
                </a:solidFill>
                <a:uFillTx/>
                <a:latin typeface="Verdana"/>
              </a:rPr>
              <a:t>Тип проекта</a:t>
            </a:r>
            <a:br>
              <a:rPr sz="3200"/>
            </a:br>
            <a:br>
              <a:rPr sz="3200"/>
            </a:b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 времени – краткосрочный.</a:t>
            </a:r>
            <a:br>
              <a:rPr sz="2600"/>
            </a:b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 доминирующей в проекте деятельности –         игровой.</a:t>
            </a:r>
            <a:br>
              <a:rPr sz="2600"/>
            </a:b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 характеру контактов – в контакте с   семьей.</a:t>
            </a:r>
            <a:br>
              <a:rPr sz="2600"/>
            </a:b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 количеству участников – коллективный. </a:t>
            </a:r>
            <a:br>
              <a:rPr sz="3600"/>
            </a:br>
            <a:br>
              <a:rPr sz="3200"/>
            </a:br>
            <a:endParaRPr b="0" lang="en-US" sz="2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1" name="Объект 2"/>
          <p:cNvSpPr/>
          <p:nvPr/>
        </p:nvSpPr>
        <p:spPr>
          <a:xfrm>
            <a:off x="5229360" y="5310360"/>
            <a:ext cx="32605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23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8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a83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55a839"/>
                </a:solidFill>
                <a:latin typeface="Verdana"/>
              </a:rPr>
              <a:t>Партнерство</a:t>
            </a:r>
            <a:endParaRPr b="0" lang="en-US" sz="32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8"/>
                </a:solidFill>
                <a:latin typeface="Verdana"/>
              </a:rPr>
              <a:t>Родитель, дети, воспитатели.</a:t>
            </a:r>
            <a:endParaRPr b="0" lang="en-US" sz="32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a839"/>
                </a:solidFill>
                <a:latin typeface="Verdana"/>
              </a:rPr>
              <a:t>Ожидаемые результаты</a:t>
            </a:r>
            <a:endParaRPr b="0" lang="en-US" sz="32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8"/>
                </a:solidFill>
                <a:latin typeface="Verdana"/>
              </a:rPr>
              <a:t>Формирование у детей привычки вести здоровый образ жизни. Создание у детей представления о различных видах двигательной деятельности в повседневной жизни.</a:t>
            </a:r>
            <a:endParaRPr b="0" lang="en-US" sz="32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32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9640" y="836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a839"/>
                </a:solidFill>
                <a:latin typeface="Verdana"/>
              </a:rPr>
              <a:t>Содержание проекта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28"/>
                </a:solidFill>
                <a:latin typeface="Verdana"/>
              </a:rPr>
              <a:t>I</a:t>
            </a:r>
            <a:r>
              <a:rPr b="1" lang="ru-RU" sz="2400" spc="-1" strike="noStrike">
                <a:solidFill>
                  <a:srgbClr val="062328"/>
                </a:solidFill>
                <a:latin typeface="Verdana"/>
              </a:rPr>
              <a:t>.Подготовительный этап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Изучение необходимой литературы, интернет-источников по данной тематике.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Обработка изученных материалов и формирование необходимой методической литературы для реализации проекта.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дготовка пособий и консультаций. Подбор рекомендуемых средств для проведения проекта.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28"/>
                </a:solidFill>
                <a:latin typeface="Verdana"/>
              </a:rPr>
              <a:t>II</a:t>
            </a:r>
            <a:r>
              <a:rPr b="1" lang="ru-RU" sz="2400" spc="-1" strike="noStrike">
                <a:solidFill>
                  <a:srgbClr val="062328"/>
                </a:solidFill>
                <a:latin typeface="Verdana"/>
              </a:rPr>
              <a:t>.Основной (практический) этап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Реализация проекта путем совместного проведения спортивного досуга в домашних условиях, основываясь на созданной методичке; проведение консультаций, физкультурно-массового мероприятия «По тропинкам по дорожкам».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232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28"/>
                </a:solidFill>
                <a:latin typeface="Verdana"/>
              </a:rPr>
              <a:t>III</a:t>
            </a:r>
            <a:r>
              <a:rPr b="1" lang="ru-RU" sz="2400" spc="-1" strike="noStrike">
                <a:solidFill>
                  <a:srgbClr val="062328"/>
                </a:solidFill>
                <a:latin typeface="Verdana"/>
              </a:rPr>
              <a:t>.Заключительный этап.</a:t>
            </a:r>
            <a:endParaRPr b="0" lang="en-US" sz="24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2328"/>
                </a:solidFill>
                <a:latin typeface="Verdana"/>
              </a:rPr>
              <a:t>Подведение итогов проекта. Организация фотовыставки. Создание книг «7 спортивных дней  для взрослых и детей», «Заряжайся»  из материалов , предоставленных родителями и детьми, и раздвижной папки  «Тихий час».</a:t>
            </a:r>
            <a:endParaRPr b="0" lang="en-US" sz="26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232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2328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C:\Users\Катерина\Desktop\Проект фото\SAM_5107.JPG"/>
          <p:cNvPicPr/>
          <p:nvPr/>
        </p:nvPicPr>
        <p:blipFill>
          <a:blip r:embed="rId1"/>
          <a:stretch/>
        </p:blipFill>
        <p:spPr>
          <a:xfrm>
            <a:off x="2700360" y="4075200"/>
            <a:ext cx="3898800" cy="2762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C:\Users\Катерина\Desktop\Проект фото\SAM_5109.JPG"/>
          <p:cNvPicPr/>
          <p:nvPr/>
        </p:nvPicPr>
        <p:blipFill>
          <a:blip r:embed="rId2"/>
          <a:stretch/>
        </p:blipFill>
        <p:spPr>
          <a:xfrm rot="19687200">
            <a:off x="420840" y="1739520"/>
            <a:ext cx="3519360" cy="24750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C:\Users\Катерина\Desktop\Проект фото\SAM_5110.JPG"/>
          <p:cNvPicPr/>
          <p:nvPr/>
        </p:nvPicPr>
        <p:blipFill>
          <a:blip r:embed="rId3"/>
          <a:stretch/>
        </p:blipFill>
        <p:spPr>
          <a:xfrm rot="1682400">
            <a:off x="5121000" y="1680840"/>
            <a:ext cx="3625920" cy="259380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1" descr=""/>
          <p:cNvPicPr/>
          <p:nvPr/>
        </p:nvPicPr>
        <p:blipFill>
          <a:blip r:embed="rId4"/>
          <a:stretch/>
        </p:blipFill>
        <p:spPr>
          <a:xfrm>
            <a:off x="457200" y="231840"/>
            <a:ext cx="83088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3" descr="C:\Users\Катерина\Desktop\Проект фото\SDC14206.JPG"/>
          <p:cNvPicPr/>
          <p:nvPr/>
        </p:nvPicPr>
        <p:blipFill>
          <a:blip r:embed="rId1"/>
          <a:stretch/>
        </p:blipFill>
        <p:spPr>
          <a:xfrm rot="20975400">
            <a:off x="391680" y="1496880"/>
            <a:ext cx="3571920" cy="267840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396720" y="298440"/>
            <a:ext cx="8302680" cy="10126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C:\Users\Катерина\Desktop\Проект фото\SDC14216.JPG"/>
          <p:cNvPicPr/>
          <p:nvPr/>
        </p:nvPicPr>
        <p:blipFill>
          <a:blip r:embed="rId3"/>
          <a:stretch/>
        </p:blipFill>
        <p:spPr>
          <a:xfrm>
            <a:off x="4788000" y="1197000"/>
            <a:ext cx="3873240" cy="2663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C:\Users\Катерина\Desktop\Проект фото\SDC14225.JPG"/>
          <p:cNvPicPr/>
          <p:nvPr/>
        </p:nvPicPr>
        <p:blipFill>
          <a:blip r:embed="rId4"/>
          <a:stretch/>
        </p:blipFill>
        <p:spPr>
          <a:xfrm>
            <a:off x="2244600" y="3860640"/>
            <a:ext cx="44802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11:55Z</dcterms:created>
  <dc:creator>1</dc:creator>
  <dc:description/>
  <dc:language>en-US</dc:language>
  <cp:lastModifiedBy>User</cp:lastModifiedBy>
  <dcterms:modified xsi:type="dcterms:W3CDTF">2017-09-03T17:16:26Z</dcterms:modified>
  <cp:revision>142</cp:revision>
  <dc:subject/>
  <dc:title>Конкурсная работа в номинации «Педагог ДОУ»</dc:title>
</cp:coreProperties>
</file>