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5CA1-4B87-4C07-90DE-BAF82063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2415-6304-4E7F-A0C5-EF3CDFE2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08BF-3D31-4D41-8586-F3CAAD83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EA1D-9C01-4070-84DF-ECF2536C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15CE-3B84-4B91-B1A6-6989158A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DAE1-DAA8-46A8-8D19-F4ACBF9C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E0AE-9DA2-48B7-AF7D-BE7125C9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819D-2347-4ACE-BBC6-1A4F487B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123B-C3C7-4AB6-85EF-2675CE2A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252E-9FF5-4C78-8187-D65E25BD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7E58-6C65-4F54-9B76-5D8F7D94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786D-AA0E-4F82-9FA3-728E7012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3EB7-C8DC-4806-A435-45A83476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E3E1-2A31-4E90-A48D-AF761608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8F7C-362F-4ECD-82CF-AC69B3A9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EB9C-549C-40ED-BF4B-3EA78700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585B-B48A-42D0-ADF8-EDFEC539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028E-A8A3-4534-8698-48514ADB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49FC-1070-4774-B778-CDF8142D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96BE-EE22-4A39-AD44-AC1F8736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D4A4-5AEA-4A61-A757-C4524EA4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67DE-5777-428E-893E-D8C50943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A55E-8C86-421C-BBC8-FD0BFE00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A44-9147-4E52-840B-5CD75EE9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A9C0-E863-4E55-925E-EEB34B646E9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685A-5408-48E5-8674-4744C167BAD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ширять и закреплять знания детей о разных профессиях. Воспитывать уважение к труду взрослых, желание выбрать профессию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00720" y="1600200"/>
            <a:ext cx="464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жет делать он буфет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улья, тумбы, табурет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тружках весь его верста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т работать надо как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8" descr="DSCN7742"/>
          <p:cNvPicPr/>
          <p:nvPr/>
        </p:nvPicPr>
        <p:blipFill>
          <a:blip r:embed="rId1"/>
          <a:stretch/>
        </p:blipFill>
        <p:spPr>
          <a:xfrm>
            <a:off x="476280" y="1557360"/>
            <a:ext cx="378936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00720" y="1600200"/>
            <a:ext cx="464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размеру в самый раз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  костюм сошьет для ва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 исполнить по науке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 ходите руки в брю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8" descr="DSCN7741"/>
          <p:cNvPicPr/>
          <p:nvPr/>
        </p:nvPicPr>
        <p:blipFill>
          <a:blip r:embed="rId1"/>
          <a:stretch/>
        </p:blipFill>
        <p:spPr>
          <a:xfrm>
            <a:off x="324000" y="1484280"/>
            <a:ext cx="395280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2920" y="714240"/>
            <a:ext cx="42865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часах настенных стрел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ли прыгать словно бел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стер тут на них взгляну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углый винтик подтяну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сменил пружину срочн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б часы ходили точ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8" descr="DSCN7740"/>
          <p:cNvPicPr/>
          <p:nvPr/>
        </p:nvPicPr>
        <p:blipFill>
          <a:blip r:embed="rId1"/>
          <a:stretch/>
        </p:blipFill>
        <p:spPr>
          <a:xfrm>
            <a:off x="466560" y="1413000"/>
            <a:ext cx="398628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428720" y="1600200"/>
            <a:ext cx="4714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истит мастер башма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бивает каблу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инит туфли и сандали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б как новенькие ста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8" descr="DSCN7739"/>
          <p:cNvPicPr/>
          <p:nvPr/>
        </p:nvPicPr>
        <p:blipFill>
          <a:blip r:embed="rId1"/>
          <a:stretch/>
        </p:blipFill>
        <p:spPr>
          <a:xfrm>
            <a:off x="250920" y="1268280"/>
            <a:ext cx="4017960" cy="511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 приучает детишек к порядк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 проверяет ребячьи тетрад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учит детей и читать, и писа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складывать цифры, и вычит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8" descr="DSCN7737"/>
          <p:cNvPicPr/>
          <p:nvPr/>
        </p:nvPicPr>
        <p:blipFill>
          <a:blip r:embed="rId1"/>
          <a:stretch/>
        </p:blipFill>
        <p:spPr>
          <a:xfrm>
            <a:off x="385920" y="1413000"/>
            <a:ext cx="410040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ТВОЁ   ПРИЗВАНИЕ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Строитель нам построит до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 мы в нем дружно зажив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Костюм нарядный выход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скусно нам сошьет портн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Даст книги нам библиотекар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Хлеб испечет в пекарне пекар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Учитель выучит всему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Научит грамоте, письм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исьмо доставит почтальо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А повар сварит нам бульо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Я думаю, ты подрастеш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 дело по душе найдеш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64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меня не мало дел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кто-то заболе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х я вылечу друзья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гадайте кто же 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7" descr="DSCN7750"/>
          <p:cNvPicPr/>
          <p:nvPr/>
        </p:nvPicPr>
        <p:blipFill>
          <a:blip r:embed="rId1"/>
          <a:stretch/>
        </p:blipFill>
        <p:spPr>
          <a:xfrm>
            <a:off x="539640" y="1557360"/>
            <a:ext cx="364176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43240" y="1600200"/>
            <a:ext cx="4786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правляюсь я в пол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бираюсь в самол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лечу я над зем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гадай, кто я тако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7" descr="DSCN7749"/>
          <p:cNvPicPr/>
          <p:nvPr/>
        </p:nvPicPr>
        <p:blipFill>
          <a:blip r:embed="rId1"/>
          <a:stretch/>
        </p:blipFill>
        <p:spPr>
          <a:xfrm>
            <a:off x="324000" y="1484280"/>
            <a:ext cx="378288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29120" y="1600200"/>
            <a:ext cx="4214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ждый день сажусь в кабин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вожу мотор машин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ду в дальние кр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гадали, кто же 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7" descr="DSCN7748"/>
          <p:cNvPicPr/>
          <p:nvPr/>
        </p:nvPicPr>
        <p:blipFill>
          <a:blip r:embed="rId1"/>
          <a:stretch/>
        </p:blipFill>
        <p:spPr>
          <a:xfrm>
            <a:off x="324000" y="1413000"/>
            <a:ext cx="403704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квартирам и дома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о писем, телеграм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 приносит адресат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зовут его, ребят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9" descr="DSCN7747"/>
          <p:cNvPicPr/>
          <p:nvPr/>
        </p:nvPicPr>
        <p:blipFill>
          <a:blip r:embed="rId1"/>
          <a:stretch/>
        </p:blipFill>
        <p:spPr>
          <a:xfrm>
            <a:off x="455760" y="1413000"/>
            <a:ext cx="3966840" cy="49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исти, краски и мольбер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мин я пишу портр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картинной галере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гадай меня скоре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9" descr="DSCN7746"/>
          <p:cNvPicPr/>
          <p:nvPr/>
        </p:nvPicPr>
        <p:blipFill>
          <a:blip r:embed="rId1"/>
          <a:stretch/>
        </p:blipFill>
        <p:spPr>
          <a:xfrm>
            <a:off x="336600" y="1428840"/>
            <a:ext cx="4032360" cy="502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вдруг пожар случитьс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то быстрее всех примчить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машине ярко-красно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 залить огонь опасны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9" descr="DSCN7745"/>
          <p:cNvPicPr/>
          <p:nvPr/>
        </p:nvPicPr>
        <p:blipFill>
          <a:blip r:embed="rId1"/>
          <a:stretch/>
        </p:blipFill>
        <p:spPr>
          <a:xfrm>
            <a:off x="314280" y="1341360"/>
            <a:ext cx="425772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00720" y="2174760"/>
            <a:ext cx="4643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жницы, шампунь, расческа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м я делаю прическ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ригу и взрослых и де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гадай меня скорей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10" descr="DSCN7744"/>
          <p:cNvPicPr/>
          <p:nvPr/>
        </p:nvPicPr>
        <p:blipFill>
          <a:blip r:embed="rId1"/>
          <a:stretch/>
        </p:blipFill>
        <p:spPr>
          <a:xfrm>
            <a:off x="430200" y="1557360"/>
            <a:ext cx="399420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8320" y="1600200"/>
            <a:ext cx="4209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одит в белом колпак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поварешкою в ру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 готовит нам обед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шу, щи и винегр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8" descr="DSCN7743"/>
          <p:cNvPicPr/>
          <p:nvPr/>
        </p:nvPicPr>
        <p:blipFill>
          <a:blip r:embed="rId1"/>
          <a:stretch/>
        </p:blipFill>
        <p:spPr>
          <a:xfrm>
            <a:off x="324000" y="1125360"/>
            <a:ext cx="4187520" cy="518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6:10:22Z</dcterms:created>
  <dc:creator>санек</dc:creator>
  <dc:description/>
  <dc:language>en-US</dc:language>
  <cp:lastModifiedBy>надя</cp:lastModifiedBy>
  <dcterms:modified xsi:type="dcterms:W3CDTF">2016-11-27T12:56:57Z</dcterms:modified>
  <cp:revision>44</cp:revision>
  <dc:subject/>
  <dc:title>П Р Е З Е Н Т А Ц И Я Елисеевой Екатерины Александровны МДОУ «Детский сад № 15 «Лужок»</dc:title>
</cp:coreProperties>
</file>