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522F-5C75-4525-B1DD-F4F4F90A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B15-888A-4033-AAB5-8E1EA1EF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ADD5-2B0D-48CC-BB67-CF3CA999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D4EC-FF2A-4C3E-B679-15E3F9BE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A6FF-E2A6-4BAE-9E26-91581550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CA0F-1E60-475A-8E13-415B998D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D44A-6D4B-479A-8948-AE407006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2755-886B-4948-BDE3-521EE512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D3A3-815A-4EB3-BD9B-8AA8CFC5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94DF-4EDC-4858-9808-67FE56E0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9C77-8B9F-413E-8FE8-8CCCC336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D07B-235F-4E9B-A78F-DD89FE6F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B3D6-BE42-40A7-881C-5573B307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457A-6CCF-4C4C-B807-F0916A1E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456B-B64A-4E13-A33B-CDFDA5AE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A7BA-8492-4CB1-AB07-374940DF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3E99-57C5-4711-B5CA-D9479EAB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619B-4E79-4016-8832-D9A4C40A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C81B-7758-4505-A986-A6CC6040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05E-2ABF-408E-9610-A984D281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EF06-9220-4E3F-AD11-C5C2473D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12C8-5F7F-4105-A77C-8F23B8C6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28E8-6462-4D93-A5BA-FEC6E862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2401-8261-41B7-A2EC-6C1CD202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AA5E-B4AF-475B-A638-95B08CB3DD5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5BD5-3748-4926-903E-0FB0A3694A3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ять и закреплять знания детей о разных профессиях. Воспитывать уважение к труду взрослых, желание выбрать профессию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00720" y="160020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жет делать он буфет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улья, тумбы, табурет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тружках весь его верста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т работать надо как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8" descr="DSCN7742"/>
          <p:cNvPicPr/>
          <p:nvPr/>
        </p:nvPicPr>
        <p:blipFill>
          <a:blip r:embed="rId1"/>
          <a:stretch/>
        </p:blipFill>
        <p:spPr>
          <a:xfrm>
            <a:off x="476280" y="1557360"/>
            <a:ext cx="378936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00720" y="160020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размеру в самый раз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 костюм сошьет для ва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 исполнить по науке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 ходите руки в брю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8" descr="DSCN7741"/>
          <p:cNvPicPr/>
          <p:nvPr/>
        </p:nvPicPr>
        <p:blipFill>
          <a:blip r:embed="rId1"/>
          <a:stretch/>
        </p:blipFill>
        <p:spPr>
          <a:xfrm>
            <a:off x="324000" y="1484280"/>
            <a:ext cx="395280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2920" y="714240"/>
            <a:ext cx="42865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часах настенных стрел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ли прыгать словно бел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стер тут на них взгляну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углый винтик подтяну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сменил пружину срочн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б часы ходили точ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8" descr="DSCN7740"/>
          <p:cNvPicPr/>
          <p:nvPr/>
        </p:nvPicPr>
        <p:blipFill>
          <a:blip r:embed="rId1"/>
          <a:stretch/>
        </p:blipFill>
        <p:spPr>
          <a:xfrm>
            <a:off x="466560" y="1413000"/>
            <a:ext cx="398628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428720" y="1600200"/>
            <a:ext cx="4714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истит мастер башма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бивает каблу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инит туфли и сандали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б как новенькие ста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8" descr="DSCN7739"/>
          <p:cNvPicPr/>
          <p:nvPr/>
        </p:nvPicPr>
        <p:blipFill>
          <a:blip r:embed="rId1"/>
          <a:stretch/>
        </p:blipFill>
        <p:spPr>
          <a:xfrm>
            <a:off x="250920" y="1268280"/>
            <a:ext cx="4017960" cy="511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приучает детишек к порядк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проверяет ребячьи тетрад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учит детей и читать, и пис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складывать цифры, и вычит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8" descr="DSCN7737"/>
          <p:cNvPicPr/>
          <p:nvPr/>
        </p:nvPicPr>
        <p:blipFill>
          <a:blip r:embed="rId1"/>
          <a:stretch/>
        </p:blipFill>
        <p:spPr>
          <a:xfrm>
            <a:off x="385920" y="1413000"/>
            <a:ext cx="410040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ТВОЁ   ПРИЗВАНИ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троитель нам построит до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 мы в нем дружно зажив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Костюм нарядный выход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скусно нам сошьет порт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Даст книги нам библиотекар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Хлеб испечет в пекарне пекар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Учитель выучит всему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Научит грамоте, пись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исьмо доставит почтальо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А повар сварит нам бульо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Я думаю, ты подрастеш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 дело по душе найдеш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меня не мало де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кто-то заболе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х я вылечу друзья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гадайте кто же 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7" descr="DSCN7750"/>
          <p:cNvPicPr/>
          <p:nvPr/>
        </p:nvPicPr>
        <p:blipFill>
          <a:blip r:embed="rId1"/>
          <a:stretch/>
        </p:blipFill>
        <p:spPr>
          <a:xfrm>
            <a:off x="539640" y="1557360"/>
            <a:ext cx="364176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43240" y="1600200"/>
            <a:ext cx="4786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правляюсь я в пол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бираюсь в самол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лечу я над зем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гадай, кто я тако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7" descr="DSCN7749"/>
          <p:cNvPicPr/>
          <p:nvPr/>
        </p:nvPicPr>
        <p:blipFill>
          <a:blip r:embed="rId1"/>
          <a:stretch/>
        </p:blipFill>
        <p:spPr>
          <a:xfrm>
            <a:off x="324000" y="1484280"/>
            <a:ext cx="378288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29120" y="1600200"/>
            <a:ext cx="4214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ждый день сажусь в кабин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вожу мотор машин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ду в дальние кр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гадали, кто же 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7" descr="DSCN7748"/>
          <p:cNvPicPr/>
          <p:nvPr/>
        </p:nvPicPr>
        <p:blipFill>
          <a:blip r:embed="rId1"/>
          <a:stretch/>
        </p:blipFill>
        <p:spPr>
          <a:xfrm>
            <a:off x="324000" y="1413000"/>
            <a:ext cx="403704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квартирам и дома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о писем, телеграм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приносит адресат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зовут его, ребят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9" descr="DSCN7747"/>
          <p:cNvPicPr/>
          <p:nvPr/>
        </p:nvPicPr>
        <p:blipFill>
          <a:blip r:embed="rId1"/>
          <a:stretch/>
        </p:blipFill>
        <p:spPr>
          <a:xfrm>
            <a:off x="455760" y="1413000"/>
            <a:ext cx="396684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исти, краски и мольбер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мин я пишу портр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картинной галере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гадай меня скоре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9" descr="DSCN7746"/>
          <p:cNvPicPr/>
          <p:nvPr/>
        </p:nvPicPr>
        <p:blipFill>
          <a:blip r:embed="rId1"/>
          <a:stretch/>
        </p:blipFill>
        <p:spPr>
          <a:xfrm>
            <a:off x="336600" y="1428840"/>
            <a:ext cx="4032360" cy="502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вдруг пожар случитьс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то быстрее всех примчить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машине ярко-красно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 залить огонь опасны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9" descr="DSCN7745"/>
          <p:cNvPicPr/>
          <p:nvPr/>
        </p:nvPicPr>
        <p:blipFill>
          <a:blip r:embed="rId1"/>
          <a:stretch/>
        </p:blipFill>
        <p:spPr>
          <a:xfrm>
            <a:off x="314280" y="1341360"/>
            <a:ext cx="42577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00720" y="2174760"/>
            <a:ext cx="4643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жницы, шампунь, расческа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м я делаю причес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игу и взрослых и де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гадай меня скорей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10" descr="DSCN7744"/>
          <p:cNvPicPr/>
          <p:nvPr/>
        </p:nvPicPr>
        <p:blipFill>
          <a:blip r:embed="rId1"/>
          <a:stretch/>
        </p:blipFill>
        <p:spPr>
          <a:xfrm>
            <a:off x="430200" y="1557360"/>
            <a:ext cx="399420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8320" y="1600200"/>
            <a:ext cx="4209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одит в белом колпак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оварешкою в ру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готовит нам обед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шу, щи и винегр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8" descr="DSCN7743"/>
          <p:cNvPicPr/>
          <p:nvPr/>
        </p:nvPicPr>
        <p:blipFill>
          <a:blip r:embed="rId1"/>
          <a:stretch/>
        </p:blipFill>
        <p:spPr>
          <a:xfrm>
            <a:off x="324000" y="1125360"/>
            <a:ext cx="4187520" cy="518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6:10:22Z</dcterms:created>
  <dc:creator>санек</dc:creator>
  <dc:description/>
  <dc:language>en-US</dc:language>
  <cp:lastModifiedBy>надя</cp:lastModifiedBy>
  <dcterms:modified xsi:type="dcterms:W3CDTF">2016-11-27T12:56:57Z</dcterms:modified>
  <cp:revision>44</cp:revision>
  <dc:subject/>
  <dc:title>П Р Е З Е Н Т А Ц И Я Елисеевой Екатерины Александровны МДОУ «Детский сад № 15 «Лужок»</dc:title>
</cp:coreProperties>
</file>