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D3F-1C76-4EB4-AE4C-FD1A06B0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707-ED9B-4EA7-BA13-E407D6E1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3AE-7492-445A-AD0A-3365E73B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E81-5ECB-4182-B6D3-3B0AEEED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1A7B-3453-49E8-B0FC-87FD95AA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C5E4-5D85-48C7-9D38-14CA4B5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2B5-693E-40FC-81F4-B81B73C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6182-2966-4DCB-9C43-8B47B70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BB7-0C54-4366-934D-E26A4C4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F46E-C5F4-4DD3-A00E-08CE0D5D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74C0-EAAE-4AFA-9407-97435927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6D-424D-40AB-8228-08FB539B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E032-2F92-45F6-8E3D-E826D7F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961C-0867-4E92-9BA5-43B4D22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8245-6041-46A6-8533-42F597E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B0A5-895D-4C52-BE38-7B90414F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ED66-6886-452A-9A6E-E458E15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5DF-769B-4947-B851-E5DF679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995-74F9-4A17-8FDF-08C0E60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752-36D9-4E78-84A3-CEE01D6E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2DB-AAFE-4AB5-8629-33F55062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683-78FD-439F-AA7B-C2E6A82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EC2-C353-4FE5-BDD9-BAFFB4B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6D2-3941-4FBB-8694-50998CB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584-386C-490F-B30F-47D1416BB2C1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413-DC01-4D07-A2E4-D48132DC1944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4821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640" y="5157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Людмила Анатольевна Ожерельев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334800"/>
            <a:ext cx="9620280" cy="513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411280" y="5732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Орисон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Суэт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Мард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50920" y="171360"/>
            <a:ext cx="19447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3" descr=""/>
          <p:cNvPicPr/>
          <p:nvPr/>
        </p:nvPicPr>
        <p:blipFill>
          <a:blip r:embed="rId1"/>
          <a:stretch/>
        </p:blipFill>
        <p:spPr>
          <a:xfrm>
            <a:off x="469800" y="695160"/>
            <a:ext cx="82296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89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2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7089840" cy="4352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4920" y="508464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уварова 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27884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3889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003640" y="1924200"/>
            <a:ext cx="34117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4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3139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Брайан Трейс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0:13:30Z</dcterms:created>
  <dc:creator>Людмила</dc:creator>
  <dc:description/>
  <dc:language>en-US</dc:language>
  <cp:lastModifiedBy>Людмила</cp:lastModifiedBy>
  <dcterms:modified xsi:type="dcterms:W3CDTF">2015-06-14T14:14:32Z</dcterms:modified>
  <cp:revision>8</cp:revision>
  <dc:subject/>
  <dc:title>Презентация PowerPoint</dc:title>
</cp:coreProperties>
</file>