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C6A-D039-4A27-821C-60C860CC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EC6-C9BD-4881-BF22-F9B0F633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A09-6A1E-4F54-A34D-B30F46C3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A2E-41E4-4D98-8E56-C0DAEB1F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7AAB-B1F8-41F8-B88B-9A0E7247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EEAC-9964-496B-B383-4CA9FA81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3E41-3B87-44E0-B2DB-EDD6E682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69D3-F869-494E-A6E7-9828D114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BDA4-CDCF-45E0-9945-C41C51EF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EA45-9630-488A-BE11-D222B5A6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11A4-E255-478C-84EA-1B27E7FB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C76-5829-4002-A47D-3743EE6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F682-D857-4FFF-B1BD-9265CD17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3202-CBD6-43A1-9921-4C13EFEA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6D48-9D48-4404-8962-1C98E55B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29E8-1D36-4EB0-8E62-592CD1E1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1D48-3FCC-465D-9687-980DD0A5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03F-42FE-4FB0-884E-17FB85AB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75A-D614-4FAC-A653-DCE6E798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2E6-306C-4F0D-8F22-CF061D8E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DBA-267A-436C-9FBD-CF64715A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0D1-D3E4-4E98-880A-96F3E1F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28E-F44E-47AB-84B6-F9654BB1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2FE-E65C-4CAE-BFAF-B7AC912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660A-E3D3-4AA2-9301-8610388FA3AD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4598-080B-44B1-986B-5BFBB6DAA19E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4821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640" y="5157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Людмила Анатольевна Ожерельев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0" y="334800"/>
            <a:ext cx="9620280" cy="5139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411280" y="5732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</a:rPr>
              <a:t>Орисон</a:t>
            </a:r>
            <a:r>
              <a:rPr b="0" i="1" lang="ru-RU" sz="2400" spc="-1" strike="noStrike">
                <a:solidFill>
                  <a:srgbClr val="0d0d0d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</a:rPr>
              <a:t>Суэт</a:t>
            </a:r>
            <a:r>
              <a:rPr b="0" i="1" lang="ru-RU" sz="2400" spc="-1" strike="noStrike">
                <a:solidFill>
                  <a:srgbClr val="0d0d0d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</a:rPr>
              <a:t>Мард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50920" y="171360"/>
            <a:ext cx="19447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3" descr=""/>
          <p:cNvPicPr/>
          <p:nvPr/>
        </p:nvPicPr>
        <p:blipFill>
          <a:blip r:embed="rId1"/>
          <a:stretch/>
        </p:blipFill>
        <p:spPr>
          <a:xfrm>
            <a:off x="469800" y="695160"/>
            <a:ext cx="82296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689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2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7089840" cy="43527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4920" y="508464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уварова 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727884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38890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5003640" y="1924200"/>
            <a:ext cx="341172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4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3139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Брайан Трейс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10:13:30Z</dcterms:created>
  <dc:creator>Людмила</dc:creator>
  <dc:description/>
  <dc:language>en-US</dc:language>
  <cp:lastModifiedBy>Людмила</cp:lastModifiedBy>
  <dcterms:modified xsi:type="dcterms:W3CDTF">2015-06-14T14:14:32Z</dcterms:modified>
  <cp:revision>8</cp:revision>
  <dc:subject/>
  <dc:title>Презентация PowerPoint</dc:title>
</cp:coreProperties>
</file>